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780-4504-41E1-9BC9-F6BF6EC3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245-527A-44E0-A366-84110A4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70C-46E5-4DED-8F35-3BF7DD71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E1A-E3FE-4B6C-B0F4-4CDD1E25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1AD-5FCA-4E96-8061-05F2A088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671-18F3-4260-A9B5-871B523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D21-3A03-4D54-A53B-AD855B67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E70-FBA9-4169-8710-0886C360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915-D3A8-4425-8E51-88143837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F11-645F-4F4F-A521-D9E3999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411-38C6-4F8C-A7DD-26D78C6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CEE-27DC-4819-AEAB-1888F76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40A7-CBDD-4E6A-B720-0ED0B7F15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03640" y="2637000"/>
            <a:ext cx="295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ренажер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4000" y="404640"/>
            <a:ext cx="5040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дъём штанги на бицеп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7680" y="90792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бицеп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Подъем штанги на бицепс стоя"/>
          <p:cNvPicPr/>
          <p:nvPr/>
        </p:nvPicPr>
        <p:blipFill>
          <a:blip r:embed="rId1"/>
          <a:stretch/>
        </p:blipFill>
        <p:spPr>
          <a:xfrm>
            <a:off x="1979640" y="1413000"/>
            <a:ext cx="542448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ранцузский жим лё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21840" y="11970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трицеп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200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иседание со штан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47760" y="1197000"/>
            <a:ext cx="54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мышц ног и ягодичных мыш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ая тя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15440" y="1197000"/>
            <a:ext cx="65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развитие мышц нижней части спины, так же ягодиц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ышц брюшного пресса, трапеции,икры, задние дель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99308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яга на прямых но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6040" y="1197000"/>
            <a:ext cx="49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двуглавой мышцы бе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69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ыпады со штан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7840" y="1197000"/>
            <a:ext cx="59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ягодичных мышц и мышц перед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верхности бе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743280" cy="280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8360" y="2276640"/>
            <a:ext cx="372600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600720" cy="270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600720" cy="270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Наклоны с ган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43800" y="1197000"/>
            <a:ext cx="47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боковых мышц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06560" y="488880"/>
            <a:ext cx="3529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340000" y="3798720"/>
          <a:ext cx="4457520" cy="2367000"/>
        </p:xfrm>
        <a:graphic>
          <a:graphicData uri="http://schemas.openxmlformats.org/drawingml/2006/table">
            <a:tbl>
              <a:tblPr/>
              <a:tblGrid>
                <a:gridCol w="1982520"/>
                <a:gridCol w="24750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с в % от максим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исло повторений в одном подх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0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0-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0-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0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0-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-30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692360" y="620640"/>
            <a:ext cx="583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еличина поднимаемого веса и количество повтор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213000"/>
            <a:ext cx="51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Зависимость максимального количества повторений от величины отяго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413000"/>
            <a:ext cx="849780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Величина поднимаемого вес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основной параметр, определяющий величину тренировочной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тренировке с отягощениями. Она напрямую связана с количеством повторений в одном подх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еличина отягощения выражаться как в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абсолютных величинах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килограммы), так и в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процент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отношении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от максимального веса, который человек может поднять в конкретном упражн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один раз (т. н. один повторный максимум - 1П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3128760"/>
            <a:ext cx="8640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692280"/>
            <a:ext cx="23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иды упраж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628640"/>
            <a:ext cx="784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Упражнения, наиболее мощно воздействующие на весь организм человека, включая вс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истемы (мышечную, эндокринную, нервную, сердечно-сосудистую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492280"/>
            <a:ext cx="784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я, также достаточно мощно воздействующие на организм, однако в меньшей степен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м базовые упраж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3357720"/>
            <a:ext cx="7848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Упражнения, характеризующиеся невысокой степенью воздействия на орган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4221000"/>
            <a:ext cx="784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Упражнения, отягощенные весом собственного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5084640"/>
            <a:ext cx="784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татические упражнения в изометрическом режим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68360" y="83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68360" y="83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64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916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00360" y="549360"/>
            <a:ext cx="37432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иды тренаж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1989000"/>
            <a:ext cx="26654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дио-тренаж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484280"/>
            <a:ext cx="2665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Бло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38920" y="1484280"/>
            <a:ext cx="2665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збло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835280" y="907920"/>
            <a:ext cx="1441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907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90792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773360"/>
            <a:ext cx="2016360" cy="1008000"/>
          </a:xfrm>
          <a:prstGeom prst="upArrowCallout">
            <a:avLst>
              <a:gd name="adj1" fmla="val 50013"/>
              <a:gd name="adj2" fmla="val 50009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Заданная траектор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движения и амплит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2276640"/>
            <a:ext cx="2016000" cy="1008000"/>
          </a:xfrm>
          <a:prstGeom prst="upArrowCallout">
            <a:avLst>
              <a:gd name="adj1" fmla="val 50005"/>
              <a:gd name="adj2" fmla="val 50000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Вело, беговая дорожк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тепп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773360"/>
            <a:ext cx="1942920" cy="1008000"/>
          </a:xfrm>
          <a:prstGeom prst="upArrowCallout">
            <a:avLst>
              <a:gd name="adj1" fmla="val 48192"/>
              <a:gd name="adj2" fmla="val 48188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С дополнительны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весами или собственны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вес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292640"/>
            <a:ext cx="763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Повторени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однократное выполнение упраж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Подхо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Сет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– серия повторений, выполненное без перерыва на отд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431720"/>
            <a:ext cx="8715240" cy="401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 свободных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ве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 Гантели и штанги более эффективны в развитии мышц-стабилизаторов, участвующих в упражн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 Упражнения со свободным весом более естественны с точки зрения биомеханики, вовлечения мышечных групп в работу, неврологического соответствия и других параме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 Возможность оказать на мышцу большую нагрузку, применяя такие способы, как "читинг", изменение положения тела в процессе движения и другие при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 Штанги и гантели более универсаль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 При выполнении упражнений со свободным весом организм получает большую нагрузку вследствие вовлечения в работу большего количества мышечных групп и, как следствие, большего количества выполненной работы (т. е. перемещение веса на данное расстоя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Недостатки свободных ве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 Травмоопасность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упражнений со свободным весом вследствие потери контроля за движением снаря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 Обязательное наличие страхующего при выполнении «базовых» упраж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 В некоторых упражнениях невозможность изолированной проработки конкретной мыш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 Зачастую технически более сложны, требуют от выполняющего упражнение развития координационны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549360"/>
            <a:ext cx="4392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равнение тренажеров и свободных ве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907920"/>
            <a:ext cx="849636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 тренаж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Некоторые тренажеры более эффективны для изоляции мышцы или мышечной группы для более эффективной нагру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 Более безопас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 Быстро и легко меняется величина отяго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Недостатки тренаж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 Тренажеры, предполагающие перемещение веса по заданной траектории или управление скоростью движения, удалили аспект «естественности» движения, который, по мнению физиологов, увеличивает эффективность в развитии силовых характеристик или мышечной мас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 Невозможность выполнения на многих моделях тренажеров упражнений темпового характера, взрывных и скоростных дви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 Большинство тренажеров спроектировано с учетом анатомических данных среднестатистическ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343080"/>
            <a:ext cx="86407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НСТРУКЦ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 охране труда при проведени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занятий в тренажерном зал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ОТ – 023 –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. Общие требования охраны труд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1К занятиям в тренажерном зале допускаются обучающиеся, прошедшие медицинский осмотр и инструктаж по охране труда. Обучающиеся подготовительной и специальной медицинских групп к занятиям в тренажерном зале не допускаю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2 Обучающиеся должны соблюдать правила использования тренажеров, установленные режимы занятий и отдых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3 При проведении занятий в тренажерном зале возможно воздействие на обучающихся следующих опасных факторов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травмы при проведении занятий на неисправных, непрочно установленных и не закрепленных тренажера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травмы при нарушении правил использования тренажеров, а также при нарушениях установленных режимов занятий и отдых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4 Занятия в тренажерном зале необходимо проводить в спортивной одежде и спортивной обуви с нескользкой подошво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5 Тренажерный зал должен быть оснащен медаптечкой, укомплектованной необходимыми медикаментами и перевязочными средствами для оказания первой помощи при травм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6 Учитель (преподаватель, тренер) и обучающиеся обязаны соблюдать правила пожарной безопасности, знать места расположения первичных средств пожаротуш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нажерный зал должен быть оснащен огнетушителем, автоматической системой пожарной сигнализации и приточно-вытяжной вентиляцие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7 Каждый тренажер должен быть обеспечен инструкцией по безопасности проведения занят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8 О каждом несчастном случае с обучающимся пострадавший или очевидец несчастного случая обязан немедленно сообщить учителю (преподавателю, тренеру), который сообщает о несчастном случае администрации учреждения и принимает меры по оказанию первой помощи пострадавшем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9 Во время занятий в тренажерном зале обучающиеся должны соблюдать правила ношения спортивной одежды и спортивной обуви, правила личной гигие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10 Лица, допустившие невыполнение или нарушение инструкции по охране труда, привлекаются к дисциплинарной ответственности в соответствии с правилами внутреннего трудового распорядка и, при необходимости, подвергаются внеочередной проверке знаний норм и правил охраны труд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. Требования охраны труда перед началом занят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.1 Тщательно проветрить тренажерный за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.2 Надеть спортивную одежду и спортивную обувь с нескользкой подошво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.3 Проверить исправность и надежность установки и крепления всех тренажер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.4 Провести целевой инструктаж обучающихся по безопасным приемам проведения занятий на тренажер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. Требования охраны труда во время занят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.1 Начинать выполнение упражнений на тренажерах и заканчивать их только по команде (сигналу) учителя (преподавателя, тренера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.2 Не выполнять упражнения на неисправных, непрочно установленных и ненадежно закрепленных тренажер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.3 Соблюдать дисциплину, строго выполнять правила использования тренажеров, учитывая их конструктивные особеннос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.4 Внимательно слушать и выполнять все команды (сигналы) учителя (преподавателя, тренера), самовольно не предпринимать никаких действ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.5 Соблюдать установленные режимы занятий и отдых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. Требования охраны труда в аварийных ситуац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.1 При возникновении неисправности в работе тренажера или его поломке, прекратить занятия на тренажере, сообщить об этом учителю ( преподавателю, тренеру). Занятия продолжать только после устранения неисправности тренажер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.2 При получении обучающимся травмы немедленно сообщить об этом руководителю учреждения, оказать первую помощь пострадавшему, при необходимости отправить его в ближайшее лечебное учреждени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.3 При возникновении пожара немедленно эвакуировать обучающихся из тренажерного зала, сообщить о пожаре в ближайшую пожарную часть и приступить к тушению пожара с помощью первичных средств пожаротуш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. Требования охраны труда по окончании занят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.1 Привести в исходное положение все тренажеры, проверить их исправност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.2 Проверить тренажерный зал и провести влажную уборк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.3 Снять спортивную одежду, спортивную обувь и принять душ или тщательно вымыть лицо и руки с мыло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.4 Проверить противопожарное состояние тренажерного зала и выключить све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27280" y="2419200"/>
            <a:ext cx="3816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илов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500280"/>
            <a:ext cx="2665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обственно сил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3280" y="3068640"/>
            <a:ext cx="2665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коростно-силов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«взрывная сил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068640"/>
            <a:ext cx="2665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иловую вынос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123920"/>
            <a:ext cx="712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Силовая способнос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сил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это способность человека преодолевать внешн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опротивление или противодействовать ему за счет напряжения мыш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763280" y="270828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0360" y="270828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3280" y="3573360"/>
            <a:ext cx="2664000" cy="792360"/>
          </a:xfrm>
          <a:prstGeom prst="upArrowCallout">
            <a:avLst>
              <a:gd name="adj1" fmla="val 84060"/>
              <a:gd name="adj2" fmla="val 8405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Мобилизация максимума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чень коротк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357720"/>
            <a:ext cx="3384360" cy="1584000"/>
          </a:xfrm>
          <a:prstGeom prst="upArrowCallout">
            <a:avLst>
              <a:gd name="adj1" fmla="val 53420"/>
              <a:gd name="adj2" fmla="val 53415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пособность противостоять утомлен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ызываемому относите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должитель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мышечными напряж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значительной велич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3789360"/>
            <a:ext cx="2160360" cy="1440000"/>
          </a:xfrm>
          <a:prstGeom prst="upArrowCallout">
            <a:avLst>
              <a:gd name="adj1" fmla="val 37510"/>
              <a:gd name="adj2" fmla="val 37506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является п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татическом режи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боты и медл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движ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03280" y="1268280"/>
            <a:ext cx="648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Факторы, влияющие на силу, развиваемую одной мышц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709720"/>
            <a:ext cx="439092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) длина мышц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б) суставной уго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)  количество мышечных волокон, составля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данную мышцу, что определяет площадь е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оперечного се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г) композиции мышцы (соотношени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олокон различного типа: быстрых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медленных, активности ферментов мышеч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окращ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133720"/>
            <a:ext cx="34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обственно мышечн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2133720"/>
            <a:ext cx="34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координационные группы фа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95280" y="1701720"/>
            <a:ext cx="187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1701720"/>
            <a:ext cx="187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2781360"/>
            <a:ext cx="39225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) внутримышечная координация про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егулировании количества, част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пульсации и синхронности вовлекаем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боту двигательных единиц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) межмышечная координация направл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огласование работы различных мыш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ивающих выполнение двиг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971640" y="1773360"/>
          <a:ext cx="7273440" cy="4103280"/>
        </p:xfrm>
        <a:graphic>
          <a:graphicData uri="http://schemas.openxmlformats.org/drawingml/2006/table">
            <a:tbl>
              <a:tblPr/>
              <a:tblGrid>
                <a:gridCol w="381960"/>
                <a:gridCol w="2049120"/>
                <a:gridCol w="2346120"/>
                <a:gridCol w="994680"/>
                <a:gridCol w="851760"/>
                <a:gridCol w="64980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еч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праж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в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ая разми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лотренаж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рудные мыш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м вперед на трен. си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широчайш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ягивания из положения виса или из облегченного И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поясничны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«лодоч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ыпрыгивания из глубокого прис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м ногами лежа или под уг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брюшного 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жимания лежа. Ноги согнуты в колен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0" y="54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692280"/>
            <a:ext cx="7129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близительная программа тренировки на тренажерах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чеников 5-6 классов (кругова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42920" y="1782720"/>
          <a:ext cx="7145280" cy="4011480"/>
        </p:xfrm>
        <a:graphic>
          <a:graphicData uri="http://schemas.openxmlformats.org/drawingml/2006/table">
            <a:tbl>
              <a:tblPr/>
              <a:tblGrid>
                <a:gridCol w="376200"/>
                <a:gridCol w="1784520"/>
                <a:gridCol w="2376360"/>
                <a:gridCol w="1008000"/>
                <a:gridCol w="720720"/>
                <a:gridCol w="87948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еч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праж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в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ая разми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ло или греб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рудные мыш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м вперед на трен. си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п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ли 2,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широчайш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яга за го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поясничны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иперэкстен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м ногами лежа или под уг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2,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ып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, или 1-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брюшного 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жимания лежа. Ноги согнуты в колен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брюшного 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ъем ног из положения ви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692280"/>
            <a:ext cx="7129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близительная программа тренировки на тренажерах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чеников 7-х клас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042920" y="1413000"/>
          <a:ext cx="7129440" cy="4832280"/>
        </p:xfrm>
        <a:graphic>
          <a:graphicData uri="http://schemas.openxmlformats.org/drawingml/2006/table">
            <a:tbl>
              <a:tblPr/>
              <a:tblGrid>
                <a:gridCol w="433440"/>
                <a:gridCol w="1727280"/>
                <a:gridCol w="2232000"/>
                <a:gridCol w="865080"/>
                <a:gridCol w="935280"/>
                <a:gridCol w="9363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еч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праж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в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ая разми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ребной или бег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7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рудные мыш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м штанги лежа, жим гант леж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 1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широчайш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яга за го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п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ли 2,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поясничны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иперэкстен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___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передняя поверх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гибания си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задняя поверх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гибания леж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уки (бицеп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гибания с гантелями си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4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уки (трицеп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жимания от скамейки (руки сзад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брюшного 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ъем ног из положения ви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брюшного 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ъем туловища на римском сту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604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476280"/>
            <a:ext cx="712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близительная программа тренировки на тренажер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ля учеников 8-9 клас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39640" y="1197000"/>
          <a:ext cx="7991280" cy="5319720"/>
        </p:xfrm>
        <a:graphic>
          <a:graphicData uri="http://schemas.openxmlformats.org/drawingml/2006/table">
            <a:tbl>
              <a:tblPr/>
              <a:tblGrid>
                <a:gridCol w="430200"/>
                <a:gridCol w="2239920"/>
                <a:gridCol w="2552760"/>
                <a:gridCol w="963360"/>
                <a:gridCol w="935280"/>
                <a:gridCol w="8697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еч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праж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в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ая разми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ребной или бег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рудные мыш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м штанги леж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 1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рудные мыш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ведение с гантелями леж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4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широчайш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яга за го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5-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сп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поясничны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иперэкстен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5кг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им ногами лежа или под углом, или вып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15к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ант. 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передняя поверх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гибания си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1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ижние коне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задняя поверх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гибания леж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1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уки (бицеп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гибания со штангой на бицепс п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-10-1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уки (трицеп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гибания с гант. из-за головы (1 или 2-мя руками) си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брюшного 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ъем ног из положения ви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ышцы брюшного 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ъем туловища на римском сту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0" y="679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04640"/>
            <a:ext cx="712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близительная программа тренировки на тренажер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ля учеников 10-11 клас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55640" y="831960"/>
            <a:ext cx="8136000" cy="26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ТЕХНИКА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во время занятий на т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Перед началом занятий изучить медицинскую карту ученика. е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Перед каждой тренировкой обязательно проводите тщательную размин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Тщательно контролируйте технику выполнения упраж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Соблюдайте правильную индивидуальную методику трениров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. При выполнении базовых упражнений с тяжелыми весами обязательно использовать помощь страхую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. Соблюдайте порядок в за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91520" y="1770120"/>
            <a:ext cx="715464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ми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им штанги от груди: 1/12, 2/10, 3/8, 4/6, 5/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яга штанги в наклоне / тяга гантели в наклоне: 1/12, 2/10, 3/8, 4/6, 5/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яга блока к груди / тяга блока за голову: 3/1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им штанги стоя из-за головы: 1/10, 2/8, 3/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ъём штанги на бицепс / французский жим лежа: 1/12, 2/10, 3/8, 4/6, 5/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седания со штангой / становая тяга: 1/12, 2/10, 3/8, 4/6, 5/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есс: 3/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836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МПЛЕКС УПРАЖНЕНИЙ ДЛЯ ЮНОШ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826920" y="1844640"/>
          <a:ext cx="7560000" cy="3625920"/>
        </p:xfrm>
        <a:graphic>
          <a:graphicData uri="http://schemas.openxmlformats.org/drawingml/2006/table">
            <a:tbl>
              <a:tblPr/>
              <a:tblGrid>
                <a:gridCol w="720720"/>
                <a:gridCol w="1944720"/>
                <a:gridCol w="935280"/>
                <a:gridCol w="1904760"/>
                <a:gridCol w="20545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об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-от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6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совершенство межмышечной коорди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ча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знакомство с тренажерами, становление тех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бота на тренажерах в круговом режиме с мин вес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ановление координации, ощущение техники выполнение движ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Закреп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вигательных навы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ренос техники выполнения упр. на тренажерах на похожие упр. ОФ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-9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товой скачек, период полового созревания. Появление вторичных половых признаков, гормональная перестрой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вык-автомат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ширение сферы силовых упражнений (свободные ве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витие силы мышц стабилизато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бота на тренажерах по подходам, обучение новым упражнениям. Базовые упр +упр с собственным весом на макс кол-во повтор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11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витие силовых кач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величение веса снаря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114560" y="692280"/>
            <a:ext cx="70578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озрастная физиология и методика занятий на тренажерах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четом данных особен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47640" y="1341360"/>
            <a:ext cx="619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Факторы, определяющие величину нагруз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тренировке с отягоще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421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характер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86244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ауза между под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4920" y="314172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количество повтор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86244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количество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2421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еличина поднимаемого в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4510080"/>
            <a:ext cx="309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количество тренировок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907640" y="198900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989000"/>
            <a:ext cx="1297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340000" y="1989000"/>
            <a:ext cx="17272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1989000"/>
            <a:ext cx="1873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187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642920" y="342900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58920" y="17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ми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седания со штангой: 1/15, 2/12, 3/12, 4/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яга на прямых ногах: 1/15, 2/12, 3/12, 4/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ыпады со штангой: 1/15, 2/12, 3/12, 4/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аклоны в стороны с гантелями: 3/1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им штанги от груди / тяга блока к груди: 1/15, 2/12, 3/12, 4/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ъём гантели на бицепс / жим гантелей стоя: 3/1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есс: 3/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836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МПЛЕКС УПРАЖНЕНИЙ ДЛЯ ДЕВУ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им штанги лёжа от гр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27000" y="126828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мышц гру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Жим штанги лежа"/>
          <p:cNvPicPr/>
          <p:nvPr/>
        </p:nvPicPr>
        <p:blipFill>
          <a:blip r:embed="rId2"/>
          <a:stretch/>
        </p:blipFill>
        <p:spPr>
          <a:xfrm>
            <a:off x="1692360" y="1700280"/>
            <a:ext cx="5976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яга штанги в накло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13280" y="1197000"/>
            <a:ext cx="66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широчайшие мышцы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дополнительная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гибатели, трапеции, бицепсы, задние пучки дельт и предплеч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8407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667640" cy="287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яга гантели в накло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13280" y="1197000"/>
            <a:ext cx="62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широчайших мышц, дополнительно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гибатели, трапеции, бицепсы, задние пучки дельт и предплеч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яга блока к гру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6160" y="1197000"/>
            <a:ext cx="52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широчайшие мышцы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п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3365640" cy="381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429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24000" y="620640"/>
            <a:ext cx="504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Жим штанги ст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44880" y="119700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Цель упражнения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развитие пучков дельтои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7624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0:36:51Z</dcterms:created>
  <dc:creator>Алексей</dc:creator>
  <dc:description/>
  <dc:language>en-US</dc:language>
  <cp:lastModifiedBy>Кафедра</cp:lastModifiedBy>
  <dcterms:modified xsi:type="dcterms:W3CDTF">2010-01-21T12:36:34Z</dcterms:modified>
  <cp:revision>23</cp:revision>
  <dc:subject/>
  <dc:title>Слайд 1</dc:title>
</cp:coreProperties>
</file>