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049-5944-4A0A-912C-00177BE8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0D5-7B33-44BF-987A-72FFD465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4F3-F575-4D87-84ED-93C2247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511-B3B9-4D0A-8F4F-87CE3055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D56-BD12-40CC-8824-E059636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438-1F19-46E3-8B0A-A07297F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55E-02B1-4939-B6FE-80AB3D6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D93-429F-4ABA-B691-85E2FBE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559-C475-4B70-9E95-587BC793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0D8-0CC4-48AA-9547-0BC855A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9C4-8178-4CEA-AB8E-74A6ED6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19A-66DE-4D5F-9FF5-A0D4370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F4B-93F6-4784-A9DE-245168A1D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Развитие</a:t>
            </a: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эмоций у дет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алаева 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ДОУ № 14 В.О.р-на г.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30026694634_63917149_srrrsss"/>
          <p:cNvPicPr/>
          <p:nvPr/>
        </p:nvPicPr>
        <p:blipFill>
          <a:blip r:embed="rId1"/>
          <a:stretch/>
        </p:blipFill>
        <p:spPr>
          <a:xfrm>
            <a:off x="1332000" y="0"/>
            <a:ext cx="66247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ЕСНИ ДЛЯ ДЕТЕЙ - ОТ УЛЫБКИ СТАНЕТ ВСЕМ СВЕТЛЕЙ  (audiopoisk.com).mp3" descr=""/>
          <p:cNvPicPr/>
          <p:nvPr/>
        </p:nvPicPr>
        <p:blipFill>
          <a:blip r:embed="rId2"/>
          <a:stretch/>
        </p:blipFill>
        <p:spPr>
          <a:xfrm>
            <a:off x="8172360" y="5734080"/>
            <a:ext cx="73656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4340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30026694634_917147_sryesryer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30026694634_5_srryorirrrryor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30026694634_263917462_rrrsss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330026694634_916733_sssrrrs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'Эмоции"/>
          <p:cNvPicPr/>
          <p:nvPr/>
        </p:nvPicPr>
        <p:blipFill>
          <a:blip r:embed="rId1"/>
          <a:stretch/>
        </p:blipFill>
        <p:spPr>
          <a:xfrm>
            <a:off x="133200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330026694634_916774_rirsrrsss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330026694634_63916821_risssss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330026694634_3916823_rrrrrs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30026694634_17198_ryosryisri"/>
          <p:cNvPicPr/>
          <p:nvPr/>
        </p:nvPicPr>
        <p:blipFill>
          <a:blip r:embed="rId1"/>
          <a:stretch/>
        </p:blipFill>
        <p:spPr>
          <a:xfrm>
            <a:off x="1116000" y="0"/>
            <a:ext cx="69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30026694634_1_rsrrryissssrir"/>
          <p:cNvPicPr/>
          <p:nvPr/>
        </p:nvPicPr>
        <p:blipFill>
          <a:blip r:embed="rId1"/>
          <a:stretch/>
        </p:blipFill>
        <p:spPr>
          <a:xfrm>
            <a:off x="1258920" y="0"/>
            <a:ext cx="66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30026694634_63917217_rrryor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6:01:27Z</dcterms:created>
  <dc:creator>User</dc:creator>
  <dc:description/>
  <dc:language>en-US</dc:language>
  <cp:lastModifiedBy>fed_post@mail.ru</cp:lastModifiedBy>
  <dcterms:modified xsi:type="dcterms:W3CDTF">2018-10-08T08:16:38Z</dcterms:modified>
  <cp:revision>7</cp:revision>
  <dc:subject/>
  <dc:title>Слайд 1</dc:title>
</cp:coreProperties>
</file>