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FFED-4F67-4F5F-A960-9AEC1869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84E4-6BEA-461E-9658-0D4F518B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7F50-675B-4967-8AE6-7ADB2BBDC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9AA7-2049-41DF-9CB0-E7C3CF067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2E96-05E4-48DF-94B6-5942B09B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F8F4-27E6-40BD-90A0-5DD6BBEC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DA55-032E-4F3C-8A4D-7DDBD52C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DD33-8BDA-42D7-A966-27A9EACD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AC87-1F2C-448F-8DDD-387556AA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7CE9-222F-4C49-AD62-AC382FE9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F2F3-A522-4B88-8D31-BFD7EE2A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DCAF-DF9E-4AA7-BB90-847C6D27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4E30-C967-4D0D-9B5A-72AF2C24E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9640" y="549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141300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Значение музыки в жизни ребен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537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03640" y="981000"/>
            <a:ext cx="41403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716360" y="-5040"/>
            <a:ext cx="424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Было бы очень здорово, если бы в доме иногда звучала живая музыка, то есть кто-то из взрослых играл хотя бы простенькие мелодии на фортепиано, гитаре, аккордеоне, скрипке или флейте. Некоторые, самые простые музыкальные инструменты, может освоить и малыш: тамбурин, металлофон, дудоч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5300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356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484360" y="505800"/>
            <a:ext cx="41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р полон волшебных звуков, нужно только услышать их!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619280" y="6084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Мир полон волшебных звуков, нужно только услышать их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80000" cy="5184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80000" y="0"/>
            <a:ext cx="370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«Музыка воодушевляет весь мир, снабжает душу крыльями, способствует полету воображения…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лат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3860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87640" y="-360"/>
            <a:ext cx="453708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Музыка, окружающая недавно родившегося ребенка, становится частью его мира. Он еще не умеет слушать музыку, чувствовать ритм или настроение мелодии, но уже что-то воспринимает, впитывает. Музыка, растворенная в пространстве, как вливающийся в комнату младенца солнечный свет, проникает в детское подсознание. Так же, как цвет обоев в детской, она незаметно влияет на настроение малыш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91800"/>
            <a:ext cx="3708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пециалисты единодушны: после детских песенок и традиционных колыбельных наиболее благотворно на детскую психику воздействует классическая музыка. У классических мелодий есть несколько явных преимуществ: гармония,  благородство интонации и поразительное богатство оттенков - все то, что помогает маленькому человеку, привыкающему слушать такую музыку, стать подлинно культур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564000" y="0"/>
            <a:ext cx="5580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280" y="4076640"/>
            <a:ext cx="831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Полюбить и начать слушать классическую музыку часто приходится учиться. И в этом ребенку стоит немного помочь. Прежде всего, важно определиться, какую музыку лучше слушать в самом начале жизни. Есть некоторые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равила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 В частности, детям младше трех лет не рекомендуется слушать грустные, тревожные и трагические мелодии - пусть даже зачастую они самые красив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61563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00720" y="-5760"/>
            <a:ext cx="4643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Самый подходящий для маленьких любителей музыки композитор - Вольфганг Амадей Моцарт. Его творчество - вообще любопытная загадка. Многочисленные исследования психологов показывают, что музыка Моцарта, гармоничная, светлая и изысканно простая, оказывает сильнейшее положительное влияние на развитие детской психики, творческого начала и интеллек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18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54160"/>
            <a:ext cx="896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Еще один композитор, чье творчество несомненно понравится детям, - Петр Ильич Чайковский. Причем, возможно, фрагменты из его балетов "Спящая красавица", "Щелкунчик", "Лебединое озеро" будут иметь даже больший успех, чем пьесы из "Детского альбома" и "Времен года". Впрочем, все эти произведения Чайковского обладают одним огромным для начинающего меломана достоинством - они активно вовлекают слушателя в свою среду, предлагая ему либо представить себе картины природы и окунуться в мир старинных сезонных развлечений ("Времена года"), либо придумать какие-то истории и совершить маленькое музыкальное путешествие по странам мира ("Детский альбом"), либо… просто потанцевать. Надо признать, что в музыке балетов Чайковского есть нечто такое, что не может оставить равнодушной ни одну девочку, мечтающую стать балериной, - а может быть, и не только такую девоч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ий конце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Любимая музыка может стать изысканным обрамлением дня. Однажды выбранные красивые мелодии могут служить приглашением к столу, дневной и вечерней колыбельными, фоном для занятий, например, рисованием - достаточно короткого узнаваемого фрагмента. Кстати, важно не "перегрузить" малыша музыкой, не утомить - музыка должна доставлять удовольствие, а не превращаться в докучливый шу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-6120"/>
            <a:ext cx="8066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Ребенку можно помочь "услышать" музыку, чтобы ее восприятие было более осмысленным и доставляло осознанное удовольствие. Самый простой прием: предложить малышу потанцевать или помаршировать под ритмичную музыку, вместе или в компании с игрушкой - а может быть, посмотреть, как танцует мама. Другой испытанный способ заинтересовать - игра "На что это похоже?", когда ребенок попробует угадать, что он слышит в музыке: шелест дождя, пение птиц, походку разных животных… Для этой игры очень подходят такие программные произведения, как "Времена года" - и Чайковского, и Вивальди. Пьесы, не имеющие явного сюжета, по-своему хороши тем, что со временем ребенок сможет придумать к ним любую историю с самыми удивительными приключениями - и даже нарисовать к ней картин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13:50:01Z</dcterms:created>
  <dc:creator>Семья</dc:creator>
  <dc:description/>
  <dc:language>en-US</dc:language>
  <cp:lastModifiedBy>Семья</cp:lastModifiedBy>
  <dcterms:modified xsi:type="dcterms:W3CDTF">2012-10-10T16:15:41Z</dcterms:modified>
  <cp:revision>3</cp:revision>
  <dc:subject/>
  <dc:title>Слайд 1</dc:title>
</cp:coreProperties>
</file>