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912-2CDD-49E9-BF32-71937B5C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3E3-019A-418F-91B4-A2AEA766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798-72FF-4764-BC48-D8AB223E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1D89-49CE-49EF-B1F3-D33DED55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FEE-9E9A-4ECF-AA16-C869674D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81F-8C17-4592-9D5E-1C5725B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3A9-D488-4370-BD2F-CEAF0061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10B-4404-49BE-BC62-0D6E75F9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ED4F-6C3E-4A85-BA13-BF9DD98D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308-5BD0-4024-9925-87D6AB7B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3EF3-64C6-47C0-ABFC-C87F60D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40F-C5AA-43B5-AF98-8A0C769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DCC-D146-4975-93B6-CDE2635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9932-F8F8-433B-BBC6-2BDB505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98B-300C-4F17-854E-5E1E6644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7A68-1B5D-4F2F-A375-8DA07E8A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4406-8AFD-43EA-8223-04D9C9AC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8E48-B80F-4B54-BB88-A16BFFA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FDA-08C7-43D7-9BB3-1B6EC29B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25C-0988-400F-BEFA-490C401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AB9-36A6-47F8-887F-46F84106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509-79DC-4FE6-BDD2-B22426DA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2D0-A42B-4EAB-95A9-3F0C1B2B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81A-ED17-4C4F-B31C-EBC30BD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9412-C081-4DFD-9881-A8831048D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7AC-F203-487B-8AB3-77D10B26D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21" name="Picture 4" descr="301cb490028fbf2a0fc2a297271_prev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800600" y="10666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he Present Simple </a:t>
            </a: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Ten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609588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хорошева Н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Гимназия имени Подольских курсант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отрица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 сказуемое без окончания 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7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70eca185658et"/>
          <p:cNvPicPr/>
          <p:nvPr/>
        </p:nvPicPr>
        <p:blipFill>
          <a:blip r:embed="rId1"/>
          <a:stretch/>
        </p:blipFill>
        <p:spPr>
          <a:xfrm>
            <a:off x="5938920" y="1523880"/>
            <a:ext cx="3205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5562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н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играю в теннис каждый д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шь в тенни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асто не  играете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бычно  не играем в теннис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lay tenni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е играют в тенни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1591_b"/>
          <p:cNvPicPr/>
          <p:nvPr/>
        </p:nvPicPr>
        <p:blipFill>
          <a:blip r:embed="rId1"/>
          <a:stretch/>
        </p:blipFill>
        <p:spPr>
          <a:xfrm>
            <a:off x="57150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6553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 не играет в теннис.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Она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Лен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аш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Моя сестр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0701151724330"/>
          <p:cNvPicPr/>
          <p:nvPr/>
        </p:nvPicPr>
        <p:blipFill>
          <a:blip r:embed="rId1"/>
          <a:stretch/>
        </p:blipFill>
        <p:spPr>
          <a:xfrm>
            <a:off x="5105520" y="10666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Отрицательные предложен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162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е друг не играет в теннис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Его папа не играет в тенни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не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не 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 cousi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9f2c5b3e1e5ef0691588b6ee97db31224d7ff761887318"/>
          <p:cNvPicPr/>
          <p:nvPr/>
        </p:nvPicPr>
        <p:blipFill>
          <a:blip r:embed="rId1"/>
          <a:stretch/>
        </p:blipFill>
        <p:spPr>
          <a:xfrm>
            <a:off x="5791320" y="1600200"/>
            <a:ext cx="311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вопросительного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спомогательный глагол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,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без окончания –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ris_05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play tennis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ю в теннис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каждый день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шь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м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play tenni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иногда играют в теннис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1266730921_2ddaf51211d2"/>
          <p:cNvPicPr/>
          <p:nvPr/>
        </p:nvPicPr>
        <p:blipFill>
          <a:blip r:embed="rId1"/>
          <a:stretch/>
        </p:blipFill>
        <p:spPr>
          <a:xfrm>
            <a:off x="5943600" y="1447920"/>
            <a:ext cx="272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e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very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Лена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Саша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7" descr="post-42108-1206014562"/>
          <p:cNvPicPr/>
          <p:nvPr/>
        </p:nvPicPr>
        <p:blipFill>
          <a:blip r:embed="rId1"/>
          <a:stretch/>
        </p:blipFill>
        <p:spPr>
          <a:xfrm>
            <a:off x="5695920" y="1585800"/>
            <a:ext cx="28576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опрос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55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е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Его отец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оя сестра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ur brother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аш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aun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х тетя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er cousin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 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е двоюродный брат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6" descr="1274952396_4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остроение специальных вопросов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пециальное вопросительное сл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, Why, Where, When, How often, With whom, How long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спомогательный глагол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, d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лагол - сказуемое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без оконч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   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–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 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или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 -es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(смысловой глаг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5. допол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6.обстоятельство места (где происходи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7.обстоятельство времени (когда происходит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5" descr="f_4c84d44a6c0f9"/>
          <p:cNvPicPr/>
          <p:nvPr/>
        </p:nvPicPr>
        <p:blipFill>
          <a:blip r:embed="rId1"/>
          <a:stretch/>
        </p:blipFill>
        <p:spPr>
          <a:xfrm>
            <a:off x="5638680" y="2830680"/>
            <a:ext cx="312444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ециальные вопросы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at gam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В какую игру играе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at 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o 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Ч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елает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1" descr="sporta-1259"/>
          <p:cNvPicPr/>
          <p:nvPr/>
        </p:nvPicPr>
        <p:blipFill>
          <a:blip r:embed="rId1"/>
          <a:stretch/>
        </p:blipFill>
        <p:spPr>
          <a:xfrm>
            <a:off x="5943600" y="1676520"/>
            <a:ext cx="32004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настоящее простое врем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228600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лова подсказ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ually [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u: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u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l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ыч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lweiz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ften  [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dom  [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ld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]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д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times [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Λ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taimz]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н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Эти слова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утвердительном предложениях стоят после подлежащ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Действие происходит регулярно, через        определенный промежуток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3" descr="10deac4b3cfbt"/>
          <p:cNvPicPr/>
          <p:nvPr/>
        </p:nvPicPr>
        <p:blipFill>
          <a:blip r:embed="rId1"/>
          <a:stretch/>
        </p:blipFill>
        <p:spPr>
          <a:xfrm>
            <a:off x="5105520" y="2666880"/>
            <a:ext cx="3809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Специальные вопросы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ith whom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кем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y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ot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Почему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е 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Когд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й друг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грает в теннис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1" descr="sporta-1259"/>
          <p:cNvPicPr/>
          <p:nvPr/>
        </p:nvPicPr>
        <p:blipFill>
          <a:blip r:embed="rId1"/>
          <a:stretch/>
        </p:blipFill>
        <p:spPr>
          <a:xfrm>
            <a:off x="5943600" y="1676520"/>
            <a:ext cx="32004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остроение  вопросов к подлежащему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Специальное вопросительное сло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o, Which of friend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глагол - сказуемое с окончания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или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(смысловой глаго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3. дополн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4.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5.обстоятельство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8" descr="sporta-475"/>
          <p:cNvPicPr/>
          <p:nvPr/>
        </p:nvPicPr>
        <p:blipFill>
          <a:blip r:embed="rId1"/>
          <a:stretch/>
        </p:blipFill>
        <p:spPr>
          <a:xfrm>
            <a:off x="4191120" y="2563920"/>
            <a:ext cx="4647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Вопросы к подлежащему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то играет в теннис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ich of your fri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l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nni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то из твоих друзей играет в теннис каждый д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sporta-1273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ловосочетания стоят в конце предло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ay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[ evri ]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ummer, winter, spring, aut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very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morning, evening, after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 o’cloc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23351556_1208878086_33"/>
          <p:cNvPicPr/>
          <p:nvPr/>
        </p:nvPicPr>
        <p:blipFill>
          <a:blip r:embed="rId1"/>
          <a:stretch/>
        </p:blipFill>
        <p:spPr>
          <a:xfrm>
            <a:off x="5638680" y="26668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he Present Simple Tense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3123720"/>
            <a:ext cx="4190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04920" y="1066320"/>
            <a:ext cx="967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0" lang="ru-RU" sz="6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Если  в предложении говорится об одном человеке, животном, предмете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he, she it)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 кроме Я) , то есть глагол стоит в 3 лице единственном числе, к глаголу добавляется окончание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 –s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или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– 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0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К глаголу добавляется окончание</a:t>
            </a:r>
            <a:r>
              <a:rPr b="0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– es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, если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лово закан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на буквы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76520" y="3352680"/>
            <a:ext cx="1143000" cy="3276720"/>
          </a:xfrm>
          <a:custGeom>
            <a:avLst/>
            <a:gdLst>
              <a:gd name="textAreaLeft" fmla="*/ 0 w 1143000"/>
              <a:gd name="textAreaRight" fmla="*/ 412560 w 11430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819520" y="44956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+ -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0" descr="23351570_1208878157_0701151701590"/>
          <p:cNvPicPr/>
          <p:nvPr/>
        </p:nvPicPr>
        <p:blipFill>
          <a:blip r:embed="rId1"/>
          <a:stretch/>
        </p:blipFill>
        <p:spPr>
          <a:xfrm>
            <a:off x="5105520" y="3048120"/>
            <a:ext cx="3414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рядок слов в утвердительном предложени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62485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глагол –сказуемое ( смысловой гл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 3 лиц. ед. ч. +-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, -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3. доп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4. обстоятельство ме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5. обстоятельство време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( может стоять после подлежащег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7fc7b75b3f8b"/>
          <p:cNvPicPr/>
          <p:nvPr/>
        </p:nvPicPr>
        <p:blipFill>
          <a:blip r:embed="rId1"/>
          <a:stretch/>
        </p:blipFill>
        <p:spPr>
          <a:xfrm>
            <a:off x="6248520" y="2066760"/>
            <a:ext cx="2438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ю в теннис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каждый д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шь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 часто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те в тенни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 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Мы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обычно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граем в тенни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 tennis .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ногда играют в теннис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10698"/>
          <p:cNvPicPr/>
          <p:nvPr/>
        </p:nvPicPr>
        <p:blipFill>
          <a:blip r:embed="rId1"/>
          <a:stretch/>
        </p:blipFill>
        <p:spPr>
          <a:xfrm>
            <a:off x="5486400" y="1752480"/>
            <a:ext cx="32353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 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ofte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n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usually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sha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eldom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y sist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r friend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is father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ometime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nnis.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0_cd9b_87694cf7_XL"/>
          <p:cNvPicPr/>
          <p:nvPr/>
        </p:nvPicPr>
        <p:blipFill>
          <a:blip r:embed="rId1"/>
          <a:stretch/>
        </p:blipFill>
        <p:spPr>
          <a:xfrm>
            <a:off x="5257800" y="1828800"/>
            <a:ext cx="38862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Утвердительные предложен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6095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ck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usuall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s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p at 8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ик обычно просыпается в 8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r sist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ress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 7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е сестра всегда одевается в 7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ir uncle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unch at 12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х дядя завтракает в 12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is friend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ften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 swimming p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Его друг  часто ходит в бассей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 little bro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ometim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y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ith the c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й младший брат  иногда играет с кот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r father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tch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V 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аш папа смотрит телевизор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0701151656330"/>
          <p:cNvPicPr/>
          <p:nvPr/>
        </p:nvPicPr>
        <p:blipFill>
          <a:blip r:embed="rId1"/>
          <a:stretch/>
        </p:blipFill>
        <p:spPr>
          <a:xfrm>
            <a:off x="5943600" y="1828800"/>
            <a:ext cx="2666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Построение отрицательного предло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отрицательном предложении употребляется вспомогательный глаго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спомогательный глагол- это глагол, который  помогает построить предложение, но на русский язык не переводи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ou, we, they,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e, she,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нчание у глагола не пишется, переходит к вспомогательному глагол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[d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Λ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" descr="11848d1011bc"/>
          <p:cNvPicPr/>
          <p:nvPr/>
        </p:nvPicPr>
        <p:blipFill>
          <a:blip r:embed="rId1"/>
          <a:stretch/>
        </p:blipFill>
        <p:spPr>
          <a:xfrm>
            <a:off x="5943600" y="2297160"/>
            <a:ext cx="27432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alia</dc:creator>
  <dc:description/>
  <dc:language>en-US</dc:language>
  <cp:lastModifiedBy>Наталья</cp:lastModifiedBy>
  <dcterms:modified xsi:type="dcterms:W3CDTF">2018-10-30T14:42:1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