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1.gif" ContentType="image/gif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67B8-10F8-4721-97BB-C1387FC2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029F-901E-407B-A445-4803C801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A641-4DFA-425E-9E68-0C606CF2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3894-8B6D-4E52-A740-FD54E97E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A059-1E75-44DC-BF37-37A6B7F1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D191-1DE6-480F-AC9E-077BE161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7C29-5241-4BCA-85F0-4BA54273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76C4-9198-4257-B12B-CDB46461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A266-FB98-4964-804F-62FC533B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180B-9C0E-41A8-B8BF-E7A5EDE4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F12A-F00D-4EAE-9EDC-B1446C99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BCAD-B054-481B-B011-48C4C911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781A-93CA-403F-84F2-2D4453D9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5BD7-35ED-4D04-90AE-F3950E07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B577-34A0-4C11-9ACA-AFC0696A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1672-295C-4F76-85A9-5AF0AA06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62EB-4AA2-4425-9822-91F58EB3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4C2-A1DA-4F82-8509-0E0C8F72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ABF-5D5F-496E-BB1D-562AB03C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31DA-DE4E-4ED0-9B0F-0E3013EA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60A-29EF-4CFA-A801-D4830FE6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368-B726-4002-BF2D-FD68393F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BBF8-271B-4516-A711-736212B2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6882-643A-410D-9E03-057C1CCE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05BD-F436-42F0-90B6-4A0D0D390E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4E63-6726-41F6-8F8D-6D38C9FB90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21" name="Picture 4" descr="301cb490028fbf2a0fc2a297271_prev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4800600" y="1066680"/>
            <a:ext cx="327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The Present Simple </a:t>
            </a:r>
            <a:r>
              <a:rPr b="1" lang="ru-RU" sz="7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Tens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0" y="6095880"/>
            <a:ext cx="5029200" cy="762120"/>
          </a:xfrm>
          <a:prstGeom prst="roundRect">
            <a:avLst>
              <a:gd name="adj" fmla="val 16667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хорошева Н.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Гимназия имени Подольских курсантов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Порядок слов в отрицательном предложени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5638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длежаще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спомогательный глагол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, d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глагол – сказуемое без окончания –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или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-es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(смысловой глаго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5. допол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6.обстоятельство ме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7.обстоятельство врем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6" descr="70eca185658et"/>
          <p:cNvPicPr/>
          <p:nvPr/>
        </p:nvPicPr>
        <p:blipFill>
          <a:blip r:embed="rId1"/>
          <a:stretch/>
        </p:blipFill>
        <p:spPr>
          <a:xfrm>
            <a:off x="5938920" y="1523880"/>
            <a:ext cx="32050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Отрица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5562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lay tennis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не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играю в теннис каждый ден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often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lay tennis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ы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часто не  играешь в теннис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do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often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lay ten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Вы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часто не  играете в тенни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do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lay ten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Мы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обычно  не играем в теннис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hey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lay tenni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не играют в теннис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7" descr="1591_b"/>
          <p:cNvPicPr/>
          <p:nvPr/>
        </p:nvPicPr>
        <p:blipFill>
          <a:blip r:embed="rId1"/>
          <a:stretch/>
        </p:blipFill>
        <p:spPr>
          <a:xfrm>
            <a:off x="5715000" y="20574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Отрица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6553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e 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Он не играет в теннис.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he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Она не играет в теннис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ena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Лена не играет в тенни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asha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Саша не играет в тенни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y sister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tennis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Моя сестра не играет в тенни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0701151724330"/>
          <p:cNvPicPr/>
          <p:nvPr/>
        </p:nvPicPr>
        <p:blipFill>
          <a:blip r:embed="rId1"/>
          <a:stretch/>
        </p:blipFill>
        <p:spPr>
          <a:xfrm>
            <a:off x="5105520" y="1066680"/>
            <a:ext cx="35812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Отрицательные предложен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162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r friend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ten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Ее друг не играет в теннис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is father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Его папа не играет в тенни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ur brother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аш брат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т не в теннис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ir aun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х тетя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не играет в теннис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 cousin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е двоюродный брат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н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т в теннис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7" descr="9f2c5b3e1e5ef0691588b6ee97db31224d7ff761887318"/>
          <p:cNvPicPr/>
          <p:nvPr/>
        </p:nvPicPr>
        <p:blipFill>
          <a:blip r:embed="rId1"/>
          <a:stretch/>
        </p:blipFill>
        <p:spPr>
          <a:xfrm>
            <a:off x="5791320" y="1600200"/>
            <a:ext cx="311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Построение вопросительного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спомогательный глагол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, d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.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длежаще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глагол - сказуем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без окончания –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s 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ли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-es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(смысловой глаго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. дополн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.обстоятельство ме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6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.обстоятельство врем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7" descr="ris_05"/>
          <p:cNvPicPr/>
          <p:nvPr/>
        </p:nvPicPr>
        <p:blipFill>
          <a:blip r:embed="rId1"/>
          <a:stretch/>
        </p:blipFill>
        <p:spPr>
          <a:xfrm>
            <a:off x="4876920" y="2514600"/>
            <a:ext cx="403848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Вопроси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5410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play tennis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ю в теннис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каждый день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often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?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ы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 часто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шь в теннис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Мы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обычно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играем в теннис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hey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sometimes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 play tenni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 иногда играют в теннис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9" descr="1266730921_2ddaf51211d2"/>
          <p:cNvPicPr/>
          <p:nvPr/>
        </p:nvPicPr>
        <p:blipFill>
          <a:blip r:embed="rId1"/>
          <a:stretch/>
        </p:blipFill>
        <p:spPr>
          <a:xfrm>
            <a:off x="5943600" y="1447920"/>
            <a:ext cx="2720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Вопроси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he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play tennis?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н</a:t>
            </a: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 играет в теннис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h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every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на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Lena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play tennis?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Лена</a:t>
            </a: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 играет в теннис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Sasha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Саша </a:t>
            </a: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играет в теннис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7" descr="post-42108-1206014562"/>
          <p:cNvPicPr/>
          <p:nvPr/>
        </p:nvPicPr>
        <p:blipFill>
          <a:blip r:embed="rId1"/>
          <a:stretch/>
        </p:blipFill>
        <p:spPr>
          <a:xfrm>
            <a:off x="5695920" y="1585800"/>
            <a:ext cx="28576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Вопроси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6553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r friend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Ее друг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is father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Его отец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y sister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Моя сестра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ur brother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аш брат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ir aunt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х тетя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er cousin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е двоюродный брат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6" descr="1274952396_4"/>
          <p:cNvPicPr/>
          <p:nvPr/>
        </p:nvPicPr>
        <p:blipFill>
          <a:blip r:embed="rId1"/>
          <a:stretch/>
        </p:blipFill>
        <p:spPr>
          <a:xfrm>
            <a:off x="5105520" y="3352680"/>
            <a:ext cx="38862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Построение специальных вопросов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пециальное вопросительное слов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, Why, Where, When, How often, With whom, How long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Вспомогательный глагол (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o, do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подлежащ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глагол - сказуемое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без оконч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    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–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s 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или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 -es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(смысловой глаго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5. допол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6.обстоятельство места (где происходи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7.обстоятельство времени (когда происходит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5" descr="f_4c84d44a6c0f9"/>
          <p:cNvPicPr/>
          <p:nvPr/>
        </p:nvPicPr>
        <p:blipFill>
          <a:blip r:embed="rId1"/>
          <a:stretch/>
        </p:blipFill>
        <p:spPr>
          <a:xfrm>
            <a:off x="5638680" y="2830680"/>
            <a:ext cx="312444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Специальные вопросы</a:t>
            </a:r>
            <a:endParaRPr b="1" lang="en-US" sz="6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5562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r friend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Где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й друг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What game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r friend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В какую игру играет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й друг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What 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r friend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o every 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Что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й друг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делает каждый ден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21" descr="sporta-1259"/>
          <p:cNvPicPr/>
          <p:nvPr/>
        </p:nvPicPr>
        <p:blipFill>
          <a:blip r:embed="rId1"/>
          <a:stretch/>
        </p:blipFill>
        <p:spPr>
          <a:xfrm>
            <a:off x="5943600" y="1676520"/>
            <a:ext cx="32004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настоящее простое врем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228600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Слова подсказк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ually [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ju: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З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u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o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быч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lway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:lweiz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се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ften  [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:f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ча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ldom  [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eld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]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дк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ometimes [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Λ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taimz]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н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Эти слова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 утвердительном предложениях стоят после подлежащег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372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Действие происходит регулярно, через        определенный промежуток врем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3" descr="10deac4b3cfbt"/>
          <p:cNvPicPr/>
          <p:nvPr/>
        </p:nvPicPr>
        <p:blipFill>
          <a:blip r:embed="rId1"/>
          <a:stretch/>
        </p:blipFill>
        <p:spPr>
          <a:xfrm>
            <a:off x="5105520" y="2666880"/>
            <a:ext cx="38098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Специальные вопросы</a:t>
            </a:r>
            <a:endParaRPr b="1" lang="en-US" sz="6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5943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ith whom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r friend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C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кем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й друг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y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not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r friend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Почему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й друг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не 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r friend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Когд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й друг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1" descr="sporta-1259"/>
          <p:cNvPicPr/>
          <p:nvPr/>
        </p:nvPicPr>
        <p:blipFill>
          <a:blip r:embed="rId1"/>
          <a:stretch/>
        </p:blipFill>
        <p:spPr>
          <a:xfrm>
            <a:off x="5943600" y="1676520"/>
            <a:ext cx="32004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Построение  вопросов к подлежащему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Специальное вопросительное слов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Who, Which of friend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глагол - сказуемое с окончания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ли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-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(смысловой глаго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3. дополн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4.обстоятельство ме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5.обстоятельство врем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8" descr="sporta-475"/>
          <p:cNvPicPr/>
          <p:nvPr/>
        </p:nvPicPr>
        <p:blipFill>
          <a:blip r:embed="rId1"/>
          <a:stretch/>
        </p:blipFill>
        <p:spPr>
          <a:xfrm>
            <a:off x="4191120" y="2563920"/>
            <a:ext cx="46479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Вопросы к подлежащему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very 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Кто играет в теннис каждый ден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Which of your frie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very 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Кто из твоих друзей играет в теннис каждый ден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7" descr="sporta-1273"/>
          <p:cNvPicPr/>
          <p:nvPr/>
        </p:nvPicPr>
        <p:blipFill>
          <a:blip r:embed="rId1"/>
          <a:stretch/>
        </p:blipFill>
        <p:spPr>
          <a:xfrm>
            <a:off x="4419720" y="1600200"/>
            <a:ext cx="4495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Словосочетания стоят в конце предлож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[ evri ]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каждый д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rning, evening, aftern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ummer, winter, spring, autum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morning, evening, aftern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a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7 o’clock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23351556_1208878086_33"/>
          <p:cNvPicPr/>
          <p:nvPr/>
        </p:nvPicPr>
        <p:blipFill>
          <a:blip r:embed="rId1"/>
          <a:stretch/>
        </p:blipFill>
        <p:spPr>
          <a:xfrm>
            <a:off x="5638680" y="2666880"/>
            <a:ext cx="304812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560" y="3123720"/>
            <a:ext cx="4190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-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-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-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-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04920" y="1066320"/>
            <a:ext cx="96775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0" lang="ru-RU" sz="600" spc="-1" strike="noStrike">
                <a:solidFill>
                  <a:srgbClr val="0099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Если  в предложении говорится об одном человеке, животном, предмете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(he, she it)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( кроме Я) , то есть глагол стоит в 3 лице единственном числе, к глаголу добавляется окончание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–s 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или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– 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0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К глаголу добавляется окончание</a:t>
            </a:r>
            <a:r>
              <a:rPr b="0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Times New Roman"/>
              </a:rPr>
              <a:t>– es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, если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слово заканч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на буквы: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1676520" y="3352680"/>
            <a:ext cx="1143000" cy="3276720"/>
          </a:xfrm>
          <a:custGeom>
            <a:avLst/>
            <a:gdLst>
              <a:gd name="textAreaLeft" fmla="*/ 0 w 1143000"/>
              <a:gd name="textAreaRight" fmla="*/ 412560 w 11430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2819520" y="44956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+ -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0" descr="23351570_1208878157_0701151701590"/>
          <p:cNvPicPr/>
          <p:nvPr/>
        </p:nvPicPr>
        <p:blipFill>
          <a:blip r:embed="rId1"/>
          <a:stretch/>
        </p:blipFill>
        <p:spPr>
          <a:xfrm>
            <a:off x="5105520" y="3048120"/>
            <a:ext cx="3414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Порядок слов в утвердительном предложени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62485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длежаще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глагол –сказуемое ( смысловой гл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 3 лиц. ед. ч. +-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, -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3. допол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4. обстоятельство ме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5. обстоятельство времен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( может стоять после подлежащег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7fc7b75b3f8b"/>
          <p:cNvPicPr/>
          <p:nvPr/>
        </p:nvPicPr>
        <p:blipFill>
          <a:blip r:embed="rId1"/>
          <a:stretch/>
        </p:blipFill>
        <p:spPr>
          <a:xfrm>
            <a:off x="6248520" y="2066760"/>
            <a:ext cx="24382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Утверди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 tenni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граю в теннис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каждый ден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You 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ofte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 tennis.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Ты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 часто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граешь в тенни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Вы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 часто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граете в тенни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 usually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 tenn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Мы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обычно</a:t>
            </a: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граем в тенни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hey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ometime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 tennis .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ногда играют в теннис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10698"/>
          <p:cNvPicPr/>
          <p:nvPr/>
        </p:nvPicPr>
        <p:blipFill>
          <a:blip r:embed="rId1"/>
          <a:stretch/>
        </p:blipFill>
        <p:spPr>
          <a:xfrm>
            <a:off x="5486400" y="1752480"/>
            <a:ext cx="32353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Утверди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5943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e 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ofte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.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every 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Lena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usually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asha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eldom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y sister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alway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.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Your friend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is father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ometime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.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0_cd9b_87694cf7_XL"/>
          <p:cNvPicPr/>
          <p:nvPr/>
        </p:nvPicPr>
        <p:blipFill>
          <a:blip r:embed="rId1"/>
          <a:stretch/>
        </p:blipFill>
        <p:spPr>
          <a:xfrm>
            <a:off x="5257800" y="1828800"/>
            <a:ext cx="388620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Утверди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6095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ick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usuall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ash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 at 8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ик обычно просыпается в 8 ча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er sister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alway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ess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t 7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Ее сестра всегда одевается в 7 ча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ir uncle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unch at 12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Их дядя завтракает в 12 ча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is friend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often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o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 swimming p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Его друг  часто ходит в бассей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y little brother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ometimes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ith the c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й младший брат  иногда играет с кот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ur father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atch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V  every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Наш папа смотрит телевизор каждый де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0701151656330"/>
          <p:cNvPicPr/>
          <p:nvPr/>
        </p:nvPicPr>
        <p:blipFill>
          <a:blip r:embed="rId1"/>
          <a:stretch/>
        </p:blipFill>
        <p:spPr>
          <a:xfrm>
            <a:off x="5943600" y="1828800"/>
            <a:ext cx="26668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Построение отрицательного предложени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410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В отрицательном предложении употребляется вспомогательный глагол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Вспомогательный глагол- это глагол, который  помогает построить предложение, но на русский язык не переводи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you, we, they,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e, she,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кончание у глагола не пишется, переходит к вспомогательному глагол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[d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Λ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6" descr="11848d1011bc"/>
          <p:cNvPicPr/>
          <p:nvPr/>
        </p:nvPicPr>
        <p:blipFill>
          <a:blip r:embed="rId1"/>
          <a:stretch/>
        </p:blipFill>
        <p:spPr>
          <a:xfrm>
            <a:off x="5943600" y="2297160"/>
            <a:ext cx="274320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talia</dc:creator>
  <dc:description/>
  <dc:language>en-US</dc:language>
  <cp:lastModifiedBy>Наталья</cp:lastModifiedBy>
  <dcterms:modified xsi:type="dcterms:W3CDTF">2018-10-30T14:42:1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