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A68-4F84-4B49-8985-D6E1A439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7AF-93DC-477C-BC7F-24E72C3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AFF-8901-4F38-847B-436651AC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C1D-172F-4F6E-AB29-26722C7E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16E-0EBC-4C22-8006-616271FB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EC2-6F99-4CDC-A0BD-8B0575E2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9B1-11E6-476A-A002-F96C0C0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35E-55BB-4DF5-978B-31216BE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E38-7B18-4038-85E8-2100957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ED3-B105-4AF4-9F9E-A439B94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C5E-BBA1-4776-BDD8-C2FA38A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09F-BBF1-4165-968B-73A357A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7A9F-49C9-4B9D-B102-FDFEF0D20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280" y="134100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 презентация  о разном восприятии  ч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й указаны книги, о котор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омянули библиотекари Красногвардейского района, отвечая на вопросы о том, чем является для них ч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состоянию на март 2009 года было продано около 2,5 млн экземпляров в Соединенных Штатах и Великобритании. Книга выиграла Exclusive Books Boeke Prize и British Book Award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кранизация романа была представлена в августе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ональные  журн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Читаем, учимся, играем», «Школьная библиот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и по кулина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ннак Д. «Как рома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стватацуров А. «Люди в гол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улинг Дж «Гарри Потте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йв  С.Льюис  «Хроники Нар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левин В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лн А.  «Вини-Пу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киен Дж Р.Р.  «Властелин кол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СТВАЦАТУРОВ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Люди в го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Астватацуров Книга"/>
          <p:cNvPicPr/>
          <p:nvPr/>
        </p:nvPicPr>
        <p:blipFill>
          <a:blip r:embed="rId1"/>
          <a:stretch/>
        </p:blipFill>
        <p:spPr>
          <a:xfrm>
            <a:off x="1835280" y="2349360"/>
            <a:ext cx="4681440" cy="3856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Андрей Аствацату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умир студентов филфака СПбГУ и Смольного института свободных наук и искусств, харизматичный литературовед и блистательный лектор набоковского склада. В начале 2009 г. выходит его смешная и трогательная автобиография «Люди в голом». Журнал «Собака.ru» публикует отрывок, где автор вспоминает учителя физики по прозвищу Угрюмый и одноклассника Мишу, который фундаментально обогатил его словарный за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ри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юма Александр «Три мушкете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унин Б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ун Д. «Код да Винч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йтматов Ч. «И дольше века длится д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 У.  «Имя Ро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бер Б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епин З. «Саньк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фка Ф. «За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мберто Э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мя р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Эко "/>
          <p:cNvPicPr/>
          <p:nvPr/>
        </p:nvPicPr>
        <p:blipFill>
          <a:blip r:embed="rId1"/>
          <a:stretch/>
        </p:blipFill>
        <p:spPr>
          <a:xfrm>
            <a:off x="1547640" y="1557360"/>
            <a:ext cx="6409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мя розы» (итал. Il nome della rosa) — первый роман итальянского писателя, профессора семиотики Болонского университета Умберто Эко. Впервые был опубликован на итальянском в 1980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хар Прилепин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ньк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Прилепин"/>
          <p:cNvPicPr/>
          <p:nvPr/>
        </p:nvPicPr>
        <p:blipFill>
          <a:blip r:embed="rId1"/>
          <a:stretch/>
        </p:blipFill>
        <p:spPr>
          <a:xfrm>
            <a:off x="755640" y="2924280"/>
            <a:ext cx="2808360" cy="28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анькя"/>
          <p:cNvPicPr/>
          <p:nvPr/>
        </p:nvPicPr>
        <p:blipFill>
          <a:blip r:embed="rId2"/>
          <a:stretch/>
        </p:blipFill>
        <p:spPr>
          <a:xfrm>
            <a:off x="5292720" y="2924280"/>
            <a:ext cx="25192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43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ение  как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труд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лажден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тв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ключен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довольств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ле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овый Горький явился!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ыло сказано о  Захаре Прилепине, когда он в 2006 году  вошел в шорт-лист "Национального бестселлер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нькя" - это история простог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овинциального паренька,  Саши Тишина, который, родись он  в другие времена, вполне мог бы стать инженером или рабочим. Но "свинцовая  мерзость»современности не дает ему таких шансов,  и Сашка вступает в молодежную революционную партию в надежд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ить мир к лучшем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о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муары м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ьина Н. «Пути-дор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и, справ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ндау  Л.«Воспомин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стой Л. «Война и мир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равьева И. «Мой пу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инина А. «Взгляд из веч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ватская Е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эльо П. «Алхим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кевич Т. «Жизнь – сапожок непарны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удоволь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айлова И.  «Собо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ина Дина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а Галактионова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й Усачев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ицкая Л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олазкин Е. Ави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рина Измайло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Измаилова"/>
          <p:cNvPicPr/>
          <p:nvPr/>
        </p:nvPicPr>
        <p:blipFill>
          <a:blip r:embed="rId1"/>
          <a:stretch/>
        </p:blipFill>
        <p:spPr>
          <a:xfrm>
            <a:off x="2627280" y="2421000"/>
            <a:ext cx="39607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Ирины Измайловой "Собор" в увлекательной и захватывающей форме исторического авантюрного романа рассказывает о жизни , творчестве, приключениях одного из самых одаренных архитекторов XIX века Огюста Монферана, создателя Исаакиевского собора и Александрийского стол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ра Галактионо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кануне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Галактионова"/>
          <p:cNvPicPr/>
          <p:nvPr/>
        </p:nvPicPr>
        <p:blipFill>
          <a:blip r:embed="rId1"/>
          <a:stretch/>
        </p:blipFill>
        <p:spPr>
          <a:xfrm>
            <a:off x="2124000" y="2349360"/>
            <a:ext cx="38163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а Григорьевна Галактионова</a:t>
            </a: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рождённая Павликова) — русский писател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лась на истфаке Уральского пединститута, в 1986 году окончил  Литинститут. Жила в Казахстане, потом п в Москве. Работала корреспондентом, собкором областных, республиканских газет в Аркалыке, Алма-Ате, Караганде, Москве, старшим редактором Уральской студии телевидения, советником госслуж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ая известность к ней пришла после публикации в 2002 году в журнале «Наш современник» повести «Со всеми последующими остановками». Главная тема озвучена так: «Да, на смену «плачущему» русскому герою, занимающемуся исключительно похоронами России, я выставляю иной тип людей. Они, чаще всего, красивы, дерзки, умелы, отважны - даже в трагичности, даже в нелепости своих суде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т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стой Л. «Война и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ндера М.«Нарушенные завещ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н А. «Затерянный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ятин Е. «М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лан Кундер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рушенные завещ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ундера"/>
          <p:cNvPicPr/>
          <p:nvPr/>
        </p:nvPicPr>
        <p:blipFill>
          <a:blip r:embed="rId1"/>
          <a:stretch/>
        </p:blipFill>
        <p:spPr>
          <a:xfrm>
            <a:off x="2843280" y="1895400"/>
            <a:ext cx="31687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84368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о-философское эссе Кундеры  переведено на русский язык в 2004 году. Это  размышление  об истории романа, о закономерностях сложнейшего жанра, о его взаимоотношениях с европейской историей, о сложностях перевода, о судьбах романа и его авторов, таких как Ф.Рабле, Л.Толстой, Т.Манн, Ф.Каф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насла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фнер В. Стихи. «Сестра печа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эзия вооб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ицкая Л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ина Д. 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ффенегер О. «Жена путешественника во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ри Ниффенегер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ена путешественника в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Жена"/>
          <p:cNvPicPr/>
          <p:nvPr/>
        </p:nvPicPr>
        <p:blipFill>
          <a:blip r:embed="rId1"/>
          <a:stretch/>
        </p:blipFill>
        <p:spPr>
          <a:xfrm>
            <a:off x="2771640" y="1700280"/>
            <a:ext cx="3772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8436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, изданная  в 2003 году -  дебютный роман американской писательницы. Это любовная история о человеке с генетическим отклонением, которое позволяет ему непредсказуемо путешествовать во времени, и о его жене, деятеле искусств, которая вынуждена справляться с его опасными отлучкам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ман, который относят как к научной фантастике, так и к любовным романам, рассматривает вопросы любви, потерь и свободы выбора. В частности, путешествия во времени в ней использованы для того, чтобы показать непонимание и расстояние в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1:29:18Z</dcterms:created>
  <dc:creator>1.43.135</dc:creator>
  <dc:description/>
  <dc:language>en-US</dc:language>
  <cp:lastModifiedBy>lector</cp:lastModifiedBy>
  <dcterms:modified xsi:type="dcterms:W3CDTF">2018-11-06T14:50:52Z</dcterms:modified>
  <cp:revision>24</cp:revision>
  <dc:subject/>
  <dc:title>Марк  Твен</dc:title>
</cp:coreProperties>
</file>