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3C32-ED85-40A6-B1C4-CE494705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5D81-9E1D-412B-828E-9859B234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F9E8-3D6E-4F3A-9DCB-018E75EE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F038-C790-48BE-AC0A-1DBF7031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DF9E-F572-4104-B340-E4A53170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CB73-83BC-4604-9B38-2BACEAFE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5CE3-DE71-45C5-915F-6300D4AA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0926-B663-4226-81CC-F8732209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4254-7868-4468-82FB-9CA52CFD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CA38-96C6-4168-BACD-6D8B3FD5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E17A-8B53-4D5A-85BA-5534CCC7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1662-59A5-4CD9-AAA2-3CED3417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8727-DCC3-4A7E-96CB-CB2DD5D9A6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ение как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9280" y="1341000"/>
            <a:ext cx="814716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а презентация  о разном восприятии  чт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ней указаны книги, о котор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помянули библиотекари Красногвардейского района, отвечая на вопросы о том, чем является для них чт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4978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 состоянию на март 2009 года было продано около 2,5 млн экземпляров в Соединенных Штатах и Великобритании. Книга выиграла Exclusive Books Boeke Prize и British Book Award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Экранизация романа была представлена в августе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ение как твор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фессиональные  журнал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Читаем, учимся, играем», «Школьная библиоте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ниги по кулина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ннак Д. «Как роман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ение как иг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стватацуров А. «Люди в голо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улинг Дж «Гарри Поттер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лайв  С.Льюис  «Хроники Нарн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левин В. Мног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илн А.  «Вини-Пу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лкиен Дж Р.Р.  «Властелин колец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ДРЕЙ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СТВАЦАТУРОВ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Люди в гол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Астватацуров Книга"/>
          <p:cNvPicPr/>
          <p:nvPr/>
        </p:nvPicPr>
        <p:blipFill>
          <a:blip r:embed="rId1"/>
          <a:stretch/>
        </p:blipFill>
        <p:spPr>
          <a:xfrm>
            <a:off x="1835280" y="2349360"/>
            <a:ext cx="4681440" cy="3856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 rot="10800000">
            <a:off x="457200" y="659772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4978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Arial"/>
              </a:rPr>
              <a:t>Андрей Аствацатур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кумир студентов филфака СПбГУ и Смольного института свободных наук и искусств, харизматичный литературовед и блистательный лектор набоковского склада. В начале 2009 г. выходит его смешная и трогательная автобиография «Люди в голом». Журнал «Собака.ru» публикует отрывок, где автор вспоминает учителя физики по прозвищу Угрюмый и одноклассника Мишу, который фундаментально обогатил его словарный за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ение как приклю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341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юма Александр «Три мушкетер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кунин Б. В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раун Д. «Код да Винчи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ение как загад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341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йтматов Ч. «И дольше века длится ден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о У.  «Имя Роз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рбер Б. Мног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лепин З. «Саньк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фка Ф. «Зам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мберто Эко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мя ро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 rot="10800000">
            <a:off x="457200" y="659772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Эко "/>
          <p:cNvPicPr/>
          <p:nvPr/>
        </p:nvPicPr>
        <p:blipFill>
          <a:blip r:embed="rId1"/>
          <a:stretch/>
        </p:blipFill>
        <p:spPr>
          <a:xfrm>
            <a:off x="1547640" y="1557360"/>
            <a:ext cx="6409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4978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Имя розы» (итал. Il nome della rosa) — первый роман итальянского писателя, профессора семиотики Болонского университета Умберто Эко. Впервые был опубликован на итальянском в 1980 год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хар Прилепин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аньк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 rot="10800000">
            <a:off x="457200" y="659772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Прилепин"/>
          <p:cNvPicPr/>
          <p:nvPr/>
        </p:nvPicPr>
        <p:blipFill>
          <a:blip r:embed="rId1"/>
          <a:stretch/>
        </p:blipFill>
        <p:spPr>
          <a:xfrm>
            <a:off x="755640" y="2924280"/>
            <a:ext cx="2808360" cy="288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Санькя"/>
          <p:cNvPicPr/>
          <p:nvPr/>
        </p:nvPicPr>
        <p:blipFill>
          <a:blip r:embed="rId2"/>
          <a:stretch/>
        </p:blipFill>
        <p:spPr>
          <a:xfrm>
            <a:off x="5292720" y="2924280"/>
            <a:ext cx="251928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84368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ение  как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труд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слаждение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ворчество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гра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ключение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гадка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иск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уть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удовольствие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влеч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4978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Новый Горький явился!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ыло сказано о  Захаре Прилепине, когда он в 2006 году  вошел в шорт-лист "Национального бестселлера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497800" cy="59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анькя" - это история простого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провинциального паренька,  Саши Тишина, который, родись он  в другие времена, вполне мог бы стать инженером или рабочим. Но "свинцовая  мерзость»современности не дает ему таких шансов,  и Сашка вступает в молодежную революционную партию в надежд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менить мир к лучшему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ение как поис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341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муары мног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льина Н. «Пути-дорог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овари, справоч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ндау  Л.«Воспомина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лстой Л. «Война и мир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ение как пу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57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уравьева И. «Мой пу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ринина А. «Взгляд из вечнос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лаватская Е. В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эльо П. «Алхими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ткевич Т. «Жизнь – сапожок непарны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ение как удовольст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341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майлова И.  «Собор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бина Дина. М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ра Галактионова. М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дрей Усачев. М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лицкая Л. В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долазкин Е. Авиа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рина Измайлова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о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 rot="10800000">
            <a:off x="457200" y="659772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Измаилова"/>
          <p:cNvPicPr/>
          <p:nvPr/>
        </p:nvPicPr>
        <p:blipFill>
          <a:blip r:embed="rId1"/>
          <a:stretch/>
        </p:blipFill>
        <p:spPr>
          <a:xfrm>
            <a:off x="2627280" y="2421000"/>
            <a:ext cx="396072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4978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а Ирины Измайловой "Собор" в увлекательной и захватывающей форме исторического авантюрного романа рассказывает о жизни , творчестве, приключениях одного из самых одаренных архитекторов XIX века Огюста Монферана, создателя Исаакиевского собора и Александрийского столп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ера Галактионова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акануне тиш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 rot="10800000">
            <a:off x="457200" y="659772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Галактионова"/>
          <p:cNvPicPr/>
          <p:nvPr/>
        </p:nvPicPr>
        <p:blipFill>
          <a:blip r:embed="rId1"/>
          <a:stretch/>
        </p:blipFill>
        <p:spPr>
          <a:xfrm>
            <a:off x="2124000" y="2349360"/>
            <a:ext cx="381636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4978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а Григорьевна Галактионова</a:t>
            </a:r>
            <a:r>
              <a:rPr b="0" lang="ru-RU" sz="32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урождённая Павликова) — русский писател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лась на истфаке Уральского пединститута, в 1986 году окончил  Литинститут. Жила в Казахстане, потом п в Москве. Работала корреспондентом, собкором областных, республиканских газет в Аркалыке, Алма-Ате, Караганде, Москве, старшим редактором Уральской студии телевидения, советником госслужб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4978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ная известность к ней пришла после публикации в 2002 году в журнале «Наш современник» повести «Со всеми последующими остановками». Главная тема озвучена так: «Да, на смену «плачущему» русскому герою, занимающемуся исключительно похоронами России, я выставляю иной тип людей. Они, чаще всего, красивы, дерзки, умелы, отважны - даже в трагичности, даже в нелепости своих судеб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ение как тру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341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лстой Л. «Война и мир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ундера М.«Нарушенные завеща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ин А. «Затерянный мир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мятин Е. «Мы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илан Кундера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арушенные завещ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 rot="10800000">
            <a:off x="457200" y="659772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Кундера"/>
          <p:cNvPicPr/>
          <p:nvPr/>
        </p:nvPicPr>
        <p:blipFill>
          <a:blip r:embed="rId1"/>
          <a:stretch/>
        </p:blipFill>
        <p:spPr>
          <a:xfrm>
            <a:off x="2843280" y="1895400"/>
            <a:ext cx="316872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843680" cy="57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но-философское эссе Кундеры  переведено на русский язык в 2004 году. Это  размышление  об истории романа, о закономерностях сложнейшего жанра, о его взаимоотношениях с европейской историей, о сложностях перевода, о судьбах романа и его авторов, таких как Ф.Рабле, Л.Толстой, Т.Манн, Ф.Каф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ение как наслаж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ефнер В. Стихи. «Сестра печал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эзия вообщ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лицкая Л. В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бина Д. . Мног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иффенегер О. «Жена путешественника во времен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дри Ниффенегер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Жена путешественника во врем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 rot="10800000">
            <a:off x="457200" y="659772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Жена"/>
          <p:cNvPicPr/>
          <p:nvPr/>
        </p:nvPicPr>
        <p:blipFill>
          <a:blip r:embed="rId1"/>
          <a:stretch/>
        </p:blipFill>
        <p:spPr>
          <a:xfrm>
            <a:off x="2771640" y="1700280"/>
            <a:ext cx="3772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84368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а, изданная  в 2003 году -  дебютный роман американской писательницы. Это любовная история о человеке с генетическим отклонением, которое позволяет ему непредсказуемо путешествовать во времени, и о его жене, деятеле искусств, которая вынуждена справляться с его опасными отлучкам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4978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ман, который относят как к научной фантастике, так и к любовным романам, рассматривает вопросы любви, потерь и свободы выбора. В частности, путешествия во времени в ней использованы для того, чтобы показать непонимание и расстояние в отношениях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1:29:18Z</dcterms:created>
  <dc:creator>1.43.135</dc:creator>
  <dc:description/>
  <dc:language>en-US</dc:language>
  <cp:lastModifiedBy>lector</cp:lastModifiedBy>
  <dcterms:modified xsi:type="dcterms:W3CDTF">2018-11-06T14:50:52Z</dcterms:modified>
  <cp:revision>24</cp:revision>
  <dc:subject/>
  <dc:title>Марк  Твен</dc:title>
</cp:coreProperties>
</file>