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3A69-372D-4D8C-AD9E-F7223AB2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6C0D-F1D1-4424-98B4-BADBD203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BC41-9FC1-4075-A5FD-E46BE4D9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C12C-4A42-4603-807D-A83142CE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7210D-4B1E-4ECC-AFD4-CA210150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8B6EB-C952-414A-BD4A-31257213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14616-F4B4-4E24-8B9E-109BCFB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A2D4C-781C-4806-BDEC-C63378CB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ABDCD-BEAF-486F-AF11-D9B0A93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053D2-1907-4894-9ABD-20931237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D59C8-2600-4032-9490-D5802E6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637A-AA66-4E9E-8F99-F7A9CC03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5D648-1D06-4F09-8156-0CB953A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D0BA5-773C-420C-BE2B-1A4CC72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D70E6-F8E8-4937-9851-968E5B1F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BFCC-F13D-48C5-80B8-7A618EE2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B0DE9-D25D-45C4-B7C5-2125832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9145-B8B9-4D2D-805C-534571AD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582A-419A-4BE6-BA82-CFA49E1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7A5A-2C59-4224-9F75-3F44159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CCB7-2C96-4546-96FA-B4CA3255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3C12-254C-478A-8581-41A8C34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ACBF-BB28-4F0E-AECB-B082CA4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58A0-2EF7-4E8D-ABCE-E57FB20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28C-7333-465A-89E9-D28A2AB73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685C-2D41-4F10-98E8-688F68EA8C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-24336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91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9900"/>
                </a:solidFill>
                <a:latin typeface="Monotype Corsiva"/>
              </a:rPr>
              <a:t>Классный  ча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9900"/>
                </a:solidFill>
                <a:latin typeface="Monotype Corsiva"/>
              </a:rPr>
              <a:t>«День  Земл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начальных клас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Волкова Анна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Monotype Corsiva"/>
              </a:rPr>
              <a:t>Игра  «Найди  меня»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380988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лос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лисад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бел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са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жи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укроти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ло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о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еж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кр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9900"/>
                </a:solidFill>
                <a:latin typeface="Monotype Corsiva"/>
              </a:rPr>
              <a:t>Правила:</a:t>
            </a:r>
            <a:endParaRPr b="0" lang="en-US" sz="6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усор в лесу не оставля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етки у деревьев не лом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стры не разжиг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нёзда птиц не разоря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укеты цветов не рв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-23688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644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Рыбе – вода, птице – воздух, зверю – лес, степи, горы. А человеку нужна Родина. И охранять природу – значит охранять Родину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М.Пришв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71440"/>
            <a:ext cx="77724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4920" y="620640"/>
            <a:ext cx="849780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22 апреля –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День   Земл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7" name="Picture 1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3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3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416480" cy="3216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0" y="3429000"/>
            <a:ext cx="439272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572000" y="18900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-295" b="50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0:20:05Z</dcterms:created>
  <dc:creator>Zufar</dc:creator>
  <dc:description/>
  <dc:language>en-US</dc:language>
  <cp:lastModifiedBy>user</cp:lastModifiedBy>
  <cp:lastPrinted>2015-04-01T14:22:43Z</cp:lastPrinted>
  <dcterms:modified xsi:type="dcterms:W3CDTF">2018-11-07T12:01:15Z</dcterms:modified>
  <cp:revision>11</cp:revision>
  <dc:subject/>
  <dc:title>Слайд 1</dc:title>
</cp:coreProperties>
</file>