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856E-6107-41DE-8796-EDA542EA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FFCF-4908-4BC0-B0D5-E28688AD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08C5-09DF-4093-8543-98615AD2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42EA-343D-4A39-AE6B-79DC796E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2751E-312B-4FFF-8501-45062563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F77FE-81E2-41F4-87C3-537C5302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64297-36D2-4F02-BE28-D7D3DFB7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76BA6-8874-4FE3-BF33-6FBADC1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04947-241C-4FD9-9B17-DD0FE4B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9A21F-DA5B-4C89-B736-91CEC6AA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BBCE-1AB7-4F0A-818A-6507CFF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FE4F-E0D8-4A84-B95F-9605ED0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70CE1-C3A7-4910-9D14-4607FD06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9D6C5-AABB-452C-BFB1-DBE8AFE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BBAC8-6DA4-4BA2-807F-072C296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F554-A0A6-41CF-8C4A-861CC99F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C33A3-CA5A-4FA0-83A4-7E61E42D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A809-6230-45F3-B908-D804BEB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2C11-DBFA-47EE-89E5-3BA7CAB9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84D2-B74D-43ED-A803-C2D4731B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F2C7-E83B-47E4-ABE1-160A129E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F7F6-FA24-4BB2-AA90-046E56F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AC62-76EC-4FBB-88E3-5DA0A4B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B3CA-374F-404C-8C89-FB531A5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5DCD-D467-49C4-9482-E6DECE3A3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481A-5732-4B39-B587-8C1CD4BB0B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-24336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91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9900"/>
                </a:solidFill>
                <a:latin typeface="Monotype Corsiva"/>
              </a:rPr>
              <a:t>Классный  ч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9900"/>
                </a:solidFill>
                <a:latin typeface="Monotype Corsiva"/>
              </a:rPr>
              <a:t>«День  Земл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Волкова Анна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Monotype Corsiva"/>
              </a:rPr>
              <a:t>Игра  «Найди  меня»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3809880" cy="43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лос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лисад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бел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са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жи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крот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ло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е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р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9900"/>
                </a:solidFill>
                <a:latin typeface="Monotype Corsiva"/>
              </a:rPr>
              <a:t>Правила:</a:t>
            </a:r>
            <a:endParaRPr b="0" lang="en-US" sz="6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усор в лесу не оставля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етки у деревьев не лом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стры не разжиг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нёзда птиц не разоря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укеты цветов не рва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-23688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644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Рыбе – вода, птице – воздух, зверю – лес, степи, горы. А человеку нужна Родина. И охранять природу – значит охранять Родину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М.Пришв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71440"/>
            <a:ext cx="77724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4920" y="620640"/>
            <a:ext cx="84978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22 апреля –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День   Земл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1"/>
          <a:stretch/>
        </p:blipFill>
        <p:spPr>
          <a:xfrm>
            <a:off x="1187280" y="0"/>
            <a:ext cx="683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3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416480" cy="3216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0" y="3429000"/>
            <a:ext cx="439272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-295" b="50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0:20:05Z</dcterms:created>
  <dc:creator>Zufar</dc:creator>
  <dc:description/>
  <dc:language>en-US</dc:language>
  <cp:lastModifiedBy>user</cp:lastModifiedBy>
  <cp:lastPrinted>2015-04-01T14:22:43Z</cp:lastPrinted>
  <dcterms:modified xsi:type="dcterms:W3CDTF">2018-11-07T12:01:15Z</dcterms:modified>
  <cp:revision>11</cp:revision>
  <dc:subject/>
  <dc:title>Слайд 1</dc:title>
</cp:coreProperties>
</file>