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531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move the slide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Prin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egoe Prin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C160-A771-4460-8DC5-CA209D1767CD}" type="slidenum">
              <a:rPr b="0" lang="en-US" sz="12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FDA-3E7F-4999-B9E7-901DB70D5526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86E8-5C8C-4091-9F17-BC541A6E2C0A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0888-A38A-4307-815E-E269585C0354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BC74-51B8-4F63-A660-8A72415602C7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4A42-6F29-48A6-8748-4281C60140A4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65C-C5A0-43DA-9CC3-830704BF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F4C-474E-4556-AF97-E4C0A081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6A1-44AE-4FFF-A14B-3486834B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AA8-B8FA-478B-9E50-052E8E27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828-0510-4A06-A6FD-AAD4BD8D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D43-E02B-4223-9EB4-0460F8BD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344D-C403-4961-A5C2-00DA8F73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2DBE-BE47-465C-B669-56047189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31E1-DBBF-4652-ACEB-0B539D96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5BB-209C-425A-BDCF-93BE1774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C96C-6F7E-4C10-B2C0-35850321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F77A-1649-4BBC-A5E0-0B2FA99C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19DE-D3E5-482F-82D7-A20E4EE2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2589-7301-4C6C-B9BB-0D71E47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0FE7-B2E6-4625-BC77-C331C26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56A7-81B0-4F23-BD81-A4C7072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FC57-9620-4EF2-AB62-3F31C77A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BF2E-0155-4F69-ADC4-98639A5D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FFB2-6A6C-442C-8181-3F9A6914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864B-E911-4279-9D9F-F090BE25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96A-DBBA-4B0B-9334-376D07D3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2D58-35E2-4B67-ABDE-2A21A158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E1D3-B7AF-4C40-84DA-5C4B18B0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5D77-A889-439F-971B-F6905AB9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FB94-0228-4237-A29F-1D22C7BF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CE8D-A937-4CC9-82FA-F5007F67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B90E-B9A2-477A-A64E-721D676C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A88E-C4F6-4469-8C6D-303B074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C8F8-2A5C-4A5E-9B22-F6DC7D3A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B5FD-24F7-48E2-80B4-4FF34124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3E73-004F-48E3-BB24-1A9158A4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0D5-62CB-4FF7-8791-46C24E8C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47E1-6B54-45CF-B054-A9AA67E4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B46C-5084-4159-8EE6-CDA30295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60E9-0C04-42BA-9132-F9B589B6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B00D-AE1C-411A-9B0A-B0DAC57A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9DF3-A2A9-4AA2-82CA-2D4CFAA1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429FA-9845-4B04-B903-AB7209BD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5C43-2A27-40A7-9F64-936D56D5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EBC3-643D-4FE2-8E65-5F9407C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292B-B8A7-453C-9346-AB18B377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7AC3-7A32-488C-8CB6-4C9284CE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F50-F487-4F8A-B2BA-DE6E24BC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FCB6-10C0-4EDC-A59E-A602F64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0834-A7EB-4314-9A65-0AAA863D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D3C9C-AF2C-4248-B6D7-9C6B670E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0C80-2F27-4731-BEF1-C0D563FD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EF33-97EA-438D-87AF-D2064808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7140C-B8CC-4172-B5BD-C6AE70F1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46EC4-1E2E-4D44-9015-B5A39E8D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DAE1-68A0-43EE-BCE1-D2F8096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88DB2-DF81-4928-B4BE-F1D29456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0C10-A301-4468-9867-061B4382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982-AC51-4142-ADA4-AEF9FD15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636FE-00E3-4640-81EE-EBE56C5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2BA7-FD6A-45CC-B62D-0632E5AC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91C9B-7965-4198-83D6-B1353884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DCF10-C999-4583-85A4-AE1DBC57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DFBE0-0604-4C8E-8A33-6933CE7D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00D1A-84C4-4DC5-A676-050E65DE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0DBA-3E91-4D57-9F40-9CE2AAD6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3EB5A-E103-4B37-9816-1413C97F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6EDA4-678B-4C74-BFE4-538F3C4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FBF9-F21E-4745-AA12-449E98A6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E41-5F01-4B36-B622-8CBBB5EF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B064-B111-40B3-B502-65A75846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65385-7ACF-419A-BB4D-D295DD3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6682F-973A-4BAF-820D-60F913E9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BA52A-2CBD-4653-B33C-723963A6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0B3F1-AA49-400D-A919-BAFAF1A9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CFBF6-EE02-40F8-802A-F83B058E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EBC0E-4B4A-4EBC-AE1D-11225841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0339-C8C5-4333-9A2D-45AA5EE0C6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oup 8" descr=""/>
          <p:cNvPicPr/>
          <p:nvPr/>
        </p:nvPicPr>
        <p:blipFill>
          <a:blip r:embed="rId3"/>
          <a:stretch/>
        </p:blipFill>
        <p:spPr>
          <a:xfrm>
            <a:off x="579600" y="719280"/>
            <a:ext cx="5314680" cy="3865320"/>
          </a:xfrm>
          <a:prstGeom prst="rect">
            <a:avLst/>
          </a:prstGeom>
          <a:ln w="0">
            <a:noFill/>
          </a:ln>
        </p:spPr>
      </p:pic>
      <p:pic>
        <p:nvPicPr>
          <p:cNvPr id="118" name="Group 21" descr=""/>
          <p:cNvPicPr/>
          <p:nvPr/>
        </p:nvPicPr>
        <p:blipFill>
          <a:blip r:embed="rId4"/>
          <a:stretch/>
        </p:blipFill>
        <p:spPr>
          <a:xfrm>
            <a:off x="6291360" y="719280"/>
            <a:ext cx="5314680" cy="3865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575-D0F2-4167-ABD9-7953386331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Group 34" descr=""/>
          <p:cNvPicPr/>
          <p:nvPr/>
        </p:nvPicPr>
        <p:blipFill>
          <a:blip r:embed="rId3"/>
          <a:stretch/>
        </p:blipFill>
        <p:spPr>
          <a:xfrm>
            <a:off x="4327560" y="281160"/>
            <a:ext cx="345744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Group 51" descr=""/>
          <p:cNvPicPr/>
          <p:nvPr/>
        </p:nvPicPr>
        <p:blipFill>
          <a:blip r:embed="rId4"/>
          <a:stretch/>
        </p:blipFill>
        <p:spPr>
          <a:xfrm>
            <a:off x="560520" y="762120"/>
            <a:ext cx="3457440" cy="4114800"/>
          </a:xfrm>
          <a:prstGeom prst="rect">
            <a:avLst/>
          </a:prstGeom>
          <a:ln w="0">
            <a:noFill/>
          </a:ln>
        </p:spPr>
      </p:pic>
      <p:pic>
        <p:nvPicPr>
          <p:cNvPr id="162" name="Group 64" descr=""/>
          <p:cNvPicPr/>
          <p:nvPr/>
        </p:nvPicPr>
        <p:blipFill>
          <a:blip r:embed="rId5"/>
          <a:stretch/>
        </p:blipFill>
        <p:spPr>
          <a:xfrm>
            <a:off x="8101080" y="762120"/>
            <a:ext cx="345744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101F-D5D2-4F48-81A3-F01585E492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Group 83" descr=""/>
          <p:cNvPicPr/>
          <p:nvPr/>
        </p:nvPicPr>
        <p:blipFill>
          <a:blip r:embed="rId3"/>
          <a:stretch/>
        </p:blipFill>
        <p:spPr>
          <a:xfrm>
            <a:off x="549360" y="781200"/>
            <a:ext cx="4460760" cy="5046480"/>
          </a:xfrm>
          <a:prstGeom prst="rect">
            <a:avLst/>
          </a:prstGeom>
          <a:ln w="0">
            <a:noFill/>
          </a:ln>
        </p:spPr>
      </p:pic>
      <p:pic>
        <p:nvPicPr>
          <p:cNvPr id="205" name="Group 97" descr=""/>
          <p:cNvPicPr/>
          <p:nvPr/>
        </p:nvPicPr>
        <p:blipFill>
          <a:blip r:embed="rId4"/>
          <a:stretch/>
        </p:blipFill>
        <p:spPr>
          <a:xfrm>
            <a:off x="5321160" y="311040"/>
            <a:ext cx="3389400" cy="2803680"/>
          </a:xfrm>
          <a:prstGeom prst="rect">
            <a:avLst/>
          </a:prstGeom>
          <a:ln w="0">
            <a:noFill/>
          </a:ln>
        </p:spPr>
      </p:pic>
      <p:pic>
        <p:nvPicPr>
          <p:cNvPr id="206" name="Group 111" descr=""/>
          <p:cNvPicPr/>
          <p:nvPr/>
        </p:nvPicPr>
        <p:blipFill>
          <a:blip r:embed="rId5"/>
          <a:stretch/>
        </p:blipFill>
        <p:spPr>
          <a:xfrm>
            <a:off x="5321160" y="3432240"/>
            <a:ext cx="3389400" cy="2797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8905-D64C-4D00-A141-E05E86374F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595080" y="781200"/>
            <a:ext cx="6433920" cy="5054400"/>
            <a:chOff x="595080" y="781200"/>
            <a:chExt cx="6433920" cy="5054400"/>
          </a:xfrm>
        </p:grpSpPr>
        <p:sp>
          <p:nvSpPr>
            <p:cNvPr id="249" name="Freeform 42"/>
            <p:cNvSpPr/>
            <p:nvPr/>
          </p:nvSpPr>
          <p:spPr>
            <a:xfrm flipV="1" rot="16200000">
              <a:off x="-1224720" y="3274200"/>
              <a:ext cx="3828600" cy="17280"/>
            </a:xfrm>
            <a:custGeom>
              <a:avLst/>
              <a:gdLst>
                <a:gd name="textAreaLeft" fmla="*/ 0 w 3828600"/>
                <a:gd name="textAreaRight" fmla="*/ 3828960 w 3828600"/>
                <a:gd name="textAreaTop" fmla="*/ 360 h 17280"/>
                <a:gd name="textAreaBottom" fmla="*/ 18000 h 17280"/>
              </a:gdLst>
              <a:ahLst/>
              <a:rect l="textAreaLeft" t="textAreaTop" r="textAreaRight" b="textAreaBottom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080" bIns="-2808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 flipV="1" rot="16200000">
              <a:off x="4998960" y="3299760"/>
              <a:ext cx="3837600" cy="17280"/>
            </a:xfrm>
            <a:custGeom>
              <a:avLst/>
              <a:gdLst>
                <a:gd name="textAreaLeft" fmla="*/ 0 w 3837600"/>
                <a:gd name="textAreaRight" fmla="*/ 3837960 w 3837600"/>
                <a:gd name="textAreaTop" fmla="*/ 360 h 17280"/>
                <a:gd name="textAreaBottom" fmla="*/ 18000 h 17280"/>
              </a:gdLst>
              <a:ahLst/>
              <a:rect l="textAreaLeft" t="textAreaTop" r="textAreaRight" b="textAreaBottom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080" bIns="-2808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grpSp>
          <p:nvGrpSpPr>
            <p:cNvPr id="251" name="Group 10"/>
            <p:cNvGrpSpPr/>
            <p:nvPr/>
          </p:nvGrpSpPr>
          <p:grpSpPr>
            <a:xfrm>
              <a:off x="1246680" y="858240"/>
              <a:ext cx="5129640" cy="4881240"/>
              <a:chOff x="1246680" y="858240"/>
              <a:chExt cx="5129640" cy="4881240"/>
            </a:xfrm>
          </p:grpSpPr>
          <p:sp>
            <p:nvSpPr>
              <p:cNvPr id="252" name="Freeform 41"/>
              <p:cNvSpPr/>
              <p:nvPr/>
            </p:nvSpPr>
            <p:spPr>
              <a:xfrm flipV="1" rot="16200000">
                <a:off x="3803760" y="3166560"/>
                <a:ext cx="15480" cy="5129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129640"/>
                  <a:gd name="textAreaBottom" fmla="*/ 5129640 h 5129640"/>
                </a:gdLst>
                <a:ahLst/>
                <a:rect l="textAreaLeft" t="textAreaTop" r="textAreaRight" b="textAreaBottom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Segoe Print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 flipV="1" rot="16200000">
                <a:off x="3761280" y="-1656360"/>
                <a:ext cx="13320" cy="50421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360 h 5042160"/>
                  <a:gd name="textAreaBottom" fmla="*/ 5042880 h 5042160"/>
                </a:gdLst>
                <a:ahLst/>
                <a:rect l="textAreaLeft" t="textAreaTop" r="textAreaRight" b="textAreaBottom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Segoe Print"/>
                </a:endParaRPr>
              </a:p>
            </p:txBody>
          </p:sp>
        </p:grpSp>
        <p:sp>
          <p:nvSpPr>
            <p:cNvPr id="254" name="Freeform 45"/>
            <p:cNvSpPr/>
            <p:nvPr/>
          </p:nvSpPr>
          <p:spPr>
            <a:xfrm flipV="1" rot="16200000">
              <a:off x="618480" y="5323320"/>
              <a:ext cx="477360" cy="52452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-360 h 524520"/>
                <a:gd name="textAreaBottom" fmla="*/ 524520 h 524520"/>
              </a:gdLst>
              <a:ahLst/>
              <a:rect l="textAreaLeft" t="textAreaTop" r="textAreaRight" b="textAreaBottom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5" name="Freeform 46"/>
            <p:cNvSpPr/>
            <p:nvPr/>
          </p:nvSpPr>
          <p:spPr>
            <a:xfrm flipV="1" rot="16200000">
              <a:off x="630000" y="5325480"/>
              <a:ext cx="477360" cy="51192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360 h 511920"/>
                <a:gd name="textAreaBottom" fmla="*/ 512640 h 511920"/>
              </a:gdLst>
              <a:ahLst/>
              <a:rect l="textAreaLeft" t="textAreaTop" r="textAreaRight" b="textAreaBottom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6" name="Freeform 47"/>
            <p:cNvSpPr/>
            <p:nvPr/>
          </p:nvSpPr>
          <p:spPr>
            <a:xfrm flipV="1" rot="16200000">
              <a:off x="6509880" y="5321520"/>
              <a:ext cx="508320" cy="51948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-360 h 519480"/>
                <a:gd name="textAreaBottom" fmla="*/ 519480 h 519480"/>
              </a:gdLst>
              <a:ahLst/>
              <a:rect l="textAreaLeft" t="textAreaTop" r="textAreaRight" b="textAreaBottom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 flipV="1" rot="16200000">
              <a:off x="6526440" y="5321160"/>
              <a:ext cx="470520" cy="53460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-360 h 534600"/>
                <a:gd name="textAreaBottom" fmla="*/ 534600 h 534600"/>
              </a:gdLst>
              <a:ahLst/>
              <a:rect l="textAreaLeft" t="textAreaTop" r="textAreaRight" b="textAreaBottom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 flipV="1" rot="16200000">
              <a:off x="6485040" y="770400"/>
              <a:ext cx="468360" cy="5194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-360 h 519480"/>
                <a:gd name="textAreaBottom" fmla="*/ 519480 h 519480"/>
              </a:gdLst>
              <a:ahLst/>
              <a:rect l="textAreaLeft" t="textAreaTop" r="textAreaRight" b="textAreaBottom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 flipV="1" rot="16200000">
              <a:off x="6477480" y="785520"/>
              <a:ext cx="468360" cy="4892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-360 h 489240"/>
                <a:gd name="textAreaBottom" fmla="*/ 489240 h 489240"/>
              </a:gdLst>
              <a:ahLst/>
              <a:rect l="textAreaLeft" t="textAreaTop" r="textAreaRight" b="textAreaBottom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 flipV="1" rot="16200000">
              <a:off x="665280" y="721080"/>
              <a:ext cx="424080" cy="544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360 h 544320"/>
                <a:gd name="textAreaBottom" fmla="*/ 545040 h 544320"/>
              </a:gdLst>
              <a:ahLst/>
              <a:rect l="textAreaLeft" t="textAreaTop" r="textAreaRight" b="textAreaBottom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 flipV="1" rot="16200000">
              <a:off x="674640" y="749520"/>
              <a:ext cx="428400" cy="4917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360 h 491760"/>
                <a:gd name="textAreaBottom" fmla="*/ 492480 h 491760"/>
              </a:gdLst>
              <a:ahLst/>
              <a:rect l="textAreaLeft" t="textAreaTop" r="textAreaRight" b="textAreaBottom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357-3894-4E39-AC5A-601CF9110F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531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09B-4637-4D47-B2CF-AD63AE91048A}" type="slidenum">
              <a:rPr b="0" lang="en-US" sz="10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8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611440" y="809280"/>
            <a:ext cx="9002880" cy="24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d290b"/>
                </a:solidFill>
                <a:latin typeface="Times New Roman"/>
              </a:rPr>
              <a:t>Непосредственная образовательная деятельность " Чтение художественной литературы".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4d290b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887640" y="2838240"/>
            <a:ext cx="753768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d290a"/>
                </a:solidFill>
                <a:latin typeface="Times New Roman"/>
              </a:rPr>
              <a:t>Тема: Знакомство с русской народной сказкой </a:t>
            </a:r>
            <a:endParaRPr b="0" lang="en-US" sz="31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d290a"/>
                </a:solidFill>
                <a:latin typeface="Times New Roman"/>
              </a:rPr>
              <a:t>"Волк и семеро козлят".</a:t>
            </a:r>
            <a:endParaRPr b="0" lang="en-US" sz="31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9a5315"/>
              </a:solidFill>
              <a:latin typeface="Segoe Print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d290a"/>
                </a:solidFill>
                <a:latin typeface="Times New Roman"/>
              </a:rPr>
              <a:t>Провела: Попкова Е.Л</a:t>
            </a:r>
            <a:r>
              <a:rPr b="0" lang="en-US" sz="1700" spc="-1" strike="noStrike">
                <a:solidFill>
                  <a:srgbClr val="9a5315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6600" y="1962000"/>
            <a:ext cx="8809200" cy="49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d290a"/>
                </a:solidFill>
                <a:latin typeface="Times New Roman"/>
              </a:rPr>
              <a:t>Задачи:  </a:t>
            </a:r>
            <a:r>
              <a:rPr b="0" lang="en-US" sz="2200" spc="-1" strike="noStrike">
                <a:solidFill>
                  <a:srgbClr val="4d290a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помогать эмоционально и активно воспринимать сказку; </a:t>
            </a:r>
            <a:br>
              <a:rPr sz="22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-учить интонационно передавать характеры персонажей при произведении их песенок;</a:t>
            </a:r>
            <a:br>
              <a:rPr sz="22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-участвовать в рассказывании;</a:t>
            </a:r>
            <a:br>
              <a:rPr sz="22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-учить точно отвечать на вопросы;</a:t>
            </a:r>
            <a:br>
              <a:rPr sz="40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- активизировать глагольную лексику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4d290a"/>
                </a:solidFill>
                <a:latin typeface="Times New Roman"/>
              </a:rPr>
              <a:t>Материалы: </a:t>
            </a: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настольный театр к сказке "Волк и семеро козлят", </a:t>
            </a:r>
            <a:br>
              <a:rPr sz="22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маски козлят и волка</a:t>
            </a:r>
            <a:r>
              <a:rPr b="1" i="1" lang="ru-RU" sz="2200" spc="-1" strike="noStrike">
                <a:solidFill>
                  <a:srgbClr val="4d290a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9a5315"/>
                </a:solidFill>
                <a:latin typeface="Times New Roman"/>
              </a:rPr>
              <a:t> </a:t>
            </a:r>
            <a:br>
              <a:rPr sz="4000"/>
            </a:br>
            <a:r>
              <a:rPr b="0" lang="en-US" sz="2200" spc="-1" strike="noStrike">
                <a:solidFill>
                  <a:srgbClr val="9a5315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684160" y="466560"/>
            <a:ext cx="9512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d290a"/>
                </a:solidFill>
                <a:latin typeface="Times New Roman"/>
              </a:rPr>
              <a:t>Цель:</a:t>
            </a:r>
            <a:r>
              <a:rPr b="0" lang="en-US" sz="3000" spc="-1" strike="noStrike">
                <a:solidFill>
                  <a:srgbClr val="4d290a"/>
                </a:solidFill>
                <a:latin typeface="Times New Roman"/>
              </a:rPr>
              <a:t> Познакомить детей с русской народной сказкой   </a:t>
            </a:r>
            <a:endParaRPr b="0" lang="en-US" sz="30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290a"/>
                </a:solidFill>
                <a:latin typeface="Times New Roman"/>
              </a:rPr>
              <a:t>"Волк и семеро козлят"</a:t>
            </a:r>
            <a:r>
              <a:rPr b="0" lang="en-US" sz="2200" spc="-1" strike="noStrike">
                <a:solidFill>
                  <a:srgbClr val="4d290a"/>
                </a:solidFill>
                <a:latin typeface="Segoe Print"/>
              </a:rPr>
              <a:t>.</a:t>
            </a:r>
            <a:endParaRPr b="0" lang="en-US" sz="2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7113600" y="803160"/>
            <a:ext cx="4651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290a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4d290a"/>
                </a:solidFill>
                <a:latin typeface="Times New Roman"/>
              </a:rPr>
              <a:t>Воспитатель приветствует детей и предлагает им познакомиться с русской народной сказкой 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marL="34596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290a"/>
                </a:solidFill>
                <a:latin typeface="Times New Roman"/>
              </a:rPr>
              <a:t>"Волк и семеро козлят". Воспитатель начинает повествование</a:t>
            </a:r>
            <a:r>
              <a:rPr b="0" lang="en-US" sz="1800" spc="-1" strike="noStrike">
                <a:solidFill>
                  <a:srgbClr val="9a5315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  <a:p>
            <a:pPr marL="3459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155600" y="1444680"/>
            <a:ext cx="505296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20080" y="1236600"/>
            <a:ext cx="481968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Вместе по лесу идем, не спешим, не отстаем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 </a:t>
            </a:r>
            <a:br>
              <a:rPr sz="20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Вот выходим мы на луг, тысяча цветов вокруг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Наши яркие цветы распускают лепестки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Ветерок чуть дышит, лепестки колышет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 </a:t>
            </a:r>
            <a:br>
              <a:rPr sz="20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Наши яркие цветы закрывают лепестки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Головой качают, тихо засыпают</a:t>
            </a:r>
            <a:endParaRPr b="0" lang="en-US" sz="20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024680" y="635040"/>
            <a:ext cx="495288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3965"/>
                </a:solidFill>
                <a:latin typeface="Times New Roman"/>
              </a:rPr>
              <a:t>Физкультминутка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59" name="Text Placeholder 2" descr=""/>
          <p:cNvPicPr/>
          <p:nvPr/>
        </p:nvPicPr>
        <p:blipFill>
          <a:blip r:embed="rId2"/>
          <a:stretch/>
        </p:blipFill>
        <p:spPr>
          <a:xfrm>
            <a:off x="925560" y="1335240"/>
            <a:ext cx="58053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65000" y="4718160"/>
            <a:ext cx="4368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290a"/>
                </a:solidFill>
                <a:latin typeface="Times New Roman"/>
              </a:rPr>
              <a:t>Воспитатель предлагает детям пересказать сказку. Уточняет, какие герои в сказке упоминаются.</a:t>
            </a:r>
            <a:endParaRPr b="0" lang="en-US" sz="20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23160" y="4648320"/>
            <a:ext cx="4368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290a"/>
                </a:solidFill>
                <a:latin typeface="Times New Roman"/>
              </a:rPr>
              <a:t>Воспитатель задает вопросы по содержанию сказки, учит точно отвечать на вопросы</a:t>
            </a: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.</a:t>
            </a:r>
            <a:endParaRPr b="0" lang="en-US" sz="16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62" name="Text Placeholder 2" descr=""/>
          <p:cNvPicPr/>
          <p:nvPr/>
        </p:nvPicPr>
        <p:blipFill>
          <a:blip r:embed="rId2"/>
          <a:stretch/>
        </p:blipFill>
        <p:spPr>
          <a:xfrm>
            <a:off x="1179360" y="114444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363" name="Text Placeholder 2" descr=""/>
          <p:cNvPicPr/>
          <p:nvPr/>
        </p:nvPicPr>
        <p:blipFill>
          <a:blip r:embed="rId3"/>
          <a:stretch/>
        </p:blipFill>
        <p:spPr>
          <a:xfrm>
            <a:off x="6743880" y="1049400"/>
            <a:ext cx="430020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290b"/>
                </a:solidFill>
                <a:latin typeface="Times New Roman"/>
              </a:rPr>
              <a:t>Воспитатель предлагает детям поиграть с фигурками сказочных героев</a:t>
            </a:r>
            <a:r>
              <a:rPr b="0" lang="ru-RU" sz="3600" spc="-1" strike="noStrike">
                <a:solidFill>
                  <a:srgbClr val="4d290b"/>
                </a:solidFill>
                <a:latin typeface="Segoe Print"/>
              </a:rPr>
              <a:t>.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pic>
        <p:nvPicPr>
          <p:cNvPr id="365" name="Text Placeholder 2" descr=""/>
          <p:cNvPicPr/>
          <p:nvPr/>
        </p:nvPicPr>
        <p:blipFill>
          <a:blip r:embed="rId2"/>
          <a:stretch/>
        </p:blipFill>
        <p:spPr>
          <a:xfrm>
            <a:off x="1511280" y="2114640"/>
            <a:ext cx="3879720" cy="4017960"/>
          </a:xfrm>
          <a:prstGeom prst="rect">
            <a:avLst/>
          </a:prstGeom>
          <a:ln w="0">
            <a:noFill/>
          </a:ln>
        </p:spPr>
      </p:pic>
      <p:pic>
        <p:nvPicPr>
          <p:cNvPr id="366" name="Text Placeholder 2" descr=""/>
          <p:cNvPicPr/>
          <p:nvPr/>
        </p:nvPicPr>
        <p:blipFill>
          <a:blip r:embed="rId3"/>
          <a:stretch/>
        </p:blipFill>
        <p:spPr>
          <a:xfrm>
            <a:off x="6175440" y="2351160"/>
            <a:ext cx="3508200" cy="36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9239400" y="132840"/>
            <a:ext cx="295272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51628"/>
                </a:solidFill>
                <a:latin typeface="Times New Roman"/>
              </a:rPr>
              <a:t>Воспитатель предлагает детям поиграть в игру "Волк и козлята".</a:t>
            </a: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Вот козлята – скок да скок-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Поскакали на лужок,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Зарезвились, заигрались,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Свежей травки пощипали…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Вдруг выходит серый волк,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Он зубами щелк да щелк.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Ну, козлята, разбегайтесь,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Волку в лапы не давайтесь</a:t>
            </a:r>
            <a:r>
              <a:rPr b="0" i="1" lang="ru-RU" sz="1600" spc="-1" strike="noStrike">
                <a:solidFill>
                  <a:srgbClr val="051628"/>
                </a:solidFill>
                <a:latin typeface="Times New Roman"/>
              </a:rPr>
              <a:t>!</a:t>
            </a:r>
            <a:endParaRPr b="0" lang="en-US" sz="16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68" name="Text Placeholder 2" descr=""/>
          <p:cNvPicPr/>
          <p:nvPr/>
        </p:nvPicPr>
        <p:blipFill>
          <a:blip r:embed="rId2"/>
          <a:stretch/>
        </p:blipFill>
        <p:spPr>
          <a:xfrm>
            <a:off x="1351080" y="1224000"/>
            <a:ext cx="2585880" cy="4228920"/>
          </a:xfrm>
          <a:prstGeom prst="rect">
            <a:avLst/>
          </a:prstGeom>
          <a:ln w="0">
            <a:noFill/>
          </a:ln>
        </p:spPr>
      </p:pic>
      <p:pic>
        <p:nvPicPr>
          <p:cNvPr id="369" name="Text Placeholder 2" descr=""/>
          <p:cNvPicPr/>
          <p:nvPr/>
        </p:nvPicPr>
        <p:blipFill>
          <a:blip r:embed="rId3"/>
          <a:stretch/>
        </p:blipFill>
        <p:spPr>
          <a:xfrm>
            <a:off x="5549760" y="882720"/>
            <a:ext cx="2778120" cy="1388880"/>
          </a:xfrm>
          <a:prstGeom prst="rect">
            <a:avLst/>
          </a:prstGeom>
          <a:ln w="0">
            <a:noFill/>
          </a:ln>
        </p:spPr>
      </p:pic>
      <p:pic>
        <p:nvPicPr>
          <p:cNvPr id="370" name="Text Placeholder 2" descr=""/>
          <p:cNvPicPr/>
          <p:nvPr/>
        </p:nvPicPr>
        <p:blipFill>
          <a:blip r:embed="rId4"/>
          <a:stretch/>
        </p:blipFill>
        <p:spPr>
          <a:xfrm>
            <a:off x="5730840" y="3730680"/>
            <a:ext cx="27180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8200" y="1322280"/>
            <a:ext cx="38401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290b"/>
                </a:solidFill>
                <a:latin typeface="Times New Roman"/>
              </a:rPr>
              <a:t>Воспитатель</a:t>
            </a:r>
            <a:endParaRPr b="0" lang="en-US" sz="28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1360" y="2190600"/>
            <a:ext cx="384012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290a"/>
                </a:solidFill>
                <a:latin typeface="Times New Roman"/>
              </a:rPr>
              <a:t>благодарит детей за интересное занятие</a:t>
            </a:r>
            <a:r>
              <a:rPr b="0" lang="ru-RU" sz="1800" spc="-1" strike="noStrike">
                <a:solidFill>
                  <a:srgbClr val="9a5315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73" name="Text Placeholder 2" descr=""/>
          <p:cNvPicPr/>
          <p:nvPr/>
        </p:nvPicPr>
        <p:blipFill>
          <a:blip r:embed="rId2"/>
          <a:stretch/>
        </p:blipFill>
        <p:spPr>
          <a:xfrm>
            <a:off x="898560" y="1517760"/>
            <a:ext cx="5808600" cy="337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22:49:00Z</dcterms:created>
  <dc:creator/>
  <dc:description/>
  <dc:language>en-US</dc:language>
  <cp:lastModifiedBy/>
  <dcterms:modified xsi:type="dcterms:W3CDTF">2018-11-07T13:03:06Z</dcterms:modified>
  <cp:revision>6</cp:revision>
  <dc:subject/>
  <dc:title>Непосредственная образовательная деятельность " Чтение художественной литературы".  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7C1D5F340F01F94FA2FD29A5E6DC872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LocalizationTags">
    <vt:lpwstr/>
  </property>
  <property fmtid="{D5CDD505-2E9C-101B-9397-08002B2CF9AE}" pid="7" name="NXTAG2">
    <vt:lpwstr>000800b6140000000000010280400207e700052003a000</vt:lpwstr>
  </property>
  <property fmtid="{D5CDD505-2E9C-101B-9397-08002B2CF9AE}" pid="8" name="ScenarioTags">
    <vt:lpwstr/>
  </property>
</Properties>
</file>