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765-A63F-4629-A108-A2696155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58A-3536-4FF0-B9F0-C1D7E179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7BE-89A2-4F0A-A5A8-E0E1404F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8A1-B9D7-4930-BC68-9BB6E7D8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EF7-F16F-4062-AB52-E879D564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90FD-2207-456A-BA00-CB04D272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D32-9998-4A17-95DB-7C7F9F7A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B96B-056B-4DC4-A896-78DEF455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EADD-BE02-4337-A2CA-E80BAFBC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F08-4134-42EA-9829-E9F335D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7C40-E17B-4729-B1F4-569B273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A35-310D-494F-B2C2-D602AFAD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09B3-0BE8-49E3-BB21-464BE62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CC9D-C84A-4CA7-B45C-01AF729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2B8C-6799-4896-A896-41998CF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B20C-CE96-43DD-A398-79EA2877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C8DC-BD9B-42A1-A1CE-AC163454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F35-9A1D-487A-B01D-0FB58A13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972-B913-4321-A3BA-B7737C2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B72-AA98-4DCF-AE42-C4F77AD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558-EEAB-406E-8467-B0BC5C03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367-A848-44E5-9002-6C6F70A6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9E2-7716-43C1-97BD-B4C0F664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2D6-11FA-40A8-9CAB-07278D0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F280-6724-4B4B-AC77-ED9F6F3F2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D454-12ED-4CED-978F-1E218F4B6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САМОАНАЛИЗ УРОКА В УСЛОВИЯХ ПЕРЕХОДА НА ФГОС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Функциональный аспек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асколько структура урока соответствовала общей цел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оответствие возможностям класс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анализ стиля отношений учителя и учащихс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лияние на конечный результат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Аспект оценки конечного результат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формирование универсальных учебных действий на уро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пределение разрыва между общей целью урока и результатами уро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ичины разрыв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ыводы и самооц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ИСТЕМНЫЙ ПОДХОД К ПЕДАГОГИЧЕСКОМУ САМОАНАЛИЗУ УРО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. Краткая общая характеристика клас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бщая подготовленность класс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детей работать в пар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детей работать в малых групп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слушать друг друга и фронтально взаимодействова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самооценивать себя и взаимооценивать друг дру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бщая характеристика общ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Что преобладает: соперничество или сотрудничество? Проблема лидеров и аутсайд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Включенность детей в учебную деятельность и общий уровень ее сформированности в клас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Общая характеристика освоения программы к этому врем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I. Анализ эффективности проекта уро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Реальность цели ур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Каким образом организовать работу на уро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Что проектировалось изучить? Зачем? Роль этого материала в предмете. Достаточно ли глубоко учитель сам знает этот материал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Какие (ое) понятия были намечены для усвоения учащимися? На какие другие понятия они (оно) опираются? Для каких понятий являются базо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Что знают ученики об изучаемом поняти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Сущность характеристики изучаемого понятия, которые должны быть в центре внимания учащих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Какие учебные действия должны осуществить учащиеся, чтобы освоить данное понятие и общий способ действ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Каким образом проектировался вод учащихся в учебную задач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Как проектировалось осуществление остальных этапов решения учебной задач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Предусматривались ли в проекте урока реальные трудности, с которыми могли встретиться дети в ходе решения учебной задачи? Прогнозировались ли возможные ошибки учащих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.Какие критерии освоения данного материала намечались в проекте урок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.Общий вывод о реальности и эффективности проекта ур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 Как был осуществлен урок, исходя из его замысл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Совпадает ли цель урока с его конечным результатом? В чем выражается разрыв? Удалось ли осуществить намеченную программу? Если да, то почему? Если нет, то почем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Соответствие формы организации поставленной цели урока? Удалось ли учителю занять место равноправного члена дискусс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Каким образом в начале урока учитель создал ситуацию успех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При помощи каких способов была создана ситуация принятия учащимися учебной задачи? Как она повлияла на дальнейший ход ее решени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Была ли принята учебная задача учащимис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Насколько эффективно осуществлялся этап преобразования условий задач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Каким образом учитель создал ситуацию, при которой дети приняли такие учебные действия как моделирование и преобразование модел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Какие формы использовал учитель для организации решения частных задач? Уровень задач, их «интересность» с точки зрения лингвистического или математического материал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Как был организован контроль? Контроль проходил, как самостоятельное действие или был включен в состав других действий? Что ученик контролировал: процесс выполнения действия или только результат? Когда контроль осуществлялся: в начале действия, в процессе действия или после его окончания? Какой арсенал средств и форм использовал учитель для освоения действия контроля деть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Опирались ли дети при работе на свою собственную оценку или прибегали к оценке учител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V. Оценка целостности уро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Насколько содержание урока соответствовало требованиям ФГОС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На каком уровне было организовано на уроке взаимодействие ученик-ученик, ученик-учитель, ученик-групп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Охарактеризовать взаимодействие этапов учебной задачи в ходе саморешения. Выделить наиболее сильные и слабые этапы (с точки зрения качества их осуществления) и их влияния на конечный результат ур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флексивная деятельность учащихся в результате решения учебной зада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амоанализ позволяет учителю выявить причины недостаточной эффективности решения тех или иных учебно-воспитательных задач на уроках, принять их во внимание при дальнейшем проектировании учебно-воспитательного процесс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амоанализ урока дает возможность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правильно формулировать и ставить цели своей деятельности и деятельности учащихся на урок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умения устанавливать связи между условиями своей педагогической деятельности и средствами достижения целе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умения четко планировать и предвидеть результаты своего педагогического труд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самосознание ученика, когда он начинает видеть связь между способами действий и конечным результатом ур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ЛАН САМОАНАЛИЗА УРО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Характеристика класс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межличностные отноше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достатки биологического и психического развит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достатки подготовленности клас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Место урока в изучаемой тем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характер связи урока с предыдущим и последующим уро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Характеристика общей цели урока, конкретизируемой в дидактических целях: образовательной, развивающей и воспитывающ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Характеристика план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одержание учебного материал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методы обуче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иёмы обуче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формы организации познавательн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Как был построен урок в соответствии с план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бор этапов урока, т.е. как используемые учебно-воспитательные элементы повлияли на ход урока (положительно, отрицательно), на получение конечного результа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Структурный аспект самоанализ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анализ каждого элемента уро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его вклад в достижение результат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оказательства оптимального выбора каждого элемента уро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7T13:19:44Z</dcterms:created>
  <dc:creator>Анна</dc:creator>
  <dc:description/>
  <dc:language>en-US</dc:language>
  <cp:lastModifiedBy>Анна</cp:lastModifiedBy>
  <dcterms:modified xsi:type="dcterms:W3CDTF">2016-01-27T13:30:50Z</dcterms:modified>
  <cp:revision>2</cp:revision>
  <dc:subject/>
  <dc:title>САМОАНАЛИЗ УРОКА В УСЛОВИЯХ ПЕРЕХОДА НА ФГОС</dc:title>
</cp:coreProperties>
</file>