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AC6-C842-4A40-AC41-56742EFA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4FD-D81F-4B9E-8194-08C687FF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756-5EF2-4B9C-866E-1FF5B653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4A4-6335-4D5A-910A-B6987758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D46D-28B2-40E2-B40F-1B618C63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1547-CDE2-417F-99C7-2EF0402D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88A9-5B95-4D59-B0DD-9C42E6B6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707E-7B65-4A3C-9864-4EB525EF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BB0B-147D-4CF1-8733-4BEF2185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75DA-89AD-475A-A874-22BE71FB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A289-FA70-4201-AAB1-21C66B61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A59-6124-4676-B766-C57B4A3E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E377-7722-4B32-B31A-20E7889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B208-3A0A-4082-B084-21E9B98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4CAD-DB4D-45D6-B52E-7E81E651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2D84-5429-4795-AA16-23B4C71A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B841-2345-4007-A615-FA5EBE05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15C-87ED-4748-A67B-84A7520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168-0933-41ED-9417-91E0512F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376-43FC-480E-B784-B9E1B2D5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1A0-2995-4E6F-B0B6-7B20CCA8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9AF-8EDE-4F1D-8631-4702981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450-A714-44B2-B128-2E0F3FF2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4FE-F200-415A-B121-589F1F68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700C-3F37-4EB7-A795-BFCFF506A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DE08-CCE6-485C-BBC2-74DCBBFD6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САМОАНАЛИЗ УРОКА В УСЛОВИЯХ ПЕРЕХОДА НА ФГОС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Функциональный аспек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асколько структура урока соответствовала общей цел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оответствие возможностям класс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анализ стиля отношений учителя и учащихс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влияние на конечный результат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Аспект оценки конечного результата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формирование универсальных учебных действий на уро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пределение разрыва между общей целью урока и результатами уро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ичины разрыв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выводы и самооц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ИСТЕМНЫЙ ПОДХОД К ПЕДАГОГИЧЕСКОМУ САМОАНАЛИЗУ УРО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. Краткая общая характеристика клас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Общая подготовленность класс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мение детей работать в пар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мение детей работать в малых групп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мение слушать друг друга и фронтально взаимодействова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мение самооценивать себя и взаимооценивать друг дру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Общая характеристика общ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Что преобладает: соперничество или сотрудничество? Проблема лидеров и аутсайд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Включенность детей в учебную деятельность и общий уровень ее сформированности в клас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Общая характеристика освоения программы к этому врем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I. Анализ эффективности проекта уро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Реальность цели ур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Каким образом организовать работу на урок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Что проектировалось изучить? Зачем? Роль этого материала в предмете. Достаточно ли глубоко учитель сам знает этот материал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Какие (ое) понятия были намечены для усвоения учащимися? На какие другие понятия они (оно) опираются? Для каких понятий являются базо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Что знают ученики об изучаемом поняти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Сущность характеристики изучаемого понятия, которые должны быть в центре внимания учащих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Какие учебные действия должны осуществить учащиеся, чтобы освоить данное понятие и общий способ действи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Каким образом проектировался вод учащихся в учебную задач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Как проектировалось осуществление остальных этапов решения учебной задач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Предусматривались ли в проекте урока реальные трудности, с которыми могли встретиться дети в ходе решения учебной задачи? Прогнозировались ли возможные ошибки учащихс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.Какие критерии освоения данного материала намечались в проекте урок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.Общий вывод о реальности и эффективности проекта ур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 Как был осуществлен урок, исходя из его замысл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Совпадает ли цель урока с его конечным результатом? В чем выражается разрыв? Удалось ли осуществить намеченную программу? Если да, то почему? Если нет, то почем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Соответствие формы организации поставленной цели урока? Удалось ли учителю занять место равноправного члена дискусс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Каким образом в начале урока учитель создал ситуацию успех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При помощи каких способов была создана ситуация принятия учащимися учебной задачи? Как она повлияла на дальнейший ход ее решени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Была ли принята учебная задача учащимис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Насколько эффективно осуществлялся этап преобразования условий задач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Каким образом учитель создал ситуацию, при которой дети приняли такие учебные действия как моделирование и преобразование модел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Какие формы использовал учитель для организации решения частных задач? Уровень задач, их «интересность» с точки зрения лингвистического или математического материал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Как был организован контроль? Контроль проходил, как самостоятельное действие или был включен в состав других действий? Что ученик контролировал: процесс выполнения действия или только результат? Когда контроль осуществлялся: в начале действия, в процессе действия или после его окончания? Какой арсенал средств и форм использовал учитель для освоения действия контроля деть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Опирались ли дети при работе на свою собственную оценку или прибегали к оценке учител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V. Оценка целостности уро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Насколько содержание урока соответствовало требованиям ФГОС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На каком уровне было организовано на уроке взаимодействие ученик-ученик, ученик-учитель, ученик-групп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Охарактеризовать взаимодействие этапов учебной задачи в ходе саморешения. Выделить наиболее сильные и слабые этапы (с точки зрения качества их осуществления) и их влияния на конечный результат ур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флексивная деятельность учащихся в результате решения учебной зада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амоанализ позволяет учителю выявить причины недостаточной эффективности решения тех или иных учебно-воспитательных задач на уроках, принять их во внимание при дальнейшем проектировании учебно-воспитательного процесс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амоанализ урока дает возможность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правильно формулировать и ставить цели своей деятельности и деятельности учащихся на урок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умения устанавливать связи между условиями своей педагогической деятельности и средствами достижения целе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формировать умения четко планировать и предвидеть результаты своего педагогического труд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формировать самосознание ученика, когда он начинает видеть связь между способами действий и конечным результатом ур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ЛАН САМОАНАЛИЗА УРО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Характеристика класс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межличностные отноше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достатки биологического и психического развит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достатки подготовленности клас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Место урока в изучаемой тем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характер связи урока с предыдущим и последующим уро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Характеристика общей цели урока, конкретизируемой в дидактических целях: образовательной, развивающей и воспитывающ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Характеристика плана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одержание учебного материал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методы обуче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иёмы обуче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формы организации познавательн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Как был построен урок в соответствии с план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бор этапов урока, т.е. как используемые учебно-воспитательные элементы повлияли на ход урока (положительно, отрицательно), на получение конечного результа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Структурный аспект самоанализа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анализ каждого элемента уро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его вклад в достижение результат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доказательства оптимального выбора каждого элемента уро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7T13:19:44Z</dcterms:created>
  <dc:creator>Анна</dc:creator>
  <dc:description/>
  <dc:language>en-US</dc:language>
  <cp:lastModifiedBy>Анна</cp:lastModifiedBy>
  <dcterms:modified xsi:type="dcterms:W3CDTF">2016-01-27T13:30:50Z</dcterms:modified>
  <cp:revision>2</cp:revision>
  <dc:subject/>
  <dc:title>САМОАНАЛИЗ УРОКА В УСЛОВИЯХ ПЕРЕХОДА НА ФГОС</dc:title>
</cp:coreProperties>
</file>