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9.jpeg" ContentType="image/jpeg"/>
  <Override PartName="/ppt/media/image19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83C-6D69-4899-8D6A-91DF327A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76B-6106-43DC-A108-96737ABF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865-BA32-477D-8054-914A5672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824-6214-4940-9220-52E7550C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82B8-A2AD-4BBE-8B75-4D638027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6EC7-84C4-41E8-B1B5-8D14F9D8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EB25-E53F-4620-A1B2-6ED465C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59D7-7C57-4248-BBFE-79BBBD7C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9220-AF07-4F48-886F-3FB29565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24E7-835D-4670-B90E-C4EEA0F1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7D70-3C3B-4984-91CB-B2EB735E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256-3295-47F0-B001-8B498F5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E7C7-4CCB-414A-931B-6C22C57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CC72-D167-4D61-A49C-97444AE4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11B5-694F-4E26-BA3C-849E796B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D297-98DC-4F18-A461-F3D9BE36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A81C-462A-4B4C-B0EB-D5A42A4E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B5338-3901-4A94-BECE-4068EF37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53A55-25F2-4CA7-B329-E3C398B7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3A859-2BC6-4A53-96C4-E94F80AF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DF644-AE58-4B71-8BED-FFE45AB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6FE81-EA40-467F-83FC-C6D34107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1B5-0C2C-431C-8862-12ED2092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596A6-045B-4EE9-9E49-9FD75DFB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72581-22B2-4788-AC81-D9A7282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137F4-2261-4EDB-AE8B-FD10704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ADE13-14C7-4135-9FCD-8FBE20F9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8831F-41D1-47A3-A25D-A8A3C2C9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D9FB3-6B25-4449-B760-6673BF29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4EAF4-8D5A-416F-95D0-2CA284A4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6AFFE-A36D-4463-9E1E-A6334AF7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19F0-9172-428F-8432-C712941F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B2AA-3D0C-4F5B-9DE6-EF63EA9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553-D802-4872-BADA-AA3BCD14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A7C5-2C36-49AB-A04F-6F49A4B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7754-6EE2-4C1F-B31A-CFE3CB1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8A729-6FF4-42C9-ADDE-DEBDCC5E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BB3A-4E8A-4DA5-BA81-7C2FCBDE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6C5C7-2D40-4931-BF9F-957B2818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D2619-8321-4730-9A77-A02D14D7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95E0-E2F4-4234-93DE-CE710C9F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F3B0-8DEF-4445-BA84-53666385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B0873-0EBC-492C-84E7-FC82C2CD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ABDA1-AD8A-4192-99BD-C8FBD14E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BD9-0F53-4C8A-B1BA-F6DBFA60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87982-4183-4BD0-A237-13373C90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688ED-FDED-4AFF-A42F-CDA9C995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46C01-6BB5-4399-AF84-9083AC31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BD829-2D1B-48F7-9DA8-FBE74D55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E0CD0-8106-47C0-81B0-DF5F270C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F9AB0-0FC3-466F-B3FD-BCB92E91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214A2-5494-4FF0-AEC8-EB99FB2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E7A2F-4C2A-43F5-900C-7E8796DC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F3D80-8336-438A-870F-5958E285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92E4B-C3EE-4AF4-B77D-63C51AEB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A88-563A-4096-8573-BE2B86D2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27A93-0D44-45D1-85B6-8A3226EA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0AC9E-9FC5-400E-ABD7-D79E6EBA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72C32-0018-4339-9EE8-D47DA485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A6F01-06B9-4964-BB2A-1CBA32E7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CC6F2-95B9-4E36-BEFF-5498F60C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B6656-615D-40CD-B404-6EF4C09E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8A7BA-8EDF-438D-9E19-BCAAA89F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B8545-CC04-4BDE-A2C0-302CFA80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98C36-05B1-448B-B3C1-66BE522D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1544E-D697-4804-8003-3921A5C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709-7AC1-49BE-9979-E1AA5F0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FF927-427E-424C-AB0E-763A22E0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B164B-8C00-463A-AC20-B628FA59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4F20C-0366-40DD-8419-2DD46509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D560A-1808-4FD1-B903-AEAA14FB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03106-124C-42BE-A1A8-EF5C281A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CF4E86-E70A-4D91-A7F1-5A5A6A66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18BE9-C607-4CF6-A3EC-6E451E07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29792-E041-48B2-A8E5-3DA9D689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C6BFA-DF9C-4811-BAF4-FF7A1984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C47FD-3A04-470D-9325-3243E4FD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1FB-AEB7-4EF8-8570-5F4D783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9369B-44DE-4891-B4FC-4079ED0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2897A-39A9-45A8-8316-7225CCA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AAF09-A739-4DA3-955E-80C7804F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360FD-CB1F-4E65-B9E4-00D5587D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7361E-70C2-4BB7-BA05-6788B98C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5E7-9CE6-4BC7-8D12-F9DEB01D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EF80-F210-47E1-975B-88580C6D85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A5D6-98DE-42A0-B768-C214C7F845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7DFE-5900-4228-BCB4-06C24E4FC42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F16D-7537-4887-98D2-FFABEABC5D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C95D-ED3C-42F8-A06A-DF7C849F67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C1D0-3D2A-4CD5-889E-6508ECE153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A502-0BAA-4DE8-98A3-8BD4B88F0A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826920" y="1197000"/>
          <a:ext cx="3949920" cy="38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394992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53964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4427640" y="1052640"/>
          <a:ext cx="4019400" cy="40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052640"/>
                    <a:ext cx="40194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8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4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ошпмротромпилвоптмдпьм.jpg"/>
          <p:cNvPicPr/>
          <p:nvPr/>
        </p:nvPicPr>
        <p:blipFill>
          <a:blip r:embed="rId1"/>
          <a:stretch/>
        </p:blipFill>
        <p:spPr>
          <a:xfrm>
            <a:off x="324000" y="1077840"/>
            <a:ext cx="7257960" cy="551988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"/>
          <p:cNvSpPr/>
          <p:nvPr/>
        </p:nvSpPr>
        <p:spPr>
          <a:xfrm>
            <a:off x="539640" y="4724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5292720" y="5084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61128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имеет дефицит, т.к. расходы превышают до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70" name="Прямая со стрелкой 6"/>
          <p:cNvCxnSpPr>
            <a:endCxn id="371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2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3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СЕ СУММИРОВАННЫЕ ДЕНЕЖНЫЕ И НАТУРАЛЬНЫЕ ДОХОДЫ ТАКЖЕ ПОДРАЗДЕЛЯЮТСЯ НА НЕСКОЛЬКО ВИДОВ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Схема 4" descr=""/>
          <p:cNvPicPr/>
          <p:nvPr/>
        </p:nvPicPr>
        <p:blipFill>
          <a:blip r:embed="rId1"/>
          <a:stretch/>
        </p:blipFill>
        <p:spPr>
          <a:xfrm>
            <a:off x="590400" y="1841400"/>
            <a:ext cx="745668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1T08:30:16Z</dcterms:modified>
  <cp:revision>13</cp:revision>
  <dc:subject/>
  <dc:title>ДОХОДЫ И РАСХОДЫ СЕМЬИ.</dc:title>
</cp:coreProperties>
</file>