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9.jpeg" ContentType="image/jpeg"/>
  <Override PartName="/ppt/media/image19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D2B-D840-42C1-81D7-CB265760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B71-FE6E-43C1-98CF-16E20D0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ADE-F1B4-4492-BB6F-935D5F47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0E4-9B10-42DE-8832-1FCA57F1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2B3E-089C-4A2F-A30C-4EA3F1D1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7C1-18A5-40D1-9781-5D0A0C5C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DD6-56FE-4530-A11A-76A1C94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6C5-AC83-4A1B-837A-B21D238C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4287-743B-48AC-94EC-7646FD1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CEED-6DF9-451A-BC50-A6B13C5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4021-0BD2-4520-B7C7-5C6CA0E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21A-26C9-4C40-AD62-4200F9E4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729-4440-4711-8DE5-2E356FB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7B90-6026-4754-A8B4-3018A85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E595-3292-41D9-B95D-CC8E6BE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1800-BCE3-415B-9962-F3AE0057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2E2-ECDD-4D8A-9921-808DF295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3B865-935E-41E8-90FF-D3858783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54B4B-8494-4548-BCB9-15B3BE0C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A3C43-43C1-4828-B433-ABB27AC5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D8465-013D-40DB-8D53-84255D7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6E44D-C418-4E7B-B82E-D14672D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57A-6457-4328-AC73-A9447536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04402-9A8D-47AF-94CB-E0A17AD6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22EDA-C537-49B5-A01E-10D33DC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56980-6E67-4BBC-940D-EE78838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ED87B-99C7-4C64-9568-566F2AD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0A47A-69EE-491B-9476-927238B1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4970B-1ED2-458E-BD01-306A5312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55D9A-8A95-45B6-ACAF-BBC58D87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A998-7C5E-470D-A89A-65A1BAD5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6851-6FC9-4DAD-9BF0-554624E1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06DD-478F-4890-8A3C-7DEB239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34-BA3A-4476-96F3-A333AC2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33F7-91A8-42D9-90CB-6080877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2B7E-6E8A-4569-911B-8F452154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91EC1-C2A1-4D1D-9C29-4B4C396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6591-C56D-468A-A6B4-CB22E17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BFB9-5774-4B56-ABCF-CD3B2AD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5051-F4FD-4DAF-8E35-914527C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8970-C7C2-4038-B2A7-16D57DB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AAAC-94A2-4AD4-8FD9-B7C3D0E8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E739-B5C7-46A0-AE40-3091A97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F1FDE-7716-416A-B8EA-6A20B6D4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A00-DB80-4949-B39B-76BFCD95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65517-C192-49EB-88C8-89095638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BE8F6-B613-4153-959E-346896E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8A61D-4D36-4105-A2AE-CB41073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F5190-64AC-45BB-B46E-519C41F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66527-BA62-45E6-A581-FF84583E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4EAA0-1837-4612-B195-07938B5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B25DA-DA81-4616-A42A-0E75E5D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115F5-0D7F-4E9B-9E29-231C9B6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848E5-660E-49D8-82F8-629AB89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AC51F-3DD5-47E7-8012-AAE96371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E7E-0284-44B0-A9C7-275E59A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77814-6643-4FDD-B1DD-4D23BCB4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BC3B1-7E61-4897-A23E-F7051412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4E560-000C-4398-9A9F-89B76049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04818-4957-40A8-8450-719D9EB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4085D-09E5-41EE-848C-C9DCABAA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4D89D-A77A-4FE5-9461-5E0DDF6A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50F4C-75D4-401C-BF46-A8D67A7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0187C-3CEF-41FD-AFA0-89F5A220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9B403-995D-42CF-825B-95D69FE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0F07B-55AC-4C59-8D7F-18C2A7A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0C4-3DAB-4B12-93F3-CB1B08B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CF853-2C7A-4591-AC13-95DE473E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D8957-7AE6-405B-8906-5F46D178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BCB28-647B-44B9-B36B-42C19E61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0BBDE-5BE5-4302-8ECF-0A879DB8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0BF38-CC91-48A3-8488-92202B4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B620B-D352-4E8D-9A86-8D75C5C3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9D48C-55A4-4649-80AF-64E85A8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08E36-0808-4D35-AC55-A322657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96D8C-FDCF-4A87-88C0-E4A06CD8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33331-82C0-4AA4-8DF9-46864F2F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F00-94CB-45C6-A6AD-3433E96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891D9-0EBD-4946-BFD3-6BD874E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53D22-1502-471A-BCC8-36E56A1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33262-0363-47B7-A01F-B64EE98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18935-B974-4F3A-AFF1-88452F71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9D05E-462D-4299-9F37-63801741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52D-720C-49B2-A14E-C57BA97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9D1-FDAA-44BF-9D89-B774560D23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6A5-93DB-4894-87EB-46340910EF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892-7390-471D-8686-EEA5220913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791-85AA-4FD2-BB27-C5352572F8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7DC4-B386-4B5D-8AFE-3949527177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8EB-C661-4D04-9A20-8A275EDF36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7A8-7E49-464B-AB16-536BA05439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826920" y="1197000"/>
          <a:ext cx="3949920" cy="38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394992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53964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4427640" y="1052640"/>
          <a:ext cx="4019400" cy="40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052640"/>
                    <a:ext cx="40194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4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ошпмротромпилвоптмдпьм.jpg"/>
          <p:cNvPicPr/>
          <p:nvPr/>
        </p:nvPicPr>
        <p:blipFill>
          <a:blip r:embed="rId1"/>
          <a:stretch/>
        </p:blipFill>
        <p:spPr>
          <a:xfrm>
            <a:off x="324000" y="1077840"/>
            <a:ext cx="7257960" cy="55198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539640" y="47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5292720" y="50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имеет дефицит, т.к. расходы превышают до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70" name="Прямая со стрелкой 6"/>
          <p:cNvCxnSpPr>
            <a:endCxn id="371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3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СЕ СУММИРОВАННЫЕ ДЕНЕЖНЫЕ И НАТУРАЛЬНЫЕ ДОХОДЫ ТАКЖЕ ПОДРАЗДЕЛЯЮТСЯ НА НЕСКОЛЬКО ВИДОВ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хема 4" descr=""/>
          <p:cNvPicPr/>
          <p:nvPr/>
        </p:nvPicPr>
        <p:blipFill>
          <a:blip r:embed="rId1"/>
          <a:stretch/>
        </p:blipFill>
        <p:spPr>
          <a:xfrm>
            <a:off x="590400" y="1841400"/>
            <a:ext cx="745668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1T08:30:16Z</dcterms:modified>
  <cp:revision>13</cp:revision>
  <dc:subject/>
  <dc:title>ДОХОДЫ И РАСХОДЫ СЕМЬИ.</dc:title>
</cp:coreProperties>
</file>