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media/image9.jpeg" ContentType="image/jpe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759-3E20-4FEE-B46C-63651C9D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486-D492-4DB9-B896-047CF9FA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96C-F02C-49BC-90DA-7F4A8BAF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9F5-4A88-43CF-ABC7-6E56C28F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87E6-EFCD-49C7-8CC7-6B1F0966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243-53AD-4462-9E79-00C8583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CF6B-5489-4121-BB4D-5473FD2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0EF8-F031-4687-B0A9-FA05E99D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AB30-94DE-4700-AB7C-EFA70A6B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AD21-C08E-4BDF-A03E-94C997E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AB3-A131-400A-855C-7FF73B9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3EA-6162-45D7-90A0-BA979854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309D-CA02-42C3-8E7F-EEB7799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AE92-1306-47D4-A9DA-51B3D43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2E5-82C9-4B8A-B8AF-DD2D349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E02B-4B67-4B97-B6E8-812DAA0F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D90D-AEF8-4CF3-AACC-EC165D50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DBA0C-0F46-4C12-946C-532DA1FE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D5ACA-E94C-49E9-A5D8-5334635B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27B4C-F86F-4D20-B532-27009E3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D5278-09CE-434D-A189-8BCFE80E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4AE6F-E46D-44DE-BA80-BBF0A0E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329-6D00-479E-84B5-1357B5DE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31FD0-4981-42B7-A0BC-2CAC4DC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2A89C-500C-4D96-B3BB-F6487AE0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BA525-AE1A-49F4-85E4-FFD289D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A6ACB-39D9-4D9A-BADA-955908D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4A3FA-A3D7-483B-8B63-11A0441D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B1C2D-D334-45D7-8832-4031876C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16BA8-A112-449B-92A7-D17D3E4B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54EC0-F611-4144-96CB-AC8FA80F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B8D4-9D33-43D0-897B-20B18FD8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0E7E-13BA-45CB-8B3E-14D75E7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D12-6EE5-4758-A9FD-891D9988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5386-DD78-4A63-BEE0-A767D16A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7369-999C-45E6-9E0E-F752AFDA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F528-B3BA-491C-8D55-5A483BB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3A50-854C-40AB-9892-5065B82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74B2-6C1E-4F0A-956B-E21FBFC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7039-08D2-4E97-9DD8-49AFB9B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19FA0-D00E-42CE-9724-406F2EE7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99DD-1F86-40C6-955A-12F9A737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03DE-3F30-4F79-8D8C-55FD1A02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8EE37-8D4E-47C6-9E65-B3FEC84B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677-0F16-4773-B1AA-28A75A35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F8C88-E632-432C-8923-29944F6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FCE67-CBC0-4788-86FF-2EE9182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3B79B-3960-446E-90BB-53EEE33F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7F2F9-7957-47EF-875C-C4989D62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40573-3C60-4C69-BAA7-B64B20FE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506EB-5CAE-4980-B9E3-274D5F9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1C879-7FCA-4789-8EBE-556DBCD8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02783-FDA6-4876-94BC-5A08E98D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B2E34-FDF5-44E3-B4D2-EFFA50B7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8E8DA-2303-4AD9-9AEE-0ABF746D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340-23BD-4240-8E53-D2574E4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992AC-537B-4A72-8EC0-C659CECA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56BFC-FA94-4EE1-B3EA-9AC8BACD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18534-C5F6-4D50-99A9-ED69EE4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F1FE9-1421-4520-B88E-C58464F8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B8088-54C4-41F8-8B28-8917CAD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E5074-C777-4492-B95D-239E5321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2CDAC-7349-407D-9A59-7E24830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0953B-B428-4CB2-B211-0B0AA58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527DC-1332-4D9A-AA0B-7CB65CC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03614-BAC5-4138-AE96-67C9FA2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545-1A66-403E-A41F-7818D40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73B7E-A708-4F9F-9A3E-74EEA0BF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35613-6CF7-46A5-9CEE-18C90F77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F2BE7-0064-407D-A8BD-7DC3DCF4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A0B2E-4825-4269-84D6-725A8207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1C0C4-B58D-4370-84D3-31B2D6B1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471E9-90B3-4A5C-8885-DE88ED9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32030-0FD0-47E0-8A11-B2EA278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D418E-E0E3-431A-941B-D8EF21A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E8238-783C-4627-A08D-2647CB5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780FD-EFEA-4E6B-8A8D-5B3C267C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E8E-B3A9-4E7A-A17C-2B65DE9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7B90A-58EF-4719-AE22-3FE0C04C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BC15E-2CA4-41DF-80C1-86C12BF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DB183-706E-490F-8E14-0D584B3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C986F-A0E5-4BEA-A6F1-5FF18C27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CBA8E-0E87-4871-A965-DDBDEC07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F6A-7D1B-4E1F-BC7F-D54C1F9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0534-5114-42B6-906C-E631C7D584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2F7-845D-4E94-BE2C-F863364C35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5776-24EF-4211-B07E-4E12EEEB79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BEB-2DB8-42C6-9267-245769A1D0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FD4-2277-4FAD-9245-A2D2E0AD23A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1FF8-ADB1-4D3F-9FE3-DAA5B277FC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99B0-51CA-445E-9348-6B85707CE8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5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8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ошпмротромпилвоптмдпьм.jpg"/>
          <p:cNvPicPr/>
          <p:nvPr/>
        </p:nvPicPr>
        <p:blipFill>
          <a:blip r:embed="rId1"/>
          <a:stretch/>
        </p:blipFill>
        <p:spPr>
          <a:xfrm>
            <a:off x="324000" y="1077840"/>
            <a:ext cx="7257960" cy="551988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539640" y="47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5292720" y="5084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61128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имеет дефицит, т.к. расходы превышают до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70" name="Прямая со стрелкой 6"/>
          <p:cNvCxnSpPr>
            <a:endCxn id="371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3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СЕ СУММИРОВАННЫЕ ДЕНЕЖНЫЕ И НАТУРАЛЬНЫЕ ДОХОДЫ ТАКЖЕ ПОДРАЗДЕЛЯЮТСЯ НА НЕСКОЛЬКО ВИДОВ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хема 4" descr=""/>
          <p:cNvPicPr/>
          <p:nvPr/>
        </p:nvPicPr>
        <p:blipFill>
          <a:blip r:embed="rId1"/>
          <a:stretch/>
        </p:blipFill>
        <p:spPr>
          <a:xfrm>
            <a:off x="590400" y="1841400"/>
            <a:ext cx="745668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3:43Z</dcterms:modified>
  <cp:revision>14</cp:revision>
  <dc:subject/>
  <dc:title>ДОХОДЫ И РАСХОДЫ СЕМЬИ.</dc:title>
</cp:coreProperties>
</file>