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7.jpeg" ContentType="image/jpeg"/>
  <Override PartName="/ppt/media/image9.jpeg" ContentType="image/jpe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8E8-68C2-4A15-B22C-5458CB26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5BD-5BE0-423E-81C7-1E6131F4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9D4A-CD3C-4D09-903A-73DD7451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A174-9039-4D0F-A80B-58A33774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131D-86CD-486E-8913-F7CE3B1F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A078-3DA8-4EFF-AFD3-2EDB93F1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7809-8B37-4E2F-AA9F-EB3AC1DE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CC54-6CC9-400E-80EC-BD2450CA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B9CD-D098-4874-8581-D94CE9DF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88A2-1072-44AD-8EB9-F13A8480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4724-7971-4AD3-A132-3B0D1173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50C-FA58-43DF-AFCE-4E13A7A8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4C08-4C3D-4729-ABC8-047A31CA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5E7A-E43C-4AD7-A04C-A3D79054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1957-9561-497D-A463-D0D65CAB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8AEE-FE34-4E92-9FA1-CD4CEAF2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5BB1-630F-405E-8B60-BA01018D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E7076-4087-48E2-A7F9-C1A6DDB3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D4D2C-309F-49F0-BD21-9B937A90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B5E75-9D1D-4AB8-AB2F-D99A81BF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ADAD1-5491-4D9E-9809-07091395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D700BB-CC3C-4D16-BEC4-A9E5A638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3645-FC51-4D0C-B84A-172E656F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97657-C217-4BB5-85AF-D05EBFC7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4AA2C-2F7C-4528-8D22-17972778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3A184-34C7-476C-8458-90B69E79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7F9C9-E9CA-4A97-890E-BD98EA1C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07B4C-0D50-4395-A9B4-B76BB67C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38BD2-4048-4992-A46C-2498DF42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8D21F-4328-4A09-BCB1-4A930AFF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15F81-3A47-4755-B18C-2A46F150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05813-E6D0-4F9E-A4DD-556008BE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F3831-CB3A-495E-A196-529C0412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76B-98E2-4867-9C12-D86D18EB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01299-3A53-4CA5-950C-2F664A73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C7E51-2243-46CE-AABA-833550CD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C8AF8-6B67-49DF-8B74-97E1EDD6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A2FD3-1F0D-400F-88D1-97C541FC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4E3B8-C617-46B1-950E-E3C123C9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C1495-48B2-4EE3-8CCB-21B5B735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0A017-F00F-4423-983A-0B49A9C1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C4DE7-80D0-4839-B123-6B7F18B8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5F80E-E3CF-4AF0-9867-D2C67489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E583E0-90E9-4F55-BA8A-F5FFFC5C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2530-AA0B-4FBB-BA53-FC6C0C69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0E5E4E-85CE-4393-AAA2-9137190C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A6B51F-E40A-47E6-8B2F-E3BBE93F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CF3E3E-E304-4F41-ACBD-DDF79222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9475EB-EA80-4B7F-90D7-60C392A5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4BCD21-3F9A-49D6-A76E-4F8902B2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6A344D-6A64-420F-8CBA-A1338CFA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4253DF-D398-487B-BF13-2FEE6A6F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C208CB-E5BA-4227-89BF-6DEB5594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A8AE35-1F00-40AC-A1B8-666F1112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72510-D366-461C-9F19-089778A7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80B-67DD-44CC-B5F9-EA9CAB7D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C643A0-DFCB-45D0-92A6-9A319FC3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7E04A2-312B-4E59-89DC-C7268799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57471D-7237-4AA7-B071-34C1120C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BE741C-DB99-4E51-BEE6-9EE69159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D42759-B949-4C5F-8E4F-A5F2EC9E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4334A0-0606-4205-916B-C9101B56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68A3A1-3D4D-4E7B-92B8-C980E1F1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6CAC7B-26D7-4A79-ADA6-758C18B4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1B94AA-9D26-41FC-838A-B3B090BE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DCB747-4456-42AF-AAD2-AAA877D8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DE4C-6864-4CCE-859B-E8DE7964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E5A61E-B8B5-4FEB-AD01-DCFCB2D8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C1C334-D8D1-4263-9A41-0128216F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B43899-6EEF-4232-84D8-7B6E848F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C75A1B-1545-4F2A-8C6D-6C8B418E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C7ADD0-8B57-4F06-BD9C-1E217E45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439325-36C3-4947-A3CB-25812D3F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D54F90-570A-4AC5-BA14-38C43B83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DCD138-7E07-4C09-B02A-44B9A800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AF18F8-B4AD-49F3-AA3F-C63D878D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344F76-B4B8-414E-8945-56482CFA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F0F-7DBA-48F7-A2BB-8C7B3537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0B52EE-F24C-4D8D-9474-6AB9D36B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F51FFE-118F-46C8-9EA5-3828B626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38750E-3D97-49C9-97D8-83F9B25F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5D9CD5-E5C8-4A91-B9CA-501709E7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F6E7FC-E7C3-495C-8D57-8F03AFAA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6D3-620A-4BDD-838B-6C9F9A2C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2864-D668-4606-93A1-2BB52148268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09B6-105A-4584-AF6A-963BE204B8F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20AF-F36E-4706-AB9B-242051FB51B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2C51-19DB-4E56-B918-5EAC36B8206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1FC4-D010-407D-A585-6EB69E17A13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5953-E096-48F3-BDB3-1C2B1436345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C28E-D4C4-4AC3-ABB7-A159900A620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92000" y="765000"/>
            <a:ext cx="66754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ДОХОДЫ И РАСХОДЫ СЕМЬ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763640" y="2997360"/>
            <a:ext cx="6840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СЕМЕЙНЫЙ БЮДЖЕ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124000" y="399240"/>
            <a:ext cx="669600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.И. Соловьёв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ющаяся 1-го курса группы 1Т по специальности 380205 Товароведение и экспертиза качества потребительских товаров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Е.В. Костин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подаватель специальных дисциплин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гинского филиала ГБПОУ  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кояновский Губернский колледж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4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5640" y="2637000"/>
            <a:ext cx="61722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Чтобы улучшить благосостояние следует: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научиться контролировать расходы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производить несложные экономические расчеты ежедневно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никогда не экономить на всем подряд!</a:t>
            </a:r>
            <a:br>
              <a:rPr sz="1800"/>
            </a:b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slow">
    <p:cover dir="r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1" descr="https://pp.vk.me/c837138/v837138421/28750/PqDgWcHQ2_4.jpg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334980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1" descr="https://pp.vk.me/c837138/v837138421/2871e/jLAaFfI7KZg.jpg"/>
          <p:cNvPicPr/>
          <p:nvPr/>
        </p:nvPicPr>
        <p:blipFill>
          <a:blip r:embed="rId2"/>
          <a:stretch/>
        </p:blipFill>
        <p:spPr>
          <a:xfrm>
            <a:off x="3995640" y="2852640"/>
            <a:ext cx="482616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179280" y="1989000"/>
          <a:ext cx="8352000" cy="33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835200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7" name="Object 4"/>
          <p:cNvGraphicFramePr/>
          <p:nvPr/>
        </p:nvGraphicFramePr>
        <p:xfrm>
          <a:off x="0" y="1773360"/>
          <a:ext cx="8962920" cy="31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896292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Object 4"/>
          <p:cNvGraphicFramePr/>
          <p:nvPr/>
        </p:nvGraphicFramePr>
        <p:xfrm>
          <a:off x="611280" y="189000"/>
          <a:ext cx="741672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9000"/>
                    <a:ext cx="741672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468360" y="476280"/>
          <a:ext cx="4103640" cy="29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410364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7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5" name="Object 6"/>
          <p:cNvGraphicFramePr/>
          <p:nvPr/>
        </p:nvGraphicFramePr>
        <p:xfrm>
          <a:off x="4211640" y="263520"/>
          <a:ext cx="3960720" cy="313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263520"/>
                    <a:ext cx="396072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Rectangle 9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8" name="Object 8"/>
          <p:cNvGraphicFramePr/>
          <p:nvPr/>
        </p:nvGraphicFramePr>
        <p:xfrm>
          <a:off x="1692360" y="3284640"/>
          <a:ext cx="5327640" cy="258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3284640"/>
                    <a:ext cx="532764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8" dur="3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Арка 3" descr=""/>
          <p:cNvPicPr/>
          <p:nvPr/>
        </p:nvPicPr>
        <p:blipFill>
          <a:blip r:embed="rId1"/>
          <a:stretch/>
        </p:blipFill>
        <p:spPr>
          <a:xfrm>
            <a:off x="-6480" y="365040"/>
            <a:ext cx="8759880" cy="110988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4" descr="авпекрлонрепавыфвыкенгшщдлбь.jpg"/>
          <p:cNvPicPr/>
          <p:nvPr/>
        </p:nvPicPr>
        <p:blipFill>
          <a:blip r:embed="rId2"/>
          <a:stretch/>
        </p:blipFill>
        <p:spPr>
          <a:xfrm>
            <a:off x="684360" y="1628640"/>
            <a:ext cx="72723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907560"/>
            <a:ext cx="713916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ЦЕЛЬ</a:t>
            </a: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: ИЗУЧИТЬ СТРУКТУРУ ФОРМИРОВАНИЯ СЕМЕЙНОГО БЮДЖЕТА, РАЗРАБОТАТЬ РЕКОМЕНДАЦИИ ПО ЕГО УЛУЧШЕНИЮ.</a:t>
            </a:r>
            <a:br>
              <a:rPr sz="1800"/>
            </a:b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ЗАДАЧИ: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ОПРЕДЕЛИТЬ ПОНЯТИЕ И СТРУКТУРУ СЕМЕЙНОГО БЮДЖЕТА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ИЗУЧИТЬ ИСТОЧНИКИ ДОХОДОВ И РАСХОДОВ МОЕЙ СЕМЬИ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ВЫЯВИТЬ ФОРМУЛЫ ВЫЧИСЛЕНИЯ СЕМЕЙНОГО БЮДЖЕТА И СОСТАВИТЬ БЮДЖЕТ МОЕЙ СЕМЬИ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ПРОАНАЛИЗИРОВАТЬ ПРОБЛЕМЫ ФОРМИРОВАНИЯ БЮДЖЕТА И НАЙТИ СПОСОБЫ ЕГО УЛУЧШЕНИЯ.</a:t>
            </a:r>
            <a:br>
              <a:rPr sz="1800"/>
            </a:br>
            <a:br>
              <a:rPr sz="27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34920" y="1125000"/>
            <a:ext cx="7057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39d"/>
                </a:solidFill>
                <a:latin typeface="Century Schoolbook"/>
              </a:rPr>
              <a:t>БАЛАНС ДОХОДОВ И РАСХОДОВ СЕМЬИ - ЭТО РАСЧЕТ И СОПОСТАВЛЕНИЕ СЕМЕЙНЫХ РАСХОДОВ С ПОЛУЧАЕМЫМИ ДОХОДАМИ.</a:t>
            </a:r>
            <a:endParaRPr b="0" lang="en-US" sz="27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410920" y="3500280"/>
            <a:ext cx="60469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Баланс доходов и расходов семьи, составляемый за отчетный истекший период, называется </a:t>
            </a:r>
            <a:r>
              <a:rPr b="1" i="1" lang="ru-RU" sz="1800" spc="-1" strike="noStrike" u="sng">
                <a:solidFill>
                  <a:srgbClr val="fff39d"/>
                </a:solidFill>
                <a:uFillTx/>
                <a:latin typeface="Century Schoolbook"/>
              </a:rPr>
              <a:t>отчетным балансом</a:t>
            </a: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, а составляемый на предстоящие периоды - </a:t>
            </a:r>
            <a:r>
              <a:rPr b="1" i="1" lang="ru-RU" sz="1800" spc="-1" strike="noStrike" u="sng">
                <a:solidFill>
                  <a:srgbClr val="fff39d"/>
                </a:solidFill>
                <a:uFillTx/>
                <a:latin typeface="Century Schoolbook"/>
              </a:rPr>
              <a:t>плановым балансом</a:t>
            </a: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slow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3" descr="фото.jpg"/>
          <p:cNvPicPr/>
          <p:nvPr/>
        </p:nvPicPr>
        <p:blipFill>
          <a:blip r:embed="rId1"/>
          <a:stretch/>
        </p:blipFill>
        <p:spPr>
          <a:xfrm>
            <a:off x="0" y="1035000"/>
            <a:ext cx="7885080" cy="58230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4"/>
          <p:cNvSpPr/>
          <p:nvPr/>
        </p:nvSpPr>
        <p:spPr>
          <a:xfrm>
            <a:off x="755640" y="4076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оходы семь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5076720" y="407664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сходы семь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324000" y="33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называется сбалансированным, т.к. расходы равны доход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1" descr="ошпмротромпилвоптмдпьм.jpg"/>
          <p:cNvPicPr/>
          <p:nvPr/>
        </p:nvPicPr>
        <p:blipFill>
          <a:blip r:embed="rId1"/>
          <a:stretch/>
        </p:blipFill>
        <p:spPr>
          <a:xfrm>
            <a:off x="324000" y="1077840"/>
            <a:ext cx="7257960" cy="5519880"/>
          </a:xfrm>
          <a:prstGeom prst="rect">
            <a:avLst/>
          </a:prstGeom>
          <a:ln w="0">
            <a:noFill/>
          </a:ln>
        </p:spPr>
      </p:pic>
      <p:sp>
        <p:nvSpPr>
          <p:cNvPr id="362" name="TextBox 2"/>
          <p:cNvSpPr/>
          <p:nvPr/>
        </p:nvSpPr>
        <p:spPr>
          <a:xfrm>
            <a:off x="539640" y="4724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оходы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TextBox 3"/>
          <p:cNvSpPr/>
          <p:nvPr/>
        </p:nvSpPr>
        <p:spPr>
          <a:xfrm>
            <a:off x="5292720" y="5084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611280" y="333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имеет дефицит, т.к. расходы превышают доход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3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3" descr="рбждльжд.jpg"/>
          <p:cNvPicPr/>
          <p:nvPr/>
        </p:nvPicPr>
        <p:blipFill>
          <a:blip r:embed="rId1"/>
          <a:stretch/>
        </p:blipFill>
        <p:spPr>
          <a:xfrm>
            <a:off x="755640" y="642960"/>
            <a:ext cx="6012000" cy="6215040"/>
          </a:xfrm>
          <a:prstGeom prst="rect">
            <a:avLst/>
          </a:prstGeom>
          <a:ln w="0">
            <a:noFill/>
          </a:ln>
        </p:spPr>
      </p:pic>
      <p:sp>
        <p:nvSpPr>
          <p:cNvPr id="366" name="TextBox 4"/>
          <p:cNvSpPr/>
          <p:nvPr/>
        </p:nvSpPr>
        <p:spPr>
          <a:xfrm>
            <a:off x="1187280" y="515772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о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4140360" y="486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TextBox 6"/>
          <p:cNvSpPr/>
          <p:nvPr/>
        </p:nvSpPr>
        <p:spPr>
          <a:xfrm>
            <a:off x="250920" y="26028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называется избыточным, т.к. доходы превышают расход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3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Прямоугольник 4" descr=""/>
          <p:cNvPicPr/>
          <p:nvPr/>
        </p:nvPicPr>
        <p:blipFill>
          <a:blip r:embed="rId1"/>
          <a:stretch/>
        </p:blipFill>
        <p:spPr>
          <a:xfrm>
            <a:off x="2378160" y="1298520"/>
            <a:ext cx="4321080" cy="1116000"/>
          </a:xfrm>
          <a:prstGeom prst="rect">
            <a:avLst/>
          </a:prstGeom>
          <a:ln w="0">
            <a:noFill/>
          </a:ln>
        </p:spPr>
      </p:pic>
      <p:cxnSp>
        <p:nvCxnSpPr>
          <p:cNvPr id="370" name="Прямая со стрелкой 6"/>
          <p:cNvCxnSpPr>
            <a:endCxn id="371" idx="0"/>
          </p:cNvCxnSpPr>
          <p:nvPr/>
        </p:nvCxnSpPr>
        <p:spPr>
          <a:xfrm flipH="1">
            <a:off x="2263320" y="2349360"/>
            <a:ext cx="1804320" cy="2160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2" name="Прямая со стрелкой 8"/>
          <p:cNvCxnSpPr/>
          <p:nvPr/>
        </p:nvCxnSpPr>
        <p:spPr>
          <a:xfrm>
            <a:off x="4932360" y="2420640"/>
            <a:ext cx="1944000" cy="2161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73" name="Прямоугольник 9" descr=""/>
          <p:cNvPicPr/>
          <p:nvPr/>
        </p:nvPicPr>
        <p:blipFill>
          <a:blip r:embed="rId2"/>
          <a:stretch/>
        </p:blipFill>
        <p:spPr>
          <a:xfrm>
            <a:off x="182520" y="4389480"/>
            <a:ext cx="4133880" cy="90180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11" descr=""/>
          <p:cNvPicPr/>
          <p:nvPr/>
        </p:nvPicPr>
        <p:blipFill>
          <a:blip r:embed="rId3"/>
          <a:stretch/>
        </p:blipFill>
        <p:spPr>
          <a:xfrm>
            <a:off x="4359240" y="4389480"/>
            <a:ext cx="4241880" cy="9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68000" y="189000"/>
            <a:ext cx="6172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ПОСОБЫ РАСЧЁТА СЕМЕЙНОГО БЮДЖЕ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555640" y="1968480"/>
            <a:ext cx="597348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ервая и основная  группа семейных денежных доход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Вторая группа (пенсии, пособия, стипендии и т.д.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Третья группа (прочие доходы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Четвёртая группа (доходы от домохозяйственной и предпринимательской деятельности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sh dir="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77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770" fill="hold"/>
                                        <p:tgtEl>
                                          <p:spTgt spid="3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ВСЕ СУММИРОВАННЫЕ ДЕНЕЖНЫЕ И НАТУРАЛЬНЫЕ ДОХОДЫ ТАКЖЕ ПОДРАЗДЕЛЯЮТСЯ НА НЕСКОЛЬКО ВИДОВ: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Схема 4" descr=""/>
          <p:cNvPicPr/>
          <p:nvPr/>
        </p:nvPicPr>
        <p:blipFill>
          <a:blip r:embed="rId1"/>
          <a:stretch/>
        </p:blipFill>
        <p:spPr>
          <a:xfrm>
            <a:off x="590400" y="1841400"/>
            <a:ext cx="7456680" cy="4761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7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70" fill="hold"/>
                                        <p:tgtEl>
                                          <p:spTgt spid="3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15:16:06Z</dcterms:created>
  <dc:creator>Алёнка</dc:creator>
  <dc:description/>
  <dc:language>en-US</dc:language>
  <cp:lastModifiedBy>User</cp:lastModifiedBy>
  <dcterms:modified xsi:type="dcterms:W3CDTF">2018-11-07T07:13:43Z</dcterms:modified>
  <cp:revision>14</cp:revision>
  <dc:subject/>
  <dc:title>ДОХОДЫ И РАСХОДЫ СЕМЬИ.</dc:title>
</cp:coreProperties>
</file>