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6.jpeg" ContentType="image/jpeg"/>
  <Override PartName="/ppt/media/image12.wmf" ContentType="image/x-wmf"/>
  <Override PartName="/ppt/media/image4.png" ContentType="image/png"/>
  <Override PartName="/ppt/media/image7.jpeg" ContentType="image/jpeg"/>
  <Override PartName="/ppt/media/image10.wmf" ContentType="image/x-wmf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6D1D-4252-4B9C-9B0E-F4825C320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B8E2-A8DF-4448-B16F-CA98D122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7A4B-3763-48F2-AF3F-213674D27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EEBB-8B94-41EF-9E17-8645A8FFF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5C5A-77B7-4165-9BA2-808809329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6A93-A698-46CC-B01B-02DD8123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A6F4-75D7-49AC-AA25-59B662AC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3785-D90C-4612-8F74-4E2077C9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3BEF-3EE6-400C-8EE5-5AF09626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37E1-2322-49C1-BB24-92016B4B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D810-A217-4ED0-9B36-EB382F3F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5365-FA8B-4342-B0C4-E187C39F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E88A-7C84-4A45-A823-EDD4D64B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3C02-6AEA-47C2-BAF2-773B65B9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985E-5FDC-4818-87FD-9A0E208A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97A5-E442-49D0-8047-5FC47AA93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07E2-97D4-4267-A65E-155ECDF8B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502050-390F-479D-963D-532DFBED0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30AFF8-3CF2-4FB5-BCDB-CEDB40F3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097177-1195-43B4-B390-8E124430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8F96FE-E9ED-4121-9610-51F137B1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7E1D00-5378-44CB-8F44-7ECA412E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940B-C512-4A3E-9B09-65A88779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11DB33-948F-43BE-BE81-2C4C2465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52B5D9-388F-45BA-83A0-8E4D1E8D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9EF91F-62F5-49A1-92E5-05FC3148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30729D-05F2-46C7-98AE-C52F4765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5C1ECA-3BD9-48F4-8D8E-AC72A1DD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FA95A7-EEA5-46F2-A82F-0FF1B8CF4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98D8B6-D8D0-4A61-9767-CCA10272B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2F329-04BB-4B1C-A69F-698215EB9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AE338-A614-461F-B497-DC535964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47357-8C0C-4FF8-9FAE-7F7F4DD7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2DE3-3786-4FF7-8D23-4E88EC9A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2B877-5627-4E6C-B38E-B59B179D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DB8A3-DC80-4E7F-9F6C-DD169420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FCA64-003A-4C7D-BBA4-B52674D9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651DF-4A4C-42AD-9157-53F77AA3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FA2D2-B7EE-4166-A6A1-FB43F327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CC510-BF31-4C0E-8594-5694E85C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19759-8CE3-4431-AD96-92088D81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06271-3DC4-467B-B19D-3A5C75B30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A41D6-9B0E-4B96-B31C-3611D6DC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7A6F6C-B4F7-4D6B-B602-67F51F1C2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D99F-7DFF-4A22-AA76-86E730F4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8E7440-DE87-4275-BC2E-90607590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CA8F42-AD72-416D-8D1B-CB19E4E8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BB3E66-1B1B-4B9B-B13A-D0F12169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F74306-B0C1-4BB4-8D90-23E9AD76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CFFBEC-54DC-417F-9A4A-38379DEB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29B2B7-B588-48AA-89FE-A0103A59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3CCCE5-5BF9-4A4B-B297-C156A3B6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C080E9-7EFB-45E5-A5E6-48EAF20A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6CE07C-F3B5-4D7E-A494-9D522AE3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B57D45-6F88-48F8-BF34-BCC2F7D86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9296-AA51-4056-B41A-26E11677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41570A-2F70-4C55-890B-9639B9A25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52DF2F-2982-4F82-B539-8AFD5117E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C63C28-F62C-4259-B459-C396FB3F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E6DA8C-E36E-40BD-9DD0-7E82DAFC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26D936-7588-441B-8974-63C4FCF2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D569F1-D6E1-4CE2-B1B6-E23219B6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DFC1FF-3A85-4C7B-A1C3-CC52583B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BC943A-0492-49FF-A4C0-71AAD08B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C9A999-C115-4498-A03E-10442A73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948C53-0D36-4C0E-AFCC-370419BC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F03C-6337-4F7E-8553-3164EC96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A32921-AF41-427F-B215-5F555A8E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57DD40-3F2F-4DED-BD0B-B9956F759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4A4182-C40D-4547-BF71-8DCEC9FC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1A2ED0-F104-4E19-828A-31DC2F21F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028755-4504-4585-B8F4-C201B47B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873152-C05E-428C-95A3-3CE83D30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4D4240-391C-41A3-92D7-778CEFA6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FBD63B-9684-41B4-B904-ECC67342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FD8220-5A18-4F9E-9CA4-AA38BA71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F07DAE-CBF1-4E2B-8683-4798F645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7D9D-EB6A-46FB-B82B-167D4D79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2B9B9D-E53B-45C3-A661-D82BBA9C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80B7ED-4FBF-4E6D-B629-0140E856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D94B4A-70C8-40A1-B8F0-3678E594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2C23BA-DA6D-4727-8D96-E499BC879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F3C9D4-C316-4205-BCED-500F40E4B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1822-BC4C-420D-80C7-A9394BD7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39B4-4953-43E3-89BC-42FD74544EF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1CC0-E130-420B-B1C7-DFABC9B9B06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CE76-6B40-42DE-B643-6A9AC9E5023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317C-C348-480E-B0BE-B1E07DA18A5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735D-6F43-4B6A-9DCA-B3B1699DE29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12BD-6BEF-477E-8CF8-A56D764F1BE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1D11-7191-4EB0-9C5A-9D3901BB406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692000" y="765000"/>
            <a:ext cx="667548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ДОХОДЫ И РАСХОДЫ СЕМЬИ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763640" y="2997360"/>
            <a:ext cx="6840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СЕМЕЙНЫЙ БЮДЖЕТ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2124000" y="399240"/>
            <a:ext cx="669600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628640"/>
                <a:tab algn="l" pos="2905200"/>
                <a:tab algn="ctr" pos="3286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А.И. Соловьёва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28640"/>
                <a:tab algn="l" pos="2905200"/>
                <a:tab algn="ctr" pos="3286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учающаяся 1-го курса группы 1Т по специальности 380205 Товароведение и экспертиза качества потребительских товаров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28640"/>
                <a:tab algn="l" pos="2905200"/>
                <a:tab algn="ctr" pos="3286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Е.В. Костина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28640"/>
                <a:tab algn="l" pos="2905200"/>
                <a:tab algn="ctr" pos="3286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подаватель специальных дисциплин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28640"/>
                <a:tab algn="l" pos="2905200"/>
                <a:tab algn="ctr" pos="3286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Гагинского филиала ГБПОУ  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  <a:ea typeface="Calibri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Лукояновский Губернский колледж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  <a:ea typeface="Calibri"/>
              </a:rPr>
              <a:t>»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5"/>
          <p:cNvSpPr/>
          <p:nvPr/>
        </p:nvSpPr>
        <p:spPr>
          <a:xfrm>
            <a:off x="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78" name="Object 4"/>
          <p:cNvGraphicFramePr/>
          <p:nvPr/>
        </p:nvGraphicFramePr>
        <p:xfrm>
          <a:off x="179280" y="1989000"/>
          <a:ext cx="8352000" cy="33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9000"/>
                    <a:ext cx="835200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3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3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1" name="Object 4"/>
          <p:cNvGraphicFramePr/>
          <p:nvPr/>
        </p:nvGraphicFramePr>
        <p:xfrm>
          <a:off x="0" y="1773360"/>
          <a:ext cx="8962920" cy="31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3360"/>
                    <a:ext cx="8962920" cy="31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3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3" name="Object 4"/>
          <p:cNvGraphicFramePr/>
          <p:nvPr/>
        </p:nvGraphicFramePr>
        <p:xfrm>
          <a:off x="611280" y="189000"/>
          <a:ext cx="7416720" cy="60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89000"/>
                    <a:ext cx="7416720" cy="60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5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6" name="Object 4"/>
          <p:cNvGraphicFramePr/>
          <p:nvPr/>
        </p:nvGraphicFramePr>
        <p:xfrm>
          <a:off x="468360" y="476280"/>
          <a:ext cx="4103640" cy="29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76280"/>
                    <a:ext cx="4103640" cy="29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Rectangle 7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9" name="Object 6"/>
          <p:cNvGraphicFramePr/>
          <p:nvPr/>
        </p:nvGraphicFramePr>
        <p:xfrm>
          <a:off x="4211640" y="263520"/>
          <a:ext cx="3960720" cy="313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263520"/>
                    <a:ext cx="3960720" cy="31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Rectangle 9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92" name="Object 8"/>
          <p:cNvGraphicFramePr/>
          <p:nvPr/>
        </p:nvGraphicFramePr>
        <p:xfrm>
          <a:off x="1692360" y="3284640"/>
          <a:ext cx="5327640" cy="258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2360" y="3284640"/>
                    <a:ext cx="5327640" cy="25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2" dur="3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Арка 3" descr=""/>
          <p:cNvPicPr/>
          <p:nvPr/>
        </p:nvPicPr>
        <p:blipFill>
          <a:blip r:embed="rId1"/>
          <a:stretch/>
        </p:blipFill>
        <p:spPr>
          <a:xfrm>
            <a:off x="-6480" y="365040"/>
            <a:ext cx="8759880" cy="110988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4" descr="авпекрлонрепавыфвыкенгшщдлбь.jpg"/>
          <p:cNvPicPr/>
          <p:nvPr/>
        </p:nvPicPr>
        <p:blipFill>
          <a:blip r:embed="rId2"/>
          <a:stretch/>
        </p:blipFill>
        <p:spPr>
          <a:xfrm>
            <a:off x="684360" y="1628640"/>
            <a:ext cx="727236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907560"/>
            <a:ext cx="7139160" cy="52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ЦЕЛЬ</a:t>
            </a: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: ИЗУЧИТЬ СТРУКТУРУ ФОРМИРОВАНИЯ СЕМЕЙНОГО БЮДЖЕТА, РАЗРАБОТАТЬ РЕКОМЕНДАЦИИ ПО ЕГО УЛУЧШЕНИЮ.</a:t>
            </a:r>
            <a:br>
              <a:rPr sz="1800"/>
            </a:b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 ЗАДАЧИ: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- ОПРЕДЕЛИТЬ ПОНЯТИЕ И СТРУКТУРУ СЕМЕЙНОГО БЮДЖЕТА;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- ИЗУЧИТЬ ИСТОЧНИКИ ДОХОДОВ И РАСХОДОВ МОЕЙ СЕМЬИ;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-ВЫЯВИТЬ ФОРМУЛЫ ВЫЧИСЛЕНИЯ СЕМЕЙНОГО БЮДЖЕТА И СОСТАВИТЬ БЮДЖЕТ МОЕЙ СЕМЬИ;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- ПРОАНАЛИЗИРОВАТЬ ПРОБЛЕМЫ ФОРМИРОВАНИЯ БЮДЖЕТА И НАЙТИ СПОСОБЫ ЕГО УЛУЧШЕНИЯ.</a:t>
            </a:r>
            <a:br>
              <a:rPr sz="1800"/>
            </a:br>
            <a:br>
              <a:rPr sz="27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834920" y="1125000"/>
            <a:ext cx="7057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39d"/>
                </a:solidFill>
                <a:latin typeface="Century Schoolbook"/>
              </a:rPr>
              <a:t>БАЛАНС ДОХОДОВ И РАСХОДОВ СЕМЬИ - ЭТО РАСЧЕТ И СОПОСТАВЛЕНИЕ СЕМЕЙНЫХ РАСХОДОВ С ПОЛУЧАЕМЫМИ ДОХОДАМИ.</a:t>
            </a:r>
            <a:endParaRPr b="0" lang="en-US" sz="27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410920" y="3500280"/>
            <a:ext cx="604692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Баланс доходов и расходов семьи, составляемый за отчетный истекший период, называется </a:t>
            </a:r>
            <a:r>
              <a:rPr b="1" i="1" lang="ru-RU" sz="1800" spc="-1" strike="noStrike" u="sng">
                <a:solidFill>
                  <a:srgbClr val="fff39d"/>
                </a:solidFill>
                <a:uFillTx/>
                <a:latin typeface="Century Schoolbook"/>
              </a:rPr>
              <a:t>отчетным балансом</a:t>
            </a: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, а составляемый на предстоящие периоды - </a:t>
            </a:r>
            <a:r>
              <a:rPr b="1" i="1" lang="ru-RU" sz="1800" spc="-1" strike="noStrike" u="sng">
                <a:solidFill>
                  <a:srgbClr val="fff39d"/>
                </a:solidFill>
                <a:uFillTx/>
                <a:latin typeface="Century Schoolbook"/>
              </a:rPr>
              <a:t>плановым балансом</a:t>
            </a: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                      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 spd="slow">
    <p:pull dir="r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Рисунок 3" descr="фото.jpg"/>
          <p:cNvPicPr/>
          <p:nvPr/>
        </p:nvPicPr>
        <p:blipFill>
          <a:blip r:embed="rId1"/>
          <a:stretch/>
        </p:blipFill>
        <p:spPr>
          <a:xfrm>
            <a:off x="0" y="1035000"/>
            <a:ext cx="7885080" cy="5823000"/>
          </a:xfrm>
          <a:prstGeom prst="rect">
            <a:avLst/>
          </a:prstGeom>
          <a:ln w="0">
            <a:noFill/>
          </a:ln>
        </p:spPr>
      </p:pic>
      <p:sp>
        <p:nvSpPr>
          <p:cNvPr id="358" name="TextBox 4"/>
          <p:cNvSpPr/>
          <p:nvPr/>
        </p:nvSpPr>
        <p:spPr>
          <a:xfrm>
            <a:off x="755640" y="4076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оходы семь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TextBox 5"/>
          <p:cNvSpPr/>
          <p:nvPr/>
        </p:nvSpPr>
        <p:spPr>
          <a:xfrm>
            <a:off x="5076720" y="407664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асходы семь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TextBox 7"/>
          <p:cNvSpPr/>
          <p:nvPr/>
        </p:nvSpPr>
        <p:spPr>
          <a:xfrm>
            <a:off x="324000" y="333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Бюджет называется сбалансированным, т.к. расходы равны дохода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3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Рисунок 3" descr="рбждльжд.jpg"/>
          <p:cNvPicPr/>
          <p:nvPr/>
        </p:nvPicPr>
        <p:blipFill>
          <a:blip r:embed="rId1"/>
          <a:stretch/>
        </p:blipFill>
        <p:spPr>
          <a:xfrm>
            <a:off x="755640" y="642960"/>
            <a:ext cx="6012000" cy="6215040"/>
          </a:xfrm>
          <a:prstGeom prst="rect">
            <a:avLst/>
          </a:prstGeom>
          <a:ln w="0">
            <a:noFill/>
          </a:ln>
        </p:spPr>
      </p:pic>
      <p:sp>
        <p:nvSpPr>
          <p:cNvPr id="362" name="TextBox 4"/>
          <p:cNvSpPr/>
          <p:nvPr/>
        </p:nvSpPr>
        <p:spPr>
          <a:xfrm>
            <a:off x="1187280" y="5157720"/>
            <a:ext cx="20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оход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TextBox 5"/>
          <p:cNvSpPr/>
          <p:nvPr/>
        </p:nvSpPr>
        <p:spPr>
          <a:xfrm>
            <a:off x="4140360" y="4869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сход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TextBox 6"/>
          <p:cNvSpPr/>
          <p:nvPr/>
        </p:nvSpPr>
        <p:spPr>
          <a:xfrm>
            <a:off x="250920" y="26028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Бюджет называется избыточным, т.к. доходы превышают расход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3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Прямоугольник 4" descr=""/>
          <p:cNvPicPr/>
          <p:nvPr/>
        </p:nvPicPr>
        <p:blipFill>
          <a:blip r:embed="rId1"/>
          <a:stretch/>
        </p:blipFill>
        <p:spPr>
          <a:xfrm>
            <a:off x="2378160" y="1298520"/>
            <a:ext cx="4321080" cy="1116000"/>
          </a:xfrm>
          <a:prstGeom prst="rect">
            <a:avLst/>
          </a:prstGeom>
          <a:ln w="0">
            <a:noFill/>
          </a:ln>
        </p:spPr>
      </p:pic>
      <p:cxnSp>
        <p:nvCxnSpPr>
          <p:cNvPr id="366" name="Прямая со стрелкой 6"/>
          <p:cNvCxnSpPr>
            <a:endCxn id="367" idx="0"/>
          </p:cNvCxnSpPr>
          <p:nvPr/>
        </p:nvCxnSpPr>
        <p:spPr>
          <a:xfrm flipH="1">
            <a:off x="2263320" y="2349360"/>
            <a:ext cx="1804320" cy="21600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8" name="Прямая со стрелкой 8"/>
          <p:cNvCxnSpPr/>
          <p:nvPr/>
        </p:nvCxnSpPr>
        <p:spPr>
          <a:xfrm>
            <a:off x="4932360" y="2420640"/>
            <a:ext cx="1944000" cy="2161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69" name="Прямоугольник 9" descr=""/>
          <p:cNvPicPr/>
          <p:nvPr/>
        </p:nvPicPr>
        <p:blipFill>
          <a:blip r:embed="rId2"/>
          <a:stretch/>
        </p:blipFill>
        <p:spPr>
          <a:xfrm>
            <a:off x="182520" y="4389480"/>
            <a:ext cx="4133880" cy="901800"/>
          </a:xfrm>
          <a:prstGeom prst="rect">
            <a:avLst/>
          </a:prstGeom>
          <a:ln w="0">
            <a:noFill/>
          </a:ln>
        </p:spPr>
      </p:pic>
      <p:pic>
        <p:nvPicPr>
          <p:cNvPr id="370" name="Прямоугольник 11" descr=""/>
          <p:cNvPicPr/>
          <p:nvPr/>
        </p:nvPicPr>
        <p:blipFill>
          <a:blip r:embed="rId3"/>
          <a:stretch/>
        </p:blipFill>
        <p:spPr>
          <a:xfrm>
            <a:off x="4359240" y="4389480"/>
            <a:ext cx="4241880" cy="90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68000" y="189000"/>
            <a:ext cx="61722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СПОСОБЫ РАСЧЁТА СЕМЕЙНОГО БЮДЖЕТ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2555640" y="1968480"/>
            <a:ext cx="597348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Первая и основная  группа семейных денежных доходов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Вторая группа (пенсии, пособия, стипендии и т.д.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Третья группа (прочие доходы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Четвёртая группа (доходы от домохозяйственной и предпринимательской деятельности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push dir="u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3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4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285640" y="2637000"/>
            <a:ext cx="61722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Чтобы улучшить благосостояние следует: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научиться контролировать расходы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производить несложные экономические расчеты ежедневно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никогда не экономить на всем подряд!</a:t>
            </a:r>
            <a:br>
              <a:rPr sz="1800"/>
            </a:b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 spd="slow">
    <p:cover dir="rd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Рисунок 1" descr="https://pp.vk.me/c837138/v837138421/28750/PqDgWcHQ2_4.jpg"/>
          <p:cNvPicPr/>
          <p:nvPr/>
        </p:nvPicPr>
        <p:blipFill>
          <a:blip r:embed="rId1"/>
          <a:stretch/>
        </p:blipFill>
        <p:spPr>
          <a:xfrm>
            <a:off x="250920" y="333360"/>
            <a:ext cx="4464000" cy="334980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1" descr="https://pp.vk.me/c837138/v837138421/2871e/jLAaFfI7KZg.jpg"/>
          <p:cNvPicPr/>
          <p:nvPr/>
        </p:nvPicPr>
        <p:blipFill>
          <a:blip r:embed="rId2"/>
          <a:stretch/>
        </p:blipFill>
        <p:spPr>
          <a:xfrm>
            <a:off x="3995640" y="2852640"/>
            <a:ext cx="4826160" cy="36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4T15:16:06Z</dcterms:created>
  <dc:creator>Алёнка</dc:creator>
  <dc:description/>
  <dc:language>en-US</dc:language>
  <cp:lastModifiedBy>User</cp:lastModifiedBy>
  <dcterms:modified xsi:type="dcterms:W3CDTF">2018-11-07T07:15:37Z</dcterms:modified>
  <cp:revision>15</cp:revision>
  <dc:subject/>
  <dc:title>ДОХОДЫ И РАСХОДЫ СЕМЬИ.</dc:title>
</cp:coreProperties>
</file>