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E33-2EC2-49EE-A87A-0898ACC0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908-A262-41D1-9CC9-C1D2D77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55B-AE45-4145-8338-7DBF388C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1AE-44A3-456A-BB2B-83B30786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B7B9-413C-4906-B095-C848C02B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E301-373A-4633-B1A6-92527824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890E-4FBD-4C31-86B3-F982CD5B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5A13-D89A-4937-9BD4-C5CC3096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7EAD-5E35-4967-ABC1-BF68CC64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846F-BFD0-4ED2-805E-CDA724F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3B05-4E14-4321-A714-A0C7EE8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97D-E7D0-46DF-AA79-A967C249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1662-3A0E-4A1B-AC52-43D2893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B7C7-7064-42FC-9255-F4737743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762B-FCF8-4A29-88E3-2873902E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04EB-C0B0-432C-B182-388A6D5F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1AFF-5E00-4812-B9FF-076B15B0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712A0-2EE7-43C6-AF5F-C60756DC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1E219-9138-4693-B695-CC5D5B5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46084-33B7-4491-B822-4D4C605B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D9B3D-C7A4-4169-A3FE-E2633F1B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2787D-A415-44BE-B6DF-B927819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B8F-9FBD-4411-A273-CB4D81A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DF95D-03FC-46F8-A366-FD44E5C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86ACD-9919-47C7-87DB-59643DA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554E2-ABF1-4AA0-B3E4-2221EE1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CD296-48FE-4CD1-AF50-7D5F11F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8CBA9-89EC-434C-AA10-7FBFDCCE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D9B75-B133-4F4F-A928-AD3F08A5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BB333-CE4F-489C-A001-5CA8A225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D38E-A88F-4CF9-B557-89B4909D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1B42-3BA2-477F-A472-34106AE0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180D-95BD-4541-BABD-F41CF06B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70B-7EF3-4DD6-A4E8-C38F179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CC5C-BEC4-4570-981E-AA20B676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356A8-599D-491A-A1E2-BA15E30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C1EC-5C3B-4A3E-B4C7-357192F2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5D8E-5F8C-4C97-82D2-86DB65C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0E9C-391C-481D-BF1A-3CD14B6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00BE-A19B-4DBD-9F1A-753473D6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5915-7A2E-4410-85BF-915C78E6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C8B5A-DD92-46AE-BBF5-38A10DA0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316F-5E9A-4789-889C-0286C2CF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98F8A-6287-478A-8480-6D061BA4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66B-D53A-4A42-ABCA-B680855D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13A84-9CE5-486D-B223-756F2A79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887B6-4273-4FF8-9C2E-CA75CAE1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586A0-AC55-40DF-844C-619CAC07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6F72B-31B5-4787-BA9F-9639E19D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D3873-B4E4-440C-908B-AFC6B825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6A2F9-6A53-4017-A8BD-E60F9D8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8513E-D8FB-4FF6-8DE5-37CBAAC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88F7C-1E03-4D11-860F-CE808AF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2D3E5-98DA-4599-BCFA-C1E290F2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96DC5-A19C-4973-8FC0-87278331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D61-4FB7-4AC1-8E78-117959C4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2D640-E6F5-45F7-9631-F2A2A593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0E328-2FC0-47BF-A3EF-81D233CD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2B2E0-70DF-471E-ACD2-D93C1CA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C8981-3562-493E-8200-D6C2052B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5FC57-8AA7-455F-B8F8-6655B3D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742E1-3EA5-4D9D-91C2-BE11BD6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97550-3619-4E9A-9B1D-AB3E8AF6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CB53A-84CA-4533-B628-3397F599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62C02-C43B-464A-B8C4-7885D77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4D719-4EAE-40D3-A2A9-ED65028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800-5778-4033-8FC3-673EDBF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FFBF3-84E7-4C6A-A507-8BFDD819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3B6A5-2E2A-4B46-8AD1-74975C8D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7A2B4-0BD2-441E-B2B3-2FD4F5AF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D8DCF-FBBC-42CD-A32B-B01CF6DF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30E8B-1252-4349-9DD4-03F5A345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CBE3B-5517-4234-AFE8-9E8254A4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4DFB8-AA2D-48F1-AEF1-04CBE87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D1794-DD66-4086-BEA4-BCD3E2E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40EF9D-32AA-4C59-9595-DFACC67B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8798A-E310-4001-B9DC-D52156A1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67E-6190-4D61-814A-FEB15C71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BDD38-B09F-449F-9D77-053EACB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32071-93BC-4727-8E45-4DDD18C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4E47B-2A4D-4918-964E-40C40C5F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CFF66-C705-484A-9BE3-3023890D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10D28-C2CD-4DF4-B21A-5223DDE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A45-7437-488E-B20A-9B6E681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F03-BD7F-47BA-95AA-2EDF80C5AF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9E59-5B8B-422D-A3D0-93584E2ADE1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C0CA-E77C-4D36-BA1C-50DDB51EF4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EBD0-DC62-4447-A49C-F72EF6446C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D048-4FF3-4C50-8E24-5737C71A53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7ACC-56AC-4729-B3CD-551EAC130E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884-78D0-46FF-8E5E-AEF7CB5B15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66" name="Прямая со стрелкой 6"/>
          <p:cNvCxnSpPr>
            <a:endCxn id="367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9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5:37Z</dcterms:modified>
  <cp:revision>15</cp:revision>
  <dc:subject/>
  <dc:title>ДОХОДЫ И РАСХОДЫ СЕМЬИ.</dc:title>
</cp:coreProperties>
</file>