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6.jpeg" ContentType="image/jpeg"/>
  <Override PartName="/ppt/media/image12.wmf" ContentType="image/x-wmf"/>
  <Override PartName="/ppt/media/image4.png" ContentType="image/png"/>
  <Override PartName="/ppt/media/image7.jpeg" ContentType="image/jpeg"/>
  <Override PartName="/ppt/media/image10.wmf" ContentType="image/x-wmf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587E-D535-4660-A285-8F9D25035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DE00-2E56-436C-8A62-309DD7FE4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951A-B22E-418D-882B-687B444E0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6B62-B47A-45E3-BD70-579DA8B35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611CB-0F9B-46FB-B19A-A07C64D57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F283B-B14E-4325-ACB6-FE59F4A95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EEFD1-7330-4266-BAB5-07DDE5945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90319-A622-4989-A17B-4F074A1C0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5EB54-65E5-4434-B152-AE36C3F05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AA023-2F0E-4DC6-B856-2220ECC7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A8C20-6E2A-46A1-BEB8-DBF6C6ED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4B24-8D39-4718-A03A-C6E6F8899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2A101-4DCD-40A1-B470-D80A70C8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684FF-79FF-4012-A6C3-F3DB0031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95E8C-5E24-44A2-A8A2-665CC94D7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1E257-582D-4D17-8BF9-CEC0D90A8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A3D95-243B-442A-8317-AFCEF0350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10D2E8-E727-43E5-BC26-58B6A207B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26172B-B6CB-4C3D-A924-AF30A1B94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B29862-D613-4AAA-B576-738C06E8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9F0D45-AA17-490B-9094-FDB6DC7FD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C7F444-7397-4A12-9660-1A359E47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6E49-F410-454E-BA20-0E9C190D8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268A8D-9563-4871-9F6F-1420FCFC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7C3B33-4388-4917-8A05-BE137547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CFEF04-5F00-4A97-9986-7EB8C0A4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3FB0BE-5D35-4319-AE5D-B6AA0BB5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51F7C3-5F39-4BFF-B132-EF556F22B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279A90-09C8-4C4E-99B3-7A53379A1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845C0B-84FC-45A2-A85A-49B9C7066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13E10-5A61-42FA-AC8A-41A88E6E6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69B66-A409-4AA6-B305-B91145653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AB93F-0E78-4463-88F3-2DD4A5420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60FF-9408-4A9C-927D-CA1AC4D42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5760A-8311-4CC6-8FDD-CE672F4A1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13814-5224-4FF7-A556-2049DF8D6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3AD48-33FF-4901-9FFD-6A965C52F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20C92-9A1C-404E-84B4-3E42A644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16ECD-1B58-4847-A995-94D3AED2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B7233-8E46-4780-BF27-BA4A190A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9F8F9-FBD6-4CB4-AF6B-517DDA31C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3F0DC-FE36-4834-A213-B8884FB61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A3BFC-2FFD-4434-8423-8D207E034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8B6146-0A3F-4BE6-A4A1-FBF23C80A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CB56-49AD-4093-A044-507A835A0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FEAEDB-302D-4573-A7EF-EFBF7FF6F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540D64-A79A-4EA1-A60A-99AA2FB00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A0844D-824D-4DA9-A948-57C93ECF9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D1F5C1-9162-43EC-AE07-742335F80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F1753B-62E9-4D67-9F3B-082CEFC05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7AFD4B-8DA2-4D71-B29C-4C10C8F2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BE216D-076C-42BF-9614-C23199F4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A65277-AE02-4A0A-9B13-77533E9E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10B2DB-60A0-45C9-AB1B-03467CE83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BEBA56-C0AD-4E66-9AC9-C007F80BF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9FAD-9AA3-4959-BC2F-64F44320B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4CA2BD-DF43-4890-AE79-44B0DDF7C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85121C-A7DD-4E5C-BB31-27339B311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D430EF-A98D-478F-BB9F-9C928C8A1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380C2E-B9C9-40FB-9F7F-FB5F9632E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B23F8A-3BB3-450E-A79B-8933F4C80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6E5631-8238-4AD5-B19C-2250D77CE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76DFD1-E2CF-412E-A7FA-4025950E3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ED2980-3002-4C22-A997-8774AEAB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89CB49-DF37-40B0-A936-329CDCB6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443554-E328-4D24-959E-F2241C08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D129-1A38-4C73-9C32-C45C59A9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F1129D-8257-4004-8717-DAE6A5FE5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76C585-55EF-4353-9FAA-7A0865011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D4B5C7-EB34-4F68-9BDF-652BF93DE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51F1E1-3BDF-48A9-8B80-F3E9242AB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4A7A6E-998F-4D98-A14F-01763B359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BBAFF9-52D6-4227-9188-7F7478F46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017A3A-3C04-4D67-AD3E-766C75E04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994A79-7215-47A0-A493-0595A0346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0A9AB6-8340-4C07-8CFE-8382069B6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503F29-70A8-46E8-8B88-5EDD26EC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5B00-955C-420B-A30E-4EABA25B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FD62AD-48E8-4AA7-8D90-A715898F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9C94DA-C68D-4E3F-9061-68C27809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BBD014-609A-4B67-8897-0635E72B8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E45651-337D-4574-9175-C48C9CCF9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A54C28-874C-4532-960D-CF0572D65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454F-DFD5-4979-A162-8F3473E1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DA926-D8E4-44C8-8141-FFE68D309E8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9FD9-1856-4687-8AA4-335D03A846E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BD1DA-DD43-4C4D-AA91-F912C685C5A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60D4F-40E0-4698-BF3E-A6C707CEE73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521D2-067C-4205-AD0A-1069612BD6C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9B64B-F0E9-4EA9-B4EF-ACBCE639EA2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B865E-6662-4123-90DC-05C0DA876AD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692000" y="765000"/>
            <a:ext cx="667548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ДОХОДЫ И РАСХОДЫ СЕМЬИ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763640" y="2997360"/>
            <a:ext cx="68407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5f6d"/>
                </a:solidFill>
                <a:latin typeface="Century Schoolbook"/>
              </a:rPr>
              <a:t>СЕМЕЙНЫЙ БЮДЖЕТ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Rectangle 5"/>
          <p:cNvSpPr/>
          <p:nvPr/>
        </p:nvSpPr>
        <p:spPr>
          <a:xfrm>
            <a:off x="2124000" y="399240"/>
            <a:ext cx="6696000" cy="11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628640"/>
                <a:tab algn="l" pos="2905200"/>
                <a:tab algn="ctr" pos="3286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А.И. Соловьёва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628640"/>
                <a:tab algn="l" pos="2905200"/>
                <a:tab algn="ctr" pos="3286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учающаяся 1-го курса группы 1Т по специальности 380205 Товароведение и экспертиза качества потребительских товаров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628640"/>
                <a:tab algn="l" pos="2905200"/>
                <a:tab algn="ctr" pos="3286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Е.В. Костина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628640"/>
                <a:tab algn="l" pos="2905200"/>
                <a:tab algn="ctr" pos="3286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подаватель специальных дисциплин 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628640"/>
                <a:tab algn="l" pos="2905200"/>
                <a:tab algn="ctr" pos="3286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Гагинского филиала ГБПОУ  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  <a:ea typeface="Calibri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Лукояновский Губернский колледж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  <a:ea typeface="Calibri"/>
              </a:rPr>
              <a:t>»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5"/>
          <p:cNvSpPr/>
          <p:nvPr/>
        </p:nvSpPr>
        <p:spPr>
          <a:xfrm>
            <a:off x="0" y="22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78" name="Object 4"/>
          <p:cNvGraphicFramePr/>
          <p:nvPr/>
        </p:nvGraphicFramePr>
        <p:xfrm>
          <a:off x="179280" y="1989000"/>
          <a:ext cx="8352000" cy="335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989000"/>
                    <a:ext cx="835200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3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3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5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81" name="Object 4"/>
          <p:cNvGraphicFramePr/>
          <p:nvPr/>
        </p:nvGraphicFramePr>
        <p:xfrm>
          <a:off x="0" y="1773360"/>
          <a:ext cx="8962920" cy="31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73360"/>
                    <a:ext cx="8962920" cy="31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3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3" name="Object 4"/>
          <p:cNvGraphicFramePr/>
          <p:nvPr/>
        </p:nvGraphicFramePr>
        <p:xfrm>
          <a:off x="611280" y="189000"/>
          <a:ext cx="7416720" cy="600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89000"/>
                    <a:ext cx="7416720" cy="60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5"/>
          <p:cNvSpPr/>
          <p:nvPr/>
        </p:nvSpPr>
        <p:spPr>
          <a:xfrm>
            <a:off x="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86" name="Object 4"/>
          <p:cNvGraphicFramePr/>
          <p:nvPr/>
        </p:nvGraphicFramePr>
        <p:xfrm>
          <a:off x="468360" y="476280"/>
          <a:ext cx="4103640" cy="295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476280"/>
                    <a:ext cx="4103640" cy="29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Rectangle 7"/>
          <p:cNvSpPr/>
          <p:nvPr/>
        </p:nvSpPr>
        <p:spPr>
          <a:xfrm>
            <a:off x="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89" name="Object 6"/>
          <p:cNvGraphicFramePr/>
          <p:nvPr/>
        </p:nvGraphicFramePr>
        <p:xfrm>
          <a:off x="4211640" y="263520"/>
          <a:ext cx="3960720" cy="313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263520"/>
                    <a:ext cx="3960720" cy="31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Rectangle 9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92" name="Object 8"/>
          <p:cNvGraphicFramePr/>
          <p:nvPr/>
        </p:nvGraphicFramePr>
        <p:xfrm>
          <a:off x="1692360" y="3284640"/>
          <a:ext cx="5327640" cy="2582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3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92360" y="3284640"/>
                    <a:ext cx="5327640" cy="25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2" dur="3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Арка 3" descr=""/>
          <p:cNvPicPr/>
          <p:nvPr/>
        </p:nvPicPr>
        <p:blipFill>
          <a:blip r:embed="rId1"/>
          <a:stretch/>
        </p:blipFill>
        <p:spPr>
          <a:xfrm>
            <a:off x="-6480" y="365040"/>
            <a:ext cx="8759880" cy="1109880"/>
          </a:xfrm>
          <a:prstGeom prst="rect">
            <a:avLst/>
          </a:prstGeom>
          <a:ln w="0">
            <a:noFill/>
          </a:ln>
        </p:spPr>
      </p:pic>
      <p:pic>
        <p:nvPicPr>
          <p:cNvPr id="395" name="Рисунок 4" descr="авпекрлонрепавыфвыкенгшщдлбь.jpg"/>
          <p:cNvPicPr/>
          <p:nvPr/>
        </p:nvPicPr>
        <p:blipFill>
          <a:blip r:embed="rId2"/>
          <a:stretch/>
        </p:blipFill>
        <p:spPr>
          <a:xfrm>
            <a:off x="684360" y="1628640"/>
            <a:ext cx="7272360" cy="499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907560"/>
            <a:ext cx="7139160" cy="525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ЦЕЛЬ</a:t>
            </a:r>
            <a:r>
              <a:rPr b="0" lang="ru-RU" sz="1800" spc="-1" strike="noStrike">
                <a:solidFill>
                  <a:srgbClr val="575f6d"/>
                </a:solidFill>
                <a:latin typeface="Century Schoolbook"/>
              </a:rPr>
              <a:t>: ИЗУЧИТЬ СТРУКТУРУ ФОРМИРОВАНИЯ СЕМЕЙНОГО БЮДЖЕТА, РАЗРАБОТАТЬ РЕКОМЕНДАЦИИ ПО ЕГО УЛУЧШЕНИЮ.</a:t>
            </a:r>
            <a:br>
              <a:rPr sz="1800"/>
            </a:b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 ЗАДАЧИ:</a:t>
            </a:r>
            <a:br>
              <a:rPr sz="1800"/>
            </a:br>
            <a:r>
              <a:rPr b="0" lang="ru-RU" sz="1800" spc="-1" strike="noStrike">
                <a:solidFill>
                  <a:srgbClr val="575f6d"/>
                </a:solidFill>
                <a:latin typeface="Century Schoolbook"/>
              </a:rPr>
              <a:t>- ОПРЕДЕЛИТЬ ПОНЯТИЕ И СТРУКТУРУ СЕМЕЙНОГО БЮДЖЕТА;</a:t>
            </a:r>
            <a:br>
              <a:rPr sz="1800"/>
            </a:br>
            <a:r>
              <a:rPr b="0" lang="ru-RU" sz="1800" spc="-1" strike="noStrike">
                <a:solidFill>
                  <a:srgbClr val="575f6d"/>
                </a:solidFill>
                <a:latin typeface="Century Schoolbook"/>
              </a:rPr>
              <a:t>- ИЗУЧИТЬ ИСТОЧНИКИ ДОХОДОВ И РАСХОДОВ МОЕЙ СЕМЬИ;</a:t>
            </a:r>
            <a:br>
              <a:rPr sz="1800"/>
            </a:br>
            <a:r>
              <a:rPr b="0" lang="ru-RU" sz="1800" spc="-1" strike="noStrike">
                <a:solidFill>
                  <a:srgbClr val="575f6d"/>
                </a:solidFill>
                <a:latin typeface="Century Schoolbook"/>
              </a:rPr>
              <a:t>-ВЫЯВИТЬ ФОРМУЛЫ ВЫЧИСЛЕНИЯ СЕМЕЙНОГО БЮДЖЕТА И СОСТАВИТЬ БЮДЖЕТ МОЕЙ СЕМЬИ;</a:t>
            </a:r>
            <a:br>
              <a:rPr sz="1800"/>
            </a:br>
            <a:r>
              <a:rPr b="0" lang="ru-RU" sz="1800" spc="-1" strike="noStrike">
                <a:solidFill>
                  <a:srgbClr val="575f6d"/>
                </a:solidFill>
                <a:latin typeface="Century Schoolbook"/>
              </a:rPr>
              <a:t>- ПРОАНАЛИЗИРОВАТЬ ПРОБЛЕМЫ ФОРМИРОВАНИЯ БЮДЖЕТА И НАЙТИ СПОСОБЫ ЕГО УЛУЧШЕНИЯ.</a:t>
            </a:r>
            <a:br>
              <a:rPr sz="1800"/>
            </a:br>
            <a:br>
              <a:rPr sz="2700"/>
            </a:b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3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834920" y="1125000"/>
            <a:ext cx="70578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39d"/>
                </a:solidFill>
                <a:latin typeface="Century Schoolbook"/>
              </a:rPr>
              <a:t>БАЛАНС ДОХОДОВ И РАСХОДОВ СЕМЬИ - ЭТО РАСЧЕТ И СОПОСТАВЛЕНИЕ СЕМЕЙНЫХ РАСХОДОВ С ПОЛУЧАЕМЫМИ ДОХОДАМИ.</a:t>
            </a:r>
            <a:endParaRPr b="0" lang="en-US" sz="27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410920" y="3500280"/>
            <a:ext cx="604692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39d"/>
                </a:solidFill>
                <a:latin typeface="Century Schoolbook"/>
              </a:rPr>
              <a:t>Баланс доходов и расходов семьи, составляемый за отчетный истекший период, называется </a:t>
            </a:r>
            <a:r>
              <a:rPr b="1" i="1" lang="ru-RU" sz="1800" spc="-1" strike="noStrike" u="sng">
                <a:solidFill>
                  <a:srgbClr val="fff39d"/>
                </a:solidFill>
                <a:uFillTx/>
                <a:latin typeface="Century Schoolbook"/>
              </a:rPr>
              <a:t>отчетным балансом</a:t>
            </a:r>
            <a:r>
              <a:rPr b="1" lang="ru-RU" sz="1800" spc="-1" strike="noStrike">
                <a:solidFill>
                  <a:srgbClr val="fff39d"/>
                </a:solidFill>
                <a:latin typeface="Century Schoolbook"/>
              </a:rPr>
              <a:t>, а составляемый на предстоящие периоды - </a:t>
            </a:r>
            <a:r>
              <a:rPr b="1" i="1" lang="ru-RU" sz="1800" spc="-1" strike="noStrike" u="sng">
                <a:solidFill>
                  <a:srgbClr val="fff39d"/>
                </a:solidFill>
                <a:uFillTx/>
                <a:latin typeface="Century Schoolbook"/>
              </a:rPr>
              <a:t>плановым балансом</a:t>
            </a:r>
            <a:r>
              <a:rPr b="1" lang="ru-RU" sz="1800" spc="-1" strike="noStrike">
                <a:solidFill>
                  <a:srgbClr val="fff39d"/>
                </a:solidFill>
                <a:latin typeface="Century Schoolbook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39d"/>
                </a:solidFill>
                <a:latin typeface="Century Schoolbook"/>
              </a:rPr>
              <a:t>                       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 spd="slow">
    <p:pull dir="ru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Рисунок 3" descr="фото.jpg"/>
          <p:cNvPicPr/>
          <p:nvPr/>
        </p:nvPicPr>
        <p:blipFill>
          <a:blip r:embed="rId1"/>
          <a:stretch/>
        </p:blipFill>
        <p:spPr>
          <a:xfrm>
            <a:off x="0" y="1035000"/>
            <a:ext cx="7885080" cy="5823000"/>
          </a:xfrm>
          <a:prstGeom prst="rect">
            <a:avLst/>
          </a:prstGeom>
          <a:ln w="0">
            <a:noFill/>
          </a:ln>
        </p:spPr>
      </p:pic>
      <p:sp>
        <p:nvSpPr>
          <p:cNvPr id="358" name="TextBox 4"/>
          <p:cNvSpPr/>
          <p:nvPr/>
        </p:nvSpPr>
        <p:spPr>
          <a:xfrm>
            <a:off x="755640" y="407664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оходы семьи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TextBox 5"/>
          <p:cNvSpPr/>
          <p:nvPr/>
        </p:nvSpPr>
        <p:spPr>
          <a:xfrm>
            <a:off x="5076720" y="4076640"/>
            <a:ext cx="25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Расходы семьи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TextBox 7"/>
          <p:cNvSpPr/>
          <p:nvPr/>
        </p:nvSpPr>
        <p:spPr>
          <a:xfrm>
            <a:off x="324000" y="33336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Бюджет называется сбалансированным, т.к. расходы равны доходам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77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770" fill="hold"/>
                                        <p:tgtEl>
                                          <p:spTgt spid="3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" dur="77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Рисунок 3" descr="рбждльжд.jpg"/>
          <p:cNvPicPr/>
          <p:nvPr/>
        </p:nvPicPr>
        <p:blipFill>
          <a:blip r:embed="rId1"/>
          <a:stretch/>
        </p:blipFill>
        <p:spPr>
          <a:xfrm>
            <a:off x="755640" y="642960"/>
            <a:ext cx="6012000" cy="6215040"/>
          </a:xfrm>
          <a:prstGeom prst="rect">
            <a:avLst/>
          </a:prstGeom>
          <a:ln w="0">
            <a:noFill/>
          </a:ln>
        </p:spPr>
      </p:pic>
      <p:sp>
        <p:nvSpPr>
          <p:cNvPr id="362" name="TextBox 4"/>
          <p:cNvSpPr/>
          <p:nvPr/>
        </p:nvSpPr>
        <p:spPr>
          <a:xfrm>
            <a:off x="1187280" y="5157720"/>
            <a:ext cx="20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оходы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TextBox 5"/>
          <p:cNvSpPr/>
          <p:nvPr/>
        </p:nvSpPr>
        <p:spPr>
          <a:xfrm>
            <a:off x="4140360" y="4869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сходы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TextBox 6"/>
          <p:cNvSpPr/>
          <p:nvPr/>
        </p:nvSpPr>
        <p:spPr>
          <a:xfrm>
            <a:off x="250920" y="260280"/>
            <a:ext cx="77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Бюджет называется избыточным, т.к. доходы превышают расход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77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770" fill="hold"/>
                                        <p:tgtEl>
                                          <p:spTgt spid="3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Прямоугольник 4" descr=""/>
          <p:cNvPicPr/>
          <p:nvPr/>
        </p:nvPicPr>
        <p:blipFill>
          <a:blip r:embed="rId1"/>
          <a:stretch/>
        </p:blipFill>
        <p:spPr>
          <a:xfrm>
            <a:off x="2378160" y="1298520"/>
            <a:ext cx="4321080" cy="1116000"/>
          </a:xfrm>
          <a:prstGeom prst="rect">
            <a:avLst/>
          </a:prstGeom>
          <a:ln w="0">
            <a:noFill/>
          </a:ln>
        </p:spPr>
      </p:pic>
      <p:cxnSp>
        <p:nvCxnSpPr>
          <p:cNvPr id="366" name="Прямая со стрелкой 6"/>
          <p:cNvCxnSpPr>
            <a:endCxn id="367" idx="0"/>
          </p:cNvCxnSpPr>
          <p:nvPr/>
        </p:nvCxnSpPr>
        <p:spPr>
          <a:xfrm flipH="1">
            <a:off x="2263320" y="2349360"/>
            <a:ext cx="1804320" cy="216000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68" name="Прямая со стрелкой 8"/>
          <p:cNvCxnSpPr/>
          <p:nvPr/>
        </p:nvCxnSpPr>
        <p:spPr>
          <a:xfrm>
            <a:off x="4932360" y="2420640"/>
            <a:ext cx="1944000" cy="216108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369" name="Прямоугольник 9" descr=""/>
          <p:cNvPicPr/>
          <p:nvPr/>
        </p:nvPicPr>
        <p:blipFill>
          <a:blip r:embed="rId2"/>
          <a:stretch/>
        </p:blipFill>
        <p:spPr>
          <a:xfrm>
            <a:off x="182520" y="4389480"/>
            <a:ext cx="4133880" cy="901800"/>
          </a:xfrm>
          <a:prstGeom prst="rect">
            <a:avLst/>
          </a:prstGeom>
          <a:ln w="0">
            <a:noFill/>
          </a:ln>
        </p:spPr>
      </p:pic>
      <p:pic>
        <p:nvPicPr>
          <p:cNvPr id="370" name="Прямоугольник 11" descr=""/>
          <p:cNvPicPr/>
          <p:nvPr/>
        </p:nvPicPr>
        <p:blipFill>
          <a:blip r:embed="rId3"/>
          <a:stretch/>
        </p:blipFill>
        <p:spPr>
          <a:xfrm>
            <a:off x="4359240" y="4389480"/>
            <a:ext cx="4241880" cy="90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268000" y="189000"/>
            <a:ext cx="61722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СПОСОБЫ РАСЧЁТА СЕМЕЙНОГО БЮДЖЕТ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2555640" y="1968480"/>
            <a:ext cx="597348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Первая и основная  группа семейных денежных доходов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Вторая группа (пенсии, пособия, стипендии и т.д.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Третья группа (прочие доходы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Четвёртая группа (доходы от домохозяйственной и предпринимательской деятельности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push dir="u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77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770" fill="hold"/>
                                        <p:tgtEl>
                                          <p:spTgt spid="3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4" dur="77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6" dur="77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285640" y="2895120"/>
            <a:ext cx="6172200" cy="20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4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endParaRPr b="0" lang="en-US" sz="27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2285640" y="2637000"/>
            <a:ext cx="61722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39d"/>
                </a:solidFill>
                <a:latin typeface="Century Schoolbook"/>
              </a:rPr>
              <a:t>Чтобы улучшить благосостояние следует: 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39d"/>
                </a:solidFill>
                <a:latin typeface="Century Schoolbook"/>
              </a:rPr>
              <a:t>научиться контролировать расходы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39d"/>
                </a:solidFill>
                <a:latin typeface="Century Schoolbook"/>
              </a:rPr>
              <a:t>производить несложные экономические расчеты ежедневно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39d"/>
                </a:solidFill>
                <a:latin typeface="Century Schoolbook"/>
              </a:rPr>
              <a:t>никогда не экономить на всем подряд!</a:t>
            </a:r>
            <a:br>
              <a:rPr sz="1800"/>
            </a:br>
            <a:r>
              <a:rPr b="1" lang="ru-RU" sz="1800" spc="-1" strike="noStrike">
                <a:solidFill>
                  <a:srgbClr val="fff39d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 spd="slow">
    <p:cover dir="rd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Рисунок 1" descr="https://pp.vk.me/c837138/v837138421/28750/PqDgWcHQ2_4.jpg"/>
          <p:cNvPicPr/>
          <p:nvPr/>
        </p:nvPicPr>
        <p:blipFill>
          <a:blip r:embed="rId1"/>
          <a:stretch/>
        </p:blipFill>
        <p:spPr>
          <a:xfrm>
            <a:off x="250920" y="333360"/>
            <a:ext cx="4464000" cy="3349800"/>
          </a:xfrm>
          <a:prstGeom prst="rect">
            <a:avLst/>
          </a:prstGeom>
          <a:ln w="0">
            <a:noFill/>
          </a:ln>
        </p:spPr>
      </p:pic>
      <p:pic>
        <p:nvPicPr>
          <p:cNvPr id="376" name="Рисунок 1" descr="https://pp.vk.me/c837138/v837138421/2871e/jLAaFfI7KZg.jpg"/>
          <p:cNvPicPr/>
          <p:nvPr/>
        </p:nvPicPr>
        <p:blipFill>
          <a:blip r:embed="rId2"/>
          <a:stretch/>
        </p:blipFill>
        <p:spPr>
          <a:xfrm>
            <a:off x="3995640" y="2852640"/>
            <a:ext cx="4826160" cy="36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24T15:16:06Z</dcterms:created>
  <dc:creator>Алёнка</dc:creator>
  <dc:description/>
  <dc:language>en-US</dc:language>
  <cp:lastModifiedBy>User</cp:lastModifiedBy>
  <dcterms:modified xsi:type="dcterms:W3CDTF">2018-11-07T07:15:37Z</dcterms:modified>
  <cp:revision>15</cp:revision>
  <dc:subject/>
  <dc:title>ДОХОДЫ И РАСХОДЫ СЕМЬИ.</dc:title>
</cp:coreProperties>
</file>