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5BA-415A-412B-9B1B-3F3B0C40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274-EFD2-4DDD-8A4F-372A72E4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834-6174-4437-B30A-85481199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E75-E27D-4F8B-B62B-FBFB8075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66B1-C1CA-40A6-B45E-B3DA4BE5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B852-EFE8-473E-8B05-70DD3C46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C718-96B4-48C7-8ACA-10E43385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1D68-C50B-4062-8560-6131108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3F76-2200-4184-B302-0E2731E5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45DF-B64F-440B-A9DB-167FB89F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1F07-F466-4AD5-B3E6-FEBEEC7D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161-C21D-48B4-A605-74F7A1EF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F128-2570-4CEA-A48C-72F8B87F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0408-900E-4672-8769-90BCC136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ACF8-B12A-4C2F-B76C-2BBA4B27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67CC-BC00-4B31-B020-1D596EDA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4C70-CDDF-4642-9E49-3DE020C8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A9486-C815-46F1-974B-39CFE40A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3DC7D-1D97-4714-8A77-6AD88B2D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DFE88-0090-4BF2-A54E-2AB70618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17AED-8611-442A-BDA8-35F55F02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CAF67-F5C4-44D7-9EAB-EE093EA0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552-6866-47D4-AD16-BC0AA0A9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3D940-D4AB-4B19-B3EB-18E43EDE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CC398-6158-4E70-8BD1-438BA912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9B45D-38B9-471F-B7B9-49A3B4A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E17D0-E2F4-41BA-AAEC-9316D407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0C8B9-3B58-4BCE-8D1F-9EE7A411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8705A-78E1-4488-B464-DE135116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90409-2AB3-4E84-936A-0E756CD9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FEDC-264E-40EE-A2AB-7CE7F09E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66BF-8B9C-4A4E-AF46-297A85DB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205B-E017-4BA9-8A6B-296A661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FD2-A1C1-4342-B90A-7C47C542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428C-9927-4553-9E80-372CCC6B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D8EE-6A97-4AB3-98D6-24DD9D78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3B52-9F4B-4832-BB54-E6787FB7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D6FD-3AD2-4AA9-A2F5-EBE64282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1B8F-5111-41F0-A7EC-989AC204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5800-9B6E-4047-9CC3-CEB55700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E5482-06F8-4184-9495-BDA39237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466A-F3A4-4725-84AE-02A4AB18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D1F9-00A7-4F50-A684-04DF3AD2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9E36A-CC87-46B5-B1AC-3B9397AD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DB8-EE2D-4E70-8F78-F2F35525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C1F9A-7FCA-4C1A-9F76-631C1972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7091F-CD0D-4E05-8126-A48E1D81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69CA7-D728-4DB5-B2E5-A8E92941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15D96-1F47-4D56-8939-6B8A952A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9B8B3-80B8-40E1-94BC-71323EBA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F3A1B-00DF-420E-8FC5-DA61A65B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70311-4909-4D36-9007-0DA3C3E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1CE64-F15F-4B2B-B10C-C52FAB6C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9D485-58CC-4126-B203-74938E5A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3C385-6E50-4C55-B71A-FEFFAEA0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17C-8709-429B-A700-9B4C6EDA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CDB36-A498-45E5-8368-130CF615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89DC1-4A32-4F0E-A789-C3C5049E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EE98D-BBD8-4E1B-87B2-C703F4C5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A292C-1173-43BA-B9CC-F3ADCC0F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57D19-DED0-43A0-904C-96564958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787B5-D3AF-476F-A61C-75986964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8CA45-27C7-4435-803B-7BDB6BAE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9663C-4857-4548-8315-7E734CDC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703FA-D9D0-4B1B-9E8E-A0016972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281D1-92EE-4840-AD0F-FD5C7DA9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EE0-C8C6-4B7E-BAE9-4EEF874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9ECC7-0D2D-43E9-AFFE-75E6004E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36EF6-EC81-4E3F-A3CA-02311C66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92123-5387-45EE-959F-553D476C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BA4F7-FDDE-433A-9D72-CB7BD944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93CC8-8B38-4C7A-B632-4132D8C5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6ABDA-821B-4C9B-832B-03EDDD2D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DED724-CD19-4B94-884D-F497518C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C2A5B-76AC-45F4-B9E2-59E929C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7173D-A55D-4E7D-A0F2-F82D637E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5355D-834D-4903-953E-7159DA74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B59-1D73-42C3-AA5F-BDBF75E7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B740A-04A2-44EF-9BB8-F4F88409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4D9D8-8859-494A-9201-536F2C4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94AD47-93D8-42AB-A484-78D8D757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FAB5F5-5A78-42B9-A328-38189EF1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3E1E3-E5B6-419E-8159-8F87358A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C9C-C3D4-44AB-A485-4C02AFD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5757-10FF-41C0-8079-4C8FF2D5AF9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8C66-7595-4538-B3FB-EC720958DC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9908-69A8-4E79-9509-A6B9611FFAD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F852-5110-400F-B22A-56AB09E507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26E1-A264-4962-9B36-8E25396BED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D655-8BB7-4F60-BBD1-BBEC609BD9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28C1-A618-4D81-9A2B-1498422D859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675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ОХОДЫ И РАСХОДЫ СЕМЬ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ЕМЕЙНЫЙ БЮДЖ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124000" y="399240"/>
            <a:ext cx="66960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.И. Соловьёв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аяся 1-го курса группы 1Т по специальности 380205 Товароведение и экспертиза качества потребительских товаров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В. Костин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 специальных дисциплин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гинского филиала ГБПОУ  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ояновский Губернский колледж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179280" y="1989000"/>
          <a:ext cx="8352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352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0" y="1773360"/>
          <a:ext cx="896292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6292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Object 4"/>
          <p:cNvGraphicFramePr/>
          <p:nvPr/>
        </p:nvGraphicFramePr>
        <p:xfrm>
          <a:off x="611280" y="189000"/>
          <a:ext cx="741672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41672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6" name="Object 4"/>
          <p:cNvGraphicFramePr/>
          <p:nvPr/>
        </p:nvGraphicFramePr>
        <p:xfrm>
          <a:off x="468360" y="476280"/>
          <a:ext cx="410364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410364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9" name="Object 6"/>
          <p:cNvGraphicFramePr/>
          <p:nvPr/>
        </p:nvGraphicFramePr>
        <p:xfrm>
          <a:off x="4211640" y="263520"/>
          <a:ext cx="396072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63520"/>
                    <a:ext cx="3960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2" name="Object 8"/>
          <p:cNvGraphicFramePr/>
          <p:nvPr/>
        </p:nvGraphicFramePr>
        <p:xfrm>
          <a:off x="1692360" y="3284640"/>
          <a:ext cx="5327640" cy="25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284640"/>
                    <a:ext cx="53276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Арка 3" descr=""/>
          <p:cNvPicPr/>
          <p:nvPr/>
        </p:nvPicPr>
        <p:blipFill>
          <a:blip r:embed="rId1"/>
          <a:stretch/>
        </p:blipFill>
        <p:spPr>
          <a:xfrm>
            <a:off x="-6480" y="365040"/>
            <a:ext cx="8759880" cy="11098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авпекрлонрепавыфвыкенгшщдлбь.jpg"/>
          <p:cNvPicPr/>
          <p:nvPr/>
        </p:nvPicPr>
        <p:blipFill>
          <a:blip r:embed="rId2"/>
          <a:stretch/>
        </p:blipFill>
        <p:spPr>
          <a:xfrm>
            <a:off x="684360" y="1628640"/>
            <a:ext cx="7272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713916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: ИЗУЧИТЬ СТРУКТУРУ ФОРМИРОВАНИЯ СЕМЕЙНОГО БЮДЖЕТА, РАЗРАБОТАТЬ РЕКОМЕНДАЦИИ ПО ЕГО УЛУЧШЕНИЮ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ЗАДАЧИ: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ОПРЕДЕЛИТЬ ПОНЯТИЕ И СТРУКТУРУ СЕМЕЙНОГО БЮДЖЕТА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ИЗУЧИТЬ ИСТОЧНИКИ ДОХОДОВ И РАСХОДОВ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ВЫЯВИТЬ ФОРМУЛЫ ВЫЧИСЛЕНИЯ СЕМЕЙНОГО БЮДЖЕТА И СОСТАВИТЬ БЮДЖЕТ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ПРОАНАЛИЗИРОВАТЬ ПРОБЛЕМЫ ФОРМИРОВАНИЯ БЮДЖЕТА И НАЙТИ СПОСОБЫ ЕГО УЛУЧШЕНИЯ.</a:t>
            </a:r>
            <a:br>
              <a:rPr sz="18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7057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 - ЭТО РАСЧЕТ И СОПОСТАВЛЕНИЕ СЕМЕЙНЫХ РАСХОДОВ С ПОЛУЧАЕМЫМИ ДОХОДАМИ.</a:t>
            </a: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410920" y="3500280"/>
            <a:ext cx="60469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, составляемый за отчетный истекший период, называется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отчетн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, а составляемый на предстоящие периоды -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планов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фото.jpg"/>
          <p:cNvPicPr/>
          <p:nvPr/>
        </p:nvPicPr>
        <p:blipFill>
          <a:blip r:embed="rId1"/>
          <a:stretch/>
        </p:blipFill>
        <p:spPr>
          <a:xfrm>
            <a:off x="0" y="1035000"/>
            <a:ext cx="7885080" cy="5823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75564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5076720" y="4076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400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сбалансированным, т.к. расходы равны доход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3" descr="рбждльжд.jpg"/>
          <p:cNvPicPr/>
          <p:nvPr/>
        </p:nvPicPr>
        <p:blipFill>
          <a:blip r:embed="rId1"/>
          <a:stretch/>
        </p:blipFill>
        <p:spPr>
          <a:xfrm>
            <a:off x="755640" y="642960"/>
            <a:ext cx="6012000" cy="62150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/>
          <p:cNvSpPr/>
          <p:nvPr/>
        </p:nvSpPr>
        <p:spPr>
          <a:xfrm>
            <a:off x="1187280" y="51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4140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250920" y="26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избыточным, т.к. доходы превышают рас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4" descr=""/>
          <p:cNvPicPr/>
          <p:nvPr/>
        </p:nvPicPr>
        <p:blipFill>
          <a:blip r:embed="rId1"/>
          <a:stretch/>
        </p:blipFill>
        <p:spPr>
          <a:xfrm>
            <a:off x="2378160" y="1298520"/>
            <a:ext cx="4321080" cy="1116000"/>
          </a:xfrm>
          <a:prstGeom prst="rect">
            <a:avLst/>
          </a:prstGeom>
          <a:ln w="0">
            <a:noFill/>
          </a:ln>
        </p:spPr>
      </p:pic>
      <p:cxnSp>
        <p:nvCxnSpPr>
          <p:cNvPr id="366" name="Прямая со стрелкой 6"/>
          <p:cNvCxnSpPr>
            <a:endCxn id="367" idx="0"/>
          </p:cNvCxnSpPr>
          <p:nvPr/>
        </p:nvCxnSpPr>
        <p:spPr>
          <a:xfrm flipH="1">
            <a:off x="2263320" y="2349360"/>
            <a:ext cx="1804320" cy="2160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Прямая со стрелкой 8"/>
          <p:cNvCxnSpPr/>
          <p:nvPr/>
        </p:nvCxnSpPr>
        <p:spPr>
          <a:xfrm>
            <a:off x="4932360" y="2420640"/>
            <a:ext cx="1944000" cy="216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9" name="Прямоугольник 9" descr=""/>
          <p:cNvPicPr/>
          <p:nvPr/>
        </p:nvPicPr>
        <p:blipFill>
          <a:blip r:embed="rId2"/>
          <a:stretch/>
        </p:blipFill>
        <p:spPr>
          <a:xfrm>
            <a:off x="182520" y="4389480"/>
            <a:ext cx="4133880" cy="90180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1" descr=""/>
          <p:cNvPicPr/>
          <p:nvPr/>
        </p:nvPicPr>
        <p:blipFill>
          <a:blip r:embed="rId3"/>
          <a:stretch/>
        </p:blipFill>
        <p:spPr>
          <a:xfrm>
            <a:off x="4359240" y="4389480"/>
            <a:ext cx="424188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172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ОСОБЫ РАСЧЁТА СЕМЕЙНОГО БЮДЖЕ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555640" y="1968480"/>
            <a:ext cx="5973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вая и основная  группа семейных денежных доход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торая группа (пенсии, пособия, стипендии и т.д.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ретья группа (прочие доходы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Четвёртая группа (доходы от домохозяйственной и предпринимательской деятельност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4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5640" y="2637000"/>
            <a:ext cx="61722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Чтобы улучшить благосостояние следует: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аучиться контролировать расходы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производить несложные экономические расчеты ежедневно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икогда не экономить на всем подряд!</a:t>
            </a:r>
            <a:br>
              <a:rPr sz="1800"/>
            </a:b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cover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1" descr="https://pp.vk.me/c837138/v837138421/28750/PqDgWcHQ2_4.jpg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" descr="https://pp.vk.me/c837138/v837138421/2871e/jLAaFfI7KZg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261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15:16:06Z</dcterms:created>
  <dc:creator>Алёнка</dc:creator>
  <dc:description/>
  <dc:language>en-US</dc:language>
  <cp:lastModifiedBy>User</cp:lastModifiedBy>
  <dcterms:modified xsi:type="dcterms:W3CDTF">2018-11-07T07:15:37Z</dcterms:modified>
  <cp:revision>15</cp:revision>
  <dc:subject/>
  <dc:title>ДОХОДЫ И РАСХОДЫ СЕМЬИ.</dc:title>
</cp:coreProperties>
</file>