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811-F0E9-483C-82D3-3725A3A8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819-EF36-4D54-9FB8-D330783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0EF-D15A-4731-BC8B-B55F17F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F53-FC6C-47B1-9117-597EA709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CD3C-41E6-4624-991C-48186561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D656-50DA-4D35-A8DA-A7C657E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2A95-2499-40DF-83D6-C21548D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927F-4D35-4C55-BC2A-4758C2A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306D-4E4E-4A6E-80F5-BBA51E0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5B56-E18A-4BC0-B77F-A0150DC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283-A2CD-4D3E-AAD0-08BF7AE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A89-0975-459E-943E-B5584A1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961D-2EB9-49F3-A51E-5C2C172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E7E9-2F51-4BC9-93F1-64E96AA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19EB-06F1-4EDB-AA3E-84927BE4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D4A-3EC9-4BE0-9175-A9761297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7B31-423F-4976-BC96-BE247829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E67-2352-4A62-AD40-9831F2B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2F2-7955-4C0D-AACC-D85EDE54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EBB-722C-499C-99B2-300B9DF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BEE-7BCB-40F6-981B-DF31F27A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39C-96BC-4EC1-8DE1-5119D6E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812-8D62-4FFE-B65E-71A6D00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8EF-3B34-43BB-83B4-1466AAB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341-DD04-4ACA-963A-A270CC329D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863-0662-4452-BB38-F9D26D00A44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"/>
          <p:cNvPicPr/>
          <p:nvPr/>
        </p:nvPicPr>
        <p:blipFill>
          <a:blip r:embed="rId1"/>
          <a:stretch/>
        </p:blipFill>
        <p:spPr>
          <a:xfrm>
            <a:off x="0" y="154944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721560" y="228600"/>
            <a:ext cx="855720" cy="106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-2971800" y="2666880"/>
            <a:ext cx="10515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"ВОСЕМЬ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                     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МГНОВЕНИЙ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                                          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ВОЙНЫ"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1752480" y="22860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КРАЕВЕДЧЕСКИЙ  МАРШРУ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ВОИНСКОЙ СЛ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ПО  ТЕРНОВСКОМУ  РАЙОН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13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14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94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9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80880" y="30492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ядовому пехо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лександру Васильевичу Самойл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д. Протасов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419720" y="1371600"/>
            <a:ext cx="380988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было ближе до Берл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тяжелей был каждый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Фашизма адская маш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ерпела непривычный сбой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редместье города Фриштадт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врагом шёл рукопашный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ражались русские ребят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А командир был – рядовой!.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е шли за ним, забыв про бол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Места заняв свои в строю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командир, сражаясь,  с вер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обеду, больше десят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Убив солдат и офицер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мог положение спаст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еснив врага тот город взял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подходом наших главных си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ы дальше наступ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впереди Самойлов был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116160" cy="4724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 танка 108-й танковой бригады старшин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силию Евдокимовичу Влас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стино-Отделе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114800" y="17524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62520" y="1447920"/>
            <a:ext cx="449568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ри ясной, солнечной погод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Шла группа танков на проры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авя фашистов своей масс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лацдарм расчистила сполн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Лукавил старший в группе Влас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Любимый всеми старшина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Взят левый берег! Дальше двинем?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Нет смысла в Польше нам торча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Один бросок и мы - в Берлин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Пора с фашистами  конча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 европейским твёрдым трасс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ымя трубою выхлопн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авил на газ Василий Влас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идя в машине головн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Между боями, как обычн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Шутил весёлый старшина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Когда в Берлин я въеду личн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Тогда и кончится войн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боями, с жертвами, но всё ж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беда с радостью пришл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Весенним тихим днём погожи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огда черёмуха цве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00400" cy="4724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752480"/>
            <a:ext cx="7315200" cy="4857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345960" y="282600"/>
            <a:ext cx="701856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 5-й батареи 727-го истребительно-противотанкового  артиллерийского  полка  лейтенанту Михаилу Андреевичу Маренк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стино-Отделе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191120" y="1828800"/>
            <a:ext cx="45720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ипел Днепр, волны подним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т взрывов устремляясь ввыс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ричали люди, утоп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берега его тряслись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меть какие надо нервы?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смело прыгая с плот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ж правый берег в числе первых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Достиг с бойцами Маренков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ы возле кухни грелись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вдруг нагрянул генерал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а вид он выглядел суров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лейтенант тревожно ждал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Маренкова, как родног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от генерал к себе прижа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н награждал не по приказ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волненьи был он суховат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вердя одну и ту же фразу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-Всё, что могу… Всё, чем богат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нералу-майору  авиац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 Николаевичу  Ефимов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  с. Новотроицко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191120" y="1523880"/>
            <a:ext cx="38862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За всю войну с её начал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Бомбив безжалостно враг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Он сделал вылетов немал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сего- сто восемьдесят дв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огда мешали мессершмитт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А это было много раз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Он уходил от сателлит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И выполнял всегда приказ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И ускользая от налёт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 атаку шёл он с высо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Прицельно бил из пулемёт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Ругаясь, в чёрные крес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лубился дым от мессершмитт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 земле идущих на «таран»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-Теперь мы с вами, Гансы, квиты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Так про себя считал Иван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«Сто грамм…» заслуженных в столов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Горячий борщ… А поутр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Уже приказ-работа сн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 глубоком вражеском тыл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17920" cy="4876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371600" y="990720"/>
            <a:ext cx="51055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роходят годы, но поны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Земля Терновская, как м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О каждом помнит своём сыне –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героев забыва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стория не бесконеч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Без рода, племени, корней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постичь в пространстве вечно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дущим в завтра по стра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ссылаться на невзгоды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От прошлого отгородяс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рервать не в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лах даже год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Всех поколений наших связ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С седых веко в народе сил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ам прошлой славы не забы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 одолеть врагам России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России нашей вечно бы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Быть городам и малым сёла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Соседям, близким и родны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ока о грустном и весёл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Мгновенья в памяти храни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2666880" y="457200"/>
            <a:ext cx="28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ЭПИЛОГ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8001000" cy="6853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4952880" y="1143000"/>
            <a:ext cx="1295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ерн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6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MG_0409"/>
          <p:cNvPicPr/>
          <p:nvPr/>
        </p:nvPicPr>
        <p:blipFill>
          <a:blip r:embed="rId1"/>
          <a:stretch/>
        </p:blipFill>
        <p:spPr>
          <a:xfrm>
            <a:off x="0" y="1371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"/>
          <p:cNvSpPr/>
          <p:nvPr/>
        </p:nvSpPr>
        <p:spPr>
          <a:xfrm>
            <a:off x="6934320" y="39625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676520" y="39625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419720" y="342900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124080" y="594360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2895480" y="556272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876920" y="25909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4114800" y="32767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2057040" y="3886200"/>
            <a:ext cx="762120" cy="1522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981080" y="4419720"/>
            <a:ext cx="76320" cy="8380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2209680" y="5562720"/>
            <a:ext cx="609840" cy="3045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3200400" y="4800600"/>
            <a:ext cx="533520" cy="5335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 flipH="1">
            <a:off x="4876560" y="3124080"/>
            <a:ext cx="228600" cy="30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 flipV="1">
            <a:off x="4648320" y="3048120"/>
            <a:ext cx="304560" cy="3045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 flipV="1">
            <a:off x="3962520" y="3657240"/>
            <a:ext cx="304560" cy="6858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6553080" y="4343040"/>
            <a:ext cx="228600" cy="30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6172200" y="4495680"/>
            <a:ext cx="76320" cy="3812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2819520" y="3657600"/>
            <a:ext cx="533160" cy="4572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5486400" y="4038480"/>
            <a:ext cx="380880" cy="228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952880" y="3657600"/>
            <a:ext cx="457200" cy="1522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2895480" y="365760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1440360" y="404640"/>
            <a:ext cx="4688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КРАЕВЕДЧЕСКИЙ  МАРШРУ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ПО  ТЕРНОВСКОМУ  РАЙОН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24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609480" y="609480"/>
            <a:ext cx="50292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ДОБЛЕСТНЫ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ВОИНАМ-ТЕРНОВЦ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УЧАСТНИКА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ВЕЛИКОЙ ОТЕЧЕСТВЕННОЙ  ВОЙНЫ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УДОСТОЕННЫМ  ВЫСОКОГО  З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ГЕРОЯ  СОВЕТСКОГО  СОЮЗА,  ПОСВЯЩАЕТС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20_denb_pobed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52280" y="4705200"/>
            <a:ext cx="259092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4"/>
          <a:stretch/>
        </p:blipFill>
        <p:spPr>
          <a:xfrm>
            <a:off x="5181480" y="487692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281320" y="999000"/>
            <a:ext cx="3681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 утеряв менталитет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победимого наро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Россия чтит цену побед –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Ей дорога её свобод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никому не разгад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а русского мышленье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можно жизнь свою отд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ез страха и без принужденья?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ыть может, гнев, безумства страсть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, телом накрывая дзот, т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д пули рвался не страшась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Чтоб защитить собой кого-т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лажен, солдат, твой чистый лик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иняв геройское решенье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шёл на смерть ты в грозный ми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о имя нашего спасенья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45960" y="282600"/>
            <a:ext cx="7018560" cy="1069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стрелковой роты младшему лейтенанту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иколаю  Степановичу Шевлякову,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зл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114800" y="1447920"/>
            <a:ext cx="43434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Была задача непростая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рота молодых солдат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пулемёт не умолка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идал в лицо свинцовый гра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Упав в заснеженные трав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тремясь вперёд, ты видел дзот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оторый личному состав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Мешал для взятия высот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В обход по рытвинам и ям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д неприятельским огнё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Ты к дзоту двигался упрям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думал только об одном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Кто сможет это, как не я?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Врага я вижу очень близк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ад дзотом сбоку наклоняс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Упал на пулемёт фашистск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захлебнулся пулемёт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Фашист не мог понять с досад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епредсказуемый нар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а смерть идущий, если надо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10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284640" cy="480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1447920"/>
            <a:ext cx="7391520" cy="5175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10508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таршине роты 342-го стрелкового пол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Анатольевичу Лапшев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Александр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505320" y="1752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1523880"/>
            <a:ext cx="396252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Много дней под Ленинград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селе Марьино шёл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ыла прорвана блока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…</a:t>
            </a: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рок третьего, зим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январе фашистов гн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 заснеженным поля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гости их сюда не звали-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мерть непрошенным гостям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в атаку взвод стрелк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а врага, как сатан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ел бесстрашный и бед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ван Лапшев – старши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пылу, с жару и без меры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именив российский мат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лен Иван взял офице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четырнадцать солдат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сле боя все кури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непривычной тиши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до слёз, смеясь шути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 геройском старши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45960" y="282600"/>
            <a:ext cx="704556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нералу-лейтенанту авиаци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лексею Алексеевичу Плохову,   уроженцу с. Терн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572000" y="1066680"/>
            <a:ext cx="4572000" cy="57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исели тучи. Снег и ветер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Творили на землёй метел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Но лётчик, это не замети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ёл самолёт, имея цель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А вот  цель! И И лёгким вздохо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ткрыв спокойно фюзеляж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Смеясь в душе, Алёш Плох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Фашистам сбрасывал «багаж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Горели танки и цистерн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оследний выпустив снаряд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Бомбардировщик планомерн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зял курс уверенно наза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Таких, как Плохов, было мал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н в лётном дел асом бы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А с лейтенанта начинал он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До генерала дослужил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 войну.., потом в командировках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 каких бы не был городах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н вспоминал свою Терновку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сю утонувшую в сада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руды, савальские массив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оля ржаные за село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есь малый край большой России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Где затерялся его до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668760" cy="510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24-го отдельного истребительно-противотанкового дивизиона майору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Александровичу Шарову, уроженцу с. Дубовицк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62520" y="1523880"/>
            <a:ext cx="373356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Дивизион стрелков на марш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толкнулся с танками в упо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дивизионе был он старши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по годам, и, как майо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емь танков он, как  под угар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бил. Был ранен, но в строю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стался всё ж под Краснодаро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станице Брыньковской в бою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Фашисты взяли команд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луживого на снег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Желая зверского турнир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дичь подвесив на слегу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ошитый пулями он заме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эхом вторили ветр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ся с востока над снегам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Родное, мощное: «Ура!!!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1523880"/>
            <a:ext cx="3503520" cy="487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С.А.  Новотроицкая СОШ</dc:creator>
  <dc:description/>
  <dc:language>en-US</dc:language>
  <cp:lastModifiedBy>школа</cp:lastModifiedBy>
  <dcterms:modified xsi:type="dcterms:W3CDTF">2018-10-26T07:23:39Z</dcterms:modified>
  <cp:revision>10</cp:revision>
  <dc:subject>Восемь мгновений войны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