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694-AA7A-48B3-8384-6559D97C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177-C346-4BAF-9EE7-AD9568AB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FFE-1530-4C86-A141-F40F9FBE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A1A-40C6-44C1-AE5A-7EBADFDB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142-2295-4263-8BE7-D0FC880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242-0F5C-4247-ADF7-C5D82193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018-1DA8-40B1-91AA-D57B5065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EC9-BD6A-49A8-AC8E-4E05178B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AAD-9F74-4429-BB25-6E9B9F79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144-8E36-42B6-922D-97BC0E6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23B-0D11-498E-B4D6-EDA8772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E0D-AA7A-426A-B42A-B509339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ABA-B43B-40A7-A41D-11F6FCF309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755640" y="1066680"/>
            <a:ext cx="6608880" cy="273060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1974960" y="4280040"/>
            <a:ext cx="5316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ловно по степени адаптации всех детей можно разделить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торая группа детей проходит более длительную адаптац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ериод несоответствия их поведения требованиям школы затягивается: дети не могут принять ситуацию обучения, общения с учителем, одноклассниками – они могут играть на уроках или выяснять отношения с товарищем, не реагируют на замечания учителя или их реакция – слезы, об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ловно по степени адаптации всех детей можно раз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етья группа – дети, у которых социально-психологическая адаптация связана со значительными трудност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мечаются негативные формы поведения, резкое проявление отрицательных эмоций. Часто они не осваивают учебную программу, для них характерны трудности в обучении письму, чтению, счету и т. п. Проблемы, накапливаясь, становятся комплекс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акторы школьной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тсутствие индив.подхода, своевременной помощи, неадекватность воспитательных ме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неблагоприятная материально-бытовая и эмоциональная ситуация в семье, алкоголизация родителей, заброшенность ребенка или наоборот, гиперопё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социа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егативное влияние окру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акторы школьной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социа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еформация общественных и нравственных идеалов, пропаганда насилия и вседозвол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мат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тяжелые хронические и физические заболев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сихические нарушения, патологическое протекание возрастных кризов , задержки психического развит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Хрон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успешнос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актике нередки случаи, когда трудности адаптации ребенка в школе связаны с ОТНОШЕНИЕМ родителей к школьной жизни и школьной успеваемости ребен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, с одной стороны, страх родителей перед школой, боязнь, что ребенку в школе будет плох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асения, что ребенок будет болеть, простужа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стороны, это ожидание от ребенка только очень высоких достижений и активное демонстрирование ему недовольства тем, что он не справляется, что чего-то не ум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чины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водящ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успеш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подготовленность ребенка к шк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вожность, сформированная в дошкольном возрасте под влиянием семейных отношений, семейных конфли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ышенные ожидания родител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Ух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я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гда ребенок сидит на уроке и в то же время как бы отсутствует, не слышит вопросы, не выполняет задания учителя. Это не связано с повышенной отвлекаемостью ребенка на посторонние предметы и занятия. Это уход в себя, в свой внутренний мир, фантазии. Такое бывает часто с детьми, которые не получают достаточного внимания, любви и заботы со стороны родителей, взросл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гативистск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монстративнос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на для детей с высокой потребностью во внимании со стороны окружающих, взрослых. Он нарушает общие нормы дисциплины. Взрослые наказывают, но парадоксальным образом: те формы обращения, которые взрослые используют для наказания, оказываются для ребенка поощрением. Истинное наказание - лишение внимани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бализ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таких детей высокий  уровнь развития речи и задержка мышления. Родители прилагают большие усилия, чтобы ребенок научился бойко и гладко говорить (стихи, сказки и т. д.). Те же виды деятельности, которые вносят основной вклад в умственное развитие оказываются на заднем плане. Мышление, особенно образное, отста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«Ребено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нится"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алобы. 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я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д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ватель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тивов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мотивация избегания неудач, неуспех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общая замедленность темпа деятельности, связанная с особенностями темперамен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http://moysoch2.ucoz.ru/logotip_stranic/Fgos.jpg"/>
          <p:cNvPicPr/>
          <p:nvPr/>
        </p:nvPicPr>
        <p:blipFill>
          <a:blip r:embed="rId1"/>
          <a:stretch/>
        </p:blipFill>
        <p:spPr>
          <a:xfrm rot="1298400">
            <a:off x="5727240" y="2529000"/>
            <a:ext cx="2301840" cy="2990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« Важнейшей задачей современной системы образования является формирование универс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учебных действий , обеспечива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школьникам умение учитьс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пособность к саморазвитию и самосовершенствованию. Все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достигается путем сознательног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активного присвоения учащими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оциального опыт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4" descr="http://varlamovo.ucoz.ru/risunci/standarty.gif"/>
          <p:cNvPicPr/>
          <p:nvPr/>
        </p:nvPicPr>
        <p:blipFill>
          <a:blip r:embed="rId2"/>
          <a:stretch/>
        </p:blipFill>
        <p:spPr>
          <a:xfrm>
            <a:off x="1219320" y="380880"/>
            <a:ext cx="7162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5"/>
          <p:cNvSpPr/>
          <p:nvPr/>
        </p:nvSpPr>
        <p:spPr>
          <a:xfrm>
            <a:off x="3048120" y="685800"/>
            <a:ext cx="281916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режима школьной жизни первоклас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5867280" y="243828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внеурочной деятельности 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7"/>
          <p:cNvSpPr/>
          <p:nvPr/>
        </p:nvSpPr>
        <p:spPr>
          <a:xfrm>
            <a:off x="228600" y="243828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здоровительно-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8"/>
          <p:cNvSpPr/>
          <p:nvPr/>
        </p:nvSpPr>
        <p:spPr>
          <a:xfrm>
            <a:off x="4952880" y="457200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социально-психологической адаптации детей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9"/>
          <p:cNvSpPr/>
          <p:nvPr/>
        </p:nvSpPr>
        <p:spPr>
          <a:xfrm>
            <a:off x="1295280" y="457200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учебно- познавательной деятельности в адаптацион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0"/>
          <p:cNvSpPr/>
          <p:nvPr/>
        </p:nvSpPr>
        <p:spPr>
          <a:xfrm>
            <a:off x="3352680" y="2286000"/>
            <a:ext cx="2210040" cy="20574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ятельность педагогов для успешной адап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режима школьной жизни первокласс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упенчатый режим занятий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 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5-40 мин       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год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лугод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нтябрь-октябрь по 3 урока (35 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я проводят дых гимнастику, физминутки для                       снятия напряжения с мышц спины , конечност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ных мышц, на укрепление мелкой мотор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Соединительная линия уступом 4"/>
          <p:cNvCxnSpPr/>
          <p:nvPr/>
        </p:nvCxnSpPr>
        <p:spPr>
          <a:xfrm flipV="1">
            <a:off x="4038480" y="1904400"/>
            <a:ext cx="4579200" cy="616680"/>
          </a:xfrm>
          <a:prstGeom prst="bentConnector3">
            <a:avLst>
              <a:gd name="adj1" fmla="val 49996"/>
            </a:avLst>
          </a:prstGeom>
          <a:ln w="57240">
            <a:solidFill>
              <a:srgbClr val="d34412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а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лективная                     индивидуа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ов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4"/>
          <p:cNvSpPr/>
          <p:nvPr/>
        </p:nvSpPr>
        <p:spPr>
          <a:xfrm>
            <a:off x="2666880" y="1523880"/>
            <a:ext cx="106704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6"/>
          <p:cNvCxnSpPr/>
          <p:nvPr/>
        </p:nvCxnSpPr>
        <p:spPr>
          <a:xfrm flipH="1">
            <a:off x="2285280" y="1675440"/>
            <a:ext cx="2134440" cy="16009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triangle" w="med"/>
          </a:ln>
        </p:spPr>
      </p:cxnSp>
      <p:cxnSp>
        <p:nvCxnSpPr>
          <p:cNvPr id="102" name="Прямая со стрелкой 8"/>
          <p:cNvCxnSpPr/>
          <p:nvPr/>
        </p:nvCxnSpPr>
        <p:spPr>
          <a:xfrm flipH="1">
            <a:off x="4495320" y="1676520"/>
            <a:ext cx="610560" cy="22867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triangle" w="med"/>
          </a:ln>
        </p:spPr>
      </p:cxnSp>
      <p:cxnSp>
        <p:nvCxnSpPr>
          <p:cNvPr id="103" name="Прямая со стрелкой 10"/>
          <p:cNvCxnSpPr/>
          <p:nvPr/>
        </p:nvCxnSpPr>
        <p:spPr>
          <a:xfrm>
            <a:off x="6552000" y="1752120"/>
            <a:ext cx="839160" cy="16009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зотметочное обуч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цель безотметочного обучения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и развить оценочную деятельность детей, сделать педагогический процесс гуманным и направленным на развитие личности ребенка. Это обучение на содержательно-оценочной основ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безотметочного обуч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оорвьесберегающ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пирается на технологию педагогической поддержки, основывается на эмоционально доброжелательном фоне оцени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вязана с развитием адекватной самооценки, которая способствует успешной адапт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амичес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вязана с формированием целостного понятия об оцено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зотметоч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ЛАСС:   САМООЦЕНКА УЧЕНИКА ПРЕДШЕСТВУЕТ ОЦЕНКЕ  УЧИТЕЛ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овместимость этих двух оценок становится предметом обсу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нно с первого класса важно научить ребёнка сравнивать себя с собой. Оценивать свои личные дост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лшебные линее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кущу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ценку учебных достижений мож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ксировать с помощью особых условных шкал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олшебных линеечек». После решения люб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бной задачи я предлагаю ученику на поля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ертить шкалу и оценить себя по тем или ины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итериям с помощью специального значка «х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крестика), по определённым критерия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А – аккуратность, П – правильнос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– старание, Т – трудность). После провер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ую же работу проделывает и сам учител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я согласна с мнением ученика, то я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вожу крестик в красный кружок. Если, н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гласна, ставлю на шкале свою отметку выш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ли ниже. Затем в беседе с учащимся выясня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ы расхождения оценок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флексив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лекс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умение размышлять, заниматься самонаблюдением, самоанализ, осмысление, оценка предпосылок, условий и результатов собственной деятельности, внутренне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ё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просто уйти с урока с зафиксированным результатом, а выстроить смысловую цепочку, сравнить способы и методы, применяемые другими со свои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флексии настроения и эмоционального состоя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лексии настроения и эмоционального состоя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целесообразно в начале урока с целью установления эмоционального контакта с группой, так  и в конце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6" descr=""/>
          <p:cNvPicPr/>
          <p:nvPr/>
        </p:nvPicPr>
        <p:blipFill>
          <a:blip r:embed="rId1"/>
          <a:stretch/>
        </p:blipFill>
        <p:spPr>
          <a:xfrm>
            <a:off x="4191120" y="342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ефлексия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ет возможность осмысления способ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емов работы с учебным материал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иска наиболее рациональных. Примен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го вида рефлексии в конце урока да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оценить активность кажд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азных этапах урока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к помещает человечка (себя)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ющую ступеньку: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ерен в своих знан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сновном уве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ужно ещё повтор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уждаюсь в помощи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200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а родительской помощи в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эмоциональной поддержке ребе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рганизации максимальной самостоятельности действий (организация рабочего места, места для игры, подготовка одежды, портфеля к завтрашнему дню, в соблюдении режима дня, чтени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роработке правил для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 такое адаптация первокласс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Адаптация» - термин ввел А.Уберт (немецкий психолог), «</a:t>
            </a:r>
            <a:r>
              <a:rPr b="0" i="1" lang="en-US" sz="3200" spc="-1" strike="noStrike">
                <a:solidFill>
                  <a:srgbClr val="000066"/>
                </a:solidFill>
                <a:latin typeface="Book Antiqua"/>
              </a:rPr>
              <a:t>ada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66"/>
                </a:solidFill>
                <a:latin typeface="Book Antiqua"/>
              </a:rPr>
              <a:t>tatio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» - прилаживание, приспособ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аптация к школе – « перестройка познавательной, мотивационной и эмоционально-волевой сфер ребенка при переходе к систематическому организованному школьному обучению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( Коломинский Я.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ебно-позна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артовая психологическая и учебно-предметная диагност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психофизиологическую и интеллектуальную зрел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наличие учебных навыков у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индивидуально-личночностные особенности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состояние здоровь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семью, стратегию родительского 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зультаты диагностики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Эмоциональное состояние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Содержимое 6"/>
          <p:cNvGraphicFramePr/>
          <p:nvPr/>
        </p:nvGraphicFramePr>
        <p:xfrm>
          <a:off x="1528920" y="1981080"/>
          <a:ext cx="69292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981080"/>
                    <a:ext cx="69292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Отношение к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Адаптация к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08040" y="1530360"/>
          <a:ext cx="609624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530360"/>
                    <a:ext cx="609624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анализировав результаты диагностики первого класса, можно сказать, что большинство обучающихся адаптируются к школе в течении первой четверти. О успешной адаптации всего класса можно говорить по истечении первого полугод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ообще, адаптационный период в 1 классе не заканчивается, т.к. ребенок постоянно приспосабливается к различным условиям в течение всего периода обучения в школе. А наша задача ему в этом помоч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дачи школы перед ребенком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77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спешно овладеть учебной деятельность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воить школьные нормы повед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общиться к классному коллективу, приспособ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иды адаптации</a:t>
            </a:r>
            <a:br>
              <a:rPr sz="4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Дорожевец Т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952880" y="1676520"/>
            <a:ext cx="3316320" cy="6858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0320" y="1709640"/>
            <a:ext cx="3438360" cy="618840"/>
          </a:xfrm>
          <a:prstGeom prst="rect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ческ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971800" y="3979800"/>
            <a:ext cx="3200400" cy="6685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чно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6"/>
          <p:cNvSpPr/>
          <p:nvPr/>
        </p:nvSpPr>
        <p:spPr>
          <a:xfrm>
            <a:off x="560520" y="2514600"/>
            <a:ext cx="3352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изующая степень соответствия  поведения ребенка норма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2895480" y="4800600"/>
            <a:ext cx="335304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изующая уровень принятия ребенком себя  как представителя новой социальной об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8"/>
          <p:cNvSpPr/>
          <p:nvPr/>
        </p:nvSpPr>
        <p:spPr>
          <a:xfrm>
            <a:off x="4952880" y="2514600"/>
            <a:ext cx="3353040" cy="11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ажающая успешность вхождения ребенка в новую социальную груп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10"/>
          <p:cNvCxnSpPr/>
          <p:nvPr/>
        </p:nvCxnSpPr>
        <p:spPr>
          <a:xfrm>
            <a:off x="4419360" y="1371240"/>
            <a:ext cx="1080" cy="2608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2"/>
          <p:cNvCxnSpPr/>
          <p:nvPr/>
        </p:nvCxnSpPr>
        <p:spPr>
          <a:xfrm flipH="1">
            <a:off x="2971440" y="1371240"/>
            <a:ext cx="53424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4"/>
          <p:cNvCxnSpPr/>
          <p:nvPr/>
        </p:nvCxnSpPr>
        <p:spPr>
          <a:xfrm>
            <a:off x="5333760" y="1371240"/>
            <a:ext cx="5338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кадемическая 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иентировочный 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2-3 недели обучения получили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физиологической бури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т период дети тратят значительную часть ресурсов своего организма. Это объясняет тот факт, что в сентябре многие первоклассники болею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неустойчивое приспособ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рганизм ребенка находит приемлемые, близкие к оптимальным варианты реакций на новые условия. « Буря начинает затихать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осительно устойчивого приспособ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м реагирует на нагрузки с меньшим напряжение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циальная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психологическая)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дап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яется социальный статус бывшего малыша - появляется новая социальная роль "ученик". Можно считать это рождением социального "Я" ребенка. Что влечет за собой переоценку ценностей. То, что было значимым раньше, становится второстепенным, а то, что имеет отношение к учебе, становится более ценным. Развивающаяся способность к обобщению влекут за собой и обобщение переживаний. Таким образом, цепь неудач (в учебе, в общении) может привести к формированию устойчивого комплекса неполноценности и к заниженной самооце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словия социальной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яется социальная позиция    (Из дошкольника он превращается в ученика. У него появляются новые обяза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на ведущей деятельности (с игровой на учебную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яется социальное окружение(успешность адаптации зависит от отношения учителя, одноклассников, сверстни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держивание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ловно по степени адаптации всех детей можно разделить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4a3128"/>
                </a:solidFill>
                <a:uFillTx/>
                <a:latin typeface="Times New Roman"/>
              </a:rPr>
              <a:t>Первая группа детей адаптируется к школе в течение первых двух месяцев обучения.</a:t>
            </a:r>
            <a:r>
              <a:rPr b="0" lang="ru-RU" sz="2800" spc="-1" strike="noStrike" u="sng">
                <a:solidFill>
                  <a:srgbClr val="4a3128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a3128"/>
                </a:solidFill>
                <a:latin typeface="Times New Roman"/>
              </a:rPr>
              <a:t>За тот же период проходит и наиболее острая физиологическая адаптация. Эти дети относительно быстро осваиваются в новом коллективе, находят друзей, у них почти всегда хорошее настроение, они спокойны, доброжелательны, приветливы, хорошо общаются со сверстниками, выполняют школьные обязан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a3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Глазкова</cp:lastModifiedBy>
  <dcterms:modified xsi:type="dcterms:W3CDTF">2017-11-01T01:38:00Z</dcterms:modified>
  <cp:revision>82</cp:revision>
  <dc:subject/>
  <dc:title>Интерактивные  методы обучения</dc:title>
</cp:coreProperties>
</file>