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D6D-011C-4D43-8179-14C28AB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720-2551-4F22-8E74-C9C5FFFF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2EA-8455-4E4B-BC15-7C380075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655-FDC1-40A0-B224-DFEBE91F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3D06-42DE-49AB-9884-18A8C9D7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1FE-41D7-4C2C-A99D-C5E33CD2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FE4-2C2B-450E-880C-1077EC86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2210-1CC3-4F14-A15F-A75A6860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45FD-1A2F-458C-BD38-16F1D5FA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84E4-E8B4-424A-8B5A-FAA43E3E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8ACB-9A08-4585-828C-AA8CC38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066-5D30-41AF-BC61-D3E2EE4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1464-E75C-4778-AB26-7EC76F4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0C2F-213C-42FD-AA06-BA9BEB1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F4BC-C595-46C8-BD76-F33E9B90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3A1-EF99-48F0-8B7F-D834D052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37C-10AC-40A3-A73E-FF0D947C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B6A-6DE0-4990-9597-1AE3BEE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1F1-F4CD-4BD2-B195-A4CC183E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D53-FFE5-40EB-9B68-6F057A77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926-14D4-4C62-A73E-7A054C7F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6C3-92B8-45B0-A082-D7C64DEC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3BD-7260-4254-AF3D-586B92F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1C9-A8E5-4F37-A208-767EED3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B60E-145F-4310-9727-1893B51491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6477-72C7-4578-B97A-EE8D802E80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9;&#1089;&#1080;&#1103;" TargetMode="External"/><Relationship Id="rId2" Type="http://schemas.openxmlformats.org/officeDocument/2006/relationships/hyperlink" Target="http://ru.wikipedia.org/wiki/1998_&#1075;&#1086;&#1076;" TargetMode="External"/><Relationship Id="rId3" Type="http://schemas.openxmlformats.org/officeDocument/2006/relationships/hyperlink" Target="http://ru.wikipedia.org/wiki/&#1055;&#1088;&#1077;&#1079;&#1080;&#1076;&#1077;&#1085;&#1090;_&#1056;&#1086;&#1089;&#1089;&#1080;&#1080;" TargetMode="External"/><Relationship Id="rId4" Type="http://schemas.openxmlformats.org/officeDocument/2006/relationships/hyperlink" Target="http://ru.wikipedia.org/wiki/&#1041;&#1086;&#1088;&#1080;&#1089;_&#1053;&#1080;&#1082;&#1086;&#1083;&#1072;&#1077;&#1074;&#1080;&#1095;_&#1045;&#1083;&#1100;&#1094;&#1080;&#1085;" TargetMode="External"/><Relationship Id="rId5" Type="http://schemas.openxmlformats.org/officeDocument/2006/relationships/hyperlink" Target="http://ru.wikipedia.org/wiki/30_&#1103;&#1085;&#1074;&#1072;&#1088;&#1103;" TargetMode="External"/><Relationship Id="rId6" Type="http://schemas.openxmlformats.org/officeDocument/2006/relationships/hyperlink" Target="http://ru.wikipedia.org/wiki/&#1043;&#1086;&#1089;&#1091;&#1076;&#1072;&#1088;&#1089;&#1090;&#1074;&#1077;&#1085;&#1085;&#1072;&#1103;_&#1076;&#1091;&#1084;&#1072;" TargetMode="External"/><Relationship Id="rId7" Type="http://schemas.openxmlformats.org/officeDocument/2006/relationships/hyperlink" Target="http://bryansk032.ru/filesnews/2009_11_0_45_28.jpg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hyperlink" Target="http://ru.wikipedia.org/wiki/&#1042;&#1077;&#1083;&#1080;&#1082;&#1086;&#1073;&#1088;&#1080;&#1090;&#1072;&#1085;&#1080;&#1103;" TargetMode="External"/><Relationship Id="rId4" Type="http://schemas.openxmlformats.org/officeDocument/2006/relationships/hyperlink" Target="http://ru.wikipedia.org/wiki/&#1040;&#1085;&#1075;&#1083;&#1080;&#1081;&#1089;&#1082;&#1080;&#1081;_&#1103;&#1079;&#1099;&#1082;" TargetMode="External"/><Relationship Id="rId5" Type="http://schemas.openxmlformats.org/officeDocument/2006/relationships/hyperlink" Target="http://ru.wikipedia.org/wiki/&#1042;&#1077;&#1083;&#1080;&#1082;&#1080;&#1081;_&#1087;&#1086;&#1089;&#1090;" TargetMode="External"/><Relationship Id="rId6" Type="http://schemas.openxmlformats.org/officeDocument/2006/relationships/hyperlink" Target="http://ru.wikipedia.org/wiki/&#1057;&#1064;&#1040;" TargetMode="External"/><Relationship Id="rId7" Type="http://schemas.openxmlformats.org/officeDocument/2006/relationships/hyperlink" Target="http://ru.wikipedia.org/wiki/&#1055;&#1072;&#1094;&#1080;&#1092;&#1080;&#1079;&#1084;" TargetMode="External"/><Relationship Id="rId8" Type="http://schemas.openxmlformats.org/officeDocument/2006/relationships/hyperlink" Target="http://ru.wikipedia.org/wiki/1872_&#1075;&#1086;&#1076;" TargetMode="External"/><Relationship Id="rId9" Type="http://schemas.openxmlformats.org/officeDocument/2006/relationships/hyperlink" Target="http://ru.wikipedia.org/wiki/&#1057;&#1064;&#1040;" TargetMode="External"/><Relationship Id="rId10" Type="http://schemas.openxmlformats.org/officeDocument/2006/relationships/hyperlink" Target="http://ru.wikipedia.org/wiki/1907_&#1075;&#1086;&#1076;" TargetMode="External"/><Relationship Id="rId11" Type="http://schemas.openxmlformats.org/officeDocument/2006/relationships/hyperlink" Target="http://ru.wikipedia.org/wiki/&#1060;&#1080;&#1083;&#1072;&#1076;&#1077;&#1083;&#1100;&#1092;&#1080;&#1103;" TargetMode="External"/><Relationship Id="rId12" Type="http://schemas.openxmlformats.org/officeDocument/2006/relationships/hyperlink" Target="http://ru.wikipedia.org/wiki/1910_&#1075;&#1086;&#1076;" TargetMode="External"/><Relationship Id="rId13" Type="http://schemas.openxmlformats.org/officeDocument/2006/relationships/hyperlink" Target="http://ru.wikipedia.org/wiki/&#1042;&#1080;&#1088;&#1075;&#1080;&#1085;&#1080;&#1103;" TargetMode="External"/><Relationship Id="rId14" Type="http://schemas.openxmlformats.org/officeDocument/2006/relationships/hyperlink" Target="http://ru.wikipedia.org/wiki/1914_&#1075;&#1086;&#1076;" TargetMode="External"/><Relationship Id="rId15" Type="http://schemas.openxmlformats.org/officeDocument/2006/relationships/hyperlink" Target="http://ru.wikipedia.org/wiki/&#1055;&#1088;&#1077;&#1079;&#1080;&#1076;&#1077;&#1085;&#1090;_&#1057;&#1064;&#1040;" TargetMode="External"/><Relationship Id="rId16" Type="http://schemas.openxmlformats.org/officeDocument/2006/relationships/hyperlink" Target="http://ru.wikipedia.org/wiki/&#1042;&#1080;&#1083;&#1100;&#1089;&#1086;&#1085;,_&#1058;&#1086;&#1084;&#1072;&#1089;_&#1042;&#1091;&#1076;&#1088;&#1086;" TargetMode="External"/><Relationship Id="rId17" Type="http://schemas.openxmlformats.org/officeDocument/2006/relationships/hyperlink" Target="http://lunix.ucoz.ru/_nw/8/76119570.jpg" TargetMode="External"/><Relationship Id="rId18" Type="http://schemas.openxmlformats.org/officeDocument/2006/relationships/image" Target="../media/image3.jpeg"/><Relationship Id="rId19" Type="http://schemas.openxmlformats.org/officeDocument/2006/relationships/hyperlink" Target="http://www.artivic.ru/_ph/43/2/552499369.jpg" TargetMode="External"/><Relationship Id="rId20" Type="http://schemas.openxmlformats.org/officeDocument/2006/relationships/image" Target="../media/image4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1/4/8/9/148919/131020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36/17/36017948_denmateriprazd_1m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ама…Первое слов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:\Documents and Settings\Admin\Рабочий стол\анимации\ани\1235392242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8"/>
          <p:cNvSpPr/>
          <p:nvPr/>
        </p:nvSpPr>
        <p:spPr>
          <a:xfrm>
            <a:off x="2286000" y="1143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лон вам, мамы дороги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 нелегкий, нужный труд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сех детей, что вы взрасти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ех, что скоро подрасту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у ласку и в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искренность и простот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мужество и по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чуткость, нежность, добр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История праздни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России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праздник День матери учреждён в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998 году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. В соответствии с Указом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Президента России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Б. Н. Ельцина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от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30 января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1998 года № 120 «О Дне матери» праздник День матери отмечается в последнее ноябрьское воскресенье. Инициатива учреждения этого праздника принадлежит Комитету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Государственной Думы</a:t>
            </a: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 по делам женщин, семьи и молодёжи. Цель праздника — поддержать традиции бережного отношения к женщине, закрепить семейные устои, особо отметить значение в нашей жизни главного человека —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артинка 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2643120"/>
            <a:ext cx="2241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С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XVII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о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XIX век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Великобритан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тмечалось так называемое «Материнское воскресенье» (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англ.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Mothering Sunday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) — четвёртое воскресенье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Великого пост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посвящённое чествованию матерей по все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ень матери впервые публично был поддержан известной американской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пацифисткой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жулией Уорд Хоув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1872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. «День матери» по версии Джулии Уорд — день единства матерей в борьбе за мир во всём мире. Концепция Джулии Уорд не нашла широкой поддержки ни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ни в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1907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американка Анна Джарвис из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Филадельф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ыступила с инициативой чествования матерей в память о своей матери. Анна написала письма в государственные учреждения, законодательные органы и выдающимся лицам с предложением один день в году посвятить чествованию матерей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1910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штат Виргиния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ервый признал День Матери официальным праздником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1914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президент 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Вудро Вильсон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бъявил второе воскресенье мая национальным праздником в честь всех американских мат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артинка 8 из 6400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867280" y="5157720"/>
            <a:ext cx="2087640" cy="158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11 из 6400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71920" y="5143680"/>
            <a:ext cx="210672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«Материнское воскрес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ване – в первый день в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ЮАР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тве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реции – 9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Украин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Эсто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США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На Мальт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Да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Финлянд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ермании -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Картинка 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24200"/>
            <a:ext cx="26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73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т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Турц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встр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Япон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ьг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Норвегии -  во второе  воскресенье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Швеции – 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о Франции –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льше –  26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Картинка 1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9960" y="3860640"/>
            <a:ext cx="19940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оруссии – 14 ок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гентине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ндии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спании – 8-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ртугалии – 8-о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Сербии – в дека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Узбекистане 8 марта отмечают как День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мении – 7 апреля отмечают День материнства и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России – в четвертое воскресенье но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артинка 22 из 64000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Официальный праздник</a:t>
            </a:r>
            <a:r>
              <a:rPr b="1" lang="ru-RU" sz="3800" spc="-1" strike="noStrike">
                <a:solidFill>
                  <a:srgbClr val="0000e5"/>
                </a:solidFill>
                <a:latin typeface="Arial"/>
              </a:rPr>
              <a:t>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 января 1998 года N 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УКАЗ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О ДНЕ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целях повышения социальной значимости материнства постановля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1. Установить праздник - День матери и отмечать его в последнее воскресенье ноя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2. Настоящий Указ вступает в силу со дня его официального опублик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Б. ЕЛЬ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осква, Кремль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 января 1998 года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N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Картинка 32 из 64000"/>
          <p:cNvPicPr/>
          <p:nvPr/>
        </p:nvPicPr>
        <p:blipFill>
          <a:blip r:embed="rId1"/>
          <a:stretch/>
        </p:blipFill>
        <p:spPr>
          <a:xfrm>
            <a:off x="6500880" y="0"/>
            <a:ext cx="2300400" cy="22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51841048_62630"/>
          <p:cNvPicPr/>
          <p:nvPr/>
        </p:nvPicPr>
        <p:blipFill>
          <a:blip r:embed="rId2"/>
          <a:srcRect l="0" t="36965" r="29417" b="0"/>
          <a:stretch/>
        </p:blipFill>
        <p:spPr>
          <a:xfrm>
            <a:off x="4071960" y="4071960"/>
            <a:ext cx="4714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Картинка 27 из 64000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7:06:04Z</dcterms:created>
  <dc:creator>Визгалина М. Н.</dc:creator>
  <dc:description/>
  <dc:language>en-US</dc:language>
  <cp:lastModifiedBy>Admin</cp:lastModifiedBy>
  <dcterms:modified xsi:type="dcterms:W3CDTF">2010-11-25T12:51:57Z</dcterms:modified>
  <cp:revision>3</cp:revision>
  <dc:subject/>
  <dc:title>Мама…Первое слово…</dc:title>
</cp:coreProperties>
</file>