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EE3D-7A96-41B2-82DC-742F95DF9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4524-07CB-43DE-BDD0-06FC0AA5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B03C-68FF-42D5-B2EE-487EC229D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2E5C-5CDD-4E4D-A2BC-B347A9D73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D2B3-35CA-43DE-A91E-A8DD0A09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EC9E-C06B-4CA1-97A3-CDCBF62F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8B85-B845-4D5B-9F14-74D6EE6A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EE5F-2264-4DCA-8F15-BD94962F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522D-9CC1-4FA0-ACCD-5DE241F6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A401-E3C0-4005-8F22-941DEEA5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981C-ABE8-4644-BFEC-F9F57532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0DB3-B94F-4C3B-B7CA-CD405FBB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5D35-F999-4DFD-990E-29D47793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8C2B-73E0-49EE-AFA0-C032D8F3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5302-39BA-40F4-9D68-8DB73D9D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4CF5-AC21-420A-8EE0-B643585CB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A2DE-8259-4487-BC2B-782514A38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2FA2-AB38-4B9A-A293-6ADF6B2F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15B6-42E3-4C18-8AD2-08FE6CFA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024A-393F-40A2-BDCF-01E026C2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7742-962B-414D-AFBF-3E91A8DA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1A7F-0598-44EC-9A29-7C1EB95F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B4F7-AAC7-400E-8D83-7A7C8807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8E72-9439-4E65-9ABA-2AF083D0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CF46-BDD4-4E98-8835-1B84D4D72F0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2EBB-4A8A-45FA-8C25-79130294E85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86;&#1089;&#1089;&#1080;&#1103;" TargetMode="External"/><Relationship Id="rId2" Type="http://schemas.openxmlformats.org/officeDocument/2006/relationships/hyperlink" Target="http://ru.wikipedia.org/wiki/1998_&#1075;&#1086;&#1076;" TargetMode="External"/><Relationship Id="rId3" Type="http://schemas.openxmlformats.org/officeDocument/2006/relationships/hyperlink" Target="http://ru.wikipedia.org/wiki/&#1055;&#1088;&#1077;&#1079;&#1080;&#1076;&#1077;&#1085;&#1090;_&#1056;&#1086;&#1089;&#1089;&#1080;&#1080;" TargetMode="External"/><Relationship Id="rId4" Type="http://schemas.openxmlformats.org/officeDocument/2006/relationships/hyperlink" Target="http://ru.wikipedia.org/wiki/&#1041;&#1086;&#1088;&#1080;&#1089;_&#1053;&#1080;&#1082;&#1086;&#1083;&#1072;&#1077;&#1074;&#1080;&#1095;_&#1045;&#1083;&#1100;&#1094;&#1080;&#1085;" TargetMode="External"/><Relationship Id="rId5" Type="http://schemas.openxmlformats.org/officeDocument/2006/relationships/hyperlink" Target="http://ru.wikipedia.org/wiki/30_&#1103;&#1085;&#1074;&#1072;&#1088;&#1103;" TargetMode="External"/><Relationship Id="rId6" Type="http://schemas.openxmlformats.org/officeDocument/2006/relationships/hyperlink" Target="http://ru.wikipedia.org/wiki/&#1043;&#1086;&#1089;&#1091;&#1076;&#1072;&#1088;&#1089;&#1090;&#1074;&#1077;&#1085;&#1085;&#1072;&#1103;_&#1076;&#1091;&#1084;&#1072;" TargetMode="External"/><Relationship Id="rId7" Type="http://schemas.openxmlformats.org/officeDocument/2006/relationships/hyperlink" Target="http://bryansk032.ru/filesnews/2009_11_0_45_28.jpg" TargetMode="External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VII" TargetMode="External"/><Relationship Id="rId2" Type="http://schemas.openxmlformats.org/officeDocument/2006/relationships/hyperlink" Target="http://ru.wikipedia.org/wiki/XIX_&#1074;&#1077;&#1082;" TargetMode="External"/><Relationship Id="rId3" Type="http://schemas.openxmlformats.org/officeDocument/2006/relationships/hyperlink" Target="http://ru.wikipedia.org/wiki/&#1042;&#1077;&#1083;&#1080;&#1082;&#1086;&#1073;&#1088;&#1080;&#1090;&#1072;&#1085;&#1080;&#1103;" TargetMode="External"/><Relationship Id="rId4" Type="http://schemas.openxmlformats.org/officeDocument/2006/relationships/hyperlink" Target="http://ru.wikipedia.org/wiki/&#1040;&#1085;&#1075;&#1083;&#1080;&#1081;&#1089;&#1082;&#1080;&#1081;_&#1103;&#1079;&#1099;&#1082;" TargetMode="External"/><Relationship Id="rId5" Type="http://schemas.openxmlformats.org/officeDocument/2006/relationships/hyperlink" Target="http://ru.wikipedia.org/wiki/&#1042;&#1077;&#1083;&#1080;&#1082;&#1080;&#1081;_&#1087;&#1086;&#1089;&#1090;" TargetMode="External"/><Relationship Id="rId6" Type="http://schemas.openxmlformats.org/officeDocument/2006/relationships/hyperlink" Target="http://ru.wikipedia.org/wiki/&#1057;&#1064;&#1040;" TargetMode="External"/><Relationship Id="rId7" Type="http://schemas.openxmlformats.org/officeDocument/2006/relationships/hyperlink" Target="http://ru.wikipedia.org/wiki/&#1055;&#1072;&#1094;&#1080;&#1092;&#1080;&#1079;&#1084;" TargetMode="External"/><Relationship Id="rId8" Type="http://schemas.openxmlformats.org/officeDocument/2006/relationships/hyperlink" Target="http://ru.wikipedia.org/wiki/1872_&#1075;&#1086;&#1076;" TargetMode="External"/><Relationship Id="rId9" Type="http://schemas.openxmlformats.org/officeDocument/2006/relationships/hyperlink" Target="http://ru.wikipedia.org/wiki/&#1057;&#1064;&#1040;" TargetMode="External"/><Relationship Id="rId10" Type="http://schemas.openxmlformats.org/officeDocument/2006/relationships/hyperlink" Target="http://ru.wikipedia.org/wiki/1907_&#1075;&#1086;&#1076;" TargetMode="External"/><Relationship Id="rId11" Type="http://schemas.openxmlformats.org/officeDocument/2006/relationships/hyperlink" Target="http://ru.wikipedia.org/wiki/&#1060;&#1080;&#1083;&#1072;&#1076;&#1077;&#1083;&#1100;&#1092;&#1080;&#1103;" TargetMode="External"/><Relationship Id="rId12" Type="http://schemas.openxmlformats.org/officeDocument/2006/relationships/hyperlink" Target="http://ru.wikipedia.org/wiki/1910_&#1075;&#1086;&#1076;" TargetMode="External"/><Relationship Id="rId13" Type="http://schemas.openxmlformats.org/officeDocument/2006/relationships/hyperlink" Target="http://ru.wikipedia.org/wiki/&#1042;&#1080;&#1088;&#1075;&#1080;&#1085;&#1080;&#1103;" TargetMode="External"/><Relationship Id="rId14" Type="http://schemas.openxmlformats.org/officeDocument/2006/relationships/hyperlink" Target="http://ru.wikipedia.org/wiki/1914_&#1075;&#1086;&#1076;" TargetMode="External"/><Relationship Id="rId15" Type="http://schemas.openxmlformats.org/officeDocument/2006/relationships/hyperlink" Target="http://ru.wikipedia.org/wiki/&#1055;&#1088;&#1077;&#1079;&#1080;&#1076;&#1077;&#1085;&#1090;_&#1057;&#1064;&#1040;" TargetMode="External"/><Relationship Id="rId16" Type="http://schemas.openxmlformats.org/officeDocument/2006/relationships/hyperlink" Target="http://ru.wikipedia.org/wiki/&#1042;&#1080;&#1083;&#1100;&#1089;&#1086;&#1085;,_&#1058;&#1086;&#1084;&#1072;&#1089;_&#1042;&#1091;&#1076;&#1088;&#1086;" TargetMode="External"/><Relationship Id="rId17" Type="http://schemas.openxmlformats.org/officeDocument/2006/relationships/hyperlink" Target="http://lunix.ucoz.ru/_nw/8/76119570.jpg" TargetMode="External"/><Relationship Id="rId18" Type="http://schemas.openxmlformats.org/officeDocument/2006/relationships/image" Target="../media/image3.jpeg"/><Relationship Id="rId19" Type="http://schemas.openxmlformats.org/officeDocument/2006/relationships/hyperlink" Target="http://www.artivic.ru/_ph/43/2/552499369.jpg" TargetMode="External"/><Relationship Id="rId20" Type="http://schemas.openxmlformats.org/officeDocument/2006/relationships/image" Target="../media/image4.jpeg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tatic.diary.ru/userdir/1/4/8/9/148919/13102031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0/36/17/36017948_denmateriprazd_1m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85880" y="12855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Мама…Первое слов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C:\Documents and Settings\Admin\Рабочий стол\анимации\ани\1235392242_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8"/>
          <p:cNvSpPr/>
          <p:nvPr/>
        </p:nvSpPr>
        <p:spPr>
          <a:xfrm>
            <a:off x="2286000" y="114300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клон вам, мамы дорогие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ваш нелегкий, нужный труд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всех детей, что вы взрастил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тех, что скоро подрастут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вашу ласку и вниманье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искренность и простоту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мужество и пониманье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чуткость, нежность, добр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00000"/>
                </a:solidFill>
                <a:latin typeface="Arial"/>
              </a:rPr>
              <a:t>История праздника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1308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В </a:t>
            </a:r>
            <a:r>
              <a:rPr b="0" lang="ru-RU" sz="20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России</a:t>
            </a: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 праздник День матери учреждён в </a:t>
            </a:r>
            <a:r>
              <a:rPr b="0" lang="ru-RU" sz="20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1998 году</a:t>
            </a: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. В соответствии с Указом </a:t>
            </a:r>
            <a:r>
              <a:rPr b="0" lang="ru-RU" sz="20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Президента России</a:t>
            </a: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Б. Н. Ельцина</a:t>
            </a: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 от </a:t>
            </a:r>
            <a:r>
              <a:rPr b="0" lang="ru-RU" sz="20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30 января</a:t>
            </a: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 1998 года № 120 «О Дне матери» праздник День матери отмечается в последнее ноябрьское воскресенье. Инициатива учреждения этого праздника принадлежит Комитету </a:t>
            </a:r>
            <a:r>
              <a:rPr b="0" lang="ru-RU" sz="20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Государственной Думы</a:t>
            </a: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 по делам женщин, семьи и молодёжи. Цель праздника — поддержать традиции бережного отношения к женщине, закрепить семейные устои, особо отметить значение в нашей жизни главного человека — Мат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Картинка 5 из 6400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72160" y="2643120"/>
            <a:ext cx="224172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С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XVII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 по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XIX век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 в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Великобритании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 отмечалось так называемое «Материнское воскресенье» (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англ.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e5"/>
                </a:solidFill>
                <a:latin typeface="Arial"/>
              </a:rPr>
              <a:t>Mothering Sunday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) — четвёртое воскресенье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Великого поста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, посвящённое чествованию матерей по всей стр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В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США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 День матери впервые публично был поддержан известной американской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7"/>
              </a:rPr>
              <a:t>пацифисткой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 Джулией Уорд Хоув в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8"/>
              </a:rPr>
              <a:t>1872 году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. «День матери» по версии Джулии Уорд — день единства матерей в борьбе за мир во всём мире. Концепция Джулии Уорд не нашла широкой поддержки ни в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9"/>
              </a:rPr>
              <a:t>США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, ни в других стра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В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10"/>
              </a:rPr>
              <a:t>1907 году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 американка Анна Джарвис из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11"/>
              </a:rPr>
              <a:t>Филадельфии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 выступила с инициативой чествования матерей в память о своей матери. Анна написала письма в государственные учреждения, законодательные органы и выдающимся лицам с предложением один день в году посвятить чествованию матерей. В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12"/>
              </a:rPr>
              <a:t>1910 году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13"/>
              </a:rPr>
              <a:t>штат Виргиния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 первый признал День Матери официальным праздником. В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14"/>
              </a:rPr>
              <a:t>1914 году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15"/>
              </a:rPr>
              <a:t>президент США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16"/>
              </a:rPr>
              <a:t>Вудро Вильсон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 объявил второе воскресенье мая национальным праздником в честь всех американских матер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Картинка 8 из 64000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867280" y="5157720"/>
            <a:ext cx="2087640" cy="1587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Картинка 11 из 64000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571920" y="5143680"/>
            <a:ext cx="2106720" cy="14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00000"/>
                </a:solidFill>
                <a:latin typeface="Arial"/>
              </a:rPr>
              <a:t>«Материнское воскресенье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6707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В Ливане – в первый день вес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В ЮАР – в первое воскресенье м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В Литве – в первое воскресенье м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В Греции – 9 м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В Украине – во второе воскресенье м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В Эстонии – во второе воскресенье м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В США – во второе воскресенье м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На Мальте – во второе воскресенье м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В Дании – во второе воскресенье м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В Финляндии – во второе воскресенье м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В Германии - во второе воскресенье м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Картинка 9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1924200"/>
            <a:ext cx="2627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7380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Италии - во второе воскресенье м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Турции - во второе воскресенье м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Австралии - во второе воскресенье м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Японии - во второе воскресенье м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Бельгии - во второе воскресенье м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Норвегии -  во второе  воскресенье февра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Швеции – в последнее воскресенье м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о Франции –в последнее воскресенье м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Польше –  26 м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Картинка 18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9960" y="3860640"/>
            <a:ext cx="19940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Белоруссии – 14 октяб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Аргентине – в октяб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Индии – в октяб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Испании – 8-го декаб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Португалии – 8-ого декаб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Сербии – в декаб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Узбекистане 8 марта отмечают как День Мате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Армении – 7 апреля отмечают День материнства и крас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России – в четвертое воскресенье нояб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Картинка 22 из 64000"/>
          <p:cNvPicPr/>
          <p:nvPr/>
        </p:nvPicPr>
        <p:blipFill>
          <a:blip r:embed="rId1"/>
          <a:stretch/>
        </p:blipFill>
        <p:spPr>
          <a:xfrm>
            <a:off x="5651640" y="1628640"/>
            <a:ext cx="2808000" cy="22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00000"/>
                </a:solidFill>
                <a:latin typeface="Arial"/>
              </a:rPr>
              <a:t>Официальный праздник</a:t>
            </a:r>
            <a:r>
              <a:rPr b="1" lang="ru-RU" sz="3800" spc="-1" strike="noStrike">
                <a:solidFill>
                  <a:srgbClr val="0000e5"/>
                </a:solidFill>
                <a:latin typeface="Arial"/>
              </a:rPr>
              <a:t>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5840" y="13572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30 января 1998 года N 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УКАЗ</a:t>
            </a:r>
            <a:br>
              <a:rPr sz="2000"/>
            </a:b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ПРЕЗИДЕНТА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О ДНЕ МАТ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В целях повышения социальной значимости материнства постановля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1. Установить праздник - День матери и отмечать его в последнее воскресенье нояб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2. Настоящий Указ вступает в силу со дня его официального опублик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Президент</a:t>
            </a:r>
            <a:br>
              <a:rPr sz="2000"/>
            </a:b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Российской Федерации</a:t>
            </a:r>
            <a:br>
              <a:rPr sz="2000"/>
            </a:b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Б. ЕЛЬЦ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Москва, Кремль</a:t>
            </a:r>
            <a:br>
              <a:rPr sz="2000"/>
            </a:b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30 января 1998 года</a:t>
            </a:r>
            <a:br>
              <a:rPr sz="2000"/>
            </a:b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N 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Картинка 32 из 64000"/>
          <p:cNvPicPr/>
          <p:nvPr/>
        </p:nvPicPr>
        <p:blipFill>
          <a:blip r:embed="rId1"/>
          <a:stretch/>
        </p:blipFill>
        <p:spPr>
          <a:xfrm>
            <a:off x="6500880" y="0"/>
            <a:ext cx="2300400" cy="2214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51841048_62630"/>
          <p:cNvPicPr/>
          <p:nvPr/>
        </p:nvPicPr>
        <p:blipFill>
          <a:blip r:embed="rId2"/>
          <a:srcRect l="0" t="36965" r="29417" b="0"/>
          <a:stretch/>
        </p:blipFill>
        <p:spPr>
          <a:xfrm>
            <a:off x="4071960" y="4071960"/>
            <a:ext cx="4714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Картинка 27 из 64000"/>
          <p:cNvPicPr/>
          <p:nvPr/>
        </p:nvPicPr>
        <p:blipFill>
          <a:blip r:embed="rId1"/>
          <a:stretch/>
        </p:blipFill>
        <p:spPr>
          <a:xfrm>
            <a:off x="0" y="193680"/>
            <a:ext cx="9144000" cy="66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07:06:04Z</dcterms:created>
  <dc:creator>Визгалина М. Н.</dc:creator>
  <dc:description/>
  <dc:language>en-US</dc:language>
  <cp:lastModifiedBy>Admin</cp:lastModifiedBy>
  <dcterms:modified xsi:type="dcterms:W3CDTF">2010-11-25T12:51:57Z</dcterms:modified>
  <cp:revision>3</cp:revision>
  <dc:subject/>
  <dc:title>Мама…Первое слово…</dc:title>
</cp:coreProperties>
</file>