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9C9-99E2-4498-9D2C-F75E98FE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059-E09E-4DDB-A378-A601E7D8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7C8-6CB6-43A2-8785-BCEA20B4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F31-11B8-41D9-AEF4-076FB18F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F02-734B-47A1-A99D-B2BAC1DD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EC3-789C-42FA-9D6A-CCB54E5B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262-D26B-4055-8058-ED37C5EA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A6E-45AC-4994-B292-CCA3F3E7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ECF-EA42-4A2F-8A0A-5CE4DD40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EF2-40F5-477E-8267-3FA17C3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64F-E8C7-4E98-955A-5B42E04D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6F4-6875-408B-AC0F-BC95F944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8183-64B2-4115-8E17-7504C5676068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ные катастро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544464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икова Алекса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ратина Н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-11059"/>
          <p:cNvPicPr/>
          <p:nvPr/>
        </p:nvPicPr>
        <p:blipFill>
          <a:blip r:embed="rId1"/>
          <a:stretch/>
        </p:blipFill>
        <p:spPr>
          <a:xfrm>
            <a:off x="539640" y="907920"/>
            <a:ext cx="7848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ун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18"/>
          <p:cNvSpPr/>
          <p:nvPr/>
        </p:nvSpPr>
        <p:spPr>
          <a:xfrm>
            <a:off x="3659040" y="145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20" descr="tsunami_Indonesia_2004_00"/>
          <p:cNvPicPr/>
          <p:nvPr/>
        </p:nvPicPr>
        <p:blipFill>
          <a:blip r:embed="rId1"/>
          <a:stretch/>
        </p:blipFill>
        <p:spPr>
          <a:xfrm>
            <a:off x="2268360" y="1268280"/>
            <a:ext cx="4716720" cy="2810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1"/>
          <p:cNvSpPr/>
          <p:nvPr/>
        </p:nvSpPr>
        <p:spPr>
          <a:xfrm>
            <a:off x="0" y="4005360"/>
            <a:ext cx="9144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ун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громная волна которая сносит города,сёла и разрушает всё на своём пути.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Причиной большинства цунами являются подводные землетряс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я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во время которых происходит резкое смещение (поднятие или опускание) участка мор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д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63518461287"/>
          <p:cNvPicPr/>
          <p:nvPr/>
        </p:nvPicPr>
        <p:blipFill>
          <a:blip r:embed="rId1"/>
          <a:stretch/>
        </p:blipFill>
        <p:spPr>
          <a:xfrm>
            <a:off x="1403280" y="1341360"/>
            <a:ext cx="6481800" cy="3024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5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755640" y="4437000"/>
            <a:ext cx="8278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Землетрясе́ния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 — подземные толчки и колебания поверх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емли, вызванные естественными причинами (главным образом тектоническими процессам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789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ржение вулк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Etna_1997"/>
          <p:cNvPicPr/>
          <p:nvPr/>
        </p:nvPicPr>
        <p:blipFill>
          <a:blip r:embed="rId1"/>
          <a:stretch/>
        </p:blipFill>
        <p:spPr>
          <a:xfrm>
            <a:off x="1547640" y="1125360"/>
            <a:ext cx="6193080" cy="3819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611280" y="501336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Извержение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вулкана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— процесс выброса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вулканом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на земную поверхность раскалённых обломков, пепла, излияние маг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расплавленная огненно-жидкая ма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которая, излившись 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поверхность, становится ла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р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55640" y="4437000"/>
            <a:ext cx="8278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1zc0m0l"/>
          <p:cNvPicPr/>
          <p:nvPr/>
        </p:nvPicPr>
        <p:blipFill>
          <a:blip r:embed="rId1"/>
          <a:stretch/>
        </p:blipFill>
        <p:spPr>
          <a:xfrm>
            <a:off x="2050920" y="1341360"/>
            <a:ext cx="4969080" cy="3025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"/>
          <p:cNvSpPr/>
          <p:nvPr/>
        </p:nvSpPr>
        <p:spPr>
          <a:xfrm>
            <a:off x="826920" y="4588560"/>
            <a:ext cx="789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Смерч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торна́до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) — атмосферный вихрь, возникающий в грозовом облаке и распространяющийся вниз, часто до самой поверхности земли, в виде облачного рукава или хобота диаметром в десятки и сотни мет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755640" y="4437000"/>
            <a:ext cx="8278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826920" y="4740840"/>
            <a:ext cx="789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Сель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пото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язи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камней и обломков горных пор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внезапно возникающий в бассейнах небольших горных р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вызванный ливневыми осадками или бурным таянием сне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i?id=60f20d502e660d79bc9a8943b9894ff2&amp;n=33&amp;h=190&amp;w=271"/>
          <p:cNvPicPr/>
          <p:nvPr/>
        </p:nvPicPr>
        <p:blipFill>
          <a:blip r:embed="rId1"/>
          <a:stretch/>
        </p:blipFill>
        <p:spPr>
          <a:xfrm>
            <a:off x="2195640" y="1484280"/>
            <a:ext cx="4680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вод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755640" y="4437000"/>
            <a:ext cx="8278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13401579-essay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3927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1042920" y="55155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Наводне́ние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повышение уровня воды в водоём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реке) и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затопление территории земли вод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755640" y="4437000"/>
            <a:ext cx="8278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45_0"/>
          <p:cNvPicPr/>
          <p:nvPr/>
        </p:nvPicPr>
        <p:blipFill>
          <a:blip r:embed="rId1"/>
          <a:stretch/>
        </p:blipFill>
        <p:spPr>
          <a:xfrm>
            <a:off x="2124000" y="1268280"/>
            <a:ext cx="4948200" cy="3711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2"/>
          <p:cNvSpPr/>
          <p:nvPr/>
        </p:nvSpPr>
        <p:spPr>
          <a:xfrm>
            <a:off x="1332000" y="76428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19:59:15Z</dcterms:created>
  <dc:creator>petnat07</dc:creator>
  <dc:description/>
  <dc:language>en-US</dc:language>
  <cp:lastModifiedBy>Anton</cp:lastModifiedBy>
  <dcterms:modified xsi:type="dcterms:W3CDTF">2018-11-05T11:37:33Z</dcterms:modified>
  <cp:revision>13</cp:revision>
  <dc:subject/>
  <dc:title>кроссворд</dc:title>
</cp:coreProperties>
</file>