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D74-AD72-4880-888D-F06139A4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F78-8C86-4CF6-802D-4A24FBE7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E65-DD14-461D-B797-C45C7DCD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038-BC1A-42B9-935B-627E4891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67E3-F546-499A-B86A-10598FE6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892-0457-4DA8-84E5-15074BB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C33D-3441-4AD7-90E9-ABF4F12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F81B-447C-4EA5-96A0-E41DC15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3AA-553B-45C5-A6E7-7679154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75E8-7A9C-4319-920C-EAA6F0A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63C0-E1E0-447F-8275-577C9B6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593-3294-4839-8B22-D098405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C6D-E2F6-4AFF-A85B-F6F38EA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355E-0EA6-479D-97D5-3473400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7866-38C0-4B25-B58C-A02C386C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B33-EC81-4CA2-9103-94C43CB4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777-CE4E-4F53-9347-EEE136F6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0FD-2C2C-4A15-A620-0ED65FF4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AE2-1788-452E-A52A-D0CF367B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5AA-0499-4C1A-98A4-994BB0D1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720-7260-46CB-9B45-5BC4EEF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B9F-274B-4F7A-836F-1A5C433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270-A63C-4B93-ADA2-E191A74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B78-440F-4645-BC2B-BBB01BB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654-73E6-4870-BAEA-C873BBDA8D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280-A4C0-4D05-9F7D-454C30015D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55812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605a"/>
                </a:solidFill>
                <a:latin typeface="Arial"/>
              </a:rPr>
              <a:t>МУНИЦИПАЛЬНОЕ БЮДЖЕТНОЕ ОБРАЗОВАНИЕ ЦО №5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30605a"/>
                </a:solidFill>
                <a:latin typeface="Arial"/>
              </a:rPr>
              <a:t>ПРОЕКТ</a:t>
            </a:r>
            <a:br>
              <a:rPr sz="2000"/>
            </a:br>
            <a:br>
              <a:rPr sz="1400"/>
            </a:b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емейные реликвии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ЦО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Т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белевой П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Черныше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1649880" y="7164720"/>
            <a:ext cx="1531800" cy="358200"/>
            <a:chOff x="1649880" y="7164720"/>
            <a:chExt cx="1531800" cy="358200"/>
          </a:xfrm>
        </p:grpSpPr>
        <p:sp>
          <p:nvSpPr>
            <p:cNvPr id="195" name="AutoShape 6"/>
            <p:cNvSpPr/>
            <p:nvPr/>
          </p:nvSpPr>
          <p:spPr>
            <a:xfrm rot="21342000">
              <a:off x="1657800" y="7221240"/>
              <a:ext cx="1519200" cy="171000"/>
            </a:xfrm>
            <a:prstGeom prst="roundRect">
              <a:avLst>
                <a:gd name="adj" fmla="val 50000"/>
              </a:avLst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униципальное бюджетное образовательное учреждение ЦО №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 rot="21342000">
              <a:off x="1660320" y="7221960"/>
              <a:ext cx="1994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V="1">
              <a:off x="1663560" y="7302960"/>
              <a:ext cx="1442160" cy="108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9" descr="коллаж"/>
          <p:cNvPicPr/>
          <p:nvPr/>
        </p:nvPicPr>
        <p:blipFill>
          <a:blip r:embed="rId1"/>
          <a:stretch/>
        </p:blipFill>
        <p:spPr>
          <a:xfrm>
            <a:off x="1908000" y="2133720"/>
            <a:ext cx="489744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605a"/>
                </a:solidFill>
                <a:latin typeface="Arial"/>
              </a:rPr>
              <a:t>ПИСЬМА С ФРОНТА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0" name="Picture 4" descr="письммм"/>
          <p:cNvPicPr/>
          <p:nvPr/>
        </p:nvPicPr>
        <p:blipFill>
          <a:blip r:embed="rId1"/>
          <a:stretch/>
        </p:blipFill>
        <p:spPr>
          <a:xfrm>
            <a:off x="1160640" y="1598760"/>
            <a:ext cx="558936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СТАРИННЫЕ ОБРУЧАЛЬНЫЕ КОЛЬЦ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2" name="Picture 4" descr="латунь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НАША СТАРИННАЯ ЛОЖКА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Picture 4" descr="IMG_6886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ПРАДЕДУШКА СЕМЕН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6" name="Picture 4" descr="Семен Николаевич Кобелев"/>
          <p:cNvPicPr/>
          <p:nvPr/>
        </p:nvPicPr>
        <p:blipFill>
          <a:blip r:embed="rId1"/>
          <a:stretch/>
        </p:blipFill>
        <p:spPr>
          <a:xfrm>
            <a:off x="2268360" y="1268280"/>
            <a:ext cx="280836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ДЕДУШКА ГЕННАДИЙ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8" name="Picture 4" descr="Дед Гена"/>
          <p:cNvPicPr/>
          <p:nvPr/>
        </p:nvPicPr>
        <p:blipFill>
          <a:blip r:embed="rId1"/>
          <a:stretch/>
        </p:blipFill>
        <p:spPr>
          <a:xfrm>
            <a:off x="1979640" y="1773360"/>
            <a:ext cx="33843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ПАПА ВИКТОР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0" name="Picture 4" descr="Витя"/>
          <p:cNvPicPr/>
          <p:nvPr/>
        </p:nvPicPr>
        <p:blipFill>
          <a:blip r:embed="rId1"/>
          <a:stretch/>
        </p:blipFill>
        <p:spPr>
          <a:xfrm>
            <a:off x="2206800" y="1598760"/>
            <a:ext cx="350028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ОЙ БРАТ ГЕОРГИЙ КОБЕЛЕ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2" name="Picture 4" descr="Гошан"/>
          <p:cNvPicPr/>
          <p:nvPr/>
        </p:nvPicPr>
        <p:blipFill>
          <a:blip r:embed="rId1"/>
          <a:stretch/>
        </p:blipFill>
        <p:spPr>
          <a:xfrm>
            <a:off x="2411280" y="1052640"/>
            <a:ext cx="316872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МОЯ ЛОЖКА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4" name="Picture 4" descr="IMG_6887"/>
          <p:cNvPicPr/>
          <p:nvPr/>
        </p:nvPicPr>
        <p:blipFill>
          <a:blip r:embed="rId1"/>
          <a:stretch/>
        </p:blipFill>
        <p:spPr>
          <a:xfrm>
            <a:off x="1247760" y="1598760"/>
            <a:ext cx="541800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3T19:50:24Z</dcterms:created>
  <dc:creator>User</dc:creator>
  <dc:description/>
  <dc:language>en-US</dc:language>
  <cp:lastModifiedBy>Татьяна</cp:lastModifiedBy>
  <dcterms:modified xsi:type="dcterms:W3CDTF">2018-11-08T18:59:51Z</dcterms:modified>
  <cp:revision>23</cp:revision>
  <dc:subject/>
  <dc:title>Семейные реликвии</dc:title>
</cp:coreProperties>
</file>