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9A9-B5F7-431E-AB3F-C45BA8A9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633-690C-42EA-816E-BDB59604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7DD-18DE-4810-A049-E0AC75FD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8DB-8B95-4771-B797-7B5F545B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4770-E599-48D0-83F7-EA5BE809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C1FD-7A7B-4DE3-96D9-AE12D92A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B395-125B-4B86-9129-F0266841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01FE-7C9A-4E81-88B4-ECC0AF05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A584-7F9A-4864-99B1-FF474EBC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507F-2C09-415C-AEC7-923BD715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1F9C-86FF-440D-BBA8-AAB6A80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57E-600E-4AB1-A444-D7C4901B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4C5B-5140-4B65-AD76-C8E83F7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FC79-363A-4AC3-9BFE-D6DBD945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6D29-9301-41AB-99C1-050F8443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41C-A0A6-44DA-A854-44B2B6E3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DB49-67A7-4E2C-BFB6-0C843ED8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2E1-601C-4487-8688-1805F045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318-3DF7-4061-AA60-D8FBB4E4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438-7293-4BAD-8FF5-75AC399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DE9-BBE5-4767-9361-A5F085FD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5CD-D415-4E6E-AD7D-AB4CF93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BC2-6C5C-4D4F-BCB4-01335CBA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484-C026-4F8F-A17F-CDFA39C7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F009-E4B8-4633-B72B-9D9CE35B05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DC3C-4360-4917-9C4B-FA6984F28F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6558120" cy="20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605a"/>
                </a:solidFill>
                <a:latin typeface="Arial"/>
              </a:rPr>
              <a:t>МУНИЦИПАЛЬНОЕ БЮДЖЕТНОЕ ОБРАЗОВАНИЕ ЦО №5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30605a"/>
                </a:solidFill>
                <a:latin typeface="Arial"/>
              </a:rPr>
              <a:t>ПРОЕКТ</a:t>
            </a:r>
            <a:br>
              <a:rPr sz="2000"/>
            </a:br>
            <a:br>
              <a:rPr sz="1400"/>
            </a:b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емейные реликвии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ЦО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Т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белевой П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Черныше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1649880" y="7164720"/>
            <a:ext cx="1531800" cy="358200"/>
            <a:chOff x="1649880" y="7164720"/>
            <a:chExt cx="1531800" cy="358200"/>
          </a:xfrm>
        </p:grpSpPr>
        <p:sp>
          <p:nvSpPr>
            <p:cNvPr id="195" name="AutoShape 6"/>
            <p:cNvSpPr/>
            <p:nvPr/>
          </p:nvSpPr>
          <p:spPr>
            <a:xfrm rot="21342000">
              <a:off x="1657800" y="7221240"/>
              <a:ext cx="1519200" cy="171000"/>
            </a:xfrm>
            <a:prstGeom prst="roundRect">
              <a:avLst>
                <a:gd name="adj" fmla="val 50000"/>
              </a:avLst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униципальное бюджетное образовательное учреждение ЦО №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 rot="21342000">
              <a:off x="1660320" y="7221960"/>
              <a:ext cx="1994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V="1">
              <a:off x="1663560" y="7302960"/>
              <a:ext cx="1442160" cy="108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9" descr="коллаж"/>
          <p:cNvPicPr/>
          <p:nvPr/>
        </p:nvPicPr>
        <p:blipFill>
          <a:blip r:embed="rId1"/>
          <a:stretch/>
        </p:blipFill>
        <p:spPr>
          <a:xfrm>
            <a:off x="1908000" y="2133720"/>
            <a:ext cx="489744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605a"/>
                </a:solidFill>
                <a:latin typeface="Arial"/>
              </a:rPr>
              <a:t>ПИСЬМА С ФРОНТА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0" name="Picture 4" descr="письммм"/>
          <p:cNvPicPr/>
          <p:nvPr/>
        </p:nvPicPr>
        <p:blipFill>
          <a:blip r:embed="rId1"/>
          <a:stretch/>
        </p:blipFill>
        <p:spPr>
          <a:xfrm>
            <a:off x="1160640" y="1598760"/>
            <a:ext cx="558936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СТАРИННЫЕ ОБРУЧАЛЬНЫЕ КОЛЬЦ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2" name="Picture 4" descr="латунь"/>
          <p:cNvPicPr/>
          <p:nvPr/>
        </p:nvPicPr>
        <p:blipFill>
          <a:blip r:embed="rId1"/>
          <a:stretch/>
        </p:blipFill>
        <p:spPr>
          <a:xfrm>
            <a:off x="1247760" y="1598760"/>
            <a:ext cx="541800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НАША СТАРИННАЯ ЛОЖКА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4" name="Picture 4" descr="IMG_6886"/>
          <p:cNvPicPr/>
          <p:nvPr/>
        </p:nvPicPr>
        <p:blipFill>
          <a:blip r:embed="rId1"/>
          <a:stretch/>
        </p:blipFill>
        <p:spPr>
          <a:xfrm>
            <a:off x="1247760" y="1598760"/>
            <a:ext cx="541800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ОЙ ПРАДЕДУШКА СЕМЕН КОБЕЛЕ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6" name="Picture 4" descr="Семен Николаевич Кобелев"/>
          <p:cNvPicPr/>
          <p:nvPr/>
        </p:nvPicPr>
        <p:blipFill>
          <a:blip r:embed="rId1"/>
          <a:stretch/>
        </p:blipFill>
        <p:spPr>
          <a:xfrm>
            <a:off x="2268360" y="1268280"/>
            <a:ext cx="280836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ОЙ ДЕДУШКА ГЕННАДИЙ КОБЕЛЕ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8" name="Picture 4" descr="Дед Гена"/>
          <p:cNvPicPr/>
          <p:nvPr/>
        </p:nvPicPr>
        <p:blipFill>
          <a:blip r:embed="rId1"/>
          <a:stretch/>
        </p:blipFill>
        <p:spPr>
          <a:xfrm>
            <a:off x="1979640" y="1773360"/>
            <a:ext cx="33843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ОЙ ПАПА ВИКТОР КОБЕЛЕ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0" name="Picture 4" descr="Витя"/>
          <p:cNvPicPr/>
          <p:nvPr/>
        </p:nvPicPr>
        <p:blipFill>
          <a:blip r:embed="rId1"/>
          <a:stretch/>
        </p:blipFill>
        <p:spPr>
          <a:xfrm>
            <a:off x="2206800" y="1598760"/>
            <a:ext cx="350028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ОЙ БРАТ ГЕОРГИЙ КОБЕЛЕ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2" name="Picture 4" descr="Гошан"/>
          <p:cNvPicPr/>
          <p:nvPr/>
        </p:nvPicPr>
        <p:blipFill>
          <a:blip r:embed="rId1"/>
          <a:stretch/>
        </p:blipFill>
        <p:spPr>
          <a:xfrm>
            <a:off x="2411280" y="1052640"/>
            <a:ext cx="316872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МОЯ ЛОЖКА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4" name="Picture 4" descr="IMG_6887"/>
          <p:cNvPicPr/>
          <p:nvPr/>
        </p:nvPicPr>
        <p:blipFill>
          <a:blip r:embed="rId1"/>
          <a:stretch/>
        </p:blipFill>
        <p:spPr>
          <a:xfrm>
            <a:off x="1247760" y="1598760"/>
            <a:ext cx="541800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3T19:50:24Z</dcterms:created>
  <dc:creator>User</dc:creator>
  <dc:description/>
  <dc:language>en-US</dc:language>
  <cp:lastModifiedBy>Татьяна</cp:lastModifiedBy>
  <dcterms:modified xsi:type="dcterms:W3CDTF">2018-11-08T18:59:51Z</dcterms:modified>
  <cp:revision>23</cp:revision>
  <dc:subject/>
  <dc:title>Семейные реликвии</dc:title>
</cp:coreProperties>
</file>