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E24-0470-4D10-A962-F3F6DAF5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115-7FD8-4D80-96D8-768A12C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B12-395B-42EA-A3BC-25030228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568-5429-43BB-87FC-18AA593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90B4-690F-44CE-BA5B-2EEB4C4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AB25-44B1-4975-9C5D-B8E4773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5EC-9E29-4D2F-BB39-9B1B6E0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751-DDD0-46C0-8E92-EB310CD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64D0-B267-4D4D-B74A-9C56630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FDB9-F09E-4C13-9FF2-D71CF7C7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C4C-F909-489F-988B-0EE54AA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6F4-BAE6-40C3-B4FA-349A881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5E6-D122-43F4-B2C8-26349781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446F-FA0C-414B-8048-A4430E9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3C08-194F-48DE-90F2-D2C50FD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693-F83E-4951-996A-3F63E850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FB20-5751-486A-AA2E-110ACCD2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5D7B-1F9A-46D1-A797-A92C0564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2E7D-CF93-47C0-8B70-115833D0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B94D-E84C-4BFB-92AD-F8E895AB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4A17-4576-4D11-9827-8D4B71B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7307-D6D8-462C-8F0E-EEDD620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E34-56F4-41F0-BA2A-C9EA9C54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A8CA-DCE7-4653-9B6C-5651EA2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3160-6163-4786-8BC1-C3DBE34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7719-2919-4549-A771-4FB9D2C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D77E-FFD9-4CCE-AC05-EDE3B47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E548-3491-4D2F-B026-6A495CC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AD4A-7290-4B13-A91C-1CA26B13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D337-60D1-48C6-ADA3-C83B7DD8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2BD9-5717-47EB-A4A0-753A690B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852A-FCC1-4AD5-88FF-41B59297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077A-278D-4710-B477-BADE2E7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DF2-51C1-4B3A-A283-85636CC2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AC53-951D-471C-B28D-2521B49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4D90-3C36-4EFA-9B2D-2CC1791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4F62-8B0B-444C-A280-37CE327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38B5-87A9-4E13-A0CF-57BD2E7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B94F-0A65-4756-B1E9-88CB3E7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1DCC-62FB-42DB-B535-CCA69AA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CE14-284C-4074-8128-D33F5572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A6C7-37B8-46D4-9205-96CBD57E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D6E8-EA17-4B07-90B5-0CB3592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C73C-2708-45AD-A30C-1DB0D572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884-F6A1-4BD4-BAFE-2998124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CC66-19F9-4BCB-899A-91565FF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66A4-88DE-48A0-9B05-55FB0B28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F0FA-3C65-4027-9885-6DA7894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02378-33A9-498D-85D6-0CA9D88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DD24-796E-4926-9A60-2B5CB3A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D368-6513-47F9-99B1-B2CED81E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4E940-EE8B-4178-A090-1BC236E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B0DC-D954-4429-928A-8B9BEE1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B1BE-0668-4A13-B601-9F96972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A71A-3EDA-41E7-B64D-6D4928BD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ACF-7818-4DCA-8613-1ED1A753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A867-CB85-480D-A6E0-E79CABE1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4A6-A967-43DC-A15C-8D47EA7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D7C-F39A-45AD-89FB-F33D410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CCE-FCE4-4B83-ABBA-21741E6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6AF-EF36-4C10-919D-EAA29499734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E42-D1DB-4C7F-9DF0-A80E0ACFC53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6FA-AF5C-4F92-BD10-F3689A99C7E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0EC-8173-48D5-BB14-0CAD4D11A68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557-4353-4A94-BFD5-005ED17F530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2" Type="http://schemas.openxmlformats.org/officeDocument/2006/relationships/hyperlink" Target="https://ru.wikipedia.org/wiki/&#1044;&#1086;&#1085;" TargetMode="External"/><Relationship Id="rId3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4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5" Type="http://schemas.openxmlformats.org/officeDocument/2006/relationships/hyperlink" Target="https://ru.wikipedia.org/wiki/&#1044;&#1086;&#1085;" TargetMode="External"/><Relationship Id="rId6" Type="http://schemas.openxmlformats.org/officeDocument/2006/relationships/hyperlink" Target="https://ru.wikipedia.org/wiki/&#1042;&#1086;&#1088;&#1086;&#1085;&#1077;&#1078;_(&#1088;&#1077;&#1082;&#1072;)" TargetMode="External"/><Relationship Id="rId7" Type="http://schemas.openxmlformats.org/officeDocument/2006/relationships/hyperlink" Target="https://ru.wikipedia.org/wiki/&#1044;&#1077;&#1074;&#1080;&#1094;&#1072;_(&#1074;&#1077;&#1088;&#1093;&#1085;&#1080;&#1081;_&#1087;&#1088;&#1080;&#1090;&#1086;&#1082;_&#1044;&#1086;&#1085;&#1072;)" TargetMode="External"/><Relationship Id="rId8" Type="http://schemas.openxmlformats.org/officeDocument/2006/relationships/hyperlink" Target="https://ru.wikipedia.org/wiki/&#1055;&#1086;&#1090;&#1091;&#1076;&#1072;&#1085;&#1100;_(&#1088;&#1077;&#1082;&#1072;)" TargetMode="External"/><Relationship Id="rId9" Type="http://schemas.openxmlformats.org/officeDocument/2006/relationships/hyperlink" Target="https://ru.wikipedia.org/wiki/&#1058;&#1080;&#1093;&#1072;&#1103;_&#1057;&#1086;&#1089;&#1085;&#1072;" TargetMode="External"/><Relationship Id="rId10" Type="http://schemas.openxmlformats.org/officeDocument/2006/relationships/hyperlink" Target="https://ru.wikipedia.org/wiki/&#1048;&#1082;&#1086;&#1088;&#1077;&#1094;_(&#1088;&#1077;&#1082;&#1072;)" TargetMode="External"/><Relationship Id="rId11" Type="http://schemas.openxmlformats.org/officeDocument/2006/relationships/hyperlink" Target="https://ru.wikipedia.org/wiki/&#1041;&#1080;&#1090;&#1102;&#1075;_(&#1088;&#1077;&#1082;&#1072;)" TargetMode="External"/><Relationship Id="rId12" Type="http://schemas.openxmlformats.org/officeDocument/2006/relationships/hyperlink" Target="https://ru.wikipedia.org/wiki/&#1063;&#1105;&#1088;&#1085;&#1072;&#1103;_&#1050;&#1072;&#1083;&#1080;&#1090;&#1074;&#1072;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500040" y="974880"/>
            <a:ext cx="8290080" cy="1884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Лушникова Т.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Поселковая СО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ерритории области обитают около 70 видов млекопитающих, 290 видов птиц, 9 видов пресмыкающихся, 10 видов земноводных, 55 видов рыб, 1 вид круглоротых (украинская минога) и более 10000 видов насекомых. Наиболее распространены из млекопитающих следующие виды:, лисица, кабан, лось, ласка, заяц-русак,европейский олень, бобр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822840" y="-6480"/>
            <a:ext cx="4924440" cy="1206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ерритории Воронежской области находятся два заповедника: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оронежский государственный природный биосферный заповедник и Хопёрский государственный природный заповед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bober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инерально-сырьевая база Воронежской области представлена месторождениями нерудного сырья, в основном строительными материалами (пески, глины, мел, граниты, цементное сырье, охра, известняк, песчаник), а также минеральных подземных во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568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icon_1377_view"/>
          <p:cNvPicPr/>
          <p:nvPr/>
        </p:nvPicPr>
        <p:blipFill>
          <a:blip r:embed="rId1"/>
          <a:srcRect l="26481" t="0" r="26481" b="4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6645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684360" y="333360"/>
            <a:ext cx="7848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ы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— это реки, озёра, пруды, водохранилища, болота и подземные воды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1628640"/>
            <a:ext cx="792000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Дон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— главная река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го ширина на территори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ет 50-80 м. Глубина 3-5 м. На территори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ротекают приток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Дон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Воронеж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Девиц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Потудан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Тихая Сосн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Икорец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Битюг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Чёрная Калитв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Толучеевка, Хопёр 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ето относительно жаркое, а зима умеренно-холодная. Погодный режим Воронежской области довольно неустойчив. Устойчивый снежный покров ложится в декабре, но бывают годы, когда он устанавливался в январе-феврале. Зимой случаются оттепели, которые часто сменяют морозы. Лето в Воронежской области часто бывает жарким. Нередки засухи: 2-3 года на 10 ле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6" descr="https://upload.wikimedia.org/wikipedia/commons/thumb/4/40/Poimennaya_dubrava.JPG/220px-Poimennaya_dubra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тительный покров Воронежской области отличается разнообразием. Территория области делится на северную лесостепную часть, где ранее преобладали разнотравно-луговые степи и широколиственные леса, и южную степную часть, с ковыльно-типчаковыми и ковыльными степя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los01f"/>
          <p:cNvPicPr/>
          <p:nvPr/>
        </p:nvPicPr>
        <p:blipFill>
          <a:blip r:embed="rId1"/>
          <a:srcRect l="0" t="0" r="0" b="5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5:23:44Z</dcterms:created>
  <dc:creator>Admin</dc:creator>
  <dc:description/>
  <dc:language>en-US</dc:language>
  <cp:lastModifiedBy>Admin</cp:lastModifiedBy>
  <dcterms:modified xsi:type="dcterms:W3CDTF">2018-11-08T16:32:31Z</dcterms:modified>
  <cp:revision>7</cp:revision>
  <dc:subject/>
  <dc:title>Наш край Воронежская область</dc:title>
</cp:coreProperties>
</file>