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16.png" ContentType="image/png"/>
  <Override PartName="/ppt/media/image15.jpeg" ContentType="image/jpeg"/>
  <Override PartName="/ppt/media/image14.png" ContentType="image/png"/>
  <Override PartName="/ppt/media/image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10.jpeg" ContentType="image/jpeg"/>
  <Override PartName="/ppt/media/image5.png" ContentType="image/png"/>
  <Override PartName="/ppt/media/image8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0DEC5-3D34-4D0B-9692-6B28639CD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C8929-B0E5-4E77-805D-4AC1B5B89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D7AA0-0B9D-4D47-A418-FB009E455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6898F-C853-4762-8113-C570F1EA4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D30CE-0919-4294-80B6-F37CB9EF6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84999-7E49-496F-AB78-096A815FE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55F3C-15DE-4B68-8DEC-BC24918AF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1D525-2E81-4E31-BD86-BCBE1A806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53392-BD52-4E24-B0F6-5C6D36186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3646C-64D1-4BED-92F4-FBF72A96A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E4566-5439-4F64-BA62-32B1C5CCB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714AB-898C-4FF8-AA24-7439C9A04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60699-BEE1-4120-ABD4-91439EFA1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D535B-B48C-4B69-8F40-27D125A22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A9C78-BB7E-43D3-A575-BB6EC89EE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AD613-FA3E-4AB0-AE6F-C20B4ACBE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07794-B84A-465C-9E3D-9DD28147A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E701B8-F80A-4F39-B820-D5CBAFCA2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6131BE-F1DC-43E4-A49D-880BE5CD4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8CEDFC-4471-469B-834D-4F3D97B39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C8D283-24DB-4B6D-ACA5-519E2D60F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CF9F0D-2CF7-410E-A68C-02AFB62BC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7D526-9CB9-4A09-9464-126EC95E7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8A68A6-0C90-4E62-94A9-B23AD1554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32F5D8-09E2-4602-B264-16421DCA0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93D2BF-62F9-44DD-A8DF-5A3DF9664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14E4B3-8BD6-4B6B-89E3-675522650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A12737-FD56-417B-9EE9-914413E5F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47DAE0-0F39-4C9D-87F3-0214661D5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5F6AF3-590D-44E1-BAAE-3062AABF6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7B309D-5888-4474-B181-B17A9F043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93924A-B524-42D7-9F30-2B34A0ADE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E34747-346A-4842-A5E4-06913461D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A51CD-FD8D-46EA-87F9-911322610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1079C4-2519-4AA8-8D8E-024FF5630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EBFC17-EEA9-4E07-8A69-C96CE7244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9BAB31-D37F-44D5-8FAD-25D0379EC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BA00F8-37B6-4C1F-A135-C693760FC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99A0BB-9318-41D9-A13E-2E9F86588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D10756-2AA8-453C-B951-19F371DD3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9B51EF-9DFD-4C82-835E-569DAA76E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4CF705-2A6A-444F-AA73-D64DB69C9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668012-9E90-4834-B88D-5032D538D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5BF072-CD33-406A-8D87-F1235CBCC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AD19E-7D07-4677-92D0-E70C3D375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30F2AC-489E-4461-8208-62055F020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73F182-89DD-4ADB-BBBA-806C438B1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E4CA67-D7AC-45E3-A524-56219918D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9D2F99-71B3-4669-A7B1-4A25DBC85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DA9DA3-FBD2-4393-895A-9F8E865F1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6CB5A7-E928-43E0-BCDE-F81AB7D60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38B11D-A78F-45A2-A0B1-2BB93165E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14D923-5F62-4F57-AA30-555711639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84D4A6-8731-48EF-8C03-4260B636C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3629DD-C2EE-416C-9F1A-766494812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26787-8C88-4A90-ACB8-FE1E08777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11D2D2-9678-4F8B-BB95-99D1843B5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100D5-C388-4F80-A2D9-0A0166B9B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F1EB3-3B4E-4D32-A7AF-DB96541F8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03338-8D1C-465F-A6B1-BC7606539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C523D-A2EB-402B-8A74-073EC5DE64CC}" type="slidenum">
              <a:rPr b="0" lang="ru-RU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D3B73-2ED6-4660-A63F-50EC160D5997}" type="slidenum">
              <a:rPr b="0" lang="ru-RU" sz="11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4717F-0A18-48F5-8B4D-A7C0640D3CB0}" type="slidenum">
              <a:rPr b="0" lang="ru-RU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4e7ed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F83E5-EB07-4069-8290-50B0DCD234EC}" type="slidenum">
              <a:rPr b="0" lang="ru-RU" sz="1100" spc="-1" strike="noStrike">
                <a:solidFill>
                  <a:srgbClr val="f4e7ed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638BF-A63E-462C-A637-EDA137391C49}" type="slidenum">
              <a:rPr b="0" lang="ru-RU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s://ru.wikipedia.org/wiki/&#1042;&#1086;&#1088;&#1086;&#1085;&#1077;&#1078;&#1089;&#1082;&#1072;&#1103;_&#1086;&#1073;&#1083;&#1072;&#1089;&#1090;&#1100;" TargetMode="External"/><Relationship Id="rId2" Type="http://schemas.openxmlformats.org/officeDocument/2006/relationships/hyperlink" Target="https://ru.wikipedia.org/wiki/&#1044;&#1086;&#1085;" TargetMode="External"/><Relationship Id="rId3" Type="http://schemas.openxmlformats.org/officeDocument/2006/relationships/hyperlink" Target="https://ru.wikipedia.org/wiki/&#1042;&#1086;&#1088;&#1086;&#1085;&#1077;&#1078;&#1089;&#1082;&#1072;&#1103;_&#1086;&#1073;&#1083;&#1072;&#1089;&#1090;&#1100;" TargetMode="External"/><Relationship Id="rId4" Type="http://schemas.openxmlformats.org/officeDocument/2006/relationships/hyperlink" Target="https://ru.wikipedia.org/wiki/&#1042;&#1086;&#1088;&#1086;&#1085;&#1077;&#1078;&#1089;&#1082;&#1072;&#1103;_&#1086;&#1073;&#1083;&#1072;&#1089;&#1090;&#1100;" TargetMode="External"/><Relationship Id="rId5" Type="http://schemas.openxmlformats.org/officeDocument/2006/relationships/hyperlink" Target="https://ru.wikipedia.org/wiki/&#1044;&#1086;&#1085;" TargetMode="External"/><Relationship Id="rId6" Type="http://schemas.openxmlformats.org/officeDocument/2006/relationships/hyperlink" Target="https://ru.wikipedia.org/wiki/&#1042;&#1086;&#1088;&#1086;&#1085;&#1077;&#1078;_(&#1088;&#1077;&#1082;&#1072;)" TargetMode="External"/><Relationship Id="rId7" Type="http://schemas.openxmlformats.org/officeDocument/2006/relationships/hyperlink" Target="https://ru.wikipedia.org/wiki/&#1044;&#1077;&#1074;&#1080;&#1094;&#1072;_(&#1074;&#1077;&#1088;&#1093;&#1085;&#1080;&#1081;_&#1087;&#1088;&#1080;&#1090;&#1086;&#1082;_&#1044;&#1086;&#1085;&#1072;)" TargetMode="External"/><Relationship Id="rId8" Type="http://schemas.openxmlformats.org/officeDocument/2006/relationships/hyperlink" Target="https://ru.wikipedia.org/wiki/&#1055;&#1086;&#1090;&#1091;&#1076;&#1072;&#1085;&#1100;_(&#1088;&#1077;&#1082;&#1072;)" TargetMode="External"/><Relationship Id="rId9" Type="http://schemas.openxmlformats.org/officeDocument/2006/relationships/hyperlink" Target="https://ru.wikipedia.org/wiki/&#1058;&#1080;&#1093;&#1072;&#1103;_&#1057;&#1086;&#1089;&#1085;&#1072;" TargetMode="External"/><Relationship Id="rId10" Type="http://schemas.openxmlformats.org/officeDocument/2006/relationships/hyperlink" Target="https://ru.wikipedia.org/wiki/&#1048;&#1082;&#1086;&#1088;&#1077;&#1094;_(&#1088;&#1077;&#1082;&#1072;)" TargetMode="External"/><Relationship Id="rId11" Type="http://schemas.openxmlformats.org/officeDocument/2006/relationships/hyperlink" Target="https://ru.wikipedia.org/wiki/&#1041;&#1080;&#1090;&#1102;&#1075;_(&#1088;&#1077;&#1082;&#1072;)" TargetMode="External"/><Relationship Id="rId12" Type="http://schemas.openxmlformats.org/officeDocument/2006/relationships/hyperlink" Target="https://ru.wikipedia.org/wiki/&#1063;&#1105;&#1088;&#1085;&#1072;&#1103;_&#1050;&#1072;&#1083;&#1080;&#1090;&#1074;&#1072;" TargetMode="External"/><Relationship Id="rId1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Заголовок 1" descr=""/>
          <p:cNvPicPr/>
          <p:nvPr/>
        </p:nvPicPr>
        <p:blipFill>
          <a:blip r:embed="rId1"/>
          <a:stretch/>
        </p:blipFill>
        <p:spPr>
          <a:xfrm>
            <a:off x="500040" y="974880"/>
            <a:ext cx="8290080" cy="18842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3354480" y="3540240"/>
            <a:ext cx="5114880" cy="11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rebuchet MS"/>
              </a:rPr>
              <a:t>Учитель начальных классов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rebuchet MS"/>
              </a:rPr>
              <a:t>Лушникова Т.И.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rebuchet MS"/>
              </a:rPr>
              <a:t>МКОУ Поселковая СОШ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Заголовок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На территории области обитают около 70 видов млекопитающих, 290 видов птиц, 9 видов пресмыкающихся, 10 видов земноводных, 55 видов рыб, 1 вид круглоротых (украинская минога) и более 10000 видов насекомых. Наиболее распространены из млекопитающих следующие виды:, лисица, кабан, лось, ласка, заяц-русак,европейский олень, бобр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Заголовок 1" descr=""/>
          <p:cNvPicPr/>
          <p:nvPr/>
        </p:nvPicPr>
        <p:blipFill>
          <a:blip r:embed="rId1"/>
          <a:stretch/>
        </p:blipFill>
        <p:spPr>
          <a:xfrm>
            <a:off x="3822840" y="-6480"/>
            <a:ext cx="4924440" cy="120672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 txBox="1"/>
          <p:nvPr/>
        </p:nvSpPr>
        <p:spPr>
          <a:xfrm>
            <a:off x="3780000" y="1600200"/>
            <a:ext cx="536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На территории Воронежской области находятся два заповедника: </a:t>
            </a:r>
            <a:r>
              <a:rPr b="0" lang="ru-RU" sz="2600" spc="-1" strike="noStrike" u="sng">
                <a:solidFill>
                  <a:srgbClr val="000000"/>
                </a:solidFill>
                <a:uFillTx/>
                <a:latin typeface="Trebuchet MS"/>
              </a:rPr>
              <a:t>Воронежский государственный природный биосферный заповедник и Хопёрский государственный природный заповедник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0" name="Picture 4" descr="bober"/>
          <p:cNvPicPr/>
          <p:nvPr/>
        </p:nvPicPr>
        <p:blipFill>
          <a:blip r:embed="rId2"/>
          <a:stretch/>
        </p:blipFill>
        <p:spPr>
          <a:xfrm>
            <a:off x="0" y="0"/>
            <a:ext cx="3995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Заголовок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Минерально-сырьевая база Воронежской области представлена месторождениями нерудного сырья, в основном строительными материалами (пески, глины, мел, граниты, цементное сырье, охра, известняк, песчаник), а также минеральных подземных вод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Заголовок 1" descr=""/>
          <p:cNvPicPr/>
          <p:nvPr/>
        </p:nvPicPr>
        <p:blipFill>
          <a:blip r:embed="rId1"/>
          <a:stretch/>
        </p:blipFill>
        <p:spPr>
          <a:xfrm>
            <a:off x="298440" y="268200"/>
            <a:ext cx="8394840" cy="568800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 txBox="1"/>
          <p:nvPr/>
        </p:nvSpPr>
        <p:spPr>
          <a:xfrm>
            <a:off x="457200" y="5661000"/>
            <a:ext cx="8229600" cy="46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4" descr="icon_1377_view"/>
          <p:cNvPicPr/>
          <p:nvPr/>
        </p:nvPicPr>
        <p:blipFill>
          <a:blip r:embed="rId1"/>
          <a:srcRect l="26481" t="0" r="26481" b="425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7" name="Picture 4" descr="664569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Прямоугольник 1"/>
          <p:cNvSpPr/>
          <p:nvPr/>
        </p:nvSpPr>
        <p:spPr>
          <a:xfrm>
            <a:off x="684360" y="333360"/>
            <a:ext cx="784836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Воды </a:t>
            </a:r>
            <a:r>
              <a:rPr b="0" lang="ru-RU" sz="2400" spc="-1" strike="noStrike" u="sng">
                <a:solidFill>
                  <a:srgbClr val="ffde66"/>
                </a:solidFill>
                <a:uFillTx/>
                <a:latin typeface="Trebuchet MS"/>
                <a:hlinkClick r:id="rId1"/>
              </a:rPr>
              <a:t>Воронежской области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 — это реки, озёра, пруды, водохранилища, болота и подземные воды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Прямоугольник 2"/>
          <p:cNvSpPr/>
          <p:nvPr/>
        </p:nvSpPr>
        <p:spPr>
          <a:xfrm>
            <a:off x="755640" y="1628640"/>
            <a:ext cx="7920000" cy="29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de66"/>
                </a:solidFill>
                <a:uFillTx/>
                <a:latin typeface="Trebuchet MS"/>
                <a:hlinkClick r:id="rId2"/>
              </a:rPr>
              <a:t>Дон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 — главная река област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Его ширина на территории </a:t>
            </a:r>
            <a:r>
              <a:rPr b="0" lang="ru-RU" sz="2400" spc="-1" strike="noStrike" u="sng">
                <a:solidFill>
                  <a:srgbClr val="ffde66"/>
                </a:solidFill>
                <a:uFillTx/>
                <a:latin typeface="Trebuchet MS"/>
                <a:hlinkClick r:id="rId3"/>
              </a:rPr>
              <a:t>Воронежской области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составляет 50-80 м. Глубина 3-5 м. На территории </a:t>
            </a:r>
            <a:r>
              <a:rPr b="0" lang="ru-RU" sz="2400" spc="-1" strike="noStrike" u="sng">
                <a:solidFill>
                  <a:srgbClr val="ffde66"/>
                </a:solidFill>
                <a:uFillTx/>
                <a:latin typeface="Trebuchet MS"/>
                <a:hlinkClick r:id="rId4"/>
              </a:rPr>
              <a:t>Воронежской области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 протекают притоки </a:t>
            </a:r>
            <a:r>
              <a:rPr b="0" lang="ru-RU" sz="2400" spc="-1" strike="noStrike" u="sng">
                <a:solidFill>
                  <a:srgbClr val="ffde66"/>
                </a:solidFill>
                <a:uFillTx/>
                <a:latin typeface="Trebuchet MS"/>
                <a:hlinkClick r:id="rId5"/>
              </a:rPr>
              <a:t>Дона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: </a:t>
            </a:r>
            <a:r>
              <a:rPr b="0" lang="ru-RU" sz="2400" spc="-1" strike="noStrike" u="sng">
                <a:solidFill>
                  <a:srgbClr val="ffde66"/>
                </a:solidFill>
                <a:uFillTx/>
                <a:latin typeface="Trebuchet MS"/>
                <a:hlinkClick r:id="rId6"/>
              </a:rPr>
              <a:t>Воронеж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, </a:t>
            </a:r>
            <a:r>
              <a:rPr b="0" lang="ru-RU" sz="2400" spc="-1" strike="noStrike" u="sng">
                <a:solidFill>
                  <a:srgbClr val="ffde66"/>
                </a:solidFill>
                <a:uFillTx/>
                <a:latin typeface="Trebuchet MS"/>
                <a:hlinkClick r:id="rId7"/>
              </a:rPr>
              <a:t>Девица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, </a:t>
            </a:r>
            <a:r>
              <a:rPr b="0" lang="ru-RU" sz="2400" spc="-1" strike="noStrike" u="sng">
                <a:solidFill>
                  <a:srgbClr val="ffde66"/>
                </a:solidFill>
                <a:uFillTx/>
                <a:latin typeface="Trebuchet MS"/>
                <a:hlinkClick r:id="rId8"/>
              </a:rPr>
              <a:t>Потудань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, </a:t>
            </a:r>
            <a:r>
              <a:rPr b="0" lang="ru-RU" sz="2400" spc="-1" strike="noStrike" u="sng">
                <a:solidFill>
                  <a:srgbClr val="ffde66"/>
                </a:solidFill>
                <a:uFillTx/>
                <a:latin typeface="Trebuchet MS"/>
                <a:hlinkClick r:id="rId9"/>
              </a:rPr>
              <a:t>Тихая Сосна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, </a:t>
            </a:r>
            <a:r>
              <a:rPr b="0" lang="ru-RU" sz="2400" spc="-1" strike="noStrike" u="sng">
                <a:solidFill>
                  <a:srgbClr val="ffde66"/>
                </a:solidFill>
                <a:uFillTx/>
                <a:latin typeface="Trebuchet MS"/>
                <a:hlinkClick r:id="rId10"/>
              </a:rPr>
              <a:t>Икорец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, </a:t>
            </a:r>
            <a:r>
              <a:rPr b="0" lang="ru-RU" sz="2400" spc="-1" strike="noStrike" u="sng">
                <a:solidFill>
                  <a:srgbClr val="ffde66"/>
                </a:solidFill>
                <a:uFillTx/>
                <a:latin typeface="Trebuchet MS"/>
                <a:hlinkClick r:id="rId11"/>
              </a:rPr>
              <a:t>Битюг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, </a:t>
            </a:r>
            <a:r>
              <a:rPr b="0" lang="ru-RU" sz="2400" spc="-1" strike="noStrike" u="sng">
                <a:solidFill>
                  <a:srgbClr val="ffde66"/>
                </a:solidFill>
                <a:uFillTx/>
                <a:latin typeface="Trebuchet MS"/>
                <a:hlinkClick r:id="rId12"/>
              </a:rPr>
              <a:t>Чёрная Калитва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, Толучеевка, Хопёр и друг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Заголовок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Лето относительно жаркое, а зима умеренно-холодная. Погодный режим Воронежской области довольно неустойчив. Устойчивый снежный покров ложится в декабре, но бывают годы, когда он устанавливался в январе-феврале. Зимой случаются оттепели, которые часто сменяют морозы. Лето в Воронежской области часто бывает жарким. Нередки засухи: 2-3 года на 10 лет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Рисунок 6" descr="https://upload.wikimedia.org/wikipedia/commons/thumb/4/40/Poimennaya_dubrava.JPG/220px-Poimennaya_dubrav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Заголовок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Растительный покров Воронежской области отличается разнообразием. Территория области делится на северную лесостепную часть, где ранее преобладали разнотравно-луговые степи и широколиственные леса, и южную степную часть, с ковыльно-типчаковыми и ковыльными степями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4" descr="los01f"/>
          <p:cNvPicPr/>
          <p:nvPr/>
        </p:nvPicPr>
        <p:blipFill>
          <a:blip r:embed="rId1"/>
          <a:srcRect l="0" t="0" r="0" b="588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1-08T15:23:44Z</dcterms:created>
  <dc:creator>Admin</dc:creator>
  <dc:description/>
  <dc:language>en-US</dc:language>
  <cp:lastModifiedBy>Admin</cp:lastModifiedBy>
  <dcterms:modified xsi:type="dcterms:W3CDTF">2018-11-08T16:32:31Z</dcterms:modified>
  <cp:revision>7</cp:revision>
  <dc:subject/>
  <dc:title>Наш край Воронежская область</dc:title>
</cp:coreProperties>
</file>