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8CB4-843F-4046-9740-D5B65E86B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3FBB-8EA9-428C-AA38-9369E3BE6F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D1E-A2AF-44CE-BF25-13443E97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F0B-1A21-4DFA-92F7-FAA01160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54A-5F75-49CE-9507-B212DAE5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7C9-9500-4787-8CD6-A9E41FA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933-AD81-419F-A438-E444AF1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1B9-3B99-41E9-94DC-E74EEA3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442-0060-4EED-ACC1-797715A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2BB-0936-411B-8ADE-B967BEC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70-F79B-41E3-B149-B028358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90F-5398-4E78-9AA5-3DB3B56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FB8-CB42-4983-B084-EAFD7D26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13C-2FAB-4D21-8CF6-9A9A3290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3198-2579-44B5-8DED-15E105E3C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казки для детей с картинками"/>
          <p:cNvPicPr/>
          <p:nvPr/>
        </p:nvPicPr>
        <p:blipFill>
          <a:blip r:embed="rId1"/>
          <a:stretch/>
        </p:blipFill>
        <p:spPr>
          <a:xfrm>
            <a:off x="428760" y="357120"/>
            <a:ext cx="3924000" cy="294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Агрессивные игрушки"/>
          <p:cNvPicPr/>
          <p:nvPr/>
        </p:nvPicPr>
        <p:blipFill>
          <a:blip r:embed="rId2"/>
          <a:stretch/>
        </p:blipFill>
        <p:spPr>
          <a:xfrm>
            <a:off x="4572000" y="357120"/>
            <a:ext cx="4092480" cy="3065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В гостях у сказки. (282 шт. JPG) &quot; Страница 3 &quot; ALLDAY - народный сайт о дизайне"/>
          <p:cNvPicPr/>
          <p:nvPr/>
        </p:nvPicPr>
        <p:blipFill>
          <a:blip r:embed="rId3"/>
          <a:stretch/>
        </p:blipFill>
        <p:spPr>
          <a:xfrm>
            <a:off x="357120" y="357192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Презентации PowerPoint: стихи и сказки - скачать бесплатные презентации - Меню сайта - Бесплатные презентации, физминутки, скача"/>
          <p:cNvPicPr/>
          <p:nvPr/>
        </p:nvPicPr>
        <p:blipFill>
          <a:blip r:embed="rId4"/>
          <a:stretch/>
        </p:blipFill>
        <p:spPr>
          <a:xfrm>
            <a:off x="4478400" y="3571920"/>
            <a:ext cx="4186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2997360"/>
            <a:ext cx="813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 интересн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весел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трудно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уроке было необычн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е незнакомц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ем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мся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Узнаем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основные правила безопасного поведения с незнакомц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Calibri"/>
              </a:rPr>
              <a:t>Научимс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правильно себя вести при встрече с незнакомыми люд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НЕЗНАКОМЫЙ ЧЕЛОВЕК 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– это человек, которого ты не знаеш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улица(1).jpg"/>
          <p:cNvPicPr/>
          <p:nvPr/>
        </p:nvPicPr>
        <p:blipFill>
          <a:blip r:embed="rId1"/>
          <a:stretch/>
        </p:blipFill>
        <p:spPr>
          <a:xfrm>
            <a:off x="3132000" y="3357720"/>
            <a:ext cx="30276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685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_preview.jpg"/>
          <p:cNvPicPr/>
          <p:nvPr/>
        </p:nvPicPr>
        <p:blipFill>
          <a:blip r:embed="rId1"/>
          <a:stretch/>
        </p:blipFill>
        <p:spPr>
          <a:xfrm>
            <a:off x="108000" y="-316080"/>
            <a:ext cx="864072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1241029350_96f974b64c64.jpg"/>
          <p:cNvPicPr/>
          <p:nvPr/>
        </p:nvPicPr>
        <p:blipFill>
          <a:blip r:embed="rId1"/>
          <a:stretch/>
        </p:blipFill>
        <p:spPr>
          <a:xfrm>
            <a:off x="324000" y="189000"/>
            <a:ext cx="8643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картинка белоснежки и королевы с яблоком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и по запросу картинка снежная королева увозит кая"/>
          <p:cNvPicPr/>
          <p:nvPr/>
        </p:nvPicPr>
        <p:blipFill>
          <a:blip r:embed="rId1"/>
          <a:stretch/>
        </p:blipFill>
        <p:spPr>
          <a:xfrm>
            <a:off x="0" y="0"/>
            <a:ext cx="93931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5:38:38Z</dcterms:created>
  <dc:creator>user</dc:creator>
  <dc:description/>
  <dc:language>en-US</dc:language>
  <cp:lastModifiedBy>Vitchinov</cp:lastModifiedBy>
  <dcterms:modified xsi:type="dcterms:W3CDTF">2018-11-08T14:55:36Z</dcterms:modified>
  <cp:revision>34</cp:revision>
  <dc:subject/>
  <dc:title>Презентация PowerPoint</dc:title>
</cp:coreProperties>
</file>