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76D2-983B-4E3C-B42F-47A5E90584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1C27-411F-4476-8D5D-BDD4286D255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31C8-C91C-4F61-9A67-26466461C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EB17-D04D-4C96-B605-B71015D8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89F1-3B8C-412E-8E32-6AC79ACF0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F160-FC3E-445D-8E8C-0E8D99906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DFC1-7849-410E-975A-D277071C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1DF1-A7B7-4122-B5E5-5178D19D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0634-5597-43D0-A3C9-0FAB903D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71BA-D001-4D10-B48E-BFD8E51D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6B4B-1341-4BDD-9AB7-196CE482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42F8-36B9-4B20-88CC-CF4B6AC6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7CC5-890C-4146-A58B-2705A26B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5C27-EF46-445B-A85A-9B89C9E8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1C06-89E6-4DA3-8D63-819D384667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Сказки для детей с картинками"/>
          <p:cNvPicPr/>
          <p:nvPr/>
        </p:nvPicPr>
        <p:blipFill>
          <a:blip r:embed="rId1"/>
          <a:stretch/>
        </p:blipFill>
        <p:spPr>
          <a:xfrm>
            <a:off x="428760" y="357120"/>
            <a:ext cx="3924000" cy="2943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Агрессивные игрушки"/>
          <p:cNvPicPr/>
          <p:nvPr/>
        </p:nvPicPr>
        <p:blipFill>
          <a:blip r:embed="rId2"/>
          <a:stretch/>
        </p:blipFill>
        <p:spPr>
          <a:xfrm>
            <a:off x="4572000" y="357120"/>
            <a:ext cx="4092480" cy="3065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В гостях у сказки. (282 шт. JPG) &quot; Страница 3 &quot; ALLDAY - народный сайт о дизайне"/>
          <p:cNvPicPr/>
          <p:nvPr/>
        </p:nvPicPr>
        <p:blipFill>
          <a:blip r:embed="rId3"/>
          <a:stretch/>
        </p:blipFill>
        <p:spPr>
          <a:xfrm>
            <a:off x="357120" y="3571920"/>
            <a:ext cx="4032360" cy="3025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Презентации PowerPoint: стихи и сказки - скачать бесплатные презентации - Меню сайта - Бесплатные презентации, физминутки, скача"/>
          <p:cNvPicPr/>
          <p:nvPr/>
        </p:nvPicPr>
        <p:blipFill>
          <a:blip r:embed="rId4"/>
          <a:stretch/>
        </p:blipFill>
        <p:spPr>
          <a:xfrm>
            <a:off x="4478400" y="3571920"/>
            <a:ext cx="418608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1"/>
          <p:cNvSpPr/>
          <p:nvPr/>
        </p:nvSpPr>
        <p:spPr>
          <a:xfrm>
            <a:off x="611280" y="2997360"/>
            <a:ext cx="8137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На уроке было  интересно…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На уроке было весело…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На уроке было трудно…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На уроке было необычно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пасные незнакомцы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Цели урока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знаем ..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учимся ..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Цели урок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7030a0"/>
                </a:solidFill>
                <a:uFillTx/>
                <a:latin typeface="Calibri"/>
              </a:rPr>
              <a:t>Узнаем</a:t>
            </a: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 основные правила безопасного поведения с незнакомцам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7030a0"/>
                </a:solidFill>
                <a:uFillTx/>
                <a:latin typeface="Calibri"/>
              </a:rPr>
              <a:t>Научимся</a:t>
            </a: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 правильно себя вести при встрече с незнакомыми людь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7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alibri"/>
              </a:rPr>
              <a:t>НЕЗНАКОМЫЙ ЧЕЛОВЕК </a:t>
            </a:r>
            <a:r>
              <a:rPr b="0" lang="ru-RU" sz="5400" spc="-1" strike="noStrike">
                <a:solidFill>
                  <a:srgbClr val="7030a0"/>
                </a:solidFill>
                <a:latin typeface="Calibri"/>
              </a:rPr>
              <a:t>– это человек, которого ты не знаешь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улица(1).jpg"/>
          <p:cNvPicPr/>
          <p:nvPr/>
        </p:nvPicPr>
        <p:blipFill>
          <a:blip r:embed="rId1"/>
          <a:stretch/>
        </p:blipFill>
        <p:spPr>
          <a:xfrm>
            <a:off x="3132000" y="3357720"/>
            <a:ext cx="3027600" cy="32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130320"/>
            <a:ext cx="685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2" descr="_preview.jpg"/>
          <p:cNvPicPr/>
          <p:nvPr/>
        </p:nvPicPr>
        <p:blipFill>
          <a:blip r:embed="rId1"/>
          <a:stretch/>
        </p:blipFill>
        <p:spPr>
          <a:xfrm>
            <a:off x="108000" y="-316080"/>
            <a:ext cx="8640720" cy="71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2" descr="1241029350_96f974b64c64.jpg"/>
          <p:cNvPicPr/>
          <p:nvPr/>
        </p:nvPicPr>
        <p:blipFill>
          <a:blip r:embed="rId1"/>
          <a:stretch/>
        </p:blipFill>
        <p:spPr>
          <a:xfrm>
            <a:off x="324000" y="189000"/>
            <a:ext cx="86439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Картинки по запросу картинка белоснежки и королевы с яблоком"/>
          <p:cNvPicPr/>
          <p:nvPr/>
        </p:nvPicPr>
        <p:blipFill>
          <a:blip r:embed="rId1"/>
          <a:stretch/>
        </p:blipFill>
        <p:spPr>
          <a:xfrm>
            <a:off x="108000" y="0"/>
            <a:ext cx="8928000" cy="67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Картинки по запросу картинка снежная королева увозит кая"/>
          <p:cNvPicPr/>
          <p:nvPr/>
        </p:nvPicPr>
        <p:blipFill>
          <a:blip r:embed="rId1"/>
          <a:stretch/>
        </p:blipFill>
        <p:spPr>
          <a:xfrm>
            <a:off x="0" y="0"/>
            <a:ext cx="939312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5:38:38Z</dcterms:created>
  <dc:creator>user</dc:creator>
  <dc:description/>
  <dc:language>en-US</dc:language>
  <cp:lastModifiedBy>Vitchinov</cp:lastModifiedBy>
  <dcterms:modified xsi:type="dcterms:W3CDTF">2018-11-08T14:55:36Z</dcterms:modified>
  <cp:revision>34</cp:revision>
  <dc:subject/>
  <dc:title>Презентация PowerPoint</dc:title>
</cp:coreProperties>
</file>