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gif" ContentType="image/gif"/>
  <Override PartName="/ppt/media/image17.png" ContentType="image/png"/>
  <Override PartName="/ppt/media/image3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8.gif" ContentType="image/gif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png" ContentType="image/png"/>
  <Override PartName="/ppt/media/image26.gif" ContentType="image/gif"/>
  <Override PartName="/ppt/media/image29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4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DCEB-E602-4D2E-BF50-20B076D6F4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1C6B-305E-4E25-BFF7-BB140DBCD5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F2A-76AF-4851-ABCE-D9F27662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97D-A1BF-43C7-A9F3-D72C24CC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2A9-384E-46DE-9E46-2E8B2198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953-0E24-4070-91BA-232B461E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6318-F0FF-4BF7-B215-1463E73B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FDB1-EDDC-4E12-BBA3-0BF62B5B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4BA5-4814-445E-BDBA-A0C7C3C3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1CAB-41B9-491D-8ADD-9D41BBCE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3C4B-3D12-48AD-A286-45A34A1D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92A0-A2A5-40D4-B5DC-1F1F8756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D2AF-80F7-4F5D-A7AC-D35BEE3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2F9-87DD-40C5-BA40-8B8BC33E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944F-A1AC-49BD-A128-F3D187B7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061C-96E4-4AC2-88FC-C501D528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553C-10EC-43D9-A19E-BEA8079B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DA51-B3EB-4770-9786-D59AD457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A720-720A-4DD0-A682-39A1EC31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135E-AC50-4026-97E9-878A89A4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7992-85EC-493A-A6FF-7AD056EE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17A9-1CFD-4021-BD2F-A71160F6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6FCA-E7A6-43A7-8452-DA03C355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538D-9E75-482D-8FA5-FA5E68F9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91B-E0AD-40FD-8662-0577410E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79E5-0A1A-449C-91CC-4724DF8A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9D91-34D0-4DB9-9448-E95D97DF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6E52-8C6D-4FF1-9B9F-A618776D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311B-340F-4A6A-9063-9542C5B3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D0028-7200-4489-BE5C-954E6FD9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B46D-4BE8-4422-AC98-EEDD8F1F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C7E6-0288-412D-8E28-BEA10659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A59F-98D3-4712-A50D-081F07EB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0D59-C1BF-4984-BC72-BE0B3248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1585D-F899-4B35-A84C-F528B78C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FA1-185C-4961-8882-45B818E1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A83F-01F0-45D6-B3C4-48B8E8DF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54B4C-10C1-4DA0-A119-6E6AF69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BEA1-039A-451D-88D8-5D3EF6A4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6971-ABFC-49EB-95EC-6B407AB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63E3-906B-404A-88BD-3C31BD89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B1135-280C-48A3-82D9-1883423E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3799-AFB7-44BC-97E8-6D36C909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CDC06-81CB-45A3-AD19-E159F42C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6169B-14A0-483E-B171-94FE20C3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13B-8CF7-465F-AEB0-130C7A21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485-A742-40E1-9E96-45B661F1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E0A-9ADB-49F1-9E21-D4BB40EF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A85-7B9D-4A60-87E3-B3AE4A00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D22-35CA-499B-B86D-3FF0A07C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7D29-F6B0-4CE3-900C-0097CF3C0F2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3268-3FB9-4C0A-8D59-10598A1F996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510E-5947-4EDC-B778-E4531257616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38CE-9D17-4548-ADDE-B9F70513E24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3680" y="380880"/>
            <a:ext cx="8680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8cca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C:\Program Files\Microsoft Office\MEDIA\CAGCAT10\j0293828.wmf"/>
          <p:cNvPicPr/>
          <p:nvPr/>
        </p:nvPicPr>
        <p:blipFill>
          <a:blip r:embed="rId1"/>
          <a:stretch/>
        </p:blipFill>
        <p:spPr>
          <a:xfrm>
            <a:off x="714240" y="714240"/>
            <a:ext cx="2357640" cy="228600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8" descr=""/>
          <p:cNvPicPr/>
          <p:nvPr/>
        </p:nvPicPr>
        <p:blipFill>
          <a:blip r:embed="rId2"/>
          <a:stretch/>
        </p:blipFill>
        <p:spPr>
          <a:xfrm>
            <a:off x="2004840" y="2766960"/>
            <a:ext cx="4365720" cy="11350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500040" y="542916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еографии филиала МОУ СОШ п Пашково в с. Матч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ова В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TextBox 1"/>
          <p:cNvGrpSpPr/>
          <p:nvPr/>
        </p:nvGrpSpPr>
        <p:grpSpPr>
          <a:xfrm>
            <a:off x="420840" y="781200"/>
            <a:ext cx="8089920" cy="657000"/>
            <a:chOff x="420840" y="781200"/>
            <a:chExt cx="8089920" cy="657000"/>
          </a:xfrm>
        </p:grpSpPr>
        <p:pic>
          <p:nvPicPr>
            <p:cNvPr id="276" name="TextBox 1" descr=""/>
            <p:cNvPicPr/>
            <p:nvPr/>
          </p:nvPicPr>
          <p:blipFill>
            <a:blip r:embed="rId1"/>
            <a:stretch/>
          </p:blipFill>
          <p:spPr>
            <a:xfrm>
              <a:off x="420840" y="781200"/>
              <a:ext cx="808992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28760" y="785880"/>
              <a:ext cx="807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ru-RU" sz="3600" spc="-1" strike="noStrike">
                  <a:solidFill>
                    <a:srgbClr val="04617b"/>
                  </a:solidFill>
                  <a:latin typeface="Calibri"/>
                </a:rPr>
                <a:t>КЛИМАТООБРАЗУЮЩИЕ ФАКТОР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TextBox 2"/>
          <p:cNvGrpSpPr/>
          <p:nvPr/>
        </p:nvGrpSpPr>
        <p:grpSpPr>
          <a:xfrm>
            <a:off x="920880" y="1994040"/>
            <a:ext cx="7089480" cy="4535280"/>
            <a:chOff x="920880" y="1994040"/>
            <a:chExt cx="7089480" cy="4535280"/>
          </a:xfrm>
        </p:grpSpPr>
        <p:pic>
          <p:nvPicPr>
            <p:cNvPr id="279" name="TextBox 2" descr=""/>
            <p:cNvPicPr/>
            <p:nvPr/>
          </p:nvPicPr>
          <p:blipFill>
            <a:blip r:embed="rId2"/>
            <a:stretch/>
          </p:blipFill>
          <p:spPr>
            <a:xfrm>
              <a:off x="920880" y="1994040"/>
              <a:ext cx="7089480" cy="45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928800" y="2000160"/>
              <a:ext cx="707220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Географическая шир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Релье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Отдаленность от океа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Океанические теч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Подстилающая поверхн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07600" y="1915920"/>
            <a:ext cx="8636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4" descr="Рисунок26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1931760"/>
          </a:xfrm>
          <a:prstGeom prst="rect">
            <a:avLst/>
          </a:prstGeom>
          <a:ln w="0">
            <a:noFill/>
          </a:ln>
        </p:spPr>
      </p:pic>
      <p:grpSp>
        <p:nvGrpSpPr>
          <p:cNvPr id="283" name="Rectangle 5"/>
          <p:cNvGrpSpPr/>
          <p:nvPr/>
        </p:nvGrpSpPr>
        <p:grpSpPr>
          <a:xfrm>
            <a:off x="317520" y="353880"/>
            <a:ext cx="8582040" cy="1650960"/>
            <a:chOff x="317520" y="353880"/>
            <a:chExt cx="8582040" cy="1650960"/>
          </a:xfrm>
        </p:grpSpPr>
        <p:pic>
          <p:nvPicPr>
            <p:cNvPr id="284" name="Rectangle 5" descr=""/>
            <p:cNvPicPr/>
            <p:nvPr/>
          </p:nvPicPr>
          <p:blipFill>
            <a:blip r:embed="rId2"/>
            <a:stretch/>
          </p:blipFill>
          <p:spPr>
            <a:xfrm>
              <a:off x="317520" y="353880"/>
              <a:ext cx="858204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24000" y="357120"/>
              <a:ext cx="85690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1" i="1" lang="ru-RU" sz="3200" spc="-1" strike="noStrike">
                  <a:solidFill>
                    <a:srgbClr val="ff0000"/>
                  </a:solidFill>
                  <a:latin typeface="Calibri"/>
                </a:rPr>
                <a:t>Нагревание земной поверхности зависит от угла падения солнечных лучей</a:t>
              </a:r>
              <a:br>
                <a:rPr sz="2800"/>
              </a:br>
              <a:br>
                <a:rPr sz="2800"/>
              </a:br>
              <a:br>
                <a:rPr sz="28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6" descr="земля3"/>
          <p:cNvPicPr/>
          <p:nvPr/>
        </p:nvPicPr>
        <p:blipFill>
          <a:blip r:embed="rId3"/>
          <a:stretch/>
        </p:blipFill>
        <p:spPr>
          <a:xfrm>
            <a:off x="395280" y="2276640"/>
            <a:ext cx="2448000" cy="24476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7"/>
          <p:cNvSpPr/>
          <p:nvPr/>
        </p:nvSpPr>
        <p:spPr>
          <a:xfrm>
            <a:off x="2843280" y="328608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ваториальные шир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2919240" y="2781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меренные шир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2916360" y="2133720"/>
            <a:ext cx="257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ярные ши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608472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6084720" y="3645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5580000" y="2924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 flipH="1">
            <a:off x="5580000" y="242100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5292720" y="2276640"/>
            <a:ext cx="57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 flipV="1">
            <a:off x="5292720" y="2060640"/>
            <a:ext cx="5745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286920"/>
            <a:ext cx="7704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4" descr="xqg338831"/>
          <p:cNvPicPr/>
          <p:nvPr/>
        </p:nvPicPr>
        <p:blipFill>
          <a:blip r:embed="rId1"/>
          <a:stretch/>
        </p:blipFill>
        <p:spPr>
          <a:xfrm>
            <a:off x="324000" y="1484280"/>
            <a:ext cx="8319960" cy="4587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ag00434_"/>
          <p:cNvPicPr/>
          <p:nvPr/>
        </p:nvPicPr>
        <p:blipFill>
          <a:blip r:embed="rId2"/>
          <a:stretch/>
        </p:blipFill>
        <p:spPr>
          <a:xfrm>
            <a:off x="2916360" y="1557360"/>
            <a:ext cx="1584360" cy="11383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250920" y="189000"/>
            <a:ext cx="867564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висимость климата относительно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ложения горных хреб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1332000" y="2997360"/>
            <a:ext cx="4464000" cy="647640"/>
          </a:xfrm>
          <a:prstGeom prst="rightArrow">
            <a:avLst>
              <a:gd name="adj1" fmla="val 50000"/>
              <a:gd name="adj2" fmla="val 17231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е в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>
            <a:off x="7596360" y="2133720"/>
            <a:ext cx="914400" cy="609480"/>
          </a:xfrm>
          <a:prstGeom prst="cloudCallout">
            <a:avLst>
              <a:gd name="adj1" fmla="val -51564"/>
              <a:gd name="adj2" fmla="val 5807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324000" y="3213000"/>
            <a:ext cx="914400" cy="609840"/>
          </a:xfrm>
          <a:prstGeom prst="cloudCallout">
            <a:avLst>
              <a:gd name="adj1" fmla="val 90106"/>
              <a:gd name="adj2" fmla="val 22369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"/>
          <p:cNvSpPr/>
          <p:nvPr/>
        </p:nvSpPr>
        <p:spPr>
          <a:xfrm>
            <a:off x="1619280" y="2276640"/>
            <a:ext cx="914400" cy="609480"/>
          </a:xfrm>
          <a:prstGeom prst="cloudCallout">
            <a:avLst>
              <a:gd name="adj1" fmla="val -35763"/>
              <a:gd name="adj2" fmla="val 6252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8cca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4" descr="xqg338831"/>
          <p:cNvPicPr/>
          <p:nvPr/>
        </p:nvPicPr>
        <p:blipFill>
          <a:blip r:embed="rId1"/>
          <a:stretch/>
        </p:blipFill>
        <p:spPr>
          <a:xfrm>
            <a:off x="1643040" y="1285920"/>
            <a:ext cx="7202520" cy="49291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"/>
          <p:cNvSpPr/>
          <p:nvPr/>
        </p:nvSpPr>
        <p:spPr>
          <a:xfrm>
            <a:off x="684360" y="333360"/>
            <a:ext cx="76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висимость климата от высоты местности над уровнем    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5715000" y="2214720"/>
            <a:ext cx="300024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ъёмом на 1 к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ижается на  6 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929040" y="4143240"/>
            <a:ext cx="615960" cy="1695600"/>
          </a:xfrm>
          <a:prstGeom prst="upArrow">
            <a:avLst>
              <a:gd name="adj1" fmla="val 50000"/>
              <a:gd name="adj2" fmla="val 688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Зависимость климата от близости морей и океан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2" name="Picture 3" descr="russia"/>
          <p:cNvPicPr/>
          <p:nvPr/>
        </p:nvPicPr>
        <p:blipFill>
          <a:blip r:embed="rId1"/>
          <a:stretch/>
        </p:blipFill>
        <p:spPr>
          <a:xfrm>
            <a:off x="285840" y="1500120"/>
            <a:ext cx="8615160" cy="492912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4"/>
          <p:cNvSpPr/>
          <p:nvPr/>
        </p:nvSpPr>
        <p:spPr>
          <a:xfrm rot="5400000">
            <a:off x="428400" y="2423880"/>
            <a:ext cx="738360" cy="1595520"/>
          </a:xfrm>
          <a:prstGeom prst="wedgeRectCallout">
            <a:avLst>
              <a:gd name="adj1" fmla="val -189787"/>
              <a:gd name="adj2" fmla="val 1567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Морско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1643040" y="1643040"/>
            <a:ext cx="2521080" cy="1042920"/>
          </a:xfrm>
          <a:prstGeom prst="wedgeRectCallout">
            <a:avLst>
              <a:gd name="adj1" fmla="val -50504"/>
              <a:gd name="adj2" fmla="val 8911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ер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786040" y="3071880"/>
            <a:ext cx="2376360" cy="609480"/>
          </a:xfrm>
          <a:prstGeom prst="wedgeRectCallout">
            <a:avLst>
              <a:gd name="adj1" fmla="val -56138"/>
              <a:gd name="adj2" fmla="val 12313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714920" y="4071960"/>
            <a:ext cx="2571840" cy="900000"/>
          </a:xfrm>
          <a:prstGeom prst="wedgeRectCallout">
            <a:avLst>
              <a:gd name="adj1" fmla="val -32486"/>
              <a:gd name="adj2" fmla="val 100402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зко 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786280" y="3071880"/>
            <a:ext cx="2143440" cy="642960"/>
          </a:xfrm>
          <a:prstGeom prst="wedgeRectCallout">
            <a:avLst>
              <a:gd name="adj1" fmla="val 82236"/>
              <a:gd name="adj2" fmla="val 10458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ссонны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826920" y="364500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357800" y="1700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8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782520" y="38606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6659640" y="500076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1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7164360" y="2571840"/>
            <a:ext cx="14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9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2"/>
          <p:cNvPicPr/>
          <p:nvPr/>
        </p:nvPicPr>
        <p:blipFill>
          <a:blip r:embed="rId1"/>
          <a:stretch/>
        </p:blipFill>
        <p:spPr>
          <a:xfrm>
            <a:off x="928800" y="2000160"/>
            <a:ext cx="7286400" cy="461160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3"/>
          <p:cNvSpPr/>
          <p:nvPr/>
        </p:nvSpPr>
        <p:spPr>
          <a:xfrm>
            <a:off x="0" y="928800"/>
            <a:ext cx="1835280" cy="1000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Холод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1835280" y="105264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2411280" y="857160"/>
            <a:ext cx="1800360" cy="1000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н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>
            <a:off x="4211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4788000" y="928800"/>
            <a:ext cx="1871640" cy="8571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6659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7236000" y="928800"/>
            <a:ext cx="1908000" cy="9284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 rot="16681200">
            <a:off x="3700800" y="32918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Пустыня Ата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океанических те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start"/>
          <p:cNvPicPr/>
          <p:nvPr/>
        </p:nvPicPr>
        <p:blipFill>
          <a:blip r:embed="rId1"/>
          <a:stretch/>
        </p:blipFill>
        <p:spPr>
          <a:xfrm>
            <a:off x="1285920" y="1928880"/>
            <a:ext cx="7000920" cy="466704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3"/>
          <p:cNvSpPr/>
          <p:nvPr/>
        </p:nvSpPr>
        <p:spPr>
          <a:xfrm>
            <a:off x="0" y="1000080"/>
            <a:ext cx="1835280" cy="1071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ёп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1835280" y="112392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2411280" y="1000080"/>
            <a:ext cx="1800360" cy="928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4211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4788000" y="1000080"/>
            <a:ext cx="1871640" cy="8571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6659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9"/>
          <p:cNvSpPr/>
          <p:nvPr/>
        </p:nvSpPr>
        <p:spPr>
          <a:xfrm>
            <a:off x="7236000" y="1000080"/>
            <a:ext cx="1908000" cy="8571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0" y="28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океанических те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ice"/>
          <p:cNvPicPr/>
          <p:nvPr/>
        </p:nvPicPr>
        <p:blipFill>
          <a:blip r:embed="rId1"/>
          <a:stretch/>
        </p:blipFill>
        <p:spPr>
          <a:xfrm>
            <a:off x="500040" y="1357200"/>
            <a:ext cx="4179960" cy="285768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4"/>
          <p:cNvSpPr/>
          <p:nvPr/>
        </p:nvSpPr>
        <p:spPr>
          <a:xfrm>
            <a:off x="1571760" y="857160"/>
            <a:ext cx="1728720" cy="1214640"/>
          </a:xfrm>
          <a:prstGeom prst="wedgeRoundRectCallout">
            <a:avLst>
              <a:gd name="adj1" fmla="val -46694"/>
              <a:gd name="adj2" fmla="val 626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5 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пустыня"/>
          <p:cNvPicPr/>
          <p:nvPr/>
        </p:nvPicPr>
        <p:blipFill>
          <a:blip r:embed="rId2"/>
          <a:stretch/>
        </p:blipFill>
        <p:spPr>
          <a:xfrm>
            <a:off x="4714920" y="3643200"/>
            <a:ext cx="4071960" cy="278316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3"/>
          <p:cNvSpPr/>
          <p:nvPr/>
        </p:nvSpPr>
        <p:spPr>
          <a:xfrm>
            <a:off x="5786280" y="3643200"/>
            <a:ext cx="1214640" cy="571680"/>
          </a:xfrm>
          <a:prstGeom prst="wedgeRoundRectCallout">
            <a:avLst>
              <a:gd name="adj1" fmla="val -46032"/>
              <a:gd name="adj2" fmla="val 6173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greenblue"/>
          <p:cNvPicPr/>
          <p:nvPr/>
        </p:nvPicPr>
        <p:blipFill>
          <a:blip r:embed="rId1"/>
          <a:stretch/>
        </p:blipFill>
        <p:spPr>
          <a:xfrm>
            <a:off x="1285920" y="1285920"/>
            <a:ext cx="3808440" cy="271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1643040" y="1285920"/>
            <a:ext cx="1584360" cy="968400"/>
          </a:xfrm>
          <a:prstGeom prst="wedgeRoundRectCallout">
            <a:avLst>
              <a:gd name="adj1" fmla="val -46393"/>
              <a:gd name="adj2" fmla="val 626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030"/>
          <p:cNvPicPr/>
          <p:nvPr/>
        </p:nvPicPr>
        <p:blipFill>
          <a:blip r:embed="rId2"/>
          <a:stretch/>
        </p:blipFill>
        <p:spPr>
          <a:xfrm>
            <a:off x="5286240" y="3857760"/>
            <a:ext cx="3187800" cy="214308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3"/>
          <p:cNvSpPr/>
          <p:nvPr/>
        </p:nvSpPr>
        <p:spPr>
          <a:xfrm>
            <a:off x="5929200" y="4214880"/>
            <a:ext cx="1214640" cy="714240"/>
          </a:xfrm>
          <a:prstGeom prst="wedgeRoundRectCallout">
            <a:avLst>
              <a:gd name="adj1" fmla="val -45592"/>
              <a:gd name="adj2" fmla="val 64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643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835360" cy="1927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8"/>
          <p:cNvSpPr/>
          <p:nvPr/>
        </p:nvSpPr>
        <p:spPr>
          <a:xfrm>
            <a:off x="642960" y="64296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500040" y="2143080"/>
            <a:ext cx="8286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ировать понятие « климат» и ее элементах, причинах, влияющих на ее изме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ать представление о факторах его форм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крепить знание относительно причины неравномерного распределения солнечного тепла и света на земной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оспитывать понимание важности знаний о клима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явить отличия климата от по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учить особенности климата своей местности и факторы влияющие на ее из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571680" y="1455840"/>
            <a:ext cx="8072280" cy="5045040"/>
          </a:xfrm>
          <a:prstGeom prst="rect">
            <a:avLst/>
          </a:prstGeom>
          <a:ln w="0">
            <a:noFill/>
          </a:ln>
        </p:spPr>
      </p:pic>
      <p:grpSp>
        <p:nvGrpSpPr>
          <p:cNvPr id="352" name="TextBox 6"/>
          <p:cNvGrpSpPr/>
          <p:nvPr/>
        </p:nvGrpSpPr>
        <p:grpSpPr>
          <a:xfrm>
            <a:off x="1212840" y="353880"/>
            <a:ext cx="6791400" cy="1017720"/>
            <a:chOff x="1212840" y="353880"/>
            <a:chExt cx="6791400" cy="1017720"/>
          </a:xfrm>
        </p:grpSpPr>
        <p:pic>
          <p:nvPicPr>
            <p:cNvPr id="353" name="TextBox 6" descr=""/>
            <p:cNvPicPr/>
            <p:nvPr/>
          </p:nvPicPr>
          <p:blipFill>
            <a:blip r:embed="rId2"/>
            <a:stretch/>
          </p:blipFill>
          <p:spPr>
            <a:xfrm>
              <a:off x="1212840" y="353880"/>
              <a:ext cx="679140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285920" y="428760"/>
              <a:ext cx="66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Constantia"/>
                </a:rPr>
                <a:t>ПРОДОЛЖИТЕЛЬНОСТЬ СЕЗОНОВ 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Constantia"/>
                </a:rPr>
                <a:t> </a:t>
              </a:r>
              <a:r>
                <a:rPr b="0" lang="ru-RU" sz="2400" spc="-1" strike="noStrike">
                  <a:solidFill>
                    <a:srgbClr val="ff0000"/>
                  </a:solidFill>
                  <a:latin typeface="Constantia"/>
                </a:rPr>
                <a:t>( дни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TextBox 5"/>
          <p:cNvGrpSpPr/>
          <p:nvPr/>
        </p:nvGrpSpPr>
        <p:grpSpPr>
          <a:xfrm>
            <a:off x="2567160" y="566640"/>
            <a:ext cx="3724200" cy="596880"/>
            <a:chOff x="2567160" y="566640"/>
            <a:chExt cx="3724200" cy="596880"/>
          </a:xfrm>
        </p:grpSpPr>
        <p:pic>
          <p:nvPicPr>
            <p:cNvPr id="356" name="TextBox 5" descr=""/>
            <p:cNvPicPr/>
            <p:nvPr/>
          </p:nvPicPr>
          <p:blipFill>
            <a:blip r:embed="rId1"/>
            <a:stretch/>
          </p:blipFill>
          <p:spPr>
            <a:xfrm>
              <a:off x="2567160" y="566640"/>
              <a:ext cx="3724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571840" y="571680"/>
              <a:ext cx="371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Calibri"/>
                </a:rPr>
                <a:t>РЕФЛЕКС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TextBox 6"/>
          <p:cNvGrpSpPr/>
          <p:nvPr/>
        </p:nvGrpSpPr>
        <p:grpSpPr>
          <a:xfrm>
            <a:off x="993600" y="1706400"/>
            <a:ext cx="7656840" cy="3402000"/>
            <a:chOff x="993600" y="1706400"/>
            <a:chExt cx="7656840" cy="3402000"/>
          </a:xfrm>
        </p:grpSpPr>
        <p:pic>
          <p:nvPicPr>
            <p:cNvPr id="359" name="TextBox 6" descr=""/>
            <p:cNvPicPr/>
            <p:nvPr/>
          </p:nvPicPr>
          <p:blipFill>
            <a:blip r:embed="rId2"/>
            <a:stretch/>
          </p:blipFill>
          <p:spPr>
            <a:xfrm>
              <a:off x="993600" y="1706400"/>
              <a:ext cx="7656840" cy="34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000080" y="1714680"/>
              <a:ext cx="7643880" cy="33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Закончи предложени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Вопросы рассмотренные на сегодняшнем уроке для меня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Я был бы рад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Самым скучным на уроке было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Я научился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Теперь бы я еще хотел узнать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Picture 2" descr="C:\Users\ox\AppData\Local\Microsoft\Windows\Temporary Internet Files\Content.IE5\2Q8K9B6B\MC900089038[1].wmf"/>
          <p:cNvPicPr/>
          <p:nvPr/>
        </p:nvPicPr>
        <p:blipFill>
          <a:blip r:embed="rId3"/>
          <a:stretch/>
        </p:blipFill>
        <p:spPr>
          <a:xfrm>
            <a:off x="6804000" y="4508640"/>
            <a:ext cx="17953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Users\ox\AppData\Local\Microsoft\Windows\Temporary Internet Files\Content.IE5\2Q8K9B6B\MC900089038[1].wmf"/>
          <p:cNvPicPr/>
          <p:nvPr/>
        </p:nvPicPr>
        <p:blipFill>
          <a:blip r:embed="rId1"/>
          <a:stretch/>
        </p:blipFill>
        <p:spPr>
          <a:xfrm>
            <a:off x="6215040" y="4786200"/>
            <a:ext cx="2384280" cy="2071800"/>
          </a:xfrm>
          <a:prstGeom prst="rect">
            <a:avLst/>
          </a:prstGeom>
          <a:ln w="0">
            <a:noFill/>
          </a:ln>
        </p:spPr>
      </p:pic>
      <p:grpSp>
        <p:nvGrpSpPr>
          <p:cNvPr id="363" name="TextBox 2"/>
          <p:cNvGrpSpPr/>
          <p:nvPr/>
        </p:nvGrpSpPr>
        <p:grpSpPr>
          <a:xfrm>
            <a:off x="523800" y="1206360"/>
            <a:ext cx="7907400" cy="3299040"/>
            <a:chOff x="523800" y="1206360"/>
            <a:chExt cx="7907400" cy="3299040"/>
          </a:xfrm>
        </p:grpSpPr>
        <p:pic>
          <p:nvPicPr>
            <p:cNvPr id="364" name="TextBox 2" descr=""/>
            <p:cNvPicPr/>
            <p:nvPr/>
          </p:nvPicPr>
          <p:blipFill>
            <a:blip r:embed="rId2"/>
            <a:stretch/>
          </p:blipFill>
          <p:spPr>
            <a:xfrm>
              <a:off x="523800" y="1206360"/>
              <a:ext cx="790740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714240" y="1285920"/>
              <a:ext cx="764388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nstantia"/>
                </a:rPr>
                <a:t>ДОМАШНЕЕ ЗАДАНИЕ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1.  </a:t>
              </a:r>
              <a:r>
                <a:rPr b="0" lang="en-US" sz="2800" spc="-1" strike="noStrike">
                  <a:solidFill>
                    <a:srgbClr val="ffff00"/>
                  </a:solidFill>
                  <a:latin typeface="Constantia"/>
                </a:rPr>
                <a:t> &amp; 43 c</a:t>
              </a: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тр. </a:t>
              </a:r>
              <a:r>
                <a:rPr b="0" lang="en-US" sz="2800" spc="-1" strike="noStrike">
                  <a:solidFill>
                    <a:srgbClr val="ffff00"/>
                  </a:solidFill>
                  <a:latin typeface="Constantia"/>
                </a:rPr>
                <a:t>129-</a:t>
              </a: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1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 </a:t>
              </a: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2. Подготовиться к практической работе: принести календари погоды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3. Подготовить сообщение о климате своей местност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 rot="10800000">
            <a:off x="0" y="411624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499840" y="571320"/>
            <a:ext cx="3714840" cy="857160"/>
          </a:xfrm>
          <a:prstGeom prst="rect">
            <a:avLst/>
          </a:prstGeom>
          <a:solidFill>
            <a:srgbClr val="b0dfa1"/>
          </a:solidFill>
          <a:ln w="9360">
            <a:solidFill>
              <a:srgbClr val="94f7dc"/>
            </a:solidFill>
            <a:miter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Бри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3929040" y="35002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ч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3857760" y="192888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6286680" y="3357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1357200" y="33577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1357200" y="2286000"/>
            <a:ext cx="257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0"/>
          <p:cNvSpPr/>
          <p:nvPr/>
        </p:nvSpPr>
        <p:spPr>
          <a:xfrm>
            <a:off x="6072120" y="24289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УШ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право 21"/>
          <p:cNvSpPr/>
          <p:nvPr/>
        </p:nvSpPr>
        <p:spPr>
          <a:xfrm>
            <a:off x="3714840" y="2428920"/>
            <a:ext cx="2143080" cy="5000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лево 23"/>
          <p:cNvSpPr/>
          <p:nvPr/>
        </p:nvSpPr>
        <p:spPr>
          <a:xfrm>
            <a:off x="3714840" y="3071880"/>
            <a:ext cx="2143080" cy="42840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1643040" y="21430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6"/>
          <p:cNvSpPr/>
          <p:nvPr/>
        </p:nvSpPr>
        <p:spPr>
          <a:xfrm>
            <a:off x="6500880" y="20001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4"/>
          <p:cNvSpPr/>
          <p:nvPr/>
        </p:nvSpPr>
        <p:spPr>
          <a:xfrm>
            <a:off x="2786040" y="714240"/>
            <a:ext cx="3786120" cy="76428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МУСС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428760" y="2857680"/>
            <a:ext cx="30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5857920" y="2857680"/>
            <a:ext cx="23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право 12"/>
          <p:cNvSpPr/>
          <p:nvPr/>
        </p:nvSpPr>
        <p:spPr>
          <a:xfrm>
            <a:off x="3071880" y="2928960"/>
            <a:ext cx="257184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лево 13"/>
          <p:cNvSpPr/>
          <p:nvPr/>
        </p:nvSpPr>
        <p:spPr>
          <a:xfrm>
            <a:off x="3000240" y="3357720"/>
            <a:ext cx="2643480" cy="21420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4"/>
          <p:cNvSpPr/>
          <p:nvPr/>
        </p:nvSpPr>
        <p:spPr>
          <a:xfrm>
            <a:off x="3286080" y="242892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5"/>
          <p:cNvSpPr/>
          <p:nvPr/>
        </p:nvSpPr>
        <p:spPr>
          <a:xfrm>
            <a:off x="3714840" y="35719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6"/>
          <p:cNvSpPr/>
          <p:nvPr/>
        </p:nvSpPr>
        <p:spPr>
          <a:xfrm>
            <a:off x="1143000" y="2214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6215040" y="22860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8"/>
          <p:cNvSpPr/>
          <p:nvPr/>
        </p:nvSpPr>
        <p:spPr>
          <a:xfrm>
            <a:off x="6215040" y="357192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.Д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"/>
          <p:cNvSpPr/>
          <p:nvPr/>
        </p:nvSpPr>
        <p:spPr>
          <a:xfrm>
            <a:off x="1214280" y="36432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714680" y="285840"/>
            <a:ext cx="6215040" cy="78588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ВИДЫ  ОСАД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TextBox 2"/>
          <p:cNvGrpSpPr/>
          <p:nvPr/>
        </p:nvGrpSpPr>
        <p:grpSpPr>
          <a:xfrm>
            <a:off x="311040" y="1847880"/>
            <a:ext cx="3407040" cy="712800"/>
            <a:chOff x="311040" y="1847880"/>
            <a:chExt cx="3407040" cy="712800"/>
          </a:xfrm>
        </p:grpSpPr>
        <p:pic>
          <p:nvPicPr>
            <p:cNvPr id="243" name="TextBox 2" descr=""/>
            <p:cNvPicPr/>
            <p:nvPr/>
          </p:nvPicPr>
          <p:blipFill>
            <a:blip r:embed="rId1"/>
            <a:stretch/>
          </p:blipFill>
          <p:spPr>
            <a:xfrm>
              <a:off x="311040" y="1847880"/>
              <a:ext cx="34070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00040" y="1928880"/>
              <a:ext cx="314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onstantia"/>
                </a:rPr>
                <a:t>В  твердом ви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TextBox 3"/>
          <p:cNvGrpSpPr/>
          <p:nvPr/>
        </p:nvGrpSpPr>
        <p:grpSpPr>
          <a:xfrm>
            <a:off x="5065560" y="1920960"/>
            <a:ext cx="3157560" cy="536400"/>
            <a:chOff x="5065560" y="1920960"/>
            <a:chExt cx="3157560" cy="536400"/>
          </a:xfrm>
        </p:grpSpPr>
        <p:pic>
          <p:nvPicPr>
            <p:cNvPr id="246" name="TextBox 3" descr=""/>
            <p:cNvPicPr/>
            <p:nvPr/>
          </p:nvPicPr>
          <p:blipFill>
            <a:blip r:embed="rId2"/>
            <a:stretch/>
          </p:blipFill>
          <p:spPr>
            <a:xfrm>
              <a:off x="5065560" y="1920960"/>
              <a:ext cx="31575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072040" y="1928880"/>
              <a:ext cx="314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Calibri"/>
                </a:rPr>
                <a:t>  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В жидком ви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TextBox 4"/>
          <p:cNvGrpSpPr/>
          <p:nvPr/>
        </p:nvGrpSpPr>
        <p:grpSpPr>
          <a:xfrm>
            <a:off x="493560" y="2992320"/>
            <a:ext cx="3157560" cy="2689200"/>
            <a:chOff x="493560" y="2992320"/>
            <a:chExt cx="3157560" cy="2689200"/>
          </a:xfrm>
        </p:grpSpPr>
        <p:pic>
          <p:nvPicPr>
            <p:cNvPr id="249" name="TextBox 4" descr=""/>
            <p:cNvPicPr/>
            <p:nvPr/>
          </p:nvPicPr>
          <p:blipFill>
            <a:blip r:embed="rId3"/>
            <a:stretch/>
          </p:blipFill>
          <p:spPr>
            <a:xfrm>
              <a:off x="493560" y="2992320"/>
              <a:ext cx="315756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00040" y="3000240"/>
              <a:ext cx="31431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СНЕ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И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ГРА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КР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TextBox 5"/>
          <p:cNvGrpSpPr/>
          <p:nvPr/>
        </p:nvGrpSpPr>
        <p:grpSpPr>
          <a:xfrm>
            <a:off x="5138640" y="3067200"/>
            <a:ext cx="3011760" cy="1949400"/>
            <a:chOff x="5138640" y="3067200"/>
            <a:chExt cx="3011760" cy="1949400"/>
          </a:xfrm>
        </p:grpSpPr>
        <p:pic>
          <p:nvPicPr>
            <p:cNvPr id="252" name="TextBox 5" descr=""/>
            <p:cNvPicPr/>
            <p:nvPr/>
          </p:nvPicPr>
          <p:blipFill>
            <a:blip r:embed="rId4"/>
            <a:stretch/>
          </p:blipFill>
          <p:spPr>
            <a:xfrm>
              <a:off x="5138640" y="3067200"/>
              <a:ext cx="3011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143680" y="3071880"/>
              <a:ext cx="3000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ДОЖДЬ</a:t>
              </a:r>
              <a:br>
                <a:rPr sz="2400"/>
              </a:br>
              <a:br>
                <a:rPr sz="2400"/>
              </a:b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РОСА</a:t>
              </a:r>
              <a:br>
                <a:rPr sz="2400"/>
              </a:br>
              <a:br>
                <a:rPr sz="2400"/>
              </a:b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 ИЗМОРОЗ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4" name="Прямая со стрелкой 9"/>
          <p:cNvCxnSpPr/>
          <p:nvPr/>
        </p:nvCxnSpPr>
        <p:spPr>
          <a:xfrm flipH="1">
            <a:off x="2285640" y="1143000"/>
            <a:ext cx="929520" cy="71496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cxnSp>
        <p:nvCxnSpPr>
          <p:cNvPr id="255" name="Прямая со стрелкой 11"/>
          <p:cNvCxnSpPr/>
          <p:nvPr/>
        </p:nvCxnSpPr>
        <p:spPr>
          <a:xfrm>
            <a:off x="6071760" y="1214280"/>
            <a:ext cx="786600" cy="64332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cxnSp>
        <p:nvCxnSpPr>
          <p:cNvPr id="256" name="Прямая со стрелкой 14"/>
          <p:cNvCxnSpPr/>
          <p:nvPr/>
        </p:nvCxnSpPr>
        <p:spPr>
          <a:xfrm flipH="1">
            <a:off x="1855440" y="2571840"/>
            <a:ext cx="2160" cy="35784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cxnSp>
        <p:nvCxnSpPr>
          <p:cNvPr id="257" name="Прямая со стрелкой 16"/>
          <p:cNvCxnSpPr/>
          <p:nvPr/>
        </p:nvCxnSpPr>
        <p:spPr>
          <a:xfrm flipH="1">
            <a:off x="6571440" y="2643120"/>
            <a:ext cx="2520" cy="35784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1071720" y="214200"/>
            <a:ext cx="6572160" cy="581400"/>
          </a:xfrm>
          <a:prstGeom prst="rect">
            <a:avLst/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ФРОНТАЛЬНЫ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857160" y="1785960"/>
            <a:ext cx="7715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357120" y="714240"/>
            <a:ext cx="878688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атмосфера? Каково значение имеет атмосфе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Как нагревается возду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Как изменяется температура воздуха с высо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атмосферное давление? Назовите нормальное атмосферное д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будет происходить с атмосферным давлением, если мы поднимемся высоко в гор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ветер? Каковы причины в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относительная влажность? В каких районах наименьшая и наибольшая относительная влаж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облака? Назовите виды обл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атмосферные осад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погода? Назовите основные элементы  по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285840" y="830160"/>
            <a:ext cx="3284280" cy="2532240"/>
          </a:xfrm>
          <a:prstGeom prst="rect">
            <a:avLst/>
          </a:prstGeom>
          <a:ln w="0">
            <a:noFill/>
          </a:ln>
        </p:spPr>
      </p:pic>
      <p:pic>
        <p:nvPicPr>
          <p:cNvPr id="262" name="TextBox 2" descr=""/>
          <p:cNvPicPr/>
          <p:nvPr/>
        </p:nvPicPr>
        <p:blipFill>
          <a:blip r:embed="rId2"/>
          <a:stretch/>
        </p:blipFill>
        <p:spPr>
          <a:xfrm>
            <a:off x="371520" y="420840"/>
            <a:ext cx="1859040" cy="579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>
            <a:off x="6200640" y="3914640"/>
            <a:ext cx="2943360" cy="2943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4"/>
          <a:stretch/>
        </p:blipFill>
        <p:spPr>
          <a:xfrm>
            <a:off x="4286160" y="1349280"/>
            <a:ext cx="1017720" cy="550872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5" descr=""/>
          <p:cNvPicPr/>
          <p:nvPr/>
        </p:nvPicPr>
        <p:blipFill>
          <a:blip r:embed="rId5"/>
          <a:stretch/>
        </p:blipFill>
        <p:spPr>
          <a:xfrm>
            <a:off x="3797280" y="682560"/>
            <a:ext cx="19940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714240" y="1357200"/>
            <a:ext cx="2300400" cy="309096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2" descr=""/>
          <p:cNvPicPr/>
          <p:nvPr/>
        </p:nvPicPr>
        <p:blipFill>
          <a:blip r:embed="rId2"/>
          <a:stretch/>
        </p:blipFill>
        <p:spPr>
          <a:xfrm>
            <a:off x="639720" y="139680"/>
            <a:ext cx="3646440" cy="646200"/>
          </a:xfrm>
          <a:prstGeom prst="rect">
            <a:avLst/>
          </a:prstGeom>
          <a:ln w="0">
            <a:noFill/>
          </a:ln>
        </p:spPr>
      </p:pic>
      <p:grpSp>
        <p:nvGrpSpPr>
          <p:cNvPr id="268" name="Прямоугольник 3"/>
          <p:cNvGrpSpPr/>
          <p:nvPr/>
        </p:nvGrpSpPr>
        <p:grpSpPr>
          <a:xfrm>
            <a:off x="4595760" y="1920960"/>
            <a:ext cx="3481560" cy="712800"/>
            <a:chOff x="4595760" y="1920960"/>
            <a:chExt cx="3481560" cy="712800"/>
          </a:xfrm>
        </p:grpSpPr>
        <p:pic>
          <p:nvPicPr>
            <p:cNvPr id="269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595760" y="1920960"/>
              <a:ext cx="34815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786200" y="2000160"/>
              <a:ext cx="32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onstantia"/>
                </a:rPr>
                <a:t>Гигромет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30" descr="гигр"/>
          <p:cNvPicPr/>
          <p:nvPr/>
        </p:nvPicPr>
        <p:blipFill>
          <a:blip r:embed="rId4"/>
          <a:stretch/>
        </p:blipFill>
        <p:spPr>
          <a:xfrm>
            <a:off x="4357800" y="2714760"/>
            <a:ext cx="3566880" cy="3936960"/>
          </a:xfrm>
          <a:prstGeom prst="rect">
            <a:avLst/>
          </a:prstGeom>
          <a:ln w="19080">
            <a:solidFill>
              <a:srgbClr val="80808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928800" y="1643040"/>
            <a:ext cx="7358040" cy="5212080"/>
          </a:xfrm>
          <a:prstGeom prst="rect">
            <a:avLst/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onstantia"/>
              </a:rPr>
              <a:t>это многолетний режим погоды, характерный для какой-либо местн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1706400"/>
            <a:ext cx="5010120" cy="93996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4" descr=""/>
          <p:cNvPicPr/>
          <p:nvPr/>
        </p:nvPicPr>
        <p:blipFill>
          <a:blip r:embed="rId2"/>
          <a:stretch/>
        </p:blipFill>
        <p:spPr>
          <a:xfrm>
            <a:off x="2011320" y="1322280"/>
            <a:ext cx="41403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7:20:26Z</dcterms:created>
  <dc:creator>Инесса</dc:creator>
  <dc:description/>
  <dc:language>en-US</dc:language>
  <cp:lastModifiedBy>Валентина</cp:lastModifiedBy>
  <dcterms:modified xsi:type="dcterms:W3CDTF">2018-11-08T19:13:39Z</dcterms:modified>
  <cp:revision>43</cp:revision>
  <dc:subject/>
  <dc:title>Погода и климат.</dc:title>
</cp:coreProperties>
</file>