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4B38-BC11-4589-B0D0-670EA47E5C0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9B01-03CE-4C2C-8CB0-8BB8196E3A0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0274-BE63-44D4-B8F6-59AA4DBAFFD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2D1D-D2C4-49B8-942A-300A97960BD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D566-A6DF-4CB2-8979-4AB9D29C60C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70A1-1EA7-43B3-B214-139AA3917EA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DE18-244A-431C-B3BD-47E210C91BC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F6B6-7A22-4BA5-924A-C3424DEDBB2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6158-DB10-457C-AEEE-235FA71283B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0185-E40E-4582-AEE2-D091F2A89FE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4129-9429-45DF-9C91-27780DBF3C0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9888-E18A-473F-9094-C803A12F9D4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789D-51F1-4AE3-A57D-6951AD1F560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BE84-342E-49BB-8846-EEBB0AEF988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4155-83C3-4AC6-AE9D-3E99C404DB5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93F6-45BB-4ABF-833C-5346F2201CE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BC8C-FA55-45D9-8F98-0072E0E0D55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D194-0A6E-4F0E-A040-DDF22E10E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CEFA-DC7C-41D5-AEE6-C2CB57CD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425A-E974-47C5-AF27-90650175C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AF0E-2F08-4336-B3AF-4DFAE9141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7311-5B7C-40DD-A7F3-C0AF24D6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A9CF-F705-433D-BDD4-CBC09E69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ACFB-CE67-43D8-980A-EDA14413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4B30-446D-4FDF-AF2C-E0D56961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808C-AAE2-44A8-81B1-4F48C774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676A-9E6F-45B8-A196-8D07ADC7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ECE9-F53E-4AA2-A473-5FFF7DB6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E946-1F18-4AE3-BE8A-396B4FFB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222A-F51C-4C62-A837-D5D740097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осударственное бюджетное образовательное учреждение города Москвы  «Многофункциональная школа № 1955» 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184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Организация и проведение прогулки в подготовительной группе №8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арова Елена Николаев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атель ГБОУ № 1955 здание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сква, 2018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мостоятельная деятельность дете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C:\Users\imblonde\Desktop\IMG-20180420-WA0020.jpg"/>
          <p:cNvPicPr/>
          <p:nvPr/>
        </p:nvPicPr>
        <p:blipFill>
          <a:blip r:embed="rId2"/>
          <a:stretch/>
        </p:blipFill>
        <p:spPr>
          <a:xfrm>
            <a:off x="755640" y="2421000"/>
            <a:ext cx="3840120" cy="2881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C:\Users\imblonde\Desktop\IMG-20180420-WA0062.jpg"/>
          <p:cNvPicPr/>
          <p:nvPr/>
        </p:nvPicPr>
        <p:blipFill>
          <a:blip r:embed="rId3"/>
          <a:stretch/>
        </p:blipFill>
        <p:spPr>
          <a:xfrm>
            <a:off x="5076720" y="4162320"/>
            <a:ext cx="3311640" cy="2482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:\Users\imblonde\Desktop\IMG-20180423-WA0019.jpg"/>
          <p:cNvPicPr/>
          <p:nvPr/>
        </p:nvPicPr>
        <p:blipFill>
          <a:blip r:embed="rId4"/>
          <a:stretch/>
        </p:blipFill>
        <p:spPr>
          <a:xfrm>
            <a:off x="5076720" y="1628640"/>
            <a:ext cx="3197160" cy="2398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сенняя прогулка, которая была проведена в утренней отрезок вр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ение за вет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точнить представление о ветр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од наблю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етер, ветер, ты могуч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ы гоняешь стаи туч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 волнуешь сине мор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юду веешь на простор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. Пушк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лагаем детям понаблюдать, как раскачиваются ветви деревьев, задаем вопрос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им бывает ветер? Почему дует ветер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дух в атмосфере нагревается по-разному: теплый воздух, более легкий, поднимается вверх, а холодный, более тяжелый, стелется понизу. Происходит движение воздуха. Сила ветра зависит от разницы температур холодного и теплого воздуха. Чем быстрее передвигаются массы воздуха, тем сильнее вете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♦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зовите наиболее сильные ветры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Ураганы, тайфуны, метели, бураны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абый ветер называется бриз. Люди, наблюдающие за силой и направлением ветра, называются метеорологами, синоптик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♦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жно ли увидеть следы ветра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Users\imblonde\Desktop\IMG-20180420-WA0024.jpg"/>
          <p:cNvPicPr/>
          <p:nvPr/>
        </p:nvPicPr>
        <p:blipFill>
          <a:blip r:embed="rId2"/>
          <a:stretch/>
        </p:blipFill>
        <p:spPr>
          <a:xfrm>
            <a:off x="6443640" y="1557360"/>
            <a:ext cx="2417760" cy="1812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11280" y="1197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следовательская деятельность (самостоятельная деятельность детей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ределить направление и силу ветра с помощью флюге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C:\Users\imblonde\Desktop\IMG-20180420-WA0001.jpg"/>
          <p:cNvPicPr/>
          <p:nvPr/>
        </p:nvPicPr>
        <p:blipFill>
          <a:blip r:embed="rId2"/>
          <a:stretch/>
        </p:blipFill>
        <p:spPr>
          <a:xfrm>
            <a:off x="5003640" y="2924280"/>
            <a:ext cx="3665520" cy="2749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C:\Users\imblonde\Desktop\IMG-20180420-WA0002.jpg"/>
          <p:cNvPicPr/>
          <p:nvPr/>
        </p:nvPicPr>
        <p:blipFill>
          <a:blip r:embed="rId3"/>
          <a:stretch/>
        </p:blipFill>
        <p:spPr>
          <a:xfrm>
            <a:off x="971640" y="2852640"/>
            <a:ext cx="3713040" cy="2784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11280" y="1197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рудовая дея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бор поломанных веток на участ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креплять умение работать сообща, выполнять задания общими усилия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вижная иг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кологическая игра с мячом «Я знаю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креплять названия объектов природы (звери, птицы, рыбы, деревья, цветы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дивидуальная работ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еребрасывание мяча друг другу сниз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вать координацию движ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C:\Users\imblonde\Desktop\IMG-20180420-WA0007.jpg"/>
          <p:cNvPicPr/>
          <p:nvPr/>
        </p:nvPicPr>
        <p:blipFill>
          <a:blip r:embed="rId2"/>
          <a:stretch/>
        </p:blipFill>
        <p:spPr>
          <a:xfrm>
            <a:off x="5987880" y="4005360"/>
            <a:ext cx="2560680" cy="1920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C:\Users\imblonde\Desktop\IMG-20180420-WA0016 (1).jpg"/>
          <p:cNvPicPr/>
          <p:nvPr/>
        </p:nvPicPr>
        <p:blipFill>
          <a:blip r:embed="rId3"/>
          <a:stretch/>
        </p:blipFill>
        <p:spPr>
          <a:xfrm>
            <a:off x="347760" y="4005360"/>
            <a:ext cx="2633400" cy="1974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C:\Users\imblonde\Desktop\IMG-20180420-WA0021.jpg"/>
          <p:cNvPicPr/>
          <p:nvPr/>
        </p:nvPicPr>
        <p:blipFill>
          <a:blip r:embed="rId4"/>
          <a:stretch/>
        </p:blipFill>
        <p:spPr>
          <a:xfrm>
            <a:off x="3203640" y="400536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сенняя прогулка, которая была проведена в утренней отрезок вр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ение за камн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накомить с разнообразием камней и их свойств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од наблю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участке детского сада спрятать «волшебную шкатулку» с разнообразными камня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метить на карте место нахождения камней. После обнаружения шкатулки прочитать и обсудить стихотворение «Алмазная гора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мокли брюки и носк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ела мошка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 не уйду я от рек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верно, до ут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просто так сюда прише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прихожу семь ле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друг я камешки нашел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излучают свет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ин — как мамины глаза 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зрачно-голубой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виноградная лоз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C:\Users\imblonde\Desktop\IMG-20180423-WA0008.jpg"/>
          <p:cNvPicPr/>
          <p:nvPr/>
        </p:nvPicPr>
        <p:blipFill>
          <a:blip r:embed="rId2"/>
          <a:stretch/>
        </p:blipFill>
        <p:spPr>
          <a:xfrm>
            <a:off x="6012000" y="2997360"/>
            <a:ext cx="2752560" cy="2065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imblonde\Desktop\IMG-20180423-WA0009.jpg"/>
          <p:cNvPicPr/>
          <p:nvPr/>
        </p:nvPicPr>
        <p:blipFill>
          <a:blip r:embed="rId3"/>
          <a:stretch/>
        </p:blipFill>
        <p:spPr>
          <a:xfrm>
            <a:off x="3203640" y="4149720"/>
            <a:ext cx="2728800" cy="2046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елененький — друг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третий — солнышка светле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вдруг это алмаз?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отнесу его в музе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нице в класс.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. Кудрявце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еседа с детьм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 камнях из шкатулки, предлагаем ответить на вопрос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то из вас находил камн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де это происходило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ие они был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жно ли найти камни на территории нашего детского сад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следовательская дея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йти камни на участке детского сада: серого цвета, круглой формы, большие и маленьк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C:\Users\imblonde\Desktop\IMG-20180422-WA0000.jpg"/>
          <p:cNvPicPr/>
          <p:nvPr/>
        </p:nvPicPr>
        <p:blipFill>
          <a:blip r:embed="rId2"/>
          <a:stretch/>
        </p:blipFill>
        <p:spPr>
          <a:xfrm>
            <a:off x="324000" y="3933720"/>
            <a:ext cx="2735280" cy="2051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Users\imblonde\Desktop\IMG-20180420-WA0018.jpg"/>
          <p:cNvPicPr/>
          <p:nvPr/>
        </p:nvPicPr>
        <p:blipFill>
          <a:blip r:embed="rId3"/>
          <a:stretch/>
        </p:blipFill>
        <p:spPr>
          <a:xfrm>
            <a:off x="3203640" y="3933720"/>
            <a:ext cx="2728800" cy="2046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C:\Users\imblonde\Desktop\IMG-20180420-WA0034.jpg"/>
          <p:cNvPicPr/>
          <p:nvPr/>
        </p:nvPicPr>
        <p:blipFill>
          <a:blip r:embed="rId4"/>
          <a:stretch/>
        </p:blipFill>
        <p:spPr>
          <a:xfrm>
            <a:off x="6084720" y="3933720"/>
            <a:ext cx="2729160" cy="2046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рудовая дея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готовка огорода к дальнейшей работе; уборка мусо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рмировать желание работать сообщ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вижные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Кто быстрее?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креплять умение двигаться по сигналу на носках, с высоким подниманием колен, галоп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Ручеек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креплять умение двигаться пар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дивидуальная работ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звитие движ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вершенствовать навыки катания обруча в произвольном направлен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Users\imblonde\Desktop\IMG-20180423-WA0024.jpg"/>
          <p:cNvPicPr/>
          <p:nvPr/>
        </p:nvPicPr>
        <p:blipFill>
          <a:blip r:embed="rId2"/>
          <a:stretch/>
        </p:blipFill>
        <p:spPr>
          <a:xfrm>
            <a:off x="6156360" y="3789360"/>
            <a:ext cx="2717640" cy="2038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Users\imblonde\Desktop\IMG-20180420-WA0045.jpg"/>
          <p:cNvPicPr/>
          <p:nvPr/>
        </p:nvPicPr>
        <p:blipFill>
          <a:blip r:embed="rId3"/>
          <a:stretch/>
        </p:blipFill>
        <p:spPr>
          <a:xfrm>
            <a:off x="3203640" y="3789360"/>
            <a:ext cx="2784240" cy="2087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C:\Users\imblonde\Desktop\IMG-20180420-WA0027.jpg"/>
          <p:cNvPicPr/>
          <p:nvPr/>
        </p:nvPicPr>
        <p:blipFill>
          <a:blip r:embed="rId4"/>
          <a:stretch/>
        </p:blipFill>
        <p:spPr>
          <a:xfrm>
            <a:off x="250920" y="3716280"/>
            <a:ext cx="2801880" cy="2102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гулка – одна из сложнейших видов деятельности воспитателя, это  важный режимный момент, требующий от педагога высокого профессионализма. Правильно организованные и продуманные прогулки помогают осуществлять задачи всестороннего развития дете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ждая прогулка состоит из следующих элемент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278136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блю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удов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игательная ак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ивидуальная работа с деть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стоятельная деятельность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блюдения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объектами живой при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C:\Users\imblonde\Desktop\IMG-20180420-WA0010.jpg"/>
          <p:cNvPicPr/>
          <p:nvPr/>
        </p:nvPicPr>
        <p:blipFill>
          <a:blip r:embed="rId2"/>
          <a:stretch/>
        </p:blipFill>
        <p:spPr>
          <a:xfrm>
            <a:off x="5292720" y="4149720"/>
            <a:ext cx="3166920" cy="2506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C:\Users\imblonde\Desktop\IMG-20180420-WA0023.jpg"/>
          <p:cNvPicPr/>
          <p:nvPr/>
        </p:nvPicPr>
        <p:blipFill>
          <a:blip r:embed="rId3"/>
          <a:stretch/>
        </p:blipFill>
        <p:spPr>
          <a:xfrm>
            <a:off x="658800" y="4149720"/>
            <a:ext cx="3402000" cy="2549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C:\Users\imblonde\Desktop\IMG-20180420-WA0033.jpg"/>
          <p:cNvPicPr/>
          <p:nvPr/>
        </p:nvPicPr>
        <p:blipFill>
          <a:blip r:embed="rId4"/>
          <a:stretch/>
        </p:blipFill>
        <p:spPr>
          <a:xfrm>
            <a:off x="3059280" y="1916280"/>
            <a:ext cx="2896920" cy="2172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объектами неживой при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Users\imblonde\Desktop\IMG-20180420-WA0030.jpg"/>
          <p:cNvPicPr/>
          <p:nvPr/>
        </p:nvPicPr>
        <p:blipFill>
          <a:blip r:embed="rId2"/>
          <a:stretch/>
        </p:blipFill>
        <p:spPr>
          <a:xfrm>
            <a:off x="4788000" y="3573360"/>
            <a:ext cx="4128840" cy="3095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Users\imblonde\Desktop\IMG-20180420-WA0040.jpg"/>
          <p:cNvPicPr/>
          <p:nvPr/>
        </p:nvPicPr>
        <p:blipFill>
          <a:blip r:embed="rId3"/>
          <a:stretch/>
        </p:blipFill>
        <p:spPr>
          <a:xfrm>
            <a:off x="539640" y="2421000"/>
            <a:ext cx="3936960" cy="295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живыми объек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C:\Users\imblonde\Desktop\IMG-20180420-WA0035.jpg"/>
          <p:cNvPicPr/>
          <p:nvPr/>
        </p:nvPicPr>
        <p:blipFill>
          <a:blip r:embed="rId2"/>
          <a:stretch/>
        </p:blipFill>
        <p:spPr>
          <a:xfrm>
            <a:off x="611280" y="1413000"/>
            <a:ext cx="3168720" cy="2624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Users\imblonde\Desktop\IMG-20180420-WA0015.jpg"/>
          <p:cNvPicPr/>
          <p:nvPr/>
        </p:nvPicPr>
        <p:blipFill>
          <a:blip r:embed="rId3"/>
          <a:stretch/>
        </p:blipFill>
        <p:spPr>
          <a:xfrm>
            <a:off x="4643280" y="4149720"/>
            <a:ext cx="3024360" cy="2576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C:\Users\imblonde\Desktop\IMG-20180420-WA0037.jpg"/>
          <p:cNvPicPr/>
          <p:nvPr/>
        </p:nvPicPr>
        <p:blipFill>
          <a:blip r:embed="rId4"/>
          <a:stretch/>
        </p:blipFill>
        <p:spPr>
          <a:xfrm>
            <a:off x="4572000" y="1413000"/>
            <a:ext cx="3111480" cy="2620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C:\Users\imblonde\Desktop\IMG-20180420-WA0008.jpg"/>
          <p:cNvPicPr/>
          <p:nvPr/>
        </p:nvPicPr>
        <p:blipFill>
          <a:blip r:embed="rId5"/>
          <a:stretch/>
        </p:blipFill>
        <p:spPr>
          <a:xfrm>
            <a:off x="539640" y="4149720"/>
            <a:ext cx="3600720" cy="2541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удовая деятельность</a:t>
            </a:r>
            <a:br>
              <a:rPr sz="4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индивидуальные поручения, коллективный труд, работа в группах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C:\Users\imblonde\Desktop\IMG-20180420-WA0055.jpg"/>
          <p:cNvPicPr/>
          <p:nvPr/>
        </p:nvPicPr>
        <p:blipFill>
          <a:blip r:embed="rId2"/>
          <a:stretch/>
        </p:blipFill>
        <p:spPr>
          <a:xfrm>
            <a:off x="900000" y="1989000"/>
            <a:ext cx="2880000" cy="2159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Users\imblonde\Desktop\IMG-20180420-WA0016.jpg"/>
          <p:cNvPicPr/>
          <p:nvPr/>
        </p:nvPicPr>
        <p:blipFill>
          <a:blip r:embed="rId3"/>
          <a:stretch/>
        </p:blipFill>
        <p:spPr>
          <a:xfrm>
            <a:off x="900000" y="4365720"/>
            <a:ext cx="2951280" cy="2212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C:\Users\imblonde\Desktop\IMG-20180420-WA0014.jpg"/>
          <p:cNvPicPr/>
          <p:nvPr/>
        </p:nvPicPr>
        <p:blipFill>
          <a:blip r:embed="rId4"/>
          <a:stretch/>
        </p:blipFill>
        <p:spPr>
          <a:xfrm>
            <a:off x="5148360" y="198900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C:\Users\imblonde\Desktop\IMG-20180420-WA0026.jpg"/>
          <p:cNvPicPr/>
          <p:nvPr/>
        </p:nvPicPr>
        <p:blipFill>
          <a:blip r:embed="rId5"/>
          <a:stretch/>
        </p:blipFill>
        <p:spPr>
          <a:xfrm>
            <a:off x="5111640" y="4365720"/>
            <a:ext cx="2880000" cy="215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вигательная активнос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Users\imblonde\Desktop\IMG-20180420-WA0044.jpg"/>
          <p:cNvPicPr/>
          <p:nvPr/>
        </p:nvPicPr>
        <p:blipFill>
          <a:blip r:embed="rId2"/>
          <a:stretch/>
        </p:blipFill>
        <p:spPr>
          <a:xfrm>
            <a:off x="4859280" y="4005360"/>
            <a:ext cx="3313080" cy="2484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Users\imblonde\Desktop\IMG-20180420-WA0039.jpg"/>
          <p:cNvPicPr/>
          <p:nvPr/>
        </p:nvPicPr>
        <p:blipFill>
          <a:blip r:embed="rId3"/>
          <a:stretch/>
        </p:blipFill>
        <p:spPr>
          <a:xfrm>
            <a:off x="684360" y="4005360"/>
            <a:ext cx="3263760" cy="244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Users\imblonde\Desktop\IMG-20180420-WA0049.jpg"/>
          <p:cNvPicPr/>
          <p:nvPr/>
        </p:nvPicPr>
        <p:blipFill>
          <a:blip r:embed="rId4"/>
          <a:stretch/>
        </p:blipFill>
        <p:spPr>
          <a:xfrm>
            <a:off x="755640" y="1484280"/>
            <a:ext cx="3192480" cy="2395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C:\Users\imblonde\Desktop\IMG-20180423-WA0013.jpg"/>
          <p:cNvPicPr/>
          <p:nvPr/>
        </p:nvPicPr>
        <p:blipFill>
          <a:blip r:embed="rId5"/>
          <a:stretch/>
        </p:blipFill>
        <p:spPr>
          <a:xfrm>
            <a:off x="4788000" y="1484280"/>
            <a:ext cx="3368520" cy="2290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видуальная работа с детьми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C:\Users\imblonde\Desktop\IMG-20180420-WA0005.jpg"/>
          <p:cNvPicPr/>
          <p:nvPr/>
        </p:nvPicPr>
        <p:blipFill>
          <a:blip r:embed="rId2"/>
          <a:stretch/>
        </p:blipFill>
        <p:spPr>
          <a:xfrm>
            <a:off x="4427640" y="4149720"/>
            <a:ext cx="3313080" cy="2482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Users\imblonde\Desktop\IMG-20180420-WA0053.jpg"/>
          <p:cNvPicPr/>
          <p:nvPr/>
        </p:nvPicPr>
        <p:blipFill>
          <a:blip r:embed="rId3"/>
          <a:stretch/>
        </p:blipFill>
        <p:spPr>
          <a:xfrm>
            <a:off x="611280" y="1916280"/>
            <a:ext cx="3143160" cy="4084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C:\Users\imblonde\Desktop\IMG-20180423-WA0005.jpg"/>
          <p:cNvPicPr/>
          <p:nvPr/>
        </p:nvPicPr>
        <p:blipFill>
          <a:blip r:embed="rId4"/>
          <a:stretch/>
        </p:blipFill>
        <p:spPr>
          <a:xfrm>
            <a:off x="4427640" y="1557360"/>
            <a:ext cx="3360600" cy="2519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0:11:32Z</dcterms:created>
  <dc:creator>family</dc:creator>
  <dc:description/>
  <dc:language>en-US</dc:language>
  <cp:lastModifiedBy>family</cp:lastModifiedBy>
  <dcterms:modified xsi:type="dcterms:W3CDTF">2018-11-08T18:28:11Z</dcterms:modified>
  <cp:revision>48</cp:revision>
  <dc:subject/>
  <dc:title>Государственное бюджетное образовательное учреждение города Москвы  «Многофункциональная школа № 1955»</dc:title>
</cp:coreProperties>
</file>