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9F2C-15CD-47FE-9751-3F30071C26D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8331-D0F5-4103-A710-1B8369770B2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8A2F-38FB-4DFE-9CE4-F6800012AEC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E59E-5660-4910-9F97-E3853F6360E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03EF-65FF-4971-B2D0-D50B375D65A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CED4-FF7A-40A8-8F28-EA8E4D9601B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9791-2600-4F9A-9797-F626F520572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90EF-FADC-4619-99FD-C16E8E5C3C1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FCCE-E0D5-47B6-899B-B48030D6AA2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7369-58B9-43BC-A209-133CC8CF41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7211-DC8B-42B8-A7BF-7EC0DE4EA10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A70D-3210-4034-A417-79EDE3768FA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A646-8186-4AC3-BC56-587AC75C5EC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D1FE-34BB-4426-8545-275946B309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4D2D-779B-4247-A4DE-7136D57E38F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BCA4-58B4-4FD0-99A2-70508BE4238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83E4-A5B1-4595-94A9-C93903702DF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59E-0B7B-454C-A5B3-9CEF98B4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07C7-D73D-4883-9D3F-CB3DB473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0AFE-A329-44E4-BD26-2C443E80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A53A-670B-43FC-96A6-FE3F38F0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A9CB-F5C0-42DE-B738-FFA8D6B2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A235-A82B-48D6-B632-78DC2ACA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D9BE-CD57-4163-82B7-29830654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45A9-1164-4123-ACC1-335C78AA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DDF9-DD5B-41F8-BBE1-9B6AF84D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5CF9-A58D-4CAC-9F64-98F2E21A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8B3C-A2B3-4F9F-AAC2-4B821E25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B77C-AA71-46E7-9AE2-F3B6C563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BFC6-05A1-4A50-A723-ED849B110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осударственное бюджетное образовательное учреждение города Москвы  «Многофункциональная школа № 1955» 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184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Организация и проведение прогулки в подготовительной группе №8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арова Елена Николае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тель ГБОУ № 1955 здание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сква, 201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стоятельная деятельность дете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Users\imblonde\Desktop\IMG-20180420-WA0020.jpg"/>
          <p:cNvPicPr/>
          <p:nvPr/>
        </p:nvPicPr>
        <p:blipFill>
          <a:blip r:embed="rId2"/>
          <a:stretch/>
        </p:blipFill>
        <p:spPr>
          <a:xfrm>
            <a:off x="755640" y="2421000"/>
            <a:ext cx="3840120" cy="2881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Users\imblonde\Desktop\IMG-20180420-WA0062.jpg"/>
          <p:cNvPicPr/>
          <p:nvPr/>
        </p:nvPicPr>
        <p:blipFill>
          <a:blip r:embed="rId3"/>
          <a:stretch/>
        </p:blipFill>
        <p:spPr>
          <a:xfrm>
            <a:off x="5076720" y="4162320"/>
            <a:ext cx="3311640" cy="2482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Users\imblonde\Desktop\IMG-20180423-WA0019.jpg"/>
          <p:cNvPicPr/>
          <p:nvPr/>
        </p:nvPicPr>
        <p:blipFill>
          <a:blip r:embed="rId4"/>
          <a:stretch/>
        </p:blipFill>
        <p:spPr>
          <a:xfrm>
            <a:off x="5076720" y="1628640"/>
            <a:ext cx="3197160" cy="2398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енняя прогулка, которая была проведена в утренней отрезок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за вет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очнить представление о ветр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од наблю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тер, ветер, ты могуч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ы гоняешь стаи туч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 волнуешь сине мор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юду веешь на просто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. Пушк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лагаем детям понаблюдать, как раскачиваются ветви деревьев, задаем вопрос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им бывает ветер? Почему дует вете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дух в атмосфере нагревается по-разному: теплый воздух, более легкий, поднимается вверх, а холодный, более тяжелый, стелется понизу. Происходит движение воздуха. Сила ветра зависит от разницы температур холодного и теплого воздуха. Чем быстрее передвигаются массы воздуха, тем сильнее вет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♦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овите наиболее сильные ветры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Ураганы, тайфуны, метели, бураны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абый ветер называется бриз. Люди, наблюдающие за силой и направлением ветра, называются метеорологами, синоптик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♦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но ли увидеть следы ветра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imblonde\Desktop\IMG-20180420-WA0024.jpg"/>
          <p:cNvPicPr/>
          <p:nvPr/>
        </p:nvPicPr>
        <p:blipFill>
          <a:blip r:embed="rId2"/>
          <a:stretch/>
        </p:blipFill>
        <p:spPr>
          <a:xfrm>
            <a:off x="6443640" y="1557360"/>
            <a:ext cx="2417760" cy="1812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тельская деятельность (самостоятельная деятельность детей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ить направление и силу ветра с помощью флюг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imblonde\Desktop\IMG-20180420-WA0001.jpg"/>
          <p:cNvPicPr/>
          <p:nvPr/>
        </p:nvPicPr>
        <p:blipFill>
          <a:blip r:embed="rId2"/>
          <a:stretch/>
        </p:blipFill>
        <p:spPr>
          <a:xfrm>
            <a:off x="5003640" y="2924280"/>
            <a:ext cx="3665520" cy="2749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imblonde\Desktop\IMG-20180420-WA0002.jpg"/>
          <p:cNvPicPr/>
          <p:nvPr/>
        </p:nvPicPr>
        <p:blipFill>
          <a:blip r:embed="rId3"/>
          <a:stretch/>
        </p:blipFill>
        <p:spPr>
          <a:xfrm>
            <a:off x="971640" y="2852640"/>
            <a:ext cx="3713040" cy="278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удовая 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бор поломанных веток на участ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реплять умение работать сообща, выполнять задания общими усили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вижная иг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логическая игра с мячом «Я знаю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реплять названия объектов природы (звери, птицы, рыбы, деревья, цвет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дивидуальная рабо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еребрасывание мяча друг другу сниз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вать координацию движ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Users\imblonde\Desktop\IMG-20180420-WA0007.jpg"/>
          <p:cNvPicPr/>
          <p:nvPr/>
        </p:nvPicPr>
        <p:blipFill>
          <a:blip r:embed="rId2"/>
          <a:stretch/>
        </p:blipFill>
        <p:spPr>
          <a:xfrm>
            <a:off x="5987880" y="4005360"/>
            <a:ext cx="2560680" cy="1920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Users\imblonde\Desktop\IMG-20180420-WA0016 (1).jpg"/>
          <p:cNvPicPr/>
          <p:nvPr/>
        </p:nvPicPr>
        <p:blipFill>
          <a:blip r:embed="rId3"/>
          <a:stretch/>
        </p:blipFill>
        <p:spPr>
          <a:xfrm>
            <a:off x="347760" y="4005360"/>
            <a:ext cx="2633400" cy="1974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imblonde\Desktop\IMG-20180420-WA0021.jpg"/>
          <p:cNvPicPr/>
          <p:nvPr/>
        </p:nvPicPr>
        <p:blipFill>
          <a:blip r:embed="rId4"/>
          <a:stretch/>
        </p:blipFill>
        <p:spPr>
          <a:xfrm>
            <a:off x="3203640" y="400536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енняя прогулка, которая была проведена в утренней отрезок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за камн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комить с разнообразием камней и их свойств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од наблю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участке детского сада спрятать «волшебную шкатулку» с разнообразными камн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метить на карте место нахождения камней. После обнаружения шкатулки прочитать и обсудить стихотворение «Алмазная гор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мокли брюки и носк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ела мошка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не уйду я от рек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верно, до у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просто так сюда прише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прихожу семь л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друг я камешки наше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излучают свет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ин — как мамины глаза 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зрачно-голубо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виноградная ло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Users\imblonde\Desktop\IMG-20180423-WA0008.jpg"/>
          <p:cNvPicPr/>
          <p:nvPr/>
        </p:nvPicPr>
        <p:blipFill>
          <a:blip r:embed="rId2"/>
          <a:stretch/>
        </p:blipFill>
        <p:spPr>
          <a:xfrm>
            <a:off x="6012000" y="2997360"/>
            <a:ext cx="2752560" cy="2065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imblonde\Desktop\IMG-20180423-WA0009.jpg"/>
          <p:cNvPicPr/>
          <p:nvPr/>
        </p:nvPicPr>
        <p:blipFill>
          <a:blip r:embed="rId3"/>
          <a:stretch/>
        </p:blipFill>
        <p:spPr>
          <a:xfrm>
            <a:off x="3203640" y="4149720"/>
            <a:ext cx="2728800" cy="2046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елененький — друг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третий — солнышка светле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друг это алмаз?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отнесу его в музе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нице в класс.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. Кудрявц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седа с деть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 камнях из шкатулки, предлагаем ответить на вопро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 из вас находил камн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это происходил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ие они был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но ли найти камни на территории нашего детского сад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тельская 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йти камни на участке детского сада: серого цвета, круглой формы, большие и маленьк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Users\imblonde\Desktop\IMG-20180422-WA0000.jpg"/>
          <p:cNvPicPr/>
          <p:nvPr/>
        </p:nvPicPr>
        <p:blipFill>
          <a:blip r:embed="rId2"/>
          <a:stretch/>
        </p:blipFill>
        <p:spPr>
          <a:xfrm>
            <a:off x="324000" y="3933720"/>
            <a:ext cx="2735280" cy="2051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imblonde\Desktop\IMG-20180420-WA0018.jpg"/>
          <p:cNvPicPr/>
          <p:nvPr/>
        </p:nvPicPr>
        <p:blipFill>
          <a:blip r:embed="rId3"/>
          <a:stretch/>
        </p:blipFill>
        <p:spPr>
          <a:xfrm>
            <a:off x="3203640" y="3933720"/>
            <a:ext cx="2728800" cy="2046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Users\imblonde\Desktop\IMG-20180420-WA0034.jpg"/>
          <p:cNvPicPr/>
          <p:nvPr/>
        </p:nvPicPr>
        <p:blipFill>
          <a:blip r:embed="rId4"/>
          <a:stretch/>
        </p:blipFill>
        <p:spPr>
          <a:xfrm>
            <a:off x="6084720" y="3933720"/>
            <a:ext cx="2729160" cy="2046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удовая 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готовка огорода к дальнейшей работе; уборка мус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ировать желание работать сообщ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вижные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Кто быстрее?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реплять умение двигаться по сигналу на носках, с высоким подниманием колен, галоп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Ручеек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реплять умение двигаться пар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дивидуальная рабо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звитие движ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ершенствовать навыки катания обруча в произвольном направл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imblonde\Desktop\IMG-20180423-WA0024.jpg"/>
          <p:cNvPicPr/>
          <p:nvPr/>
        </p:nvPicPr>
        <p:blipFill>
          <a:blip r:embed="rId2"/>
          <a:stretch/>
        </p:blipFill>
        <p:spPr>
          <a:xfrm>
            <a:off x="6156360" y="3789360"/>
            <a:ext cx="2717640" cy="2038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imblonde\Desktop\IMG-20180420-WA0045.jpg"/>
          <p:cNvPicPr/>
          <p:nvPr/>
        </p:nvPicPr>
        <p:blipFill>
          <a:blip r:embed="rId3"/>
          <a:stretch/>
        </p:blipFill>
        <p:spPr>
          <a:xfrm>
            <a:off x="3203640" y="3789360"/>
            <a:ext cx="2784240" cy="2087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:\Users\imblonde\Desktop\IMG-20180420-WA0027.jpg"/>
          <p:cNvPicPr/>
          <p:nvPr/>
        </p:nvPicPr>
        <p:blipFill>
          <a:blip r:embed="rId4"/>
          <a:stretch/>
        </p:blipFill>
        <p:spPr>
          <a:xfrm>
            <a:off x="250920" y="3716280"/>
            <a:ext cx="2801880" cy="21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улка – одна из сложнейших видов деятельности воспитателя, это  важный режимный момент, требующий от педагога высокого профессионализма. Правильно организованные и продуманные прогулки помогают осуществлять задачи всестороннего развития дете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ждая прогулка состоит из следующих элемен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дов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игательная ак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ая работа с дет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стоятельная деятельность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блюдения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объектами живой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C:\Users\imblonde\Desktop\IMG-20180420-WA0010.jpg"/>
          <p:cNvPicPr/>
          <p:nvPr/>
        </p:nvPicPr>
        <p:blipFill>
          <a:blip r:embed="rId2"/>
          <a:stretch/>
        </p:blipFill>
        <p:spPr>
          <a:xfrm>
            <a:off x="5292720" y="4149720"/>
            <a:ext cx="3166920" cy="2506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C:\Users\imblonde\Desktop\IMG-20180420-WA0023.jpg"/>
          <p:cNvPicPr/>
          <p:nvPr/>
        </p:nvPicPr>
        <p:blipFill>
          <a:blip r:embed="rId3"/>
          <a:stretch/>
        </p:blipFill>
        <p:spPr>
          <a:xfrm>
            <a:off x="658800" y="4149720"/>
            <a:ext cx="3402000" cy="254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C:\Users\imblonde\Desktop\IMG-20180420-WA0033.jpg"/>
          <p:cNvPicPr/>
          <p:nvPr/>
        </p:nvPicPr>
        <p:blipFill>
          <a:blip r:embed="rId4"/>
          <a:stretch/>
        </p:blipFill>
        <p:spPr>
          <a:xfrm>
            <a:off x="3059280" y="1916280"/>
            <a:ext cx="2896920" cy="2172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объектами неживой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imblonde\Desktop\IMG-20180420-WA0030.jpg"/>
          <p:cNvPicPr/>
          <p:nvPr/>
        </p:nvPicPr>
        <p:blipFill>
          <a:blip r:embed="rId2"/>
          <a:stretch/>
        </p:blipFill>
        <p:spPr>
          <a:xfrm>
            <a:off x="4788000" y="3573360"/>
            <a:ext cx="4128840" cy="3095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imblonde\Desktop\IMG-20180420-WA0040.jpg"/>
          <p:cNvPicPr/>
          <p:nvPr/>
        </p:nvPicPr>
        <p:blipFill>
          <a:blip r:embed="rId3"/>
          <a:stretch/>
        </p:blipFill>
        <p:spPr>
          <a:xfrm>
            <a:off x="539640" y="2421000"/>
            <a:ext cx="3936960" cy="295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живыми объек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C:\Users\imblonde\Desktop\IMG-20180420-WA0035.jpg"/>
          <p:cNvPicPr/>
          <p:nvPr/>
        </p:nvPicPr>
        <p:blipFill>
          <a:blip r:embed="rId2"/>
          <a:stretch/>
        </p:blipFill>
        <p:spPr>
          <a:xfrm>
            <a:off x="611280" y="1413000"/>
            <a:ext cx="3168720" cy="2624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Users\imblonde\Desktop\IMG-20180420-WA0015.jpg"/>
          <p:cNvPicPr/>
          <p:nvPr/>
        </p:nvPicPr>
        <p:blipFill>
          <a:blip r:embed="rId3"/>
          <a:stretch/>
        </p:blipFill>
        <p:spPr>
          <a:xfrm>
            <a:off x="4643280" y="4149720"/>
            <a:ext cx="3024360" cy="2576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Users\imblonde\Desktop\IMG-20180420-WA0037.jpg"/>
          <p:cNvPicPr/>
          <p:nvPr/>
        </p:nvPicPr>
        <p:blipFill>
          <a:blip r:embed="rId4"/>
          <a:stretch/>
        </p:blipFill>
        <p:spPr>
          <a:xfrm>
            <a:off x="4572000" y="1413000"/>
            <a:ext cx="3111480" cy="2620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:\Users\imblonde\Desktop\IMG-20180420-WA0008.jpg"/>
          <p:cNvPicPr/>
          <p:nvPr/>
        </p:nvPicPr>
        <p:blipFill>
          <a:blip r:embed="rId5"/>
          <a:stretch/>
        </p:blipFill>
        <p:spPr>
          <a:xfrm>
            <a:off x="539640" y="4149720"/>
            <a:ext cx="3600720" cy="2541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удовая деятельность</a:t>
            </a:r>
            <a:br>
              <a:rPr sz="4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ндивидуальные поручения, коллективный труд, работа в группах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C:\Users\imblonde\Desktop\IMG-20180420-WA0055.jpg"/>
          <p:cNvPicPr/>
          <p:nvPr/>
        </p:nvPicPr>
        <p:blipFill>
          <a:blip r:embed="rId2"/>
          <a:stretch/>
        </p:blipFill>
        <p:spPr>
          <a:xfrm>
            <a:off x="900000" y="1989000"/>
            <a:ext cx="2880000" cy="215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imblonde\Desktop\IMG-20180420-WA0016.jpg"/>
          <p:cNvPicPr/>
          <p:nvPr/>
        </p:nvPicPr>
        <p:blipFill>
          <a:blip r:embed="rId3"/>
          <a:stretch/>
        </p:blipFill>
        <p:spPr>
          <a:xfrm>
            <a:off x="900000" y="4365720"/>
            <a:ext cx="2951280" cy="2212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C:\Users\imblonde\Desktop\IMG-20180420-WA0014.jpg"/>
          <p:cNvPicPr/>
          <p:nvPr/>
        </p:nvPicPr>
        <p:blipFill>
          <a:blip r:embed="rId4"/>
          <a:stretch/>
        </p:blipFill>
        <p:spPr>
          <a:xfrm>
            <a:off x="5148360" y="198900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C:\Users\imblonde\Desktop\IMG-20180420-WA0026.jpg"/>
          <p:cNvPicPr/>
          <p:nvPr/>
        </p:nvPicPr>
        <p:blipFill>
          <a:blip r:embed="rId5"/>
          <a:stretch/>
        </p:blipFill>
        <p:spPr>
          <a:xfrm>
            <a:off x="5111640" y="4365720"/>
            <a:ext cx="288000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игательная активнос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imblonde\Desktop\IMG-20180420-WA0044.jpg"/>
          <p:cNvPicPr/>
          <p:nvPr/>
        </p:nvPicPr>
        <p:blipFill>
          <a:blip r:embed="rId2"/>
          <a:stretch/>
        </p:blipFill>
        <p:spPr>
          <a:xfrm>
            <a:off x="4859280" y="400536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imblonde\Desktop\IMG-20180420-WA0039.jpg"/>
          <p:cNvPicPr/>
          <p:nvPr/>
        </p:nvPicPr>
        <p:blipFill>
          <a:blip r:embed="rId3"/>
          <a:stretch/>
        </p:blipFill>
        <p:spPr>
          <a:xfrm>
            <a:off x="684360" y="4005360"/>
            <a:ext cx="3263760" cy="244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imblonde\Desktop\IMG-20180420-WA0049.jpg"/>
          <p:cNvPicPr/>
          <p:nvPr/>
        </p:nvPicPr>
        <p:blipFill>
          <a:blip r:embed="rId4"/>
          <a:stretch/>
        </p:blipFill>
        <p:spPr>
          <a:xfrm>
            <a:off x="755640" y="1484280"/>
            <a:ext cx="3192480" cy="2395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:\Users\imblonde\Desktop\IMG-20180423-WA0013.jpg"/>
          <p:cNvPicPr/>
          <p:nvPr/>
        </p:nvPicPr>
        <p:blipFill>
          <a:blip r:embed="rId5"/>
          <a:stretch/>
        </p:blipFill>
        <p:spPr>
          <a:xfrm>
            <a:off x="4788000" y="1484280"/>
            <a:ext cx="3368520" cy="2290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видуальная работа с детьми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imblonde\Desktop\IMG-20180420-WA0005.jpg"/>
          <p:cNvPicPr/>
          <p:nvPr/>
        </p:nvPicPr>
        <p:blipFill>
          <a:blip r:embed="rId2"/>
          <a:stretch/>
        </p:blipFill>
        <p:spPr>
          <a:xfrm>
            <a:off x="4427640" y="4149720"/>
            <a:ext cx="3313080" cy="2482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Users\imblonde\Desktop\IMG-20180420-WA0053.jpg"/>
          <p:cNvPicPr/>
          <p:nvPr/>
        </p:nvPicPr>
        <p:blipFill>
          <a:blip r:embed="rId3"/>
          <a:stretch/>
        </p:blipFill>
        <p:spPr>
          <a:xfrm>
            <a:off x="611280" y="1916280"/>
            <a:ext cx="3143160" cy="4084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Users\imblonde\Desktop\IMG-20180423-WA0005.jpg"/>
          <p:cNvPicPr/>
          <p:nvPr/>
        </p:nvPicPr>
        <p:blipFill>
          <a:blip r:embed="rId4"/>
          <a:stretch/>
        </p:blipFill>
        <p:spPr>
          <a:xfrm>
            <a:off x="4427640" y="1557360"/>
            <a:ext cx="3360600" cy="2519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0:11:32Z</dcterms:created>
  <dc:creator>family</dc:creator>
  <dc:description/>
  <dc:language>en-US</dc:language>
  <cp:lastModifiedBy>family</cp:lastModifiedBy>
  <dcterms:modified xsi:type="dcterms:W3CDTF">2018-11-08T18:28:11Z</dcterms:modified>
  <cp:revision>48</cp:revision>
  <dc:subject/>
  <dc:title>Государственное бюджетное образовательное учреждение города Москвы  «Многофункциональная школа № 1955»</dc:title>
</cp:coreProperties>
</file>