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22E-13A9-4144-9169-C658BE13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46A-D84A-4F80-B3AF-1DAA64C0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8C1-8535-41B7-8B10-4B2C7B64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0AE-3151-49C6-AB0A-652874A2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B6C-0B03-41FC-8216-80830592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9AB-D4D8-495F-9DC6-A482A7B1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533-D630-4B7D-AABC-4378A88D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2CB-407B-4002-B82D-E84F2336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B79-DFFB-482E-9194-8CFFAAB9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7FB-A929-479F-849D-31BFA851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D3E-6E04-40C0-9206-A83A6D7F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487-54B9-4F28-A9E8-5F85FF59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7B14-A381-40A4-8B2A-27944BE1E6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267080" y="18860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a50021"/>
                </a:solidFill>
                <a:uFillTx/>
                <a:latin typeface="Times New Roman"/>
              </a:rPr>
              <a:t>Рельеф Земл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сканирование0005"/>
          <p:cNvPicPr/>
          <p:nvPr/>
        </p:nvPicPr>
        <p:blipFill>
          <a:blip r:embed="rId1"/>
          <a:stretch/>
        </p:blipFill>
        <p:spPr>
          <a:xfrm>
            <a:off x="152280" y="152280"/>
            <a:ext cx="4251600" cy="655344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a50021"/>
                </a:solidFill>
                <a:uFillTx/>
                <a:latin typeface="Times New Roman"/>
              </a:rPr>
              <a:t>Рельеф Земл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489480" y="1771560"/>
            <a:ext cx="12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17680" y="2784600"/>
            <a:ext cx="86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а строения земной коры. Геологическое летоисчисл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язь рельефа со строением земной к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Карта строения земной коры. </a:t>
            </a:r>
            <a:br>
              <a:rPr sz="2400"/>
            </a:b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Геологическое летоисчисл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457560" y="1295280"/>
            <a:ext cx="841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«Карту строения земной коры» в атлас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о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способом качественного фон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карте изобража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озра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емной коры, её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структу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5800" y="304812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Представим формирование земной коры в ви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«геологических часов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5"/>
          <p:cNvSpPr/>
          <p:nvPr/>
        </p:nvSpPr>
        <p:spPr>
          <a:xfrm>
            <a:off x="1066680" y="3809880"/>
            <a:ext cx="2971800" cy="2743200"/>
          </a:xfrm>
          <a:prstGeom prst="ellipse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"/>
          <p:cNvSpPr/>
          <p:nvPr/>
        </p:nvSpPr>
        <p:spPr>
          <a:xfrm>
            <a:off x="2514600" y="38098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106668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2651040" y="4191120"/>
            <a:ext cx="85428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743200" y="5334120"/>
            <a:ext cx="762120" cy="825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1600200" y="5334120"/>
            <a:ext cx="685800" cy="825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1676520" y="4191120"/>
            <a:ext cx="60948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4964400" y="3962520"/>
            <a:ext cx="419508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евнейшие эры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ейская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ерозойск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4935960" y="4765680"/>
            <a:ext cx="335376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евняя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е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ск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4952880" y="525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952880" y="518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4935960" y="5222880"/>
            <a:ext cx="32443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яя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з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ск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4937040" y="5680080"/>
            <a:ext cx="30841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ая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йн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ск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3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218600" y="498600"/>
            <a:ext cx="663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Какие структуры земной коры соответству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геологическим эра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200400" y="1676520"/>
            <a:ext cx="2971800" cy="2743200"/>
          </a:xfrm>
          <a:prstGeom prst="ellipse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648320" y="16765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200400" y="3048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800600" y="2057400"/>
            <a:ext cx="85392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800600" y="3200400"/>
            <a:ext cx="762120" cy="825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809880" y="3200400"/>
            <a:ext cx="685800" cy="825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809880" y="2057400"/>
            <a:ext cx="60984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5715000" y="1676520"/>
            <a:ext cx="8380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615000" y="1413000"/>
            <a:ext cx="23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ПЛАТФО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5638680" y="419112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3657600" y="4038480"/>
            <a:ext cx="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4"/>
          <p:cNvSpPr/>
          <p:nvPr/>
        </p:nvSpPr>
        <p:spPr>
          <a:xfrm flipH="1">
            <a:off x="533520" y="1981080"/>
            <a:ext cx="32004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533520" y="1981080"/>
            <a:ext cx="0" cy="762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6"/>
          <p:cNvSpPr/>
          <p:nvPr/>
        </p:nvSpPr>
        <p:spPr>
          <a:xfrm flipH="1">
            <a:off x="609480" y="5105520"/>
            <a:ext cx="50292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28600" y="2666880"/>
            <a:ext cx="275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СКЛАДЧАТЫЕ ОБЛА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18"/>
          <p:cNvSpPr/>
          <p:nvPr/>
        </p:nvSpPr>
        <p:spPr>
          <a:xfrm>
            <a:off x="152280" y="3187800"/>
            <a:ext cx="3581640" cy="1892160"/>
          </a:xfrm>
          <a:custGeom>
            <a:avLst/>
            <a:gdLst>
              <a:gd name="textAreaLeft" fmla="*/ 0 w 3581640"/>
              <a:gd name="textAreaRight" fmla="*/ 3582000 w 35816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256" h="1192">
                <a:moveTo>
                  <a:pt x="0" y="1064"/>
                </a:moveTo>
                <a:cubicBezTo>
                  <a:pt x="80" y="776"/>
                  <a:pt x="160" y="488"/>
                  <a:pt x="240" y="440"/>
                </a:cubicBezTo>
                <a:cubicBezTo>
                  <a:pt x="320" y="392"/>
                  <a:pt x="384" y="800"/>
                  <a:pt x="480" y="776"/>
                </a:cubicBezTo>
                <a:cubicBezTo>
                  <a:pt x="576" y="752"/>
                  <a:pt x="720" y="304"/>
                  <a:pt x="816" y="296"/>
                </a:cubicBezTo>
                <a:cubicBezTo>
                  <a:pt x="912" y="288"/>
                  <a:pt x="952" y="768"/>
                  <a:pt x="1056" y="728"/>
                </a:cubicBezTo>
                <a:cubicBezTo>
                  <a:pt x="1160" y="688"/>
                  <a:pt x="1328" y="0"/>
                  <a:pt x="1440" y="56"/>
                </a:cubicBezTo>
                <a:cubicBezTo>
                  <a:pt x="1552" y="112"/>
                  <a:pt x="1624" y="936"/>
                  <a:pt x="1728" y="1064"/>
                </a:cubicBezTo>
                <a:cubicBezTo>
                  <a:pt x="1832" y="1192"/>
                  <a:pt x="1976" y="824"/>
                  <a:pt x="2064" y="824"/>
                </a:cubicBezTo>
                <a:cubicBezTo>
                  <a:pt x="2152" y="824"/>
                  <a:pt x="2224" y="1024"/>
                  <a:pt x="2256" y="10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380880" y="4241880"/>
            <a:ext cx="3276720" cy="87624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2064" h="552">
                <a:moveTo>
                  <a:pt x="0" y="496"/>
                </a:moveTo>
                <a:cubicBezTo>
                  <a:pt x="48" y="344"/>
                  <a:pt x="96" y="192"/>
                  <a:pt x="144" y="160"/>
                </a:cubicBezTo>
                <a:cubicBezTo>
                  <a:pt x="192" y="128"/>
                  <a:pt x="224" y="320"/>
                  <a:pt x="288" y="304"/>
                </a:cubicBezTo>
                <a:cubicBezTo>
                  <a:pt x="352" y="288"/>
                  <a:pt x="464" y="72"/>
                  <a:pt x="528" y="64"/>
                </a:cubicBezTo>
                <a:cubicBezTo>
                  <a:pt x="592" y="56"/>
                  <a:pt x="608" y="200"/>
                  <a:pt x="672" y="256"/>
                </a:cubicBezTo>
                <a:cubicBezTo>
                  <a:pt x="736" y="312"/>
                  <a:pt x="824" y="440"/>
                  <a:pt x="912" y="400"/>
                </a:cubicBezTo>
                <a:cubicBezTo>
                  <a:pt x="1000" y="360"/>
                  <a:pt x="1088" y="0"/>
                  <a:pt x="1200" y="16"/>
                </a:cubicBezTo>
                <a:cubicBezTo>
                  <a:pt x="1312" y="32"/>
                  <a:pt x="1472" y="440"/>
                  <a:pt x="1584" y="496"/>
                </a:cubicBezTo>
                <a:cubicBezTo>
                  <a:pt x="1696" y="552"/>
                  <a:pt x="1792" y="360"/>
                  <a:pt x="1872" y="352"/>
                </a:cubicBezTo>
                <a:cubicBezTo>
                  <a:pt x="1952" y="344"/>
                  <a:pt x="2008" y="396"/>
                  <a:pt x="2064" y="4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21"/>
          <p:cNvSpPr/>
          <p:nvPr/>
        </p:nvSpPr>
        <p:spPr>
          <a:xfrm>
            <a:off x="6553080" y="2133720"/>
            <a:ext cx="2514600" cy="7596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584" h="48">
                <a:moveTo>
                  <a:pt x="0" y="48"/>
                </a:moveTo>
                <a:cubicBezTo>
                  <a:pt x="112" y="24"/>
                  <a:pt x="224" y="0"/>
                  <a:pt x="336" y="0"/>
                </a:cubicBezTo>
                <a:cubicBezTo>
                  <a:pt x="448" y="0"/>
                  <a:pt x="552" y="48"/>
                  <a:pt x="672" y="48"/>
                </a:cubicBezTo>
                <a:cubicBezTo>
                  <a:pt x="792" y="48"/>
                  <a:pt x="936" y="0"/>
                  <a:pt x="1056" y="0"/>
                </a:cubicBezTo>
                <a:cubicBezTo>
                  <a:pt x="1176" y="0"/>
                  <a:pt x="1304" y="48"/>
                  <a:pt x="1392" y="48"/>
                </a:cubicBezTo>
                <a:cubicBezTo>
                  <a:pt x="1480" y="48"/>
                  <a:pt x="1532" y="24"/>
                  <a:pt x="158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22"/>
          <p:cNvSpPr/>
          <p:nvPr/>
        </p:nvSpPr>
        <p:spPr>
          <a:xfrm>
            <a:off x="6705720" y="2349360"/>
            <a:ext cx="2361960" cy="8892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488" h="56">
                <a:moveTo>
                  <a:pt x="0" y="56"/>
                </a:moveTo>
                <a:cubicBezTo>
                  <a:pt x="112" y="36"/>
                  <a:pt x="224" y="16"/>
                  <a:pt x="336" y="8"/>
                </a:cubicBezTo>
                <a:cubicBezTo>
                  <a:pt x="448" y="0"/>
                  <a:pt x="544" y="8"/>
                  <a:pt x="672" y="8"/>
                </a:cubicBezTo>
                <a:cubicBezTo>
                  <a:pt x="800" y="8"/>
                  <a:pt x="968" y="8"/>
                  <a:pt x="1104" y="8"/>
                </a:cubicBezTo>
                <a:cubicBezTo>
                  <a:pt x="1240" y="8"/>
                  <a:pt x="1424" y="8"/>
                  <a:pt x="148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reeform 23"/>
          <p:cNvSpPr/>
          <p:nvPr/>
        </p:nvSpPr>
        <p:spPr>
          <a:xfrm>
            <a:off x="6705720" y="2514600"/>
            <a:ext cx="2438280" cy="1522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36" h="96">
                <a:moveTo>
                  <a:pt x="0" y="96"/>
                </a:moveTo>
                <a:cubicBezTo>
                  <a:pt x="148" y="76"/>
                  <a:pt x="296" y="56"/>
                  <a:pt x="480" y="48"/>
                </a:cubicBezTo>
                <a:cubicBezTo>
                  <a:pt x="664" y="40"/>
                  <a:pt x="928" y="56"/>
                  <a:pt x="1104" y="48"/>
                </a:cubicBezTo>
                <a:cubicBezTo>
                  <a:pt x="1280" y="40"/>
                  <a:pt x="1408" y="20"/>
                  <a:pt x="153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6690240" y="2708280"/>
            <a:ext cx="22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     +      +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     +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5"/>
          <p:cNvSpPr/>
          <p:nvPr/>
        </p:nvSpPr>
        <p:spPr>
          <a:xfrm>
            <a:off x="6553080" y="205740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228600" y="3505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7"/>
          <p:cNvSpPr/>
          <p:nvPr/>
        </p:nvSpPr>
        <p:spPr>
          <a:xfrm>
            <a:off x="152640" y="5181480"/>
            <a:ext cx="26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Times New Roman"/>
              </a:rPr>
              <a:t>(неустойчивые участ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933ff"/>
                </a:solidFill>
                <a:latin typeface="Times New Roman"/>
              </a:rPr>
              <a:t>земной кор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8"/>
          <p:cNvSpPr/>
          <p:nvPr/>
        </p:nvSpPr>
        <p:spPr>
          <a:xfrm>
            <a:off x="6613920" y="3619440"/>
            <a:ext cx="24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Times New Roman"/>
              </a:rPr>
              <a:t>(древние устойчив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Times New Roman"/>
              </a:rPr>
              <a:t>участки земной кор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6936840" y="2286000"/>
            <a:ext cx="170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99"/>
                </a:solidFill>
                <a:latin typeface="Times New Roman"/>
              </a:rPr>
              <a:t>осадочный чех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0"/>
          <p:cNvSpPr/>
          <p:nvPr/>
        </p:nvSpPr>
        <p:spPr>
          <a:xfrm>
            <a:off x="7162920" y="289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7088400" y="28926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imes New Roman"/>
              </a:rPr>
              <a:t>фунда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3"/>
          <p:cNvSpPr/>
          <p:nvPr/>
        </p:nvSpPr>
        <p:spPr>
          <a:xfrm>
            <a:off x="365040" y="461340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  +    +       +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Связь рельефа со строением земной к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28600" y="14889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вним карты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троение земной коры»            и        «Физическую карту мир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4600" y="2590920"/>
            <a:ext cx="23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ПЛАТФО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928840" y="255600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00"/>
                </a:solidFill>
                <a:uFillTx/>
                <a:latin typeface="Times New Roman"/>
              </a:rPr>
              <a:t>РАВН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4628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57200" y="4800600"/>
            <a:ext cx="275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СКЛАДЧАТЫЕ ОБЛА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326280" y="47242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6600"/>
                </a:solidFill>
                <a:uFillTx/>
                <a:latin typeface="Times New Roman"/>
              </a:rPr>
              <a:t>Г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9"/>
          <p:cNvSpPr/>
          <p:nvPr/>
        </p:nvSpPr>
        <p:spPr>
          <a:xfrm>
            <a:off x="3276720" y="2895480"/>
            <a:ext cx="2057400" cy="0"/>
          </a:xfrm>
          <a:prstGeom prst="line">
            <a:avLst/>
          </a:prstGeom>
          <a:ln w="25560">
            <a:solidFill>
              <a:srgbClr val="cc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3352680" y="5029200"/>
            <a:ext cx="2057400" cy="0"/>
          </a:xfrm>
          <a:prstGeom prst="line">
            <a:avLst/>
          </a:prstGeom>
          <a:ln w="25560">
            <a:solidFill>
              <a:srgbClr val="cc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107880" y="583236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Приведите ПРИМЕ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219320" y="22860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Связь рельефа со строением земной к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самостоятельная работа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айдите соответствие, используя те же карты: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3880" y="1397160"/>
          <a:ext cx="6096240" cy="5151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Строение земной к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Форма рельеф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хоокеанский сейсмический поя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точно – Европейская равн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фрикано – Аравий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сибирское плоскогор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точно – Европей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азонская низм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пийско – Гималайский сейсмический поя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ие равн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бир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веро – Американ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ала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жно – Американ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ильский жело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уанский жело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ское нагор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64"/>
          <p:cNvSpPr/>
          <p:nvPr/>
        </p:nvSpPr>
        <p:spPr>
          <a:xfrm>
            <a:off x="1586520" y="6442200"/>
            <a:ext cx="61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Вывод: 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219320" y="22860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Связь рельефа со строением земной к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самостоятельная работа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айдите соответствие, используя те же карты: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1397160"/>
          <a:ext cx="6096240" cy="45352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Строение земной к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Форма рельеф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хоокеанский сейсмический поя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ильский жело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уанский жело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фрикано – Аравий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ское нагор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точно – Европей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точно – Европейская равн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пийско – Гималайский сейсмический поя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ала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бир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сибирское плоскогор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веро – Американ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ие равн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жно – Американская плат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азонская низм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41"/>
          <p:cNvSpPr/>
          <p:nvPr/>
        </p:nvSpPr>
        <p:spPr>
          <a:xfrm>
            <a:off x="1547640" y="595008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Вывод: 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8:11:01Z</dcterms:created>
  <dc:creator>1</dc:creator>
  <dc:description/>
  <dc:language>en-US</dc:language>
  <cp:lastModifiedBy>Latko</cp:lastModifiedBy>
  <dcterms:modified xsi:type="dcterms:W3CDTF">2012-11-19T09:12:34Z</dcterms:modified>
  <cp:revision>7</cp:revision>
  <dc:subject/>
  <dc:title>Презентация PowerPoint</dc:title>
</cp:coreProperties>
</file>