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851-7A13-432D-AAA2-95945322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8DA-178A-4C14-85B9-A310BE3D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FF3-90C0-44CC-88F7-66276173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476-67DA-4C90-A535-3775084C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863-C33C-4BD0-9A23-0AC74582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CF0-A63E-4CA5-B12E-1309DFF0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183-1955-4C0F-876A-B34BA437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6D4-02C7-496B-85CC-596CAF2F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389-FFA7-4022-AD53-48D02B19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2E1-3782-475B-95E5-681FF58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D51-1B5E-43DB-B723-C8172D6B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212-210C-43F1-B9C1-8CA8B62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38E-B17B-449E-8D7F-17A9CCB17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267080" y="1886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a50021"/>
                </a:solidFill>
                <a:uFillTx/>
                <a:latin typeface="Times New Roman"/>
              </a:rPr>
              <a:t>Рельеф Земл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сканирование0005"/>
          <p:cNvPicPr/>
          <p:nvPr/>
        </p:nvPicPr>
        <p:blipFill>
          <a:blip r:embed="rId1"/>
          <a:stretch/>
        </p:blipFill>
        <p:spPr>
          <a:xfrm>
            <a:off x="152280" y="152280"/>
            <a:ext cx="4251600" cy="655344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a50021"/>
                </a:solidFill>
                <a:uFillTx/>
                <a:latin typeface="Times New Roman"/>
              </a:rPr>
              <a:t>Рельеф Земл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489480" y="177156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17680" y="2784600"/>
            <a:ext cx="86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а строения земной коры. Геологическое летоисчис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Карта строения земной коры. </a:t>
            </a:r>
            <a:br>
              <a:rPr sz="24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Геологическое летоисчис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57560" y="1295280"/>
            <a:ext cx="841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«Карту строения земной коры» в атла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способом качественного фон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карте изображ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зр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емной коры, её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5800" y="30481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Представим формирование земной коры в ви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«геологических часов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5"/>
          <p:cNvSpPr/>
          <p:nvPr/>
        </p:nvSpPr>
        <p:spPr>
          <a:xfrm>
            <a:off x="1066680" y="3809880"/>
            <a:ext cx="2971800" cy="274320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514600" y="38098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106668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651040" y="4191120"/>
            <a:ext cx="85428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743200" y="5334120"/>
            <a:ext cx="76212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1600200" y="5334120"/>
            <a:ext cx="68580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676520" y="4191120"/>
            <a:ext cx="60948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964400" y="3962520"/>
            <a:ext cx="419508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евнейшие эр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ейская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ероз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935960" y="4765680"/>
            <a:ext cx="33537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евня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49528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95288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4935960" y="5222880"/>
            <a:ext cx="3244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я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з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4937040" y="5680080"/>
            <a:ext cx="30841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а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й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8600" y="498600"/>
            <a:ext cx="66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Какие структуры земной коры соответству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геологическим эра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200400" y="1676520"/>
            <a:ext cx="2971800" cy="274320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8320" y="1676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20040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800600" y="2057400"/>
            <a:ext cx="85392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800600" y="3200400"/>
            <a:ext cx="76212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809880" y="3200400"/>
            <a:ext cx="68580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809880" y="2057400"/>
            <a:ext cx="6098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715000" y="167652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15000" y="141300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ЛАТ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638680" y="419112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3657600" y="4038480"/>
            <a:ext cx="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533520" y="1981080"/>
            <a:ext cx="3200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533520" y="198108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609480" y="5105520"/>
            <a:ext cx="5029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28600" y="2666880"/>
            <a:ext cx="27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КЛАДЧАТЫЕ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152280" y="3187800"/>
            <a:ext cx="3581640" cy="18921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256" h="1192">
                <a:moveTo>
                  <a:pt x="0" y="1064"/>
                </a:moveTo>
                <a:cubicBezTo>
                  <a:pt x="80" y="776"/>
                  <a:pt x="160" y="488"/>
                  <a:pt x="240" y="440"/>
                </a:cubicBezTo>
                <a:cubicBezTo>
                  <a:pt x="320" y="392"/>
                  <a:pt x="384" y="800"/>
                  <a:pt x="480" y="776"/>
                </a:cubicBezTo>
                <a:cubicBezTo>
                  <a:pt x="576" y="752"/>
                  <a:pt x="720" y="304"/>
                  <a:pt x="816" y="296"/>
                </a:cubicBezTo>
                <a:cubicBezTo>
                  <a:pt x="912" y="288"/>
                  <a:pt x="952" y="768"/>
                  <a:pt x="1056" y="728"/>
                </a:cubicBezTo>
                <a:cubicBezTo>
                  <a:pt x="1160" y="688"/>
                  <a:pt x="1328" y="0"/>
                  <a:pt x="1440" y="56"/>
                </a:cubicBezTo>
                <a:cubicBezTo>
                  <a:pt x="1552" y="112"/>
                  <a:pt x="1624" y="936"/>
                  <a:pt x="1728" y="1064"/>
                </a:cubicBezTo>
                <a:cubicBezTo>
                  <a:pt x="1832" y="1192"/>
                  <a:pt x="1976" y="824"/>
                  <a:pt x="2064" y="824"/>
                </a:cubicBezTo>
                <a:cubicBezTo>
                  <a:pt x="2152" y="824"/>
                  <a:pt x="2224" y="1024"/>
                  <a:pt x="2256" y="10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380880" y="4241880"/>
            <a:ext cx="3276720" cy="8762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064" h="552">
                <a:moveTo>
                  <a:pt x="0" y="496"/>
                </a:moveTo>
                <a:cubicBezTo>
                  <a:pt x="48" y="344"/>
                  <a:pt x="96" y="192"/>
                  <a:pt x="144" y="160"/>
                </a:cubicBezTo>
                <a:cubicBezTo>
                  <a:pt x="192" y="128"/>
                  <a:pt x="224" y="320"/>
                  <a:pt x="288" y="304"/>
                </a:cubicBezTo>
                <a:cubicBezTo>
                  <a:pt x="352" y="288"/>
                  <a:pt x="464" y="72"/>
                  <a:pt x="528" y="64"/>
                </a:cubicBezTo>
                <a:cubicBezTo>
                  <a:pt x="592" y="56"/>
                  <a:pt x="608" y="200"/>
                  <a:pt x="672" y="256"/>
                </a:cubicBezTo>
                <a:cubicBezTo>
                  <a:pt x="736" y="312"/>
                  <a:pt x="824" y="440"/>
                  <a:pt x="912" y="400"/>
                </a:cubicBezTo>
                <a:cubicBezTo>
                  <a:pt x="1000" y="360"/>
                  <a:pt x="1088" y="0"/>
                  <a:pt x="1200" y="16"/>
                </a:cubicBezTo>
                <a:cubicBezTo>
                  <a:pt x="1312" y="32"/>
                  <a:pt x="1472" y="440"/>
                  <a:pt x="1584" y="496"/>
                </a:cubicBezTo>
                <a:cubicBezTo>
                  <a:pt x="1696" y="552"/>
                  <a:pt x="1792" y="360"/>
                  <a:pt x="1872" y="352"/>
                </a:cubicBezTo>
                <a:cubicBezTo>
                  <a:pt x="1952" y="344"/>
                  <a:pt x="2008" y="396"/>
                  <a:pt x="2064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6553080" y="2133720"/>
            <a:ext cx="2514600" cy="759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84" h="48">
                <a:moveTo>
                  <a:pt x="0" y="48"/>
                </a:moveTo>
                <a:cubicBezTo>
                  <a:pt x="112" y="24"/>
                  <a:pt x="224" y="0"/>
                  <a:pt x="336" y="0"/>
                </a:cubicBezTo>
                <a:cubicBezTo>
                  <a:pt x="448" y="0"/>
                  <a:pt x="552" y="48"/>
                  <a:pt x="672" y="48"/>
                </a:cubicBezTo>
                <a:cubicBezTo>
                  <a:pt x="792" y="48"/>
                  <a:pt x="936" y="0"/>
                  <a:pt x="1056" y="0"/>
                </a:cubicBezTo>
                <a:cubicBezTo>
                  <a:pt x="1176" y="0"/>
                  <a:pt x="1304" y="48"/>
                  <a:pt x="1392" y="48"/>
                </a:cubicBezTo>
                <a:cubicBezTo>
                  <a:pt x="1480" y="48"/>
                  <a:pt x="1532" y="24"/>
                  <a:pt x="1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6705720" y="2349360"/>
            <a:ext cx="2361960" cy="88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488" h="56">
                <a:moveTo>
                  <a:pt x="0" y="56"/>
                </a:moveTo>
                <a:cubicBezTo>
                  <a:pt x="112" y="36"/>
                  <a:pt x="224" y="16"/>
                  <a:pt x="336" y="8"/>
                </a:cubicBezTo>
                <a:cubicBezTo>
                  <a:pt x="448" y="0"/>
                  <a:pt x="544" y="8"/>
                  <a:pt x="672" y="8"/>
                </a:cubicBezTo>
                <a:cubicBezTo>
                  <a:pt x="800" y="8"/>
                  <a:pt x="968" y="8"/>
                  <a:pt x="1104" y="8"/>
                </a:cubicBezTo>
                <a:cubicBezTo>
                  <a:pt x="1240" y="8"/>
                  <a:pt x="1424" y="8"/>
                  <a:pt x="148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23"/>
          <p:cNvSpPr/>
          <p:nvPr/>
        </p:nvSpPr>
        <p:spPr>
          <a:xfrm>
            <a:off x="6705720" y="2514600"/>
            <a:ext cx="2438280" cy="1522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36" h="96">
                <a:moveTo>
                  <a:pt x="0" y="96"/>
                </a:moveTo>
                <a:cubicBezTo>
                  <a:pt x="148" y="76"/>
                  <a:pt x="296" y="56"/>
                  <a:pt x="480" y="48"/>
                </a:cubicBezTo>
                <a:cubicBezTo>
                  <a:pt x="664" y="40"/>
                  <a:pt x="928" y="56"/>
                  <a:pt x="1104" y="48"/>
                </a:cubicBezTo>
                <a:cubicBezTo>
                  <a:pt x="1280" y="40"/>
                  <a:pt x="1408" y="20"/>
                  <a:pt x="15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6690240" y="270828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     +      +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     +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6553080" y="205740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228600" y="3505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52640" y="5181480"/>
            <a:ext cx="26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(неустойчивые учас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земной кор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6613920" y="361944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(древние устойчи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участки земной кор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6936840" y="228600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99"/>
                </a:solidFill>
                <a:latin typeface="Times New Roman"/>
              </a:rPr>
              <a:t>осадочный чех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7162920" y="289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7088400" y="28926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365040" y="461340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  +    +       +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28600" y="14889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м карт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троение земной коры»            и        «Физическую карту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4600" y="259092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ЛАТ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928840" y="25560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Times New Roman"/>
              </a:rPr>
              <a:t>РАВН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462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7200" y="4800600"/>
            <a:ext cx="27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КЛАДЧАТЫЕ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326280" y="4724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276720" y="2895480"/>
            <a:ext cx="2057400" cy="0"/>
          </a:xfrm>
          <a:prstGeom prst="line">
            <a:avLst/>
          </a:prstGeom>
          <a:ln w="25560">
            <a:solidFill>
              <a:srgbClr val="cc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352680" y="5029200"/>
            <a:ext cx="2057400" cy="0"/>
          </a:xfrm>
          <a:prstGeom prst="line">
            <a:avLst/>
          </a:prstGeom>
          <a:ln w="25560">
            <a:solidFill>
              <a:srgbClr val="cc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107880" y="583236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риведите ПРИМ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219320" y="228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амостоятельная рабо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йдите соответствие, используя те же карты: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397160"/>
          <a:ext cx="6096240" cy="515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троение земной к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хоокеан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равн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рикано – Арави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азонская низм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ийско – Гималай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ие равн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бир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вер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ала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ль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уан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ское на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64"/>
          <p:cNvSpPr/>
          <p:nvPr/>
        </p:nvSpPr>
        <p:spPr>
          <a:xfrm>
            <a:off x="1586520" y="644220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Вывод: 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219320" y="228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амостоятельная рабо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йдите соответствие, используя те же карты: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1397160"/>
          <a:ext cx="6096240" cy="45352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троение земной к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хоокеан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ль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уан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рикано – Арави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ское на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равн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ийско – Гималай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ала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бир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вер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ие равн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азонская низм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1"/>
          <p:cNvSpPr/>
          <p:nvPr/>
        </p:nvSpPr>
        <p:spPr>
          <a:xfrm>
            <a:off x="1547640" y="59500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Вывод: 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11:01Z</dcterms:created>
  <dc:creator>1</dc:creator>
  <dc:description/>
  <dc:language>en-US</dc:language>
  <cp:lastModifiedBy>Latko</cp:lastModifiedBy>
  <dcterms:modified xsi:type="dcterms:W3CDTF">2012-11-19T09:12:34Z</dcterms:modified>
  <cp:revision>7</cp:revision>
  <dc:subject/>
  <dc:title>Презентация PowerPoint</dc:title>
</cp:coreProperties>
</file>