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037-F7E5-4F1B-B38D-74E147ED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208-71ED-47F6-914E-8BC04E8C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09C-8BBA-4D57-B20A-79A9AEF6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913-96B0-4A03-9C89-AF26C0C1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B7D3-CDD1-49FD-8DBB-DD736B20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F814-9B7D-4E49-849F-B98C4576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1547-9978-4761-94B5-A2FB1300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5A15-FD69-48D8-BD04-2B84C2E5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8369-B588-4332-9607-7B9A42D6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3E43-4BB7-478A-99C7-6409F5EE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A214-CF32-44B4-A983-DBE9E90E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B19-AD45-4607-AE84-7BDCBBF5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8B25-A388-4842-903F-0BF001D1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212E-6CFC-4E56-BE9E-E0DE8B56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D628-B7E0-47DC-8F66-49846217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0F5C-A47C-4E4E-9D6A-8A557482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59CD-FD96-444F-9913-9B23F15D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B15-9F50-4324-88D0-49FBE555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28F-825E-4A6C-92C4-E9BB3504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461-4E2B-446A-BACE-3DE93F15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C69-93DC-49AA-A461-F90C2CC3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7B0-B28A-41DB-BEC8-6D8433D5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6020-591E-4658-B503-9898657B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FAD4-2567-4B2E-8852-1D2E1BCB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7C86-1C67-4D50-9128-35CB1AEAA6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C2C4-3449-4C74-B44E-9394BE6A77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earningapps.org/display?v=p6802daza16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earningapps.org/display?v=pjs9gexjk16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learningapps.org/display?v=psoci3qt318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21" name="Picture 4" descr="301cb490028fbf2a0fc2a297271_prev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4800600" y="1066680"/>
            <a:ext cx="32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The Present Simple </a:t>
            </a: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Ten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0" y="6095880"/>
            <a:ext cx="5029200" cy="762120"/>
          </a:xfrm>
          <a:prstGeom prst="roundRect">
            <a:avLst>
              <a:gd name="adj" fmla="val 1666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хорошева Н.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Гимназия имени Подольских курсантов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терактивные игры на сервере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arningApp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5998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икторина с выбором отве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"The Present Simple Tensе" (вопросительные предложен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learningapps.org/display?v=p6802daza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828800" y="3902040"/>
            <a:ext cx="52578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терактивные игры на сервере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arningApp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67616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икторина с вводом текс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"The Present Simple Tensе" (общий вопрос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    http://learningapps.org/display?v=pjs9gexjk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1752480" y="3505320"/>
            <a:ext cx="5715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настоящее простое врем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228600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лова подсказк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ually [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u: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З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u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o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быч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way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lweiz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се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ften  [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f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ча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ldom  [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ld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]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д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metimes [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Λ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taimz]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н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Эти слова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 утвердительном предложениях стоят после подлежащ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Действие происходит регулярно, через        определенный промежуток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3" descr="10deac4b3cfbt"/>
          <p:cNvPicPr/>
          <p:nvPr/>
        </p:nvPicPr>
        <p:blipFill>
          <a:blip r:embed="rId1"/>
          <a:stretch/>
        </p:blipFill>
        <p:spPr>
          <a:xfrm>
            <a:off x="5105520" y="2666880"/>
            <a:ext cx="38098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Словосочетания стоят в конце предло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[ evri ]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аждый д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rning, evening,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mmer, winter, spring, aut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morning, evening,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7 o’cloc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23351556_1208878086_33"/>
          <p:cNvPicPr/>
          <p:nvPr/>
        </p:nvPicPr>
        <p:blipFill>
          <a:blip r:embed="rId1"/>
          <a:stretch/>
        </p:blipFill>
        <p:spPr>
          <a:xfrm>
            <a:off x="5638680" y="2666880"/>
            <a:ext cx="30481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Порядок слов в утвердительном предложени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62485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глагол –сказуемое ( смысловой гл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 3 лиц. ед. ч. +-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, -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3. допол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4. обстоятельство ме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5. обстоятельство време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 может стоять после подлежащег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7fc7b75b3f8b"/>
          <p:cNvPicPr/>
          <p:nvPr/>
        </p:nvPicPr>
        <p:blipFill>
          <a:blip r:embed="rId1"/>
          <a:stretch/>
        </p:blipFill>
        <p:spPr>
          <a:xfrm>
            <a:off x="6248520" y="2066760"/>
            <a:ext cx="2438280" cy="359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Построение вопросительного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спомогательный глагол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, d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глагол - сказуем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без окончания –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 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ли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-es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(смысловой глаго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. дополн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.обстоятельство ме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.обстоятельство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ris_05"/>
          <p:cNvPicPr/>
          <p:nvPr/>
        </p:nvPicPr>
        <p:blipFill>
          <a:blip r:embed="rId1"/>
          <a:stretch/>
        </p:blipFill>
        <p:spPr>
          <a:xfrm>
            <a:off x="4876920" y="2514600"/>
            <a:ext cx="40384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Вопрос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5410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play tennis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ю в теннис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каждый день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ften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 часто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шь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ы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обычно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м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hey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ometimes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 play tenni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 иногда играют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9" descr="1266730921_2ddaf51211d2"/>
          <p:cNvPicPr/>
          <p:nvPr/>
        </p:nvPicPr>
        <p:blipFill>
          <a:blip r:embed="rId1"/>
          <a:stretch/>
        </p:blipFill>
        <p:spPr>
          <a:xfrm>
            <a:off x="5943600" y="1447920"/>
            <a:ext cx="2720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Вопрос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he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н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h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every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Lena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Лена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asha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Саша 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post-42108-1206014562"/>
          <p:cNvPicPr/>
          <p:nvPr/>
        </p:nvPicPr>
        <p:blipFill>
          <a:blip r:embed="rId1"/>
          <a:stretch/>
        </p:blipFill>
        <p:spPr>
          <a:xfrm>
            <a:off x="5695920" y="1585800"/>
            <a:ext cx="28576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Вопрос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6553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Ее друг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is father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Его отец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y sister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оя сестра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ur brother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аш брат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ir aun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х тетя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er cousin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е двоюродный брат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1274952396_4"/>
          <p:cNvPicPr/>
          <p:nvPr/>
        </p:nvPicPr>
        <p:blipFill>
          <a:blip r:embed="rId1"/>
          <a:stretch/>
        </p:blipFill>
        <p:spPr>
          <a:xfrm>
            <a:off x="5105520" y="3352680"/>
            <a:ext cx="38862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терактивные игры на сервере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arningApp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167616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лассификация "Общие вопросы (Do or Does)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s://learningapps.org/display?v=psoci3qt3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1371600" y="2971800"/>
            <a:ext cx="691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alia</dc:creator>
  <dc:description/>
  <dc:language>en-US</dc:language>
  <cp:lastModifiedBy>Наталья</cp:lastModifiedBy>
  <dcterms:modified xsi:type="dcterms:W3CDTF">2018-11-08T15:51:33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