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1BF-1D29-4542-B2F3-1FE57A02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32F-8B63-493C-B458-5F9A8E19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C84-9454-443D-967C-D9884108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448-992F-4940-ABF2-911F7FCD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022A-5816-42D9-855A-A1DFAE75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CD68-3287-40F2-A27F-ABF87F6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80E3-D79F-4B5C-9D6F-71AA28CA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1F1E-2563-4672-A100-16024A2A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7508-4F89-4DC1-88B1-104E548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5099-FE80-4B2C-AA33-91FFC392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068-E507-4C25-86ED-192A267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ADC-3300-4DFA-A1C2-152F504E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B2C-9335-431B-9F60-A182DBE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9143-AE70-47BA-B410-3082117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CCAF-A32F-4555-8854-B2CE0780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65C-0670-438C-A84B-CB3FA48E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BC0-D68D-411C-9C06-E23FDC6E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A12-47BA-4925-B5DD-AC0C304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830-E31F-4115-9773-9D011421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A75-8840-4B1A-B215-CEEF732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122-8D0E-496F-A6D3-F3E7835A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98E-FE76-4C27-A597-4FC08DA5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B80-BE3F-4A07-B52B-7B60DB0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C72-34EB-4497-B958-84835415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0D0B-B1F8-4DE0-A3BE-AB3C5AE097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99EE-9E8F-4902-AC14-D6DF28694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6802daza16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js9gexjk16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soci3qt318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800600" y="10666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игры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икторина с выбором отв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"The Present Simple Tensе" (вопросительные предложе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learningapps.org/display?v=p6802daz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828800" y="3902040"/>
            <a:ext cx="52578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игры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икторина с вводом тек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"The Present Simple Tensе" (общий вопро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   http://learningapps.org/display?v=pjs9gexjk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5715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ом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23351556_1208878086_33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утверди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248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сказуемое ( смысловой г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 3 лиц. ед. ч. +-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,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обстоятельств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может стоять после подлежаще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7fc7b75b3f8b"/>
          <p:cNvPicPr/>
          <p:nvPr/>
        </p:nvPicPr>
        <p:blipFill>
          <a:blip r:embed="rId1"/>
          <a:stretch/>
        </p:blipFill>
        <p:spPr>
          <a:xfrm>
            <a:off x="6248520" y="2066760"/>
            <a:ext cx="2438280" cy="35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остроение вопросительного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лагол - сказуем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без окончания –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 допол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ris_05"/>
          <p:cNvPicPr/>
          <p:nvPr/>
        </p:nvPicPr>
        <p:blipFill>
          <a:blip r:embed="rId1"/>
          <a:stretch/>
        </p:blipFill>
        <p:spPr>
          <a:xfrm>
            <a:off x="4876920" y="2514600"/>
            <a:ext cx="4038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play tennis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ю в теннис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каждый день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шь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м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play tenni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иногда играю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1266730921_2ddaf51211d2"/>
          <p:cNvPicPr/>
          <p:nvPr/>
        </p:nvPicPr>
        <p:blipFill>
          <a:blip r:embed="rId1"/>
          <a:stretch/>
        </p:blipFill>
        <p:spPr>
          <a:xfrm>
            <a:off x="5943600" y="1447920"/>
            <a:ext cx="2720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e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every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Лен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аша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-42108-1206014562"/>
          <p:cNvPicPr/>
          <p:nvPr/>
        </p:nvPicPr>
        <p:blipFill>
          <a:blip r:embed="rId1"/>
          <a:stretch/>
        </p:blipFill>
        <p:spPr>
          <a:xfrm>
            <a:off x="5695920" y="1585800"/>
            <a:ext cx="28576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655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е друг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го отец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оя сестр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r cousi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274952396_4"/>
          <p:cNvPicPr/>
          <p:nvPr/>
        </p:nvPicPr>
        <p:blipFill>
          <a:blip r:embed="rId1"/>
          <a:stretch/>
        </p:blipFill>
        <p:spPr>
          <a:xfrm>
            <a:off x="5105520" y="3352680"/>
            <a:ext cx="38862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игры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лассификация "Общие вопросы (Do or Does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s://learningapps.org/display?v=psoci3qt3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691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Наталья</cp:lastModifiedBy>
  <dcterms:modified xsi:type="dcterms:W3CDTF">2018-11-08T15:51:33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