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chimes.wav" ContentType="audio/x-wav"/>
  <Override PartName="/ppt/media/image2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C38-26F0-47FA-A293-73FDF799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CE4-130B-413D-B0F1-B94958BC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A9C-C4F2-4980-A599-BBFD35EB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31B-5CA6-4743-BA94-C75E9EC6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C1A-93B2-491A-9339-09ECFA01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3E3-0EC6-40E3-B5F9-1D114D4E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4B1-AF4E-4960-8853-2A94DA0E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4D6-A628-4188-88B5-B7F14C1C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83D-420A-4870-971B-29C223B4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CA3-A6CB-439A-8B3A-3EF07827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9F7-CC58-457D-9F9B-FFBFF3D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755-D12E-4BEA-8BAA-374EBF4F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AC91-1236-475E-B2A0-13600F0C9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21.png"/><Relationship Id="rId5" Type="http://schemas.openxmlformats.org/officeDocument/2006/relationships/hyperlink" Target="http://www.radikal.ru/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www.radikal.ru/" TargetMode="External"/><Relationship Id="rId8" Type="http://schemas.openxmlformats.org/officeDocument/2006/relationships/image" Target="../media/image21.png"/><Relationship Id="rId9" Type="http://schemas.openxmlformats.org/officeDocument/2006/relationships/hyperlink" Target="http://www.radikal.ru/" TargetMode="External"/><Relationship Id="rId10" Type="http://schemas.openxmlformats.org/officeDocument/2006/relationships/image" Target="../media/image21.png"/><Relationship Id="rId11" Type="http://schemas.openxmlformats.org/officeDocument/2006/relationships/hyperlink" Target="http://www.radikal.ru/" TargetMode="External"/><Relationship Id="rId12" Type="http://schemas.openxmlformats.org/officeDocument/2006/relationships/image" Target="../media/image21.png"/><Relationship Id="rId13" Type="http://schemas.openxmlformats.org/officeDocument/2006/relationships/hyperlink" Target="http://www.radikal.ru/" TargetMode="External"/><Relationship Id="rId14" Type="http://schemas.openxmlformats.org/officeDocument/2006/relationships/image" Target="../media/image21.png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epositfiles.com/files/rixc3yfyd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depositfiles.com/files/rixc3yfyd" TargetMode="External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Oval 18"/>
          <p:cNvSpPr/>
          <p:nvPr/>
        </p:nvSpPr>
        <p:spPr>
          <a:xfrm>
            <a:off x="281952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20"/>
          <p:cNvSpPr/>
          <p:nvPr/>
        </p:nvSpPr>
        <p:spPr>
          <a:xfrm>
            <a:off x="4114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4ec24e"/>
              </a:gs>
              <a:gs pos="50000">
                <a:srgbClr val="66ff66"/>
              </a:gs>
              <a:gs pos="100000">
                <a:srgbClr val="4ec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1"/>
          <p:cNvSpPr/>
          <p:nvPr/>
        </p:nvSpPr>
        <p:spPr>
          <a:xfrm>
            <a:off x="5410080" y="22860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8f"/>
              </a:gs>
              <a:gs pos="50000">
                <a:srgbClr val="0000ff"/>
              </a:gs>
              <a:gs pos="100000">
                <a:srgbClr val="00008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2"/>
          <p:cNvSpPr/>
          <p:nvPr/>
        </p:nvSpPr>
        <p:spPr>
          <a:xfrm>
            <a:off x="6858000" y="228600"/>
            <a:ext cx="914400" cy="914400"/>
          </a:xfrm>
          <a:prstGeom prst="ellipse">
            <a:avLst/>
          </a:prstGeom>
          <a:gradFill rotWithShape="0">
            <a:gsLst>
              <a:gs pos="0">
                <a:srgbClr val="74664c"/>
              </a:gs>
              <a:gs pos="50000">
                <a:srgbClr val="fadda4"/>
              </a:gs>
              <a:gs pos="100000">
                <a:srgbClr val="7466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3"/>
          <p:cNvSpPr/>
          <p:nvPr/>
        </p:nvSpPr>
        <p:spPr>
          <a:xfrm>
            <a:off x="228600" y="5715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4"/>
          <p:cNvSpPr/>
          <p:nvPr/>
        </p:nvSpPr>
        <p:spPr>
          <a:xfrm>
            <a:off x="4114800" y="1600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5"/>
          <p:cNvSpPr/>
          <p:nvPr/>
        </p:nvSpPr>
        <p:spPr>
          <a:xfrm>
            <a:off x="8001000" y="5715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63908"/>
              </a:gs>
              <a:gs pos="50000">
                <a:srgbClr val="dc7c12"/>
              </a:gs>
              <a:gs pos="100000">
                <a:srgbClr val="6639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16002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6477120" y="2209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2f7618"/>
              </a:gs>
              <a:gs pos="50000">
                <a:srgbClr val="66ff33"/>
              </a:gs>
              <a:gs pos="100000">
                <a:srgbClr val="2f76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5410080" y="2743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1981080" y="2209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2895480" y="2743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a2b5d"/>
              </a:gs>
              <a:gs pos="50000">
                <a:srgbClr val="e55dc8"/>
              </a:gs>
              <a:gs pos="100000">
                <a:srgbClr val="6a2b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ff"/>
                </a:solidFill>
                <a:latin typeface="Arial"/>
              </a:rPr>
              <a:t>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63908"/>
              </a:gs>
              <a:gs pos="50000">
                <a:srgbClr val="dc7c12"/>
              </a:gs>
              <a:gs pos="100000">
                <a:srgbClr val="6639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33"/>
                </a:solidFill>
                <a:latin typeface="Arial"/>
              </a:rPr>
              <a:t>ф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animClr clrSpc="rgb">
                                      <p:cBhvr>
                                        <p:cTn id="23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animClr clrSpc="rgb">
                                      <p:cBhvr>
                                        <p:cTn id="2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animClr clrSpc="rgb">
                                      <p:cBhvr>
                                        <p:cTn id="31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5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9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47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 rot="2051400">
            <a:off x="1295280" y="762120"/>
            <a:ext cx="1714680" cy="38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rcRect l="29038" t="0" r="25808" b="18193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3"/>
          <a:srcRect l="29038" t="0" r="25808" b="18193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4"/>
          <a:srcRect l="29038" t="7435" r="25808" b="21902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5"/>
          <a:srcRect l="29038" t="7435" r="25808" b="18193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6"/>
          <a:srcRect l="29038" t="11162" r="25808" b="18193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7"/>
          <a:srcRect l="29038" t="7435" r="25808" b="21902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8"/>
          <a:srcRect l="29038" t="7435" r="25808" b="18193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257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260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838080" y="2133720"/>
            <a:ext cx="3429000" cy="4114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8167200">
            <a:off x="1219320" y="914040"/>
            <a:ext cx="2644560" cy="2513160"/>
          </a:xfrm>
          <a:prstGeom prst="rtTriangl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2362320" y="10666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21932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66688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7"/>
          <p:cNvSpPr txBox="1"/>
          <p:nvPr/>
        </p:nvSpPr>
        <p:spPr>
          <a:xfrm>
            <a:off x="152388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6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297180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21932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66688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21932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266688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ed54608e166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ed54608e166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9" descr="ed54608e166b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0" descr="ed54608e166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91120" y="28195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ed54608e166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9920" y="2895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2" descr="ed54608e166b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34320" y="990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ed54608e166b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486400" y="1066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3125 -0.40556 E">
                                      <p:cBhvr>
                                        <p:cTn id="26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47916 -0.40556 E">
                                      <p:cBhvr>
                                        <p:cTn id="26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65416 -0.40556 E">
                                      <p:cBhvr>
                                        <p:cTn id="27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52917 -0.16111 E">
                                      <p:cBhvr>
                                        <p:cTn id="27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5 -0.13889 E">
                                      <p:cBhvr>
                                        <p:cTn id="27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4625 0.12778 E">
                                      <p:cBhvr>
                                        <p:cTn id="27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4875 0.10556 E">
                                      <p:cBhvr>
                                        <p:cTn id="29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838080" y="2133720"/>
            <a:ext cx="3429000" cy="4114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 rot="8167200">
            <a:off x="1219320" y="914040"/>
            <a:ext cx="2644560" cy="2513160"/>
          </a:xfrm>
          <a:prstGeom prst="rtTriangl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2362320" y="10666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21932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66688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152388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6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297180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21932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66688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121932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266688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15"/>
          <p:cNvSpPr txBox="1"/>
          <p:nvPr/>
        </p:nvSpPr>
        <p:spPr>
          <a:xfrm>
            <a:off x="1523880" y="3657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5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90" name="WordArt 16"/>
          <p:cNvSpPr txBox="1"/>
          <p:nvPr/>
        </p:nvSpPr>
        <p:spPr>
          <a:xfrm>
            <a:off x="2971800" y="3657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91" name="Picture 18" descr="4c1f57bc617d3925c1eec3bf3e07">
            <a:hlinkClick r:id="rId1"/>
          </p:cNvPr>
          <p:cNvPicPr/>
          <p:nvPr/>
        </p:nvPicPr>
        <p:blipFill>
          <a:blip r:embed="rId2"/>
          <a:srcRect l="0" t="58386" r="65221" b="2697"/>
          <a:stretch/>
        </p:blipFill>
        <p:spPr>
          <a:xfrm>
            <a:off x="716292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9" descr="4c1f57bc617d3925c1eec3bf3e07">
            <a:hlinkClick r:id="rId3"/>
          </p:cNvPr>
          <p:cNvPicPr/>
          <p:nvPr/>
        </p:nvPicPr>
        <p:blipFill>
          <a:blip r:embed="rId4"/>
          <a:srcRect l="0" t="58386" r="65221" b="2697"/>
          <a:stretch/>
        </p:blipFill>
        <p:spPr>
          <a:xfrm>
            <a:off x="563868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0" descr="4c1f57bc617d3925c1eec3bf3e07"/>
          <p:cNvPicPr/>
          <p:nvPr/>
        </p:nvPicPr>
        <p:blipFill>
          <a:blip r:embed="rId5"/>
          <a:srcRect l="0" t="58386" r="65221" b="2697"/>
          <a:stretch/>
        </p:blipFill>
        <p:spPr>
          <a:xfrm>
            <a:off x="4724280" y="3657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1" descr="4c1f57bc617d3925c1eec3bf3e07"/>
          <p:cNvPicPr/>
          <p:nvPr/>
        </p:nvPicPr>
        <p:blipFill>
          <a:blip r:embed="rId6"/>
          <a:srcRect l="0" t="58386" r="65221" b="2697"/>
          <a:stretch/>
        </p:blipFill>
        <p:spPr>
          <a:xfrm>
            <a:off x="6019920" y="3276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4c1f57bc617d3925c1eec3bf3e07"/>
          <p:cNvPicPr/>
          <p:nvPr/>
        </p:nvPicPr>
        <p:blipFill>
          <a:blip r:embed="rId7"/>
          <a:srcRect l="0" t="58386" r="65221" b="2697"/>
          <a:stretch/>
        </p:blipFill>
        <p:spPr>
          <a:xfrm>
            <a:off x="7543800" y="2590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4c1f57bc617d3925c1eec3bf3e07"/>
          <p:cNvPicPr/>
          <p:nvPr/>
        </p:nvPicPr>
        <p:blipFill>
          <a:blip r:embed="rId8"/>
          <a:srcRect l="0" t="58386" r="65221" b="2697"/>
          <a:stretch/>
        </p:blipFill>
        <p:spPr>
          <a:xfrm>
            <a:off x="594360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4" descr="4c1f57bc617d3925c1eec3bf3e07"/>
          <p:cNvPicPr/>
          <p:nvPr/>
        </p:nvPicPr>
        <p:blipFill>
          <a:blip r:embed="rId9"/>
          <a:srcRect l="0" t="58386" r="65221" b="2697"/>
          <a:stretch/>
        </p:blipFill>
        <p:spPr>
          <a:xfrm>
            <a:off x="4648320" y="17524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875 -0.27222 E">
                                      <p:cBhvr>
                                        <p:cTn id="323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6375 -0.27222 E">
                                      <p:cBhvr>
                                        <p:cTn id="325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52083 -0.05 E">
                                      <p:cBhvr>
                                        <p:cTn id="327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022E-016 L -0.3875 -0.08333 E">
                                      <p:cBhvr>
                                        <p:cTn id="329" dur="3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3625 0.16111 E">
                                      <p:cBhvr>
                                        <p:cTn id="331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4.44444E-006 L -0.52917 0.07223 E">
                                      <p:cBhvr>
                                        <p:cTn id="35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37083 0.25 E">
                                      <p:cBhvr>
                                        <p:cTn id="353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838080" y="2133720"/>
            <a:ext cx="3429000" cy="4114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8167200">
            <a:off x="1219320" y="914040"/>
            <a:ext cx="2644560" cy="2513160"/>
          </a:xfrm>
          <a:prstGeom prst="rtTriangle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362320" y="106668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7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21932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666880" y="2286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152388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6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4" name="WordArt 8"/>
          <p:cNvSpPr txBox="1"/>
          <p:nvPr/>
        </p:nvSpPr>
        <p:spPr>
          <a:xfrm>
            <a:off x="2971800" y="2514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121932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2666880" y="4572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1"/>
          <p:cNvSpPr txBox="1"/>
          <p:nvPr/>
        </p:nvSpPr>
        <p:spPr>
          <a:xfrm>
            <a:off x="1523880" y="4800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4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2971800" y="4800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21932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2666880" y="34290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1523880" y="3657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5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2971800" y="3657600"/>
            <a:ext cx="457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83059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5100" y="3837"/>
                </a:moveTo>
                <a:lnTo>
                  <a:pt x="17676" y="6448"/>
                </a:ln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lnTo>
                  <a:pt x="22063" y="10800"/>
                </a:lnTo>
                <a:lnTo>
                  <a:pt x="20409" y="10800"/>
                </a:lnTo>
                <a:lnTo>
                  <a:pt x="20409" y="17989"/>
                </a:lnTo>
                <a:lnTo>
                  <a:pt x="9790" y="17989"/>
                </a:lnTo>
                <a:lnTo>
                  <a:pt x="9790" y="10800"/>
                </a:lnTo>
                <a:lnTo>
                  <a:pt x="8137" y="10800"/>
                </a:lnTo>
                <a:close/>
              </a:path>
              <a:path fill="darkenLess" w="30199" h="21600">
                <a:moveTo>
                  <a:pt x="17676" y="6448"/>
                </a:move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close/>
              </a:path>
              <a:path fill="darkenLess" w="30199" h="21600">
                <a:moveTo>
                  <a:pt x="14177" y="14299"/>
                </a:moveTo>
                <a:lnTo>
                  <a:pt x="16022" y="14299"/>
                </a:lnTo>
                <a:lnTo>
                  <a:pt x="16022" y="17989"/>
                </a:lnTo>
                <a:lnTo>
                  <a:pt x="20409" y="17989"/>
                </a:lnTo>
                <a:lnTo>
                  <a:pt x="20409" y="10800"/>
                </a:lnTo>
                <a:lnTo>
                  <a:pt x="9790" y="10800"/>
                </a:lnTo>
                <a:lnTo>
                  <a:pt x="9790" y="17989"/>
                </a:lnTo>
                <a:lnTo>
                  <a:pt x="141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8" descr="chickens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419720" y="502920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chickens7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019920" y="510552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chickens7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7391520" y="441972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chickens7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248520" y="358128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2" descr="chickens7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4800600" y="358128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3" descr="chickens7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7238880" y="213372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chickens7"/>
          <p:cNvPicPr/>
          <p:nvPr/>
        </p:nvPicPr>
        <p:blipFill>
          <a:blip r:embed="rId7">
            <a:lum contrast="12000"/>
          </a:blip>
          <a:stretch/>
        </p:blipFill>
        <p:spPr>
          <a:xfrm>
            <a:off x="5562720" y="2057400"/>
            <a:ext cx="1434960" cy="1434960"/>
          </a:xfrm>
          <a:prstGeom prst="rect">
            <a:avLst/>
          </a:prstGeom>
          <a:ln w="0">
            <a:noFill/>
          </a:ln>
        </p:spPr>
      </p:pic>
      <p:sp>
        <p:nvSpPr>
          <p:cNvPr id="221" name="WordArt 25"/>
          <p:cNvSpPr txBox="1"/>
          <p:nvPr/>
        </p:nvSpPr>
        <p:spPr>
          <a:xfrm>
            <a:off x="4876920" y="2895480"/>
            <a:ext cx="34290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7 = 6 + 1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952880" y="4038480"/>
            <a:ext cx="34290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7 = 5 + 2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223" name="WordArt 27"/>
          <p:cNvSpPr txBox="1"/>
          <p:nvPr/>
        </p:nvSpPr>
        <p:spPr>
          <a:xfrm>
            <a:off x="4952880" y="5257800"/>
            <a:ext cx="34290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7 = 4 + 3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-0.37014 -0.0824 E">
                                      <p:cBhvr>
                                        <p:cTn id="38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-0.52014 -0.11574 E">
                                      <p:cBhvr>
                                        <p:cTn id="38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66666 -0.03333 E">
                                      <p:cBhvr>
                                        <p:cTn id="38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-0.4118 0.09537 E">
                                      <p:cBhvr>
                                        <p:cTn id="38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-0.39514 0.10648 E">
                                      <p:cBhvr>
                                        <p:cTn id="40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7 L -0.35348 0.33981 E">
                                      <p:cBhvr>
                                        <p:cTn id="40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-0.52014 0.31759 E">
                                      <p:cBhvr>
                                        <p:cTn id="40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2" descr=""/>
          <p:cNvPicPr/>
          <p:nvPr/>
        </p:nvPicPr>
        <p:blipFill>
          <a:blip r:embed="rId1"/>
          <a:stretch/>
        </p:blipFill>
        <p:spPr>
          <a:xfrm>
            <a:off x="4591080" y="1335240"/>
            <a:ext cx="1790640" cy="156024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3" descr=""/>
          <p:cNvPicPr/>
          <p:nvPr/>
        </p:nvPicPr>
        <p:blipFill>
          <a:blip r:embed="rId2"/>
          <a:stretch/>
        </p:blipFill>
        <p:spPr>
          <a:xfrm>
            <a:off x="6102360" y="1335240"/>
            <a:ext cx="1792440" cy="156024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3"/>
          <a:stretch/>
        </p:blipFill>
        <p:spPr>
          <a:xfrm>
            <a:off x="4591080" y="2548080"/>
            <a:ext cx="1790640" cy="156024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5" descr=""/>
          <p:cNvPicPr/>
          <p:nvPr/>
        </p:nvPicPr>
        <p:blipFill>
          <a:blip r:embed="rId4"/>
          <a:stretch/>
        </p:blipFill>
        <p:spPr>
          <a:xfrm>
            <a:off x="6102360" y="2548080"/>
            <a:ext cx="1792440" cy="156024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6" descr=""/>
          <p:cNvPicPr/>
          <p:nvPr/>
        </p:nvPicPr>
        <p:blipFill>
          <a:blip r:embed="rId5"/>
          <a:stretch/>
        </p:blipFill>
        <p:spPr>
          <a:xfrm>
            <a:off x="4591080" y="3760920"/>
            <a:ext cx="1790640" cy="15602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7" descr=""/>
          <p:cNvPicPr/>
          <p:nvPr/>
        </p:nvPicPr>
        <p:blipFill>
          <a:blip r:embed="rId6"/>
          <a:stretch/>
        </p:blipFill>
        <p:spPr>
          <a:xfrm>
            <a:off x="6102360" y="3760920"/>
            <a:ext cx="1792440" cy="1560240"/>
          </a:xfrm>
          <a:prstGeom prst="rect">
            <a:avLst/>
          </a:prstGeom>
          <a:ln w="0">
            <a:noFill/>
          </a:ln>
        </p:spPr>
      </p:pic>
      <p:sp>
        <p:nvSpPr>
          <p:cNvPr id="230" name="Равнобедренный треугольник 10"/>
          <p:cNvSpPr/>
          <p:nvPr/>
        </p:nvSpPr>
        <p:spPr>
          <a:xfrm>
            <a:off x="3851280" y="333360"/>
            <a:ext cx="4659480" cy="1285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оугольник 42" descr=""/>
          <p:cNvPicPr/>
          <p:nvPr/>
        </p:nvPicPr>
        <p:blipFill>
          <a:blip r:embed="rId7"/>
          <a:stretch/>
        </p:blipFill>
        <p:spPr>
          <a:xfrm>
            <a:off x="-731880" y="-212760"/>
            <a:ext cx="6919920" cy="13287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43" descr=""/>
          <p:cNvPicPr/>
          <p:nvPr/>
        </p:nvPicPr>
        <p:blipFill>
          <a:blip r:embed="rId8"/>
          <a:stretch/>
        </p:blipFill>
        <p:spPr>
          <a:xfrm>
            <a:off x="5187960" y="36360"/>
            <a:ext cx="1974960" cy="1749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User\Pictures\алфавит со смешариками\дракоша\0_64c3b_4731d3c6_M.jpg.png"/>
          <p:cNvPicPr/>
          <p:nvPr/>
        </p:nvPicPr>
        <p:blipFill>
          <a:blip r:embed="rId9"/>
          <a:stretch/>
        </p:blipFill>
        <p:spPr>
          <a:xfrm flipH="1" rot="20392800">
            <a:off x="250560" y="2228400"/>
            <a:ext cx="4022640" cy="4060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User\Pictures\алфавит со смешариками\дракоша\0_64c3b_4731d3c6_M.jpg.png"/>
          <p:cNvPicPr/>
          <p:nvPr/>
        </p:nvPicPr>
        <p:blipFill>
          <a:blip r:embed="rId10"/>
          <a:stretch/>
        </p:blipFill>
        <p:spPr>
          <a:xfrm>
            <a:off x="5867280" y="1557360"/>
            <a:ext cx="2017800" cy="1380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Pictures\алфавит со смешариками\дракоша\0_64c3b_4731d3c6_M.jpg.png"/>
          <p:cNvPicPr/>
          <p:nvPr/>
        </p:nvPicPr>
        <p:blipFill>
          <a:blip r:embed="rId11"/>
          <a:stretch/>
        </p:blipFill>
        <p:spPr>
          <a:xfrm>
            <a:off x="6012000" y="4076640"/>
            <a:ext cx="1873080" cy="1292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User\Pictures\алфавит со смешариками\дракоша\0_64c3b_4731d3c6_M.jpg.png"/>
          <p:cNvPicPr/>
          <p:nvPr/>
        </p:nvPicPr>
        <p:blipFill>
          <a:blip r:embed="rId12"/>
          <a:stretch/>
        </p:blipFill>
        <p:spPr>
          <a:xfrm flipH="1" rot="21109200">
            <a:off x="4442760" y="2773440"/>
            <a:ext cx="20160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611280" y="54936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сосчитай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356000" y="407664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57200" y="3429000"/>
            <a:ext cx="873000" cy="9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600200" y="3429000"/>
            <a:ext cx="797040" cy="9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666880" y="3505320"/>
            <a:ext cx="87336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3809880" y="3505320"/>
            <a:ext cx="873360" cy="92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029200" y="350532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6172200" y="350532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1"/>
          <p:cNvSpPr/>
          <p:nvPr/>
        </p:nvSpPr>
        <p:spPr>
          <a:xfrm>
            <a:off x="7315200" y="350532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611280" y="54936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сосчитай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356000" y="407664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685800" y="3505320"/>
            <a:ext cx="873000" cy="92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1828800" y="3505320"/>
            <a:ext cx="797040" cy="92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2895480" y="3581280"/>
            <a:ext cx="87336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>
            <a:off x="4038480" y="3581280"/>
            <a:ext cx="873360" cy="9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0"/>
          <p:cNvSpPr/>
          <p:nvPr/>
        </p:nvSpPr>
        <p:spPr>
          <a:xfrm>
            <a:off x="5257800" y="358128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6400800" y="358128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1"/>
          <p:cNvSpPr/>
          <p:nvPr/>
        </p:nvSpPr>
        <p:spPr>
          <a:xfrm>
            <a:off x="7543800" y="3581280"/>
            <a:ext cx="949320" cy="8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>
            <a:hlinkClick r:id="rId3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>
            <a:hlinkClick r:id="rId4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4"/>
          <p:cNvSpPr/>
          <p:nvPr/>
        </p:nvSpPr>
        <p:spPr>
          <a:xfrm flipH="1">
            <a:off x="6629400" y="5257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0"/>
          <p:cNvSpPr/>
          <p:nvPr/>
        </p:nvSpPr>
        <p:spPr>
          <a:xfrm flipH="1">
            <a:off x="1751760" y="5181480"/>
            <a:ext cx="1295640" cy="1447920"/>
          </a:xfrm>
          <a:prstGeom prst="cube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 flipH="1">
            <a:off x="5002920" y="5257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>
            <a:off x="3378240" y="5181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"/>
          <p:cNvSpPr/>
          <p:nvPr/>
        </p:nvSpPr>
        <p:spPr>
          <a:xfrm flipH="1">
            <a:off x="5815800" y="4114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 flipH="1">
            <a:off x="4191120" y="4114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9"/>
          <p:cNvSpPr/>
          <p:nvPr/>
        </p:nvSpPr>
        <p:spPr>
          <a:xfrm flipH="1">
            <a:off x="2565360" y="4038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5" descr=""/>
          <p:cNvPicPr/>
          <p:nvPr/>
        </p:nvPicPr>
        <p:blipFill>
          <a:blip r:embed="rId5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90" name="Oval 26">
            <a:hlinkClick r:id="rId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366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4" descr=""/>
          <p:cNvPicPr/>
          <p:nvPr/>
        </p:nvPicPr>
        <p:blipFill>
          <a:blip r:embed="rId1"/>
          <a:stretch/>
        </p:blipFill>
        <p:spPr>
          <a:xfrm>
            <a:off x="1735200" y="620640"/>
            <a:ext cx="5573520" cy="4287960"/>
          </a:xfrm>
          <a:prstGeom prst="rect">
            <a:avLst/>
          </a:prstGeom>
          <a:ln w="0">
            <a:noFill/>
          </a:ln>
        </p:spPr>
      </p:pic>
      <p:sp>
        <p:nvSpPr>
          <p:cNvPr id="92" name="Oval 15"/>
          <p:cNvSpPr/>
          <p:nvPr/>
        </p:nvSpPr>
        <p:spPr>
          <a:xfrm>
            <a:off x="3995640" y="2997360"/>
            <a:ext cx="719280" cy="69840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4645080" y="3306600"/>
            <a:ext cx="718920" cy="69876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292720" y="3522600"/>
            <a:ext cx="719280" cy="69840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9"/>
          <p:cNvSpPr/>
          <p:nvPr/>
        </p:nvSpPr>
        <p:spPr>
          <a:xfrm>
            <a:off x="68436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147492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226692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305928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3851280" y="5425920"/>
            <a:ext cx="720720" cy="70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4"/>
          <p:cNvSpPr/>
          <p:nvPr/>
        </p:nvSpPr>
        <p:spPr>
          <a:xfrm>
            <a:off x="464328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5"/>
          <p:cNvSpPr/>
          <p:nvPr/>
        </p:nvSpPr>
        <p:spPr>
          <a:xfrm>
            <a:off x="543564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6"/>
          <p:cNvSpPr/>
          <p:nvPr/>
        </p:nvSpPr>
        <p:spPr>
          <a:xfrm>
            <a:off x="622764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7"/>
          <p:cNvSpPr/>
          <p:nvPr/>
        </p:nvSpPr>
        <p:spPr>
          <a:xfrm>
            <a:off x="7020000" y="5445000"/>
            <a:ext cx="720720" cy="70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8"/>
          <p:cNvSpPr/>
          <p:nvPr/>
        </p:nvSpPr>
        <p:spPr>
          <a:xfrm>
            <a:off x="7812000" y="5425920"/>
            <a:ext cx="720720" cy="70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71676E-006 L 0.01441 -0.36416 E">
                                      <p:cBhvr>
                                        <p:cTn id="17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326 L -0.00885 -0.30034 E">
                                      <p:cBhvr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dd882303cdf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5"/>
          <p:cNvSpPr/>
          <p:nvPr/>
        </p:nvSpPr>
        <p:spPr>
          <a:xfrm>
            <a:off x="1500120" y="785880"/>
            <a:ext cx="61437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 Narrow"/>
              </a:rPr>
              <a:t>СРАВНИ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9" descr="0_8de5d_9a527c80_XXXL.png"/>
          <p:cNvPicPr/>
          <p:nvPr/>
        </p:nvPicPr>
        <p:blipFill>
          <a:blip r:embed="rId2"/>
          <a:srcRect l="0" t="0" r="3125" b="15625"/>
          <a:stretch/>
        </p:blipFill>
        <p:spPr>
          <a:xfrm>
            <a:off x="468360" y="1571760"/>
            <a:ext cx="1436760" cy="1250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0_8de6c_56f30f84_XXXL.png"/>
          <p:cNvPicPr/>
          <p:nvPr/>
        </p:nvPicPr>
        <p:blipFill>
          <a:blip r:embed="rId3"/>
          <a:stretch/>
        </p:blipFill>
        <p:spPr>
          <a:xfrm>
            <a:off x="7740720" y="3733920"/>
            <a:ext cx="896760" cy="1052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0_8de5d_9a527c80_XXXL.png"/>
          <p:cNvPicPr/>
          <p:nvPr/>
        </p:nvPicPr>
        <p:blipFill>
          <a:blip r:embed="rId4"/>
          <a:srcRect l="0" t="0" r="3119" b="15619"/>
          <a:stretch/>
        </p:blipFill>
        <p:spPr>
          <a:xfrm>
            <a:off x="2357280" y="1668600"/>
            <a:ext cx="1528920" cy="13302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0_8de5d_9a527c80_XXXL.png"/>
          <p:cNvPicPr/>
          <p:nvPr/>
        </p:nvPicPr>
        <p:blipFill>
          <a:blip r:embed="rId5"/>
          <a:srcRect l="0" t="0" r="3127" b="15636"/>
          <a:stretch/>
        </p:blipFill>
        <p:spPr>
          <a:xfrm>
            <a:off x="533520" y="2971800"/>
            <a:ext cx="1552320" cy="1352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3" descr="0_8de6c_56f30f84_XXXL.png"/>
          <p:cNvPicPr/>
          <p:nvPr/>
        </p:nvPicPr>
        <p:blipFill>
          <a:blip r:embed="rId6"/>
          <a:stretch/>
        </p:blipFill>
        <p:spPr>
          <a:xfrm>
            <a:off x="6324480" y="3505320"/>
            <a:ext cx="1092240" cy="1280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5" descr="0_8de6c_56f30f84_XXXL.png"/>
          <p:cNvPicPr/>
          <p:nvPr/>
        </p:nvPicPr>
        <p:blipFill>
          <a:blip r:embed="rId7"/>
          <a:stretch/>
        </p:blipFill>
        <p:spPr>
          <a:xfrm>
            <a:off x="5105520" y="3581280"/>
            <a:ext cx="898560" cy="1054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6" descr="0_8de6c_56f30f84_XXXL.png"/>
          <p:cNvPicPr/>
          <p:nvPr/>
        </p:nvPicPr>
        <p:blipFill>
          <a:blip r:embed="rId8"/>
          <a:stretch/>
        </p:blipFill>
        <p:spPr>
          <a:xfrm>
            <a:off x="5181480" y="2133720"/>
            <a:ext cx="979560" cy="11476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7" descr="0_8de6c_56f30f84_XXXL.png"/>
          <p:cNvPicPr/>
          <p:nvPr/>
        </p:nvPicPr>
        <p:blipFill>
          <a:blip r:embed="rId9"/>
          <a:stretch/>
        </p:blipFill>
        <p:spPr>
          <a:xfrm>
            <a:off x="6400800" y="2057400"/>
            <a:ext cx="110484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0_8de6c_56f30f84_XXXL.png"/>
          <p:cNvPicPr/>
          <p:nvPr/>
        </p:nvPicPr>
        <p:blipFill>
          <a:blip r:embed="rId10"/>
          <a:stretch/>
        </p:blipFill>
        <p:spPr>
          <a:xfrm>
            <a:off x="7620120" y="2057400"/>
            <a:ext cx="1092240" cy="1281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5"/>
          <p:cNvSpPr/>
          <p:nvPr/>
        </p:nvSpPr>
        <p:spPr>
          <a:xfrm>
            <a:off x="1905120" y="4876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4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5791320" y="4876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7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1" descr="0_8de5d_9a527c80_XXXL.png"/>
          <p:cNvPicPr/>
          <p:nvPr/>
        </p:nvPicPr>
        <p:blipFill>
          <a:blip r:embed="rId11"/>
          <a:srcRect l="0" t="0" r="3127" b="15636"/>
          <a:stretch/>
        </p:blipFill>
        <p:spPr>
          <a:xfrm>
            <a:off x="2286000" y="3124080"/>
            <a:ext cx="1552680" cy="1352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3" descr="0_8de6c_56f30f84_XXXL.png"/>
          <p:cNvPicPr/>
          <p:nvPr/>
        </p:nvPicPr>
        <p:blipFill>
          <a:blip r:embed="rId12"/>
          <a:stretch/>
        </p:blipFill>
        <p:spPr>
          <a:xfrm>
            <a:off x="7543800" y="4876920"/>
            <a:ext cx="109224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7772400" y="520560"/>
            <a:ext cx="977760" cy="1613160"/>
          </a:xfrm>
          <a:prstGeom prst="pie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7848720" y="14479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т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емёрк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кочерга. У неё одна ног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52280" y="1523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ем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точно острая коса.                         Коси, коса, пока остра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rcRect l="0" t="0" r="0" b="6025"/>
          <a:stretch/>
        </p:blipFill>
        <p:spPr>
          <a:xfrm>
            <a:off x="-152280" y="4481640"/>
            <a:ext cx="9524880" cy="237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3121200" y="3352680"/>
            <a:ext cx="1908000" cy="2914920"/>
          </a:xfrm>
          <a:prstGeom prst="rect">
            <a:avLst/>
          </a:prstGeom>
          <a:ln w="0">
            <a:noFill/>
          </a:ln>
        </p:spPr>
      </p:pic>
      <p:sp>
        <p:nvSpPr>
          <p:cNvPr id="130" name="Line 24"/>
          <p:cNvSpPr/>
          <p:nvPr/>
        </p:nvSpPr>
        <p:spPr>
          <a:xfrm>
            <a:off x="64771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6" descr=""/>
          <p:cNvPicPr/>
          <p:nvPr/>
        </p:nvPicPr>
        <p:blipFill>
          <a:blip r:embed="rId3"/>
          <a:stretch/>
        </p:blipFill>
        <p:spPr>
          <a:xfrm rot="443400">
            <a:off x="3048120" y="2590920"/>
            <a:ext cx="279072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Oval 27"/>
          <p:cNvSpPr/>
          <p:nvPr/>
        </p:nvSpPr>
        <p:spPr>
          <a:xfrm>
            <a:off x="6705720" y="2590920"/>
            <a:ext cx="106668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8"/>
          <p:cNvSpPr/>
          <p:nvPr/>
        </p:nvSpPr>
        <p:spPr>
          <a:xfrm>
            <a:off x="7086600" y="2666880"/>
            <a:ext cx="9907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1"/>
          <p:cNvSpPr/>
          <p:nvPr/>
        </p:nvSpPr>
        <p:spPr>
          <a:xfrm>
            <a:off x="6324480" y="3733920"/>
            <a:ext cx="533520" cy="53316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6019920" y="274320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8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772400" y="403848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8305920" y="3276720"/>
            <a:ext cx="533160" cy="53316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5"/>
          <p:cNvSpPr/>
          <p:nvPr/>
        </p:nvSpPr>
        <p:spPr>
          <a:xfrm>
            <a:off x="7162920" y="365760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6"/>
          <p:cNvSpPr/>
          <p:nvPr/>
        </p:nvSpPr>
        <p:spPr>
          <a:xfrm>
            <a:off x="8153280" y="25146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7"/>
          <p:cNvSpPr/>
          <p:nvPr/>
        </p:nvSpPr>
        <p:spPr>
          <a:xfrm>
            <a:off x="7543800" y="2819520"/>
            <a:ext cx="533520" cy="53316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8" descr="2"/>
          <p:cNvPicPr/>
          <p:nvPr/>
        </p:nvPicPr>
        <p:blipFill>
          <a:blip r:embed="rId4"/>
          <a:stretch/>
        </p:blipFill>
        <p:spPr>
          <a:xfrm>
            <a:off x="1066680" y="4572000"/>
            <a:ext cx="1216080" cy="1400040"/>
          </a:xfrm>
          <a:prstGeom prst="rect">
            <a:avLst/>
          </a:prstGeom>
          <a:ln w="0">
            <a:noFill/>
          </a:ln>
        </p:spPr>
      </p:pic>
      <p:sp>
        <p:nvSpPr>
          <p:cNvPr id="142" name="Line 39"/>
          <p:cNvSpPr/>
          <p:nvPr/>
        </p:nvSpPr>
        <p:spPr>
          <a:xfrm>
            <a:off x="4572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32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1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0" y="1571400"/>
            <a:ext cx="43164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-зелёный лягушонок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цифрой каждою дружу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меня ты посмотр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фру 7 быстрей найд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7"/>
          <p:cNvPicPr/>
          <p:nvPr/>
        </p:nvPicPr>
        <p:blipFill>
          <a:blip r:embed="rId1"/>
          <a:stretch/>
        </p:blipFill>
        <p:spPr>
          <a:xfrm>
            <a:off x="324000" y="907920"/>
            <a:ext cx="3862080" cy="518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Прямоугольник с одним вырезанным углом 8" descr=""/>
          <p:cNvPicPr/>
          <p:nvPr/>
        </p:nvPicPr>
        <p:blipFill>
          <a:blip r:embed="rId2"/>
          <a:stretch/>
        </p:blipFill>
        <p:spPr>
          <a:xfrm>
            <a:off x="7534440" y="4657680"/>
            <a:ext cx="103644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55</cp:lastModifiedBy>
  <dcterms:modified xsi:type="dcterms:W3CDTF">2017-10-21T17:55:4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