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png" ContentType="image/png"/>
  <Override PartName="/ppt/media/image12.wmf" ContentType="image/x-wmf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6.jpeg" ContentType="image/jpeg"/>
  <Override PartName="/ppt/media/image24.jpeg" ContentType="image/jpe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19.png" ContentType="image/png"/>
  <Override PartName="/ppt/media/image2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4EDE-A4F6-47E4-98BD-43C9C1E9F8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E7E5-86A0-44BD-A875-78F1C9F754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B5ED-0291-4226-8AAA-523D185A3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D537-6F09-42BD-8A2A-48ABFB35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E405-80DF-455E-90F9-5DCF35A95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E594-BD8B-4577-BDB9-D23C8EEBF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9EEC-8C9D-4228-BB41-A8FB39F51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3DCC-56A0-4072-B460-5C6506F7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3654-28A3-4FB2-85D4-81520118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9DA9B-4CF1-4084-8EA4-58361E72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1AA36-AC29-47F6-B298-B6D9E1AB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CBAF-822C-4740-83D8-82D80E38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A163-D671-40C1-9C61-0D112861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2DB7-D68C-41B4-A593-F4E7AE58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6218-07A5-42B0-942A-868CA6A0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016E-7EB6-45EC-80C1-B60C7B94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7DD6-6C27-48FA-8460-FFC45152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F89A2-2123-4BB8-BD03-9C4B5FA84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A594-A43F-4B1F-BCFB-B50F61C2D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BBF44-9593-48AD-9082-32200DBFB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E9005-0971-4F2B-BFFF-9F90788D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D198E-63CB-46EE-B3D3-AFB1B435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CDAE1-D261-49B1-B8B2-8C00A6E4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870F9-30F9-4C91-871C-114F59E6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E359-4053-4CE8-8022-F31639A4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D5B45-3DFB-4A13-82E2-95494217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554C2-1BEB-41BE-9D45-B893C99C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37B1B-7D98-42D1-882D-2F4DA76A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C990A-1C6A-4521-84A4-4656450A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0A229-C6BA-4B0D-9E3D-30EC8D1D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BD1ED-633A-44F9-81AA-3B7BA5515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CBD58-DF27-49EE-9C75-C568C8590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65DB7-72EA-4FF5-A5D9-1ACD142F8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D9D11-0DA6-4B47-BE0E-C3AF5DE7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A1E26-1BF6-4318-9CE8-F12600F8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FD51-46A6-4132-885F-5EBB94FD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FE0A3-B9F5-4CDA-BD6B-AA540A35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39010-7C7A-4C94-AD24-2A846578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D0E57-B677-4FC8-9C2B-42540C34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ADB2D-FB69-4BBB-BCDB-AD581AB0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1A7A3-0880-49E6-B9E4-3B1EDE20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EA5A0-BF59-48AA-B7C4-B5192019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FDBD6-35CD-469D-8DE4-988F0CF0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89F79-66BA-478E-A23A-B86ADE5B6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EDD95-270A-48D1-A3A8-C94952CCC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A23A-01EB-4133-BF9C-AC5E21B5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CE1D-02F9-4A9B-9448-68258018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AD9F-67B9-4676-998F-224853C4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BC67-E753-4572-98A4-C60B89D2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9B0C-0DC0-4BC2-AFC9-EBDECD64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FDC0-0BA0-4120-A869-0A41D307B992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7DDF-ADAB-47D6-AEA7-BF536536D1F7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A56B-BB00-413D-8BE8-388B2A3E7A74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ACC1-C6B0-49D8-8A9C-3F04A844935C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jpeg"/><Relationship Id="rId9" Type="http://schemas.openxmlformats.org/officeDocument/2006/relationships/image" Target="../media/image25.png"/><Relationship Id="rId10" Type="http://schemas.openxmlformats.org/officeDocument/2006/relationships/image" Target="../media/image26.jpe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WordArt 4"/>
          <p:cNvSpPr txBox="1"/>
          <p:nvPr/>
        </p:nvSpPr>
        <p:spPr>
          <a:xfrm>
            <a:off x="285840" y="404640"/>
            <a:ext cx="85010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12774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Кем тизрәк дәрес темасын әйтә?» уены</a:t>
            </a:r>
            <a:endParaRPr b="0" lang="en-US" sz="1800" spc="1" strike="noStrike">
              <a:ln w="0">
                <a:noFill/>
              </a:ln>
              <a:solidFill>
                <a:srgbClr val="812774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" name="Равнобедренный треугольник 12"/>
          <p:cNvSpPr/>
          <p:nvPr/>
        </p:nvSpPr>
        <p:spPr>
          <a:xfrm>
            <a:off x="3535200" y="1349280"/>
            <a:ext cx="928800" cy="7858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5-конечная звезда 13"/>
          <p:cNvSpPr/>
          <p:nvPr/>
        </p:nvSpPr>
        <p:spPr>
          <a:xfrm>
            <a:off x="4506840" y="1222200"/>
            <a:ext cx="1000080" cy="928800"/>
          </a:xfrm>
          <a:custGeom>
            <a:avLst/>
            <a:gdLst/>
            <a:ahLst/>
            <a:rect l="l" t="t" r="r" b="b"/>
            <a:pathLst>
              <a:path w="1000125" h="928688">
                <a:moveTo>
                  <a:pt x="1" y="354726"/>
                </a:moveTo>
                <a:lnTo>
                  <a:pt x="382016" y="354729"/>
                </a:lnTo>
                <a:lnTo>
                  <a:pt x="500063" y="0"/>
                </a:lnTo>
                <a:lnTo>
                  <a:pt x="618109" y="354729"/>
                </a:lnTo>
                <a:lnTo>
                  <a:pt x="1000124" y="354726"/>
                </a:lnTo>
                <a:lnTo>
                  <a:pt x="691066" y="573958"/>
                </a:lnTo>
                <a:lnTo>
                  <a:pt x="809117" y="928686"/>
                </a:lnTo>
                <a:lnTo>
                  <a:pt x="500063" y="709450"/>
                </a:lnTo>
                <a:lnTo>
                  <a:pt x="191008" y="928686"/>
                </a:lnTo>
                <a:lnTo>
                  <a:pt x="309059" y="573958"/>
                </a:lnTo>
                <a:lnTo>
                  <a:pt x="1" y="35472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Овал 14"/>
          <p:cNvSpPr/>
          <p:nvPr/>
        </p:nvSpPr>
        <p:spPr>
          <a:xfrm>
            <a:off x="5572080" y="1285920"/>
            <a:ext cx="1428840" cy="857160"/>
          </a:xfrm>
          <a:prstGeom prst="ellipse">
            <a:avLst/>
          </a:prstGeom>
          <a:solidFill>
            <a:srgbClr val="703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Облако 16"/>
          <p:cNvSpPr/>
          <p:nvPr/>
        </p:nvSpPr>
        <p:spPr>
          <a:xfrm>
            <a:off x="900000" y="2395440"/>
            <a:ext cx="1357560" cy="100008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Солнце 17"/>
          <p:cNvSpPr/>
          <p:nvPr/>
        </p:nvSpPr>
        <p:spPr>
          <a:xfrm>
            <a:off x="3286080" y="4286160"/>
            <a:ext cx="928800" cy="10000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есяц 18"/>
          <p:cNvSpPr/>
          <p:nvPr/>
        </p:nvSpPr>
        <p:spPr>
          <a:xfrm>
            <a:off x="3535200" y="2441520"/>
            <a:ext cx="928800" cy="928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Равнобедренный треугольник 19"/>
          <p:cNvSpPr/>
          <p:nvPr/>
        </p:nvSpPr>
        <p:spPr>
          <a:xfrm>
            <a:off x="500040" y="3357720"/>
            <a:ext cx="928800" cy="78552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Равно 20"/>
          <p:cNvSpPr/>
          <p:nvPr/>
        </p:nvSpPr>
        <p:spPr>
          <a:xfrm>
            <a:off x="1428840" y="3714840"/>
            <a:ext cx="714240" cy="285840"/>
          </a:xfrm>
          <a:custGeom>
            <a:avLst/>
            <a:gdLst/>
            <a:ahLst/>
            <a:rect l="l" t="t" r="r" b="b"/>
            <a:pathLst>
              <a:path w="714375" h="285750">
                <a:moveTo>
                  <a:pt x="94690" y="58865"/>
                </a:moveTo>
                <a:lnTo>
                  <a:pt x="619685" y="58865"/>
                </a:lnTo>
                <a:lnTo>
                  <a:pt x="619685" y="126073"/>
                </a:lnTo>
                <a:lnTo>
                  <a:pt x="94690" y="126073"/>
                </a:lnTo>
                <a:lnTo>
                  <a:pt x="94690" y="58865"/>
                </a:lnTo>
                <a:close/>
                <a:moveTo>
                  <a:pt x="94690" y="159677"/>
                </a:moveTo>
                <a:lnTo>
                  <a:pt x="619685" y="159677"/>
                </a:lnTo>
                <a:lnTo>
                  <a:pt x="619685" y="226886"/>
                </a:lnTo>
                <a:lnTo>
                  <a:pt x="94690" y="226886"/>
                </a:lnTo>
                <a:lnTo>
                  <a:pt x="94690" y="15967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Прямоугольник 21"/>
          <p:cNvSpPr/>
          <p:nvPr/>
        </p:nvSpPr>
        <p:spPr>
          <a:xfrm>
            <a:off x="571680" y="4429080"/>
            <a:ext cx="785520" cy="785880"/>
          </a:xfrm>
          <a:prstGeom prst="rect">
            <a:avLst/>
          </a:prstGeom>
          <a:solidFill>
            <a:srgbClr val="7af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Равно 22"/>
          <p:cNvSpPr/>
          <p:nvPr/>
        </p:nvSpPr>
        <p:spPr>
          <a:xfrm>
            <a:off x="1428840" y="4714920"/>
            <a:ext cx="714240" cy="285840"/>
          </a:xfrm>
          <a:custGeom>
            <a:avLst/>
            <a:gdLst/>
            <a:ahLst/>
            <a:rect l="l" t="t" r="r" b="b"/>
            <a:pathLst>
              <a:path w="714375" h="285750">
                <a:moveTo>
                  <a:pt x="94690" y="58865"/>
                </a:moveTo>
                <a:lnTo>
                  <a:pt x="619685" y="58865"/>
                </a:lnTo>
                <a:lnTo>
                  <a:pt x="619685" y="126073"/>
                </a:lnTo>
                <a:lnTo>
                  <a:pt x="94690" y="126073"/>
                </a:lnTo>
                <a:lnTo>
                  <a:pt x="94690" y="58865"/>
                </a:lnTo>
                <a:close/>
                <a:moveTo>
                  <a:pt x="94690" y="159677"/>
                </a:moveTo>
                <a:lnTo>
                  <a:pt x="619685" y="159677"/>
                </a:lnTo>
                <a:lnTo>
                  <a:pt x="619685" y="226886"/>
                </a:lnTo>
                <a:lnTo>
                  <a:pt x="94690" y="226886"/>
                </a:lnTo>
                <a:lnTo>
                  <a:pt x="94690" y="15967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5-конечная звезда 23"/>
          <p:cNvSpPr/>
          <p:nvPr/>
        </p:nvSpPr>
        <p:spPr>
          <a:xfrm>
            <a:off x="3286080" y="3286080"/>
            <a:ext cx="1000080" cy="928800"/>
          </a:xfrm>
          <a:custGeom>
            <a:avLst/>
            <a:gdLst/>
            <a:ahLst/>
            <a:rect l="l" t="t" r="r" b="b"/>
            <a:pathLst>
              <a:path w="1000125" h="928688">
                <a:moveTo>
                  <a:pt x="1" y="354726"/>
                </a:moveTo>
                <a:lnTo>
                  <a:pt x="382016" y="354729"/>
                </a:lnTo>
                <a:lnTo>
                  <a:pt x="500063" y="0"/>
                </a:lnTo>
                <a:lnTo>
                  <a:pt x="618109" y="354729"/>
                </a:lnTo>
                <a:lnTo>
                  <a:pt x="1000124" y="354726"/>
                </a:lnTo>
                <a:lnTo>
                  <a:pt x="691066" y="573958"/>
                </a:lnTo>
                <a:lnTo>
                  <a:pt x="809117" y="928686"/>
                </a:lnTo>
                <a:lnTo>
                  <a:pt x="500063" y="709450"/>
                </a:lnTo>
                <a:lnTo>
                  <a:pt x="191008" y="928686"/>
                </a:lnTo>
                <a:lnTo>
                  <a:pt x="309059" y="573958"/>
                </a:lnTo>
                <a:lnTo>
                  <a:pt x="1" y="35472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Равно 24"/>
          <p:cNvSpPr/>
          <p:nvPr/>
        </p:nvSpPr>
        <p:spPr>
          <a:xfrm>
            <a:off x="4143240" y="3714840"/>
            <a:ext cx="714600" cy="285840"/>
          </a:xfrm>
          <a:custGeom>
            <a:avLst/>
            <a:gdLst/>
            <a:ahLst/>
            <a:rect l="l" t="t" r="r" b="b"/>
            <a:pathLst>
              <a:path w="714375" h="285750">
                <a:moveTo>
                  <a:pt x="94690" y="58865"/>
                </a:moveTo>
                <a:lnTo>
                  <a:pt x="619685" y="58865"/>
                </a:lnTo>
                <a:lnTo>
                  <a:pt x="619685" y="126073"/>
                </a:lnTo>
                <a:lnTo>
                  <a:pt x="94690" y="126073"/>
                </a:lnTo>
                <a:lnTo>
                  <a:pt x="94690" y="58865"/>
                </a:lnTo>
                <a:close/>
                <a:moveTo>
                  <a:pt x="94690" y="159677"/>
                </a:moveTo>
                <a:lnTo>
                  <a:pt x="619685" y="159677"/>
                </a:lnTo>
                <a:lnTo>
                  <a:pt x="619685" y="226886"/>
                </a:lnTo>
                <a:lnTo>
                  <a:pt x="94690" y="226886"/>
                </a:lnTo>
                <a:lnTo>
                  <a:pt x="94690" y="15967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Солнце 25"/>
          <p:cNvSpPr/>
          <p:nvPr/>
        </p:nvSpPr>
        <p:spPr>
          <a:xfrm>
            <a:off x="4456080" y="2395440"/>
            <a:ext cx="928800" cy="10000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Равно 26"/>
          <p:cNvSpPr/>
          <p:nvPr/>
        </p:nvSpPr>
        <p:spPr>
          <a:xfrm>
            <a:off x="4143240" y="4714920"/>
            <a:ext cx="714600" cy="285840"/>
          </a:xfrm>
          <a:custGeom>
            <a:avLst/>
            <a:gdLst/>
            <a:ahLst/>
            <a:rect l="l" t="t" r="r" b="b"/>
            <a:pathLst>
              <a:path w="714375" h="285750">
                <a:moveTo>
                  <a:pt x="94690" y="58865"/>
                </a:moveTo>
                <a:lnTo>
                  <a:pt x="619685" y="58865"/>
                </a:lnTo>
                <a:lnTo>
                  <a:pt x="619685" y="126073"/>
                </a:lnTo>
                <a:lnTo>
                  <a:pt x="94690" y="126073"/>
                </a:lnTo>
                <a:lnTo>
                  <a:pt x="94690" y="58865"/>
                </a:lnTo>
                <a:close/>
                <a:moveTo>
                  <a:pt x="94690" y="159677"/>
                </a:moveTo>
                <a:lnTo>
                  <a:pt x="619685" y="159677"/>
                </a:lnTo>
                <a:lnTo>
                  <a:pt x="619685" y="226886"/>
                </a:lnTo>
                <a:lnTo>
                  <a:pt x="94690" y="226886"/>
                </a:lnTo>
                <a:lnTo>
                  <a:pt x="94690" y="15967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Облако 27"/>
          <p:cNvSpPr/>
          <p:nvPr/>
        </p:nvSpPr>
        <p:spPr>
          <a:xfrm>
            <a:off x="5853240" y="3371760"/>
            <a:ext cx="1357200" cy="100008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Равно 28"/>
          <p:cNvSpPr/>
          <p:nvPr/>
        </p:nvSpPr>
        <p:spPr>
          <a:xfrm>
            <a:off x="7215120" y="3714840"/>
            <a:ext cx="714600" cy="285840"/>
          </a:xfrm>
          <a:custGeom>
            <a:avLst/>
            <a:gdLst/>
            <a:ahLst/>
            <a:rect l="l" t="t" r="r" b="b"/>
            <a:pathLst>
              <a:path w="714375" h="285750">
                <a:moveTo>
                  <a:pt x="94690" y="58865"/>
                </a:moveTo>
                <a:lnTo>
                  <a:pt x="619685" y="58865"/>
                </a:lnTo>
                <a:lnTo>
                  <a:pt x="619685" y="126073"/>
                </a:lnTo>
                <a:lnTo>
                  <a:pt x="94690" y="126073"/>
                </a:lnTo>
                <a:lnTo>
                  <a:pt x="94690" y="58865"/>
                </a:lnTo>
                <a:close/>
                <a:moveTo>
                  <a:pt x="94690" y="159677"/>
                </a:moveTo>
                <a:lnTo>
                  <a:pt x="619685" y="159677"/>
                </a:lnTo>
                <a:lnTo>
                  <a:pt x="619685" y="226886"/>
                </a:lnTo>
                <a:lnTo>
                  <a:pt x="94690" y="226886"/>
                </a:lnTo>
                <a:lnTo>
                  <a:pt x="94690" y="15967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есяц 29"/>
          <p:cNvSpPr/>
          <p:nvPr/>
        </p:nvSpPr>
        <p:spPr>
          <a:xfrm>
            <a:off x="6072120" y="4429080"/>
            <a:ext cx="928800" cy="928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Равно 30"/>
          <p:cNvSpPr/>
          <p:nvPr/>
        </p:nvSpPr>
        <p:spPr>
          <a:xfrm>
            <a:off x="7215120" y="4786200"/>
            <a:ext cx="714600" cy="285840"/>
          </a:xfrm>
          <a:custGeom>
            <a:avLst/>
            <a:gdLst/>
            <a:ahLst/>
            <a:rect l="l" t="t" r="r" b="b"/>
            <a:pathLst>
              <a:path w="714375" h="285750">
                <a:moveTo>
                  <a:pt x="94690" y="58865"/>
                </a:moveTo>
                <a:lnTo>
                  <a:pt x="619685" y="58865"/>
                </a:lnTo>
                <a:lnTo>
                  <a:pt x="619685" y="126073"/>
                </a:lnTo>
                <a:lnTo>
                  <a:pt x="94690" y="126073"/>
                </a:lnTo>
                <a:lnTo>
                  <a:pt x="94690" y="58865"/>
                </a:lnTo>
                <a:close/>
                <a:moveTo>
                  <a:pt x="94690" y="159677"/>
                </a:moveTo>
                <a:lnTo>
                  <a:pt x="619685" y="159677"/>
                </a:lnTo>
                <a:lnTo>
                  <a:pt x="619685" y="226886"/>
                </a:lnTo>
                <a:lnTo>
                  <a:pt x="94690" y="226886"/>
                </a:lnTo>
                <a:lnTo>
                  <a:pt x="94690" y="15967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Овал 31"/>
          <p:cNvSpPr/>
          <p:nvPr/>
        </p:nvSpPr>
        <p:spPr>
          <a:xfrm>
            <a:off x="428760" y="5500800"/>
            <a:ext cx="1000080" cy="92844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Равно 32"/>
          <p:cNvSpPr/>
          <p:nvPr/>
        </p:nvSpPr>
        <p:spPr>
          <a:xfrm>
            <a:off x="1428840" y="5857920"/>
            <a:ext cx="714240" cy="285840"/>
          </a:xfrm>
          <a:custGeom>
            <a:avLst/>
            <a:gdLst/>
            <a:ahLst/>
            <a:rect l="l" t="t" r="r" b="b"/>
            <a:pathLst>
              <a:path w="714375" h="285750">
                <a:moveTo>
                  <a:pt x="94690" y="58865"/>
                </a:moveTo>
                <a:lnTo>
                  <a:pt x="619685" y="58865"/>
                </a:lnTo>
                <a:lnTo>
                  <a:pt x="619685" y="126073"/>
                </a:lnTo>
                <a:lnTo>
                  <a:pt x="94690" y="126073"/>
                </a:lnTo>
                <a:lnTo>
                  <a:pt x="94690" y="58865"/>
                </a:lnTo>
                <a:close/>
                <a:moveTo>
                  <a:pt x="94690" y="159677"/>
                </a:moveTo>
                <a:lnTo>
                  <a:pt x="619685" y="159677"/>
                </a:lnTo>
                <a:lnTo>
                  <a:pt x="619685" y="226886"/>
                </a:lnTo>
                <a:lnTo>
                  <a:pt x="94690" y="226886"/>
                </a:lnTo>
                <a:lnTo>
                  <a:pt x="94690" y="15967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2143080" y="3286080"/>
            <a:ext cx="64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000" spc="-1" strike="noStrike">
                <a:solidFill>
                  <a:srgbClr val="ff0000"/>
                </a:solidFill>
                <a:latin typeface="Verdana"/>
              </a:rPr>
              <a:t>х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2143080" y="4286160"/>
            <a:ext cx="64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000" spc="-1" strike="noStrike">
                <a:solidFill>
                  <a:srgbClr val="ff0000"/>
                </a:solidFill>
                <a:latin typeface="Verdana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2143080" y="5429160"/>
            <a:ext cx="64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000" spc="-1" strike="noStrike">
                <a:solidFill>
                  <a:srgbClr val="ff0000"/>
                </a:solidFill>
                <a:latin typeface="Verdana"/>
              </a:rPr>
              <a:t>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4857840" y="3286080"/>
            <a:ext cx="64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000" spc="-1" strike="noStrike">
                <a:solidFill>
                  <a:srgbClr val="ff0000"/>
                </a:solidFill>
                <a:latin typeface="Verdana"/>
              </a:rPr>
              <a:t>ә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57840" y="4214880"/>
            <a:ext cx="64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000" spc="-1" strike="noStrike">
                <a:solidFill>
                  <a:srgbClr val="ff0000"/>
                </a:solidFill>
                <a:latin typeface="Verdana"/>
              </a:rPr>
              <a:t>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7858080" y="4286160"/>
            <a:ext cx="64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000" spc="-1" strike="noStrike">
                <a:solidFill>
                  <a:srgbClr val="ff0000"/>
                </a:solidFill>
                <a:latin typeface="Verdana"/>
              </a:rPr>
              <a:t>г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7858080" y="3286080"/>
            <a:ext cx="64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000" spc="-1" strike="noStrike">
                <a:solidFill>
                  <a:srgbClr val="ff0000"/>
                </a:solidFill>
                <a:latin typeface="Verdana"/>
              </a:rPr>
              <a:t>ф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Прямоугольник 33"/>
          <p:cNvSpPr/>
          <p:nvPr/>
        </p:nvSpPr>
        <p:spPr>
          <a:xfrm>
            <a:off x="2465280" y="2513160"/>
            <a:ext cx="785880" cy="785520"/>
          </a:xfrm>
          <a:prstGeom prst="rect">
            <a:avLst/>
          </a:prstGeom>
          <a:solidFill>
            <a:srgbClr val="7af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Овал 1"/>
          <p:cNvSpPr/>
          <p:nvPr/>
        </p:nvSpPr>
        <p:spPr>
          <a:xfrm>
            <a:off x="3232080" y="5500800"/>
            <a:ext cx="1536840" cy="86364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Равно 41"/>
          <p:cNvSpPr/>
          <p:nvPr/>
        </p:nvSpPr>
        <p:spPr>
          <a:xfrm>
            <a:off x="4753080" y="5869080"/>
            <a:ext cx="714240" cy="285480"/>
          </a:xfrm>
          <a:custGeom>
            <a:avLst/>
            <a:gdLst/>
            <a:ahLst/>
            <a:rect l="l" t="t" r="r" b="b"/>
            <a:pathLst>
              <a:path w="714375" h="285750">
                <a:moveTo>
                  <a:pt x="94690" y="58865"/>
                </a:moveTo>
                <a:lnTo>
                  <a:pt x="619685" y="58865"/>
                </a:lnTo>
                <a:lnTo>
                  <a:pt x="619685" y="126073"/>
                </a:lnTo>
                <a:lnTo>
                  <a:pt x="94690" y="126073"/>
                </a:lnTo>
                <a:lnTo>
                  <a:pt x="94690" y="58865"/>
                </a:lnTo>
                <a:close/>
                <a:moveTo>
                  <a:pt x="94690" y="159677"/>
                </a:moveTo>
                <a:lnTo>
                  <a:pt x="619685" y="159677"/>
                </a:lnTo>
                <a:lnTo>
                  <a:pt x="619685" y="226886"/>
                </a:lnTo>
                <a:lnTo>
                  <a:pt x="94690" y="226886"/>
                </a:lnTo>
                <a:lnTo>
                  <a:pt x="94690" y="15967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5465880" y="5429160"/>
            <a:ext cx="64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000" spc="-1" strike="noStrike">
                <a:solidFill>
                  <a:srgbClr val="ff0000"/>
                </a:solidFill>
                <a:latin typeface="Verdana"/>
              </a:rPr>
              <a:t>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Правильный пятиугольник 2"/>
          <p:cNvSpPr/>
          <p:nvPr/>
        </p:nvSpPr>
        <p:spPr>
          <a:xfrm>
            <a:off x="6294600" y="5500800"/>
            <a:ext cx="1152360" cy="811080"/>
          </a:xfrm>
          <a:prstGeom prst="pentagon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Равно 43"/>
          <p:cNvSpPr/>
          <p:nvPr/>
        </p:nvSpPr>
        <p:spPr>
          <a:xfrm>
            <a:off x="7415280" y="5900760"/>
            <a:ext cx="714240" cy="285840"/>
          </a:xfrm>
          <a:custGeom>
            <a:avLst/>
            <a:gdLst/>
            <a:ahLst/>
            <a:rect l="l" t="t" r="r" b="b"/>
            <a:pathLst>
              <a:path w="714375" h="285750">
                <a:moveTo>
                  <a:pt x="94690" y="58865"/>
                </a:moveTo>
                <a:lnTo>
                  <a:pt x="619685" y="58865"/>
                </a:lnTo>
                <a:lnTo>
                  <a:pt x="619685" y="126073"/>
                </a:lnTo>
                <a:lnTo>
                  <a:pt x="94690" y="126073"/>
                </a:lnTo>
                <a:lnTo>
                  <a:pt x="94690" y="58865"/>
                </a:lnTo>
                <a:close/>
                <a:moveTo>
                  <a:pt x="94690" y="159677"/>
                </a:moveTo>
                <a:lnTo>
                  <a:pt x="619685" y="159677"/>
                </a:lnTo>
                <a:lnTo>
                  <a:pt x="619685" y="226886"/>
                </a:lnTo>
                <a:lnTo>
                  <a:pt x="94690" y="226886"/>
                </a:lnTo>
                <a:lnTo>
                  <a:pt x="94690" y="15967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8116920" y="5398920"/>
            <a:ext cx="64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000" spc="-1" strike="noStrike">
                <a:solidFill>
                  <a:srgbClr val="ff0000"/>
                </a:solidFill>
                <a:latin typeface="Verdana"/>
              </a:rPr>
              <a:t>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Правильный пятиугольник 45"/>
          <p:cNvSpPr/>
          <p:nvPr/>
        </p:nvSpPr>
        <p:spPr>
          <a:xfrm>
            <a:off x="7116840" y="2370240"/>
            <a:ext cx="1152360" cy="811080"/>
          </a:xfrm>
          <a:prstGeom prst="pentagon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Овал 46"/>
          <p:cNvSpPr/>
          <p:nvPr/>
        </p:nvSpPr>
        <p:spPr>
          <a:xfrm>
            <a:off x="5429160" y="2370240"/>
            <a:ext cx="1536840" cy="86364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«Бином фантазии» алымы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Заголовок 3"/>
          <p:cNvGrpSpPr/>
          <p:nvPr/>
        </p:nvGrpSpPr>
        <p:grpSpPr>
          <a:xfrm>
            <a:off x="30240" y="365040"/>
            <a:ext cx="8924760" cy="1920960"/>
            <a:chOff x="30240" y="365040"/>
            <a:chExt cx="8924760" cy="1920960"/>
          </a:xfrm>
        </p:grpSpPr>
        <p:pic>
          <p:nvPicPr>
            <p:cNvPr id="264" name="Заголовок 3" descr=""/>
            <p:cNvPicPr/>
            <p:nvPr/>
          </p:nvPicPr>
          <p:blipFill>
            <a:blip r:embed="rId1"/>
            <a:stretch/>
          </p:blipFill>
          <p:spPr>
            <a:xfrm>
              <a:off x="30240" y="365040"/>
              <a:ext cx="8924760" cy="192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457200" y="7048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4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И</a:t>
              </a:r>
              <a:r>
                <a:rPr b="1" lang="ru-RU" sz="4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нтеллект – карт</a:t>
              </a:r>
              <a:r>
                <a:rPr b="1" lang="tt-RU" sz="4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аның барлыкка килүе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6" name=""/>
          <p:cNvSpPr txBox="1"/>
          <p:nvPr/>
        </p:nvSpPr>
        <p:spPr>
          <a:xfrm>
            <a:off x="107640" y="1844640"/>
            <a:ext cx="6335640" cy="3168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nstantia"/>
              </a:rPr>
              <a:t>Тони Бьюзен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«Баш белән эшлә» китабы (1974ел.)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Фикерләүне оештыру методикасы  </a:t>
            </a:r>
            <a:r>
              <a:rPr b="1" i="1" lang="ru-RU" sz="3000" spc="-1" strike="noStrike">
                <a:solidFill>
                  <a:srgbClr val="000000"/>
                </a:solidFill>
                <a:latin typeface="Constantia"/>
              </a:rPr>
              <a:t>«акыл картасы»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авторы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7" name="Picture 2" descr="C:\Documents and Settings\Слушатель\Рабочий стол\тони.jpg"/>
          <p:cNvPicPr/>
          <p:nvPr/>
        </p:nvPicPr>
        <p:blipFill>
          <a:blip r:embed="rId2"/>
          <a:stretch/>
        </p:blipFill>
        <p:spPr>
          <a:xfrm>
            <a:off x="6156360" y="1700280"/>
            <a:ext cx="2663640" cy="28098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" descr="на сколько процентов работает мозг человека"/>
          <p:cNvPicPr/>
          <p:nvPr/>
        </p:nvPicPr>
        <p:blipFill>
          <a:blip r:embed="rId3"/>
          <a:srcRect l="16164" t="16190" r="16876" b="14417"/>
          <a:stretch/>
        </p:blipFill>
        <p:spPr>
          <a:xfrm>
            <a:off x="2556000" y="4221000"/>
            <a:ext cx="280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Овал 64"/>
          <p:cNvSpPr/>
          <p:nvPr/>
        </p:nvSpPr>
        <p:spPr>
          <a:xfrm>
            <a:off x="6516720" y="2060640"/>
            <a:ext cx="2376360" cy="1584360"/>
          </a:xfrm>
          <a:prstGeom prst="ellipse">
            <a:avLst/>
          </a:prstGeom>
          <a:solidFill>
            <a:srgbClr val="fde9ef"/>
          </a:solidFill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Овал 59"/>
          <p:cNvSpPr/>
          <p:nvPr/>
        </p:nvSpPr>
        <p:spPr>
          <a:xfrm>
            <a:off x="250920" y="2852640"/>
            <a:ext cx="2714400" cy="2232000"/>
          </a:xfrm>
          <a:prstGeom prst="ellipse">
            <a:avLst/>
          </a:prstGeom>
          <a:solidFill>
            <a:srgbClr val="fdfacf"/>
          </a:solidFill>
          <a:ln w="25560">
            <a:solidFill>
              <a:srgbClr val="f5ef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Овал 60"/>
          <p:cNvSpPr/>
          <p:nvPr/>
        </p:nvSpPr>
        <p:spPr>
          <a:xfrm>
            <a:off x="6300720" y="3716280"/>
            <a:ext cx="2843280" cy="2449440"/>
          </a:xfrm>
          <a:prstGeom prst="ellipse">
            <a:avLst/>
          </a:prstGeom>
          <a:solidFill>
            <a:srgbClr val="91e9eb"/>
          </a:solidFill>
          <a:ln w="25560">
            <a:solidFill>
              <a:srgbClr val="daf7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Овал 61"/>
          <p:cNvSpPr/>
          <p:nvPr/>
        </p:nvSpPr>
        <p:spPr>
          <a:xfrm>
            <a:off x="2916360" y="4076640"/>
            <a:ext cx="3024000" cy="2089080"/>
          </a:xfrm>
          <a:prstGeom prst="ellipse">
            <a:avLst/>
          </a:prstGeom>
          <a:solidFill>
            <a:srgbClr val="c4f8c6"/>
          </a:solidFill>
          <a:ln w="9360">
            <a:solidFill>
              <a:srgbClr val="d6fa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Овал 55"/>
          <p:cNvSpPr/>
          <p:nvPr/>
        </p:nvSpPr>
        <p:spPr>
          <a:xfrm>
            <a:off x="6300720" y="549360"/>
            <a:ext cx="2519280" cy="16556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Овал 50"/>
          <p:cNvSpPr/>
          <p:nvPr/>
        </p:nvSpPr>
        <p:spPr>
          <a:xfrm>
            <a:off x="3419640" y="549360"/>
            <a:ext cx="2520720" cy="1511280"/>
          </a:xfrm>
          <a:prstGeom prst="ellipse">
            <a:avLst/>
          </a:prstGeom>
          <a:solidFill>
            <a:srgbClr val="f6d2d5"/>
          </a:solidFill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Овал 56"/>
          <p:cNvSpPr/>
          <p:nvPr/>
        </p:nvSpPr>
        <p:spPr>
          <a:xfrm>
            <a:off x="179280" y="620640"/>
            <a:ext cx="2808360" cy="2087640"/>
          </a:xfrm>
          <a:prstGeom prst="ellipse">
            <a:avLst/>
          </a:prstGeom>
          <a:solidFill>
            <a:srgbClr val="8fbef1"/>
          </a:solidFill>
          <a:ln w="25560">
            <a:solidFill>
              <a:srgbClr val="acca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6" name="Прямая со стрелкой 5"/>
          <p:cNvCxnSpPr/>
          <p:nvPr/>
        </p:nvCxnSpPr>
        <p:spPr>
          <a:xfrm flipH="1" flipV="1">
            <a:off x="1834920" y="2133720"/>
            <a:ext cx="1224720" cy="35892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  <p:cxnSp>
        <p:nvCxnSpPr>
          <p:cNvPr id="277" name="Прямая со стрелкой 7"/>
          <p:cNvCxnSpPr/>
          <p:nvPr/>
        </p:nvCxnSpPr>
        <p:spPr>
          <a:xfrm>
            <a:off x="4284360" y="3499920"/>
            <a:ext cx="1080" cy="108180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  <p:cxnSp>
        <p:nvCxnSpPr>
          <p:cNvPr id="278" name="Прямая со стрелкой 8"/>
          <p:cNvCxnSpPr/>
          <p:nvPr/>
        </p:nvCxnSpPr>
        <p:spPr>
          <a:xfrm>
            <a:off x="5508720" y="2852280"/>
            <a:ext cx="1080000" cy="108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  <p:cxnSp>
        <p:nvCxnSpPr>
          <p:cNvPr id="279" name="Прямая со стрелкой 9"/>
          <p:cNvCxnSpPr/>
          <p:nvPr/>
        </p:nvCxnSpPr>
        <p:spPr>
          <a:xfrm flipV="1">
            <a:off x="5580000" y="1699920"/>
            <a:ext cx="937440" cy="72144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  <p:cxnSp>
        <p:nvCxnSpPr>
          <p:cNvPr id="280" name="Прямая со стрелкой 10"/>
          <p:cNvCxnSpPr/>
          <p:nvPr/>
        </p:nvCxnSpPr>
        <p:spPr>
          <a:xfrm flipH="1">
            <a:off x="2123640" y="3284280"/>
            <a:ext cx="936000" cy="4323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  <p:cxnSp>
        <p:nvCxnSpPr>
          <p:cNvPr id="281" name="Прямая со стрелкой 11"/>
          <p:cNvCxnSpPr/>
          <p:nvPr/>
        </p:nvCxnSpPr>
        <p:spPr>
          <a:xfrm>
            <a:off x="5508720" y="3428640"/>
            <a:ext cx="1296000" cy="6483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  <p:grpSp>
        <p:nvGrpSpPr>
          <p:cNvPr id="282" name="Скругленный прямоугольник 27"/>
          <p:cNvGrpSpPr/>
          <p:nvPr/>
        </p:nvGrpSpPr>
        <p:grpSpPr>
          <a:xfrm>
            <a:off x="6516720" y="2535120"/>
            <a:ext cx="1225440" cy="671760"/>
            <a:chOff x="6516720" y="2535120"/>
            <a:chExt cx="1225440" cy="671760"/>
          </a:xfrm>
        </p:grpSpPr>
        <p:pic>
          <p:nvPicPr>
            <p:cNvPr id="283" name="Скругленный прямоугольник 27" descr=""/>
            <p:cNvPicPr/>
            <p:nvPr/>
          </p:nvPicPr>
          <p:blipFill>
            <a:blip r:embed="rId1"/>
            <a:stretch/>
          </p:blipFill>
          <p:spPr>
            <a:xfrm>
              <a:off x="6516720" y="2535120"/>
              <a:ext cx="1225440" cy="6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6613560" y="2589120"/>
              <a:ext cx="10303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nstantia"/>
                </a:rPr>
                <a:t>Язучы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5" name="Скругленный прямоугольник 28"/>
          <p:cNvGrpSpPr/>
          <p:nvPr/>
        </p:nvGrpSpPr>
        <p:grpSpPr>
          <a:xfrm>
            <a:off x="542880" y="3322800"/>
            <a:ext cx="1719360" cy="712800"/>
            <a:chOff x="542880" y="3322800"/>
            <a:chExt cx="1719360" cy="712800"/>
          </a:xfrm>
        </p:grpSpPr>
        <p:pic>
          <p:nvPicPr>
            <p:cNvPr id="286" name="Скругленный прямоугольник 28" descr=""/>
            <p:cNvPicPr/>
            <p:nvPr/>
          </p:nvPicPr>
          <p:blipFill>
            <a:blip r:embed="rId2"/>
            <a:stretch/>
          </p:blipFill>
          <p:spPr>
            <a:xfrm>
              <a:off x="542880" y="3322800"/>
              <a:ext cx="171936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639720" y="3384720"/>
              <a:ext cx="152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nstantia"/>
                </a:rPr>
                <a:t>Мөгаллим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8" name="Скругленный прямоугольник 29"/>
          <p:cNvGrpSpPr/>
          <p:nvPr/>
        </p:nvGrpSpPr>
        <p:grpSpPr>
          <a:xfrm>
            <a:off x="6705720" y="4048200"/>
            <a:ext cx="2249280" cy="676080"/>
            <a:chOff x="6705720" y="4048200"/>
            <a:chExt cx="2249280" cy="676080"/>
          </a:xfrm>
        </p:grpSpPr>
        <p:pic>
          <p:nvPicPr>
            <p:cNvPr id="289" name="Скругленный прямоугольник 29" descr=""/>
            <p:cNvPicPr/>
            <p:nvPr/>
          </p:nvPicPr>
          <p:blipFill>
            <a:blip r:embed="rId3"/>
            <a:stretch/>
          </p:blipFill>
          <p:spPr>
            <a:xfrm>
              <a:off x="6705720" y="4048200"/>
              <a:ext cx="2249280" cy="67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6792840" y="4102200"/>
              <a:ext cx="20750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nstantia"/>
                </a:rPr>
                <a:t>Фольклорчы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1" name="Скругленный прямоугольник 30"/>
          <p:cNvGrpSpPr/>
          <p:nvPr/>
        </p:nvGrpSpPr>
        <p:grpSpPr>
          <a:xfrm>
            <a:off x="811080" y="1457280"/>
            <a:ext cx="1535400" cy="706320"/>
            <a:chOff x="811080" y="1457280"/>
            <a:chExt cx="1535400" cy="706320"/>
          </a:xfrm>
        </p:grpSpPr>
        <p:pic>
          <p:nvPicPr>
            <p:cNvPr id="292" name="Скругленный прямоугольник 30" descr=""/>
            <p:cNvPicPr/>
            <p:nvPr/>
          </p:nvPicPr>
          <p:blipFill>
            <a:blip r:embed="rId4"/>
            <a:stretch/>
          </p:blipFill>
          <p:spPr>
            <a:xfrm>
              <a:off x="811080" y="1457280"/>
              <a:ext cx="153540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927000" y="1512720"/>
              <a:ext cx="1312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nstantia"/>
                </a:rPr>
                <a:t>Тарихчы</a:t>
              </a:r>
              <a:r>
                <a:rPr b="1" lang="ru-RU" sz="18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4" name="Скругленный прямоугольник 31"/>
          <p:cNvGrpSpPr/>
          <p:nvPr/>
        </p:nvGrpSpPr>
        <p:grpSpPr>
          <a:xfrm>
            <a:off x="3432240" y="4541760"/>
            <a:ext cx="1773000" cy="646200"/>
            <a:chOff x="3432240" y="4541760"/>
            <a:chExt cx="1773000" cy="646200"/>
          </a:xfrm>
        </p:grpSpPr>
        <p:pic>
          <p:nvPicPr>
            <p:cNvPr id="295" name="Скругленный прямоугольник 31" descr=""/>
            <p:cNvPicPr/>
            <p:nvPr/>
          </p:nvPicPr>
          <p:blipFill>
            <a:blip r:embed="rId5"/>
            <a:stretch/>
          </p:blipFill>
          <p:spPr>
            <a:xfrm>
              <a:off x="3432240" y="4541760"/>
              <a:ext cx="17730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3513240" y="4602240"/>
              <a:ext cx="16142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nstantia"/>
                </a:rPr>
                <a:t>Галим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7" name="Скругленный прямоугольник 32"/>
          <p:cNvGrpSpPr/>
          <p:nvPr/>
        </p:nvGrpSpPr>
        <p:grpSpPr>
          <a:xfrm>
            <a:off x="6456240" y="1163520"/>
            <a:ext cx="1992600" cy="714600"/>
            <a:chOff x="6456240" y="1163520"/>
            <a:chExt cx="1992600" cy="714600"/>
          </a:xfrm>
        </p:grpSpPr>
        <p:pic>
          <p:nvPicPr>
            <p:cNvPr id="298" name="Скругленный прямоугольник 32" descr=""/>
            <p:cNvPicPr/>
            <p:nvPr/>
          </p:nvPicPr>
          <p:blipFill>
            <a:blip r:embed="rId6"/>
            <a:stretch/>
          </p:blipFill>
          <p:spPr>
            <a:xfrm>
              <a:off x="6456240" y="1163520"/>
              <a:ext cx="199260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6543720" y="1225440"/>
              <a:ext cx="1816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nstantia"/>
                </a:rPr>
                <a:t>Тел белгече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" name="Прямоугольник 51"/>
          <p:cNvSpPr/>
          <p:nvPr/>
        </p:nvSpPr>
        <p:spPr>
          <a:xfrm>
            <a:off x="481320" y="4292640"/>
            <a:ext cx="210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итаб –әт -тәрбия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Прямоугольник 53"/>
          <p:cNvSpPr/>
          <p:nvPr/>
        </p:nvSpPr>
        <p:spPr>
          <a:xfrm>
            <a:off x="7343640" y="4941720"/>
            <a:ext cx="1800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ырык бакча 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Прямоугольник 80"/>
          <p:cNvSpPr/>
          <p:nvPr/>
        </p:nvSpPr>
        <p:spPr>
          <a:xfrm>
            <a:off x="3851280" y="5516640"/>
            <a:ext cx="1584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Буш вакыт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3" name="Вертикальный свиток 47"/>
          <p:cNvGrpSpPr/>
          <p:nvPr/>
        </p:nvGrpSpPr>
        <p:grpSpPr>
          <a:xfrm>
            <a:off x="2773440" y="2230560"/>
            <a:ext cx="3090960" cy="1579320"/>
            <a:chOff x="2773440" y="2230560"/>
            <a:chExt cx="3090960" cy="1579320"/>
          </a:xfrm>
        </p:grpSpPr>
        <p:pic>
          <p:nvPicPr>
            <p:cNvPr id="304" name="Вертикальный свиток 47" descr=""/>
            <p:cNvPicPr/>
            <p:nvPr/>
          </p:nvPicPr>
          <p:blipFill>
            <a:blip r:embed="rId7"/>
            <a:stretch/>
          </p:blipFill>
          <p:spPr>
            <a:xfrm>
              <a:off x="2773440" y="2230560"/>
              <a:ext cx="3090960" cy="157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3132000" y="2565360"/>
              <a:ext cx="237672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Каюм Насыйри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06" name="Picture 4" descr="http://m.telesputnik.ru/wiki/images/3/39/History-logo.jpg"/>
          <p:cNvPicPr/>
          <p:nvPr/>
        </p:nvPicPr>
        <p:blipFill>
          <a:blip r:embed="rId8"/>
          <a:srcRect l="60667" t="17283" r="9778" b="21286"/>
          <a:stretch/>
        </p:blipFill>
        <p:spPr>
          <a:xfrm>
            <a:off x="396720" y="765000"/>
            <a:ext cx="582840" cy="576360"/>
          </a:xfrm>
          <a:prstGeom prst="rect">
            <a:avLst/>
          </a:prstGeom>
          <a:ln w="0">
            <a:noFill/>
          </a:ln>
        </p:spPr>
      </p:pic>
      <p:grpSp>
        <p:nvGrpSpPr>
          <p:cNvPr id="307" name="Скругленный прямоугольник 57"/>
          <p:cNvGrpSpPr/>
          <p:nvPr/>
        </p:nvGrpSpPr>
        <p:grpSpPr>
          <a:xfrm>
            <a:off x="3554280" y="950760"/>
            <a:ext cx="1676520" cy="712800"/>
            <a:chOff x="3554280" y="950760"/>
            <a:chExt cx="1676520" cy="712800"/>
          </a:xfrm>
        </p:grpSpPr>
        <p:pic>
          <p:nvPicPr>
            <p:cNvPr id="308" name="Скругленный прямоугольник 57" descr=""/>
            <p:cNvPicPr/>
            <p:nvPr/>
          </p:nvPicPr>
          <p:blipFill>
            <a:blip r:embed="rId9"/>
            <a:stretch/>
          </p:blipFill>
          <p:spPr>
            <a:xfrm>
              <a:off x="3554280" y="950760"/>
              <a:ext cx="167652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3664080" y="1008000"/>
              <a:ext cx="145548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nstantia"/>
                </a:rPr>
                <a:t>Этнограф</a:t>
              </a:r>
              <a:r>
                <a:rPr b="1" lang="ru-RU" sz="18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10" name="Прямая со стрелкой 58"/>
          <p:cNvCxnSpPr/>
          <p:nvPr/>
        </p:nvCxnSpPr>
        <p:spPr>
          <a:xfrm flipV="1">
            <a:off x="4319280" y="1556640"/>
            <a:ext cx="73800" cy="8643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  <p:pic>
        <p:nvPicPr>
          <p:cNvPr id="311" name="Picture 8" descr="http://thumbs.dreamstime.com/z/%D0%B8%D0%BA%D0%BE%D0%BD%D0%B0-%D0%BA%D0%B0%D0%BB%D0%B5%D0%BD?-%D0%B0%D1%80%D0%B0-%D0%B2%D0%B5%D0%BA%D1%82%D0%BE%D1%80%D0%B0-29156874.jpg"/>
          <p:cNvPicPr/>
          <p:nvPr/>
        </p:nvPicPr>
        <p:blipFill>
          <a:blip r:embed="rId10"/>
          <a:srcRect l="28510" t="6545" r="14231" b="12993"/>
          <a:stretch/>
        </p:blipFill>
        <p:spPr>
          <a:xfrm>
            <a:off x="7451640" y="5300640"/>
            <a:ext cx="433440" cy="603360"/>
          </a:xfrm>
          <a:prstGeom prst="rect">
            <a:avLst/>
          </a:prstGeom>
          <a:ln w="0">
            <a:noFill/>
          </a:ln>
        </p:spPr>
      </p:pic>
      <p:sp>
        <p:nvSpPr>
          <p:cNvPr id="312" name="Заголовок 1"/>
          <p:cNvSpPr/>
          <p:nvPr/>
        </p:nvSpPr>
        <p:spPr>
          <a:xfrm>
            <a:off x="324000" y="58680"/>
            <a:ext cx="8496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4617b"/>
                </a:solidFill>
                <a:latin typeface="Calibri"/>
              </a:rPr>
              <a:t>Каюм Насыйриның күпкырлы иҗ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Прямоугольник 66"/>
          <p:cNvSpPr/>
          <p:nvPr/>
        </p:nvSpPr>
        <p:spPr>
          <a:xfrm>
            <a:off x="7524720" y="620640"/>
            <a:ext cx="1150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Иҗек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Прямоугольник 67"/>
          <p:cNvSpPr/>
          <p:nvPr/>
        </p:nvSpPr>
        <p:spPr>
          <a:xfrm>
            <a:off x="7308720" y="3141720"/>
            <a:ext cx="183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Әбугалисина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5" name="Прямая со стрелкой 71"/>
          <p:cNvCxnSpPr>
            <a:endCxn id="301" idx="0"/>
          </p:cNvCxnSpPr>
          <p:nvPr/>
        </p:nvCxnSpPr>
        <p:spPr>
          <a:xfrm>
            <a:off x="7164000" y="4581000"/>
            <a:ext cx="1080360" cy="361080"/>
          </a:xfrm>
          <a:prstGeom prst="straightConnector1">
            <a:avLst/>
          </a:prstGeom>
          <a:ln w="28440">
            <a:solidFill>
              <a:srgbClr val="f03914"/>
            </a:solidFill>
            <a:miter/>
            <a:tailEnd len="med" type="triangle" w="med"/>
          </a:ln>
        </p:spPr>
      </p:cxnSp>
      <p:cxnSp>
        <p:nvCxnSpPr>
          <p:cNvPr id="316" name="Прямая со стрелкой 73"/>
          <p:cNvCxnSpPr>
            <a:endCxn id="314" idx="0"/>
          </p:cNvCxnSpPr>
          <p:nvPr/>
        </p:nvCxnSpPr>
        <p:spPr>
          <a:xfrm>
            <a:off x="7667640" y="2924280"/>
            <a:ext cx="559080" cy="218160"/>
          </a:xfrm>
          <a:prstGeom prst="straightConnector1">
            <a:avLst/>
          </a:prstGeom>
          <a:ln w="28440">
            <a:solidFill>
              <a:srgbClr val="f03914"/>
            </a:solidFill>
            <a:miter/>
            <a:tailEnd len="med" type="arrow" w="med"/>
          </a:ln>
        </p:spPr>
      </p:cxnSp>
      <p:cxnSp>
        <p:nvCxnSpPr>
          <p:cNvPr id="317" name="Прямая со стрелкой 76"/>
          <p:cNvCxnSpPr>
            <a:endCxn id="313" idx="1"/>
          </p:cNvCxnSpPr>
          <p:nvPr/>
        </p:nvCxnSpPr>
        <p:spPr>
          <a:xfrm flipV="1">
            <a:off x="7020000" y="804240"/>
            <a:ext cx="505440" cy="392760"/>
          </a:xfrm>
          <a:prstGeom prst="straightConnector1">
            <a:avLst/>
          </a:prstGeom>
          <a:ln w="28440">
            <a:solidFill>
              <a:srgbClr val="f03914"/>
            </a:solidFill>
            <a:miter/>
            <a:tailEnd len="med" type="arrow" w="med"/>
          </a:ln>
        </p:spPr>
      </p:cxnSp>
      <p:cxnSp>
        <p:nvCxnSpPr>
          <p:cNvPr id="318" name="Прямая со стрелкой 84"/>
          <p:cNvCxnSpPr>
            <a:endCxn id="302" idx="0"/>
          </p:cNvCxnSpPr>
          <p:nvPr/>
        </p:nvCxnSpPr>
        <p:spPr>
          <a:xfrm>
            <a:off x="4284720" y="5013360"/>
            <a:ext cx="358920" cy="504000"/>
          </a:xfrm>
          <a:prstGeom prst="straightConnector1">
            <a:avLst/>
          </a:prstGeom>
          <a:ln w="28440">
            <a:solidFill>
              <a:srgbClr val="f03914"/>
            </a:solidFill>
            <a:miter/>
            <a:tailEnd len="med" type="arrow" w="med"/>
          </a:ln>
        </p:spPr>
      </p:cxnSp>
      <p:cxnSp>
        <p:nvCxnSpPr>
          <p:cNvPr id="319" name="Прямая со стрелкой 94"/>
          <p:cNvCxnSpPr>
            <a:endCxn id="300" idx="0"/>
          </p:cNvCxnSpPr>
          <p:nvPr/>
        </p:nvCxnSpPr>
        <p:spPr>
          <a:xfrm flipH="1">
            <a:off x="1535040" y="3933360"/>
            <a:ext cx="300600" cy="359640"/>
          </a:xfrm>
          <a:prstGeom prst="straightConnector1">
            <a:avLst/>
          </a:prstGeom>
          <a:ln w="28440">
            <a:solidFill>
              <a:srgbClr val="f0391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https://ds04.infourok.ru/uploads/ex/0b59/000e9dd0-9540fd2f/img3.jpg"/>
          <p:cNvPicPr/>
          <p:nvPr/>
        </p:nvPicPr>
        <p:blipFill>
          <a:blip r:embed="rId2"/>
          <a:stretch/>
        </p:blipFill>
        <p:spPr>
          <a:xfrm>
            <a:off x="52560" y="6480"/>
            <a:ext cx="909144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" descr=""/>
          <p:cNvPicPr/>
          <p:nvPr/>
        </p:nvPicPr>
        <p:blipFill>
          <a:blip r:embed="rId2"/>
          <a:stretch/>
        </p:blipFill>
        <p:spPr>
          <a:xfrm>
            <a:off x="23760" y="3333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үзлек картас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8351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Мозговой штурм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зговая атака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Стрелка вниз 3"/>
          <p:cNvSpPr/>
          <p:nvPr/>
        </p:nvSpPr>
        <p:spPr>
          <a:xfrm>
            <a:off x="3851280" y="1989000"/>
            <a:ext cx="649440" cy="198612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артинаны </a:t>
            </a:r>
            <a:r>
              <a:rPr b="0" lang="tt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җанландыру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0" name="Объект 3" descr=""/>
          <p:cNvPicPr/>
          <p:nvPr/>
        </p:nvPicPr>
        <p:blipFill>
          <a:blip r:embed="rId1"/>
          <a:stretch/>
        </p:blipFill>
        <p:spPr>
          <a:xfrm>
            <a:off x="826920" y="1935000"/>
            <a:ext cx="73454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5T15:21:43Z</dcterms:created>
  <dc:creator>сабирзянов</dc:creator>
  <dc:description/>
  <dc:language>en-US</dc:language>
  <cp:lastModifiedBy>HP</cp:lastModifiedBy>
  <dcterms:modified xsi:type="dcterms:W3CDTF">2018-11-09T16:17:55Z</dcterms:modified>
  <cp:revision>59</cp:revision>
  <dc:subject/>
  <dc:title>Исем фигыльнең барлык, юклык формаларында килеш белән төрләнеше</dc:title>
</cp:coreProperties>
</file>