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F54-4880-4872-93E9-5A605BBCA3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7D2B-2E1C-4586-A9E4-B52097A21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A2F-7A23-4AAA-B02A-67E307F6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727-3601-4A0B-A25F-3E2EDA7E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BCE-B53E-42B5-B859-D8E90435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EC8-6AD5-4292-AB21-B93A375F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CA6B-A872-4683-9046-D385CDB1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B3D5-07F2-4611-983D-857A3C0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42B5-7F3D-48C9-A395-47EDA52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DE1-F7C5-4937-81E0-34E90AC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DC76-F769-4EE4-965F-7533190B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019F-C6DA-4979-A515-18C156D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B23E-8DC9-4666-BD9E-6FF7ECF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7A9-D9DD-4094-AB37-A246714B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980E-81F9-40B8-9667-8E1A157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C845-4498-454B-8844-7D29100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BD2F-E4C2-494E-83F6-BFD0BFC1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8BB2-79C4-479D-906C-A7AB5BDD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E626-4491-4F7F-9A8D-7B93FD6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F235-1BB4-4CF3-B152-0A200257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4ECE-E5D3-433A-94D5-5C5F3FA3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3410-7B30-42EC-A90C-18AD3AE4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7A31-AECB-429E-9B7B-0D5A7F5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26C2-E788-4361-A1A4-A96B27E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5E9-D666-4134-8241-D0B2E67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7533-ADBC-4803-8746-961F398B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79E9-DF45-4469-9B2F-FD5E0EE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F0BF-32E0-4D16-B3AC-087BFACB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CFD9-A19D-455B-B86D-24B2DCA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9260-8D5B-427F-9A20-45708E9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5688-E38E-493D-BC36-C19E6D58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A973-A492-4D48-B800-47B0D53B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551A-F2B6-44D5-A8A0-CC6498DA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7C3A-0E65-42F4-8048-150D3D8C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1BBC-09F4-49F6-BAA6-A1566ED2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918-3152-4362-BB2B-115A4E2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FAAB-5B9B-45C7-BF76-B4B04725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B71F-7E84-4D38-8A2A-EAC1BE5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4C22-3178-40B7-ADEA-2D3A8C83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BE21-54A3-4C1B-A0E9-1665B76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A275-E5AD-45DF-B072-18A6668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A55B-598D-4134-8AC1-C7AEF06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7C83-9609-46FE-95FD-E56B89B0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1DA0-ACA2-447C-8531-8763EEA8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5FF1-F73F-4C59-B916-DD8A734D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919-84BE-4D53-BD28-9943E1E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539-44B9-408D-BD58-099A8F1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C11-EA8B-4ECA-9DFE-1878A6C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243-D5D0-42A9-8838-0BDA0AB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B14-EF82-462E-95AB-A9F8994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55BE-392C-4B11-BD10-8E3A16EB076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2ED8-DC74-426C-8DE8-1AD0F2653759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9CB-F2C3-4AF5-8799-433365B5B4B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B9E-4EB2-4D41-9A76-284C7460562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285840" y="404640"/>
            <a:ext cx="85010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1277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Кем тизрәк дәрес темасын әйтә?» уены</a:t>
            </a:r>
            <a:endParaRPr b="0" lang="en-US" sz="1800" spc="1" strike="noStrike">
              <a:ln w="0">
                <a:noFill/>
              </a:ln>
              <a:solidFill>
                <a:srgbClr val="81277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Равнобедренный треугольник 12"/>
          <p:cNvSpPr/>
          <p:nvPr/>
        </p:nvSpPr>
        <p:spPr>
          <a:xfrm>
            <a:off x="3535200" y="1349280"/>
            <a:ext cx="928800" cy="785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5-конечная звезда 13"/>
          <p:cNvSpPr/>
          <p:nvPr/>
        </p:nvSpPr>
        <p:spPr>
          <a:xfrm>
            <a:off x="4506840" y="1222200"/>
            <a:ext cx="1000080" cy="92880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Овал 14"/>
          <p:cNvSpPr/>
          <p:nvPr/>
        </p:nvSpPr>
        <p:spPr>
          <a:xfrm>
            <a:off x="5572080" y="1285920"/>
            <a:ext cx="1428840" cy="85716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блако 16"/>
          <p:cNvSpPr/>
          <p:nvPr/>
        </p:nvSpPr>
        <p:spPr>
          <a:xfrm>
            <a:off x="900000" y="2395440"/>
            <a:ext cx="1357560" cy="1000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олнце 17"/>
          <p:cNvSpPr/>
          <p:nvPr/>
        </p:nvSpPr>
        <p:spPr>
          <a:xfrm>
            <a:off x="3286080" y="4286160"/>
            <a:ext cx="928800" cy="1000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есяц 18"/>
          <p:cNvSpPr/>
          <p:nvPr/>
        </p:nvSpPr>
        <p:spPr>
          <a:xfrm>
            <a:off x="3535200" y="2441520"/>
            <a:ext cx="92880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Равнобедренный треугольник 19"/>
          <p:cNvSpPr/>
          <p:nvPr/>
        </p:nvSpPr>
        <p:spPr>
          <a:xfrm>
            <a:off x="500040" y="3357720"/>
            <a:ext cx="928800" cy="7855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Равно 20"/>
          <p:cNvSpPr/>
          <p:nvPr/>
        </p:nvSpPr>
        <p:spPr>
          <a:xfrm>
            <a:off x="1428840" y="371484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1"/>
          <p:cNvSpPr/>
          <p:nvPr/>
        </p:nvSpPr>
        <p:spPr>
          <a:xfrm>
            <a:off x="571680" y="4429080"/>
            <a:ext cx="785520" cy="785880"/>
          </a:xfrm>
          <a:prstGeom prst="rect">
            <a:avLst/>
          </a:prstGeom>
          <a:solidFill>
            <a:srgbClr val="7af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Равно 22"/>
          <p:cNvSpPr/>
          <p:nvPr/>
        </p:nvSpPr>
        <p:spPr>
          <a:xfrm>
            <a:off x="1428840" y="471492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5-конечная звезда 23"/>
          <p:cNvSpPr/>
          <p:nvPr/>
        </p:nvSpPr>
        <p:spPr>
          <a:xfrm>
            <a:off x="3286080" y="3286080"/>
            <a:ext cx="1000080" cy="92880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Равно 24"/>
          <p:cNvSpPr/>
          <p:nvPr/>
        </p:nvSpPr>
        <p:spPr>
          <a:xfrm>
            <a:off x="4143240" y="371484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олнце 25"/>
          <p:cNvSpPr/>
          <p:nvPr/>
        </p:nvSpPr>
        <p:spPr>
          <a:xfrm>
            <a:off x="4456080" y="2395440"/>
            <a:ext cx="928800" cy="1000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Равно 26"/>
          <p:cNvSpPr/>
          <p:nvPr/>
        </p:nvSpPr>
        <p:spPr>
          <a:xfrm>
            <a:off x="4143240" y="471492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Облако 27"/>
          <p:cNvSpPr/>
          <p:nvPr/>
        </p:nvSpPr>
        <p:spPr>
          <a:xfrm>
            <a:off x="5853240" y="3371760"/>
            <a:ext cx="1357200" cy="1000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Равно 28"/>
          <p:cNvSpPr/>
          <p:nvPr/>
        </p:nvSpPr>
        <p:spPr>
          <a:xfrm>
            <a:off x="7215120" y="371484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есяц 29"/>
          <p:cNvSpPr/>
          <p:nvPr/>
        </p:nvSpPr>
        <p:spPr>
          <a:xfrm>
            <a:off x="6072120" y="4429080"/>
            <a:ext cx="92880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Равно 30"/>
          <p:cNvSpPr/>
          <p:nvPr/>
        </p:nvSpPr>
        <p:spPr>
          <a:xfrm>
            <a:off x="7215120" y="478620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1"/>
          <p:cNvSpPr/>
          <p:nvPr/>
        </p:nvSpPr>
        <p:spPr>
          <a:xfrm>
            <a:off x="428760" y="5500800"/>
            <a:ext cx="1000080" cy="92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 32"/>
          <p:cNvSpPr/>
          <p:nvPr/>
        </p:nvSpPr>
        <p:spPr>
          <a:xfrm>
            <a:off x="1428840" y="585792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143080" y="3286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143080" y="4286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143080" y="5429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857840" y="3286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57840" y="42148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858080" y="4286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858080" y="3286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33"/>
          <p:cNvSpPr/>
          <p:nvPr/>
        </p:nvSpPr>
        <p:spPr>
          <a:xfrm>
            <a:off x="2465280" y="2513160"/>
            <a:ext cx="785880" cy="785520"/>
          </a:xfrm>
          <a:prstGeom prst="rect">
            <a:avLst/>
          </a:prstGeom>
          <a:solidFill>
            <a:srgbClr val="7af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1"/>
          <p:cNvSpPr/>
          <p:nvPr/>
        </p:nvSpPr>
        <p:spPr>
          <a:xfrm>
            <a:off x="3232080" y="5500800"/>
            <a:ext cx="1536840" cy="863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Равно 41"/>
          <p:cNvSpPr/>
          <p:nvPr/>
        </p:nvSpPr>
        <p:spPr>
          <a:xfrm>
            <a:off x="4753080" y="5869080"/>
            <a:ext cx="714240" cy="28548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465880" y="5429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авильный пятиугольник 2"/>
          <p:cNvSpPr/>
          <p:nvPr/>
        </p:nvSpPr>
        <p:spPr>
          <a:xfrm>
            <a:off x="6294600" y="5500800"/>
            <a:ext cx="1152360" cy="811080"/>
          </a:xfrm>
          <a:prstGeom prst="pentagon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Равно 43"/>
          <p:cNvSpPr/>
          <p:nvPr/>
        </p:nvSpPr>
        <p:spPr>
          <a:xfrm>
            <a:off x="7415280" y="590076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8116920" y="539892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авильный пятиугольник 45"/>
          <p:cNvSpPr/>
          <p:nvPr/>
        </p:nvSpPr>
        <p:spPr>
          <a:xfrm>
            <a:off x="7116840" y="2370240"/>
            <a:ext cx="1152360" cy="811080"/>
          </a:xfrm>
          <a:prstGeom prst="pentagon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46"/>
          <p:cNvSpPr/>
          <p:nvPr/>
        </p:nvSpPr>
        <p:spPr>
          <a:xfrm>
            <a:off x="5429160" y="2370240"/>
            <a:ext cx="1536840" cy="863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Бином фантазии» алымы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Заголовок 3"/>
          <p:cNvGrpSpPr/>
          <p:nvPr/>
        </p:nvGrpSpPr>
        <p:grpSpPr>
          <a:xfrm>
            <a:off x="30240" y="365040"/>
            <a:ext cx="8924760" cy="1920960"/>
            <a:chOff x="30240" y="365040"/>
            <a:chExt cx="8924760" cy="1920960"/>
          </a:xfrm>
        </p:grpSpPr>
        <p:pic>
          <p:nvPicPr>
            <p:cNvPr id="26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0240" y="365040"/>
              <a:ext cx="89247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</a:t>
              </a:r>
              <a:r>
                <a:rPr b="1" lang="ru-RU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теллект – карт</a:t>
              </a:r>
              <a:r>
                <a:rPr b="1" lang="tt-RU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аның барлыкка килүе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107640" y="1844640"/>
            <a:ext cx="6335640" cy="316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Тони Бьюзен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«Баш белән эшлә» китабы (1974ел.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икерләүне оештыру методикасы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«акыл картасы»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авторы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C:\Documents and Settings\Слушатель\Рабочий стол\тони.jpg"/>
          <p:cNvPicPr/>
          <p:nvPr/>
        </p:nvPicPr>
        <p:blipFill>
          <a:blip r:embed="rId2"/>
          <a:stretch/>
        </p:blipFill>
        <p:spPr>
          <a:xfrm>
            <a:off x="6156360" y="1700280"/>
            <a:ext cx="2663640" cy="2809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на сколько процентов работает мозг человека"/>
          <p:cNvPicPr/>
          <p:nvPr/>
        </p:nvPicPr>
        <p:blipFill>
          <a:blip r:embed="rId3"/>
          <a:srcRect l="16164" t="16190" r="16876" b="14417"/>
          <a:stretch/>
        </p:blipFill>
        <p:spPr>
          <a:xfrm>
            <a:off x="2556000" y="4221000"/>
            <a:ext cx="280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Овал 64"/>
          <p:cNvSpPr/>
          <p:nvPr/>
        </p:nvSpPr>
        <p:spPr>
          <a:xfrm>
            <a:off x="6516720" y="2060640"/>
            <a:ext cx="2376360" cy="1584360"/>
          </a:xfrm>
          <a:prstGeom prst="ellipse">
            <a:avLst/>
          </a:prstGeom>
          <a:solidFill>
            <a:srgbClr val="fde9ef"/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Овал 59"/>
          <p:cNvSpPr/>
          <p:nvPr/>
        </p:nvSpPr>
        <p:spPr>
          <a:xfrm>
            <a:off x="250920" y="2852640"/>
            <a:ext cx="2714400" cy="2232000"/>
          </a:xfrm>
          <a:prstGeom prst="ellipse">
            <a:avLst/>
          </a:prstGeom>
          <a:solidFill>
            <a:srgbClr val="fdfacf"/>
          </a:solidFill>
          <a:ln w="25560">
            <a:solidFill>
              <a:srgbClr val="f5e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вал 60"/>
          <p:cNvSpPr/>
          <p:nvPr/>
        </p:nvSpPr>
        <p:spPr>
          <a:xfrm>
            <a:off x="6300720" y="3716280"/>
            <a:ext cx="2843280" cy="2449440"/>
          </a:xfrm>
          <a:prstGeom prst="ellipse">
            <a:avLst/>
          </a:prstGeom>
          <a:solidFill>
            <a:srgbClr val="91e9eb"/>
          </a:solidFill>
          <a:ln w="25560">
            <a:solidFill>
              <a:srgbClr val="daf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61"/>
          <p:cNvSpPr/>
          <p:nvPr/>
        </p:nvSpPr>
        <p:spPr>
          <a:xfrm>
            <a:off x="2916360" y="4076640"/>
            <a:ext cx="3024000" cy="2089080"/>
          </a:xfrm>
          <a:prstGeom prst="ellipse">
            <a:avLst/>
          </a:prstGeom>
          <a:solidFill>
            <a:srgbClr val="c4f8c6"/>
          </a:solidFill>
          <a:ln w="9360">
            <a:solidFill>
              <a:srgbClr val="d6fa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55"/>
          <p:cNvSpPr/>
          <p:nvPr/>
        </p:nvSpPr>
        <p:spPr>
          <a:xfrm>
            <a:off x="6300720" y="549360"/>
            <a:ext cx="2519280" cy="165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50"/>
          <p:cNvSpPr/>
          <p:nvPr/>
        </p:nvSpPr>
        <p:spPr>
          <a:xfrm>
            <a:off x="3419640" y="549360"/>
            <a:ext cx="2520720" cy="1511280"/>
          </a:xfrm>
          <a:prstGeom prst="ellipse">
            <a:avLst/>
          </a:prstGeom>
          <a:solidFill>
            <a:srgbClr val="f6d2d5"/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Овал 56"/>
          <p:cNvSpPr/>
          <p:nvPr/>
        </p:nvSpPr>
        <p:spPr>
          <a:xfrm>
            <a:off x="179280" y="620640"/>
            <a:ext cx="2808360" cy="2087640"/>
          </a:xfrm>
          <a:prstGeom prst="ellipse">
            <a:avLst/>
          </a:prstGeom>
          <a:solidFill>
            <a:srgbClr val="8fbef1"/>
          </a:solidFill>
          <a:ln w="25560">
            <a:solidFill>
              <a:srgbClr val="acc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Прямая со стрелкой 5"/>
          <p:cNvCxnSpPr/>
          <p:nvPr/>
        </p:nvCxnSpPr>
        <p:spPr>
          <a:xfrm flipH="1" flipV="1">
            <a:off x="1834920" y="2133720"/>
            <a:ext cx="1224720" cy="3589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77" name="Прямая со стрелкой 7"/>
          <p:cNvCxnSpPr/>
          <p:nvPr/>
        </p:nvCxnSpPr>
        <p:spPr>
          <a:xfrm>
            <a:off x="4284360" y="349992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78" name="Прямая со стрелкой 8"/>
          <p:cNvCxnSpPr/>
          <p:nvPr/>
        </p:nvCxnSpPr>
        <p:spPr>
          <a:xfrm>
            <a:off x="5508720" y="2852280"/>
            <a:ext cx="108000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79" name="Прямая со стрелкой 9"/>
          <p:cNvCxnSpPr/>
          <p:nvPr/>
        </p:nvCxnSpPr>
        <p:spPr>
          <a:xfrm flipV="1">
            <a:off x="5580000" y="1699920"/>
            <a:ext cx="937440" cy="72144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80" name="Прямая со стрелкой 10"/>
          <p:cNvCxnSpPr/>
          <p:nvPr/>
        </p:nvCxnSpPr>
        <p:spPr>
          <a:xfrm flipH="1">
            <a:off x="2123640" y="3284280"/>
            <a:ext cx="93600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81" name="Прямая со стрелкой 11"/>
          <p:cNvCxnSpPr/>
          <p:nvPr/>
        </p:nvCxnSpPr>
        <p:spPr>
          <a:xfrm>
            <a:off x="5508720" y="3428640"/>
            <a:ext cx="1296000" cy="64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grpSp>
        <p:nvGrpSpPr>
          <p:cNvPr id="282" name="Скругленный прямоугольник 27"/>
          <p:cNvGrpSpPr/>
          <p:nvPr/>
        </p:nvGrpSpPr>
        <p:grpSpPr>
          <a:xfrm>
            <a:off x="6516720" y="2535120"/>
            <a:ext cx="1225440" cy="671760"/>
            <a:chOff x="6516720" y="2535120"/>
            <a:chExt cx="1225440" cy="671760"/>
          </a:xfrm>
        </p:grpSpPr>
        <p:pic>
          <p:nvPicPr>
            <p:cNvPr id="283" name="Скругленный 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6516720" y="2535120"/>
              <a:ext cx="1225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613560" y="2589120"/>
              <a:ext cx="1030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Язуч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Скругленный прямоугольник 28"/>
          <p:cNvGrpSpPr/>
          <p:nvPr/>
        </p:nvGrpSpPr>
        <p:grpSpPr>
          <a:xfrm>
            <a:off x="542880" y="3322800"/>
            <a:ext cx="1719360" cy="712800"/>
            <a:chOff x="542880" y="3322800"/>
            <a:chExt cx="1719360" cy="712800"/>
          </a:xfrm>
        </p:grpSpPr>
        <p:pic>
          <p:nvPicPr>
            <p:cNvPr id="286" name="Скругленный прямоугольник 28" descr=""/>
            <p:cNvPicPr/>
            <p:nvPr/>
          </p:nvPicPr>
          <p:blipFill>
            <a:blip r:embed="rId2"/>
            <a:stretch/>
          </p:blipFill>
          <p:spPr>
            <a:xfrm>
              <a:off x="542880" y="3322800"/>
              <a:ext cx="17193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39720" y="3384720"/>
              <a:ext cx="15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Мөгалл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Скругленный прямоугольник 29"/>
          <p:cNvGrpSpPr/>
          <p:nvPr/>
        </p:nvGrpSpPr>
        <p:grpSpPr>
          <a:xfrm>
            <a:off x="6705720" y="4048200"/>
            <a:ext cx="2249280" cy="676080"/>
            <a:chOff x="6705720" y="4048200"/>
            <a:chExt cx="2249280" cy="676080"/>
          </a:xfrm>
        </p:grpSpPr>
        <p:pic>
          <p:nvPicPr>
            <p:cNvPr id="289" name="Скругленный прямоугольник 29" descr=""/>
            <p:cNvPicPr/>
            <p:nvPr/>
          </p:nvPicPr>
          <p:blipFill>
            <a:blip r:embed="rId3"/>
            <a:stretch/>
          </p:blipFill>
          <p:spPr>
            <a:xfrm>
              <a:off x="6705720" y="4048200"/>
              <a:ext cx="22492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792840" y="4102200"/>
              <a:ext cx="2075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Фольклорч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Скругленный прямоугольник 30"/>
          <p:cNvGrpSpPr/>
          <p:nvPr/>
        </p:nvGrpSpPr>
        <p:grpSpPr>
          <a:xfrm>
            <a:off x="811080" y="1457280"/>
            <a:ext cx="1535400" cy="706320"/>
            <a:chOff x="811080" y="1457280"/>
            <a:chExt cx="1535400" cy="706320"/>
          </a:xfrm>
        </p:grpSpPr>
        <p:pic>
          <p:nvPicPr>
            <p:cNvPr id="292" name="Скругленный 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811080" y="1457280"/>
              <a:ext cx="15354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927000" y="1512720"/>
              <a:ext cx="1312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Тарихчы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Скругленный прямоугольник 31"/>
          <p:cNvGrpSpPr/>
          <p:nvPr/>
        </p:nvGrpSpPr>
        <p:grpSpPr>
          <a:xfrm>
            <a:off x="3432240" y="4541760"/>
            <a:ext cx="1773000" cy="646200"/>
            <a:chOff x="3432240" y="4541760"/>
            <a:chExt cx="1773000" cy="646200"/>
          </a:xfrm>
        </p:grpSpPr>
        <p:pic>
          <p:nvPicPr>
            <p:cNvPr id="295" name="Скругленный прямоугольник 31" descr=""/>
            <p:cNvPicPr/>
            <p:nvPr/>
          </p:nvPicPr>
          <p:blipFill>
            <a:blip r:embed="rId5"/>
            <a:stretch/>
          </p:blipFill>
          <p:spPr>
            <a:xfrm>
              <a:off x="3432240" y="4541760"/>
              <a:ext cx="177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513240" y="4602240"/>
              <a:ext cx="1614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Гал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Скругленный прямоугольник 32"/>
          <p:cNvGrpSpPr/>
          <p:nvPr/>
        </p:nvGrpSpPr>
        <p:grpSpPr>
          <a:xfrm>
            <a:off x="6456240" y="1163520"/>
            <a:ext cx="1992600" cy="714600"/>
            <a:chOff x="6456240" y="1163520"/>
            <a:chExt cx="1992600" cy="714600"/>
          </a:xfrm>
        </p:grpSpPr>
        <p:pic>
          <p:nvPicPr>
            <p:cNvPr id="298" name="Скругленный прямоугольник 32" descr=""/>
            <p:cNvPicPr/>
            <p:nvPr/>
          </p:nvPicPr>
          <p:blipFill>
            <a:blip r:embed="rId6"/>
            <a:stretch/>
          </p:blipFill>
          <p:spPr>
            <a:xfrm>
              <a:off x="6456240" y="1163520"/>
              <a:ext cx="1992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543720" y="1225440"/>
              <a:ext cx="1816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Тел белгеч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Прямоугольник 51"/>
          <p:cNvSpPr/>
          <p:nvPr/>
        </p:nvSpPr>
        <p:spPr>
          <a:xfrm>
            <a:off x="481320" y="4292640"/>
            <a:ext cx="21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таб –әт -тәрбия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53"/>
          <p:cNvSpPr/>
          <p:nvPr/>
        </p:nvSpPr>
        <p:spPr>
          <a:xfrm>
            <a:off x="7343640" y="4941720"/>
            <a:ext cx="180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ырык бакча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80"/>
          <p:cNvSpPr/>
          <p:nvPr/>
        </p:nvSpPr>
        <p:spPr>
          <a:xfrm>
            <a:off x="3851280" y="551664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Буш вакыт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Вертикальный свиток 47"/>
          <p:cNvGrpSpPr/>
          <p:nvPr/>
        </p:nvGrpSpPr>
        <p:grpSpPr>
          <a:xfrm>
            <a:off x="2773440" y="2230560"/>
            <a:ext cx="3090960" cy="1579320"/>
            <a:chOff x="2773440" y="2230560"/>
            <a:chExt cx="3090960" cy="1579320"/>
          </a:xfrm>
        </p:grpSpPr>
        <p:pic>
          <p:nvPicPr>
            <p:cNvPr id="304" name="Вертикальный свиток 47" descr=""/>
            <p:cNvPicPr/>
            <p:nvPr/>
          </p:nvPicPr>
          <p:blipFill>
            <a:blip r:embed="rId7"/>
            <a:stretch/>
          </p:blipFill>
          <p:spPr>
            <a:xfrm>
              <a:off x="2773440" y="2230560"/>
              <a:ext cx="309096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132000" y="2565360"/>
              <a:ext cx="23767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Каюм Насыйр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6" name="Picture 4" descr="http://m.telesputnik.ru/wiki/images/3/39/History-logo.jpg"/>
          <p:cNvPicPr/>
          <p:nvPr/>
        </p:nvPicPr>
        <p:blipFill>
          <a:blip r:embed="rId8"/>
          <a:srcRect l="60667" t="17283" r="9778" b="21286"/>
          <a:stretch/>
        </p:blipFill>
        <p:spPr>
          <a:xfrm>
            <a:off x="396720" y="765000"/>
            <a:ext cx="582840" cy="576360"/>
          </a:xfrm>
          <a:prstGeom prst="rect">
            <a:avLst/>
          </a:prstGeom>
          <a:ln w="0">
            <a:noFill/>
          </a:ln>
        </p:spPr>
      </p:pic>
      <p:grpSp>
        <p:nvGrpSpPr>
          <p:cNvPr id="307" name="Скругленный прямоугольник 57"/>
          <p:cNvGrpSpPr/>
          <p:nvPr/>
        </p:nvGrpSpPr>
        <p:grpSpPr>
          <a:xfrm>
            <a:off x="3554280" y="950760"/>
            <a:ext cx="1676520" cy="712800"/>
            <a:chOff x="3554280" y="950760"/>
            <a:chExt cx="1676520" cy="712800"/>
          </a:xfrm>
        </p:grpSpPr>
        <p:pic>
          <p:nvPicPr>
            <p:cNvPr id="308" name="Скругленный прямоугольник 57" descr=""/>
            <p:cNvPicPr/>
            <p:nvPr/>
          </p:nvPicPr>
          <p:blipFill>
            <a:blip r:embed="rId9"/>
            <a:stretch/>
          </p:blipFill>
          <p:spPr>
            <a:xfrm>
              <a:off x="3554280" y="950760"/>
              <a:ext cx="16765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664080" y="1008000"/>
              <a:ext cx="14554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Этнограф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0" name="Прямая со стрелкой 58"/>
          <p:cNvCxnSpPr/>
          <p:nvPr/>
        </p:nvCxnSpPr>
        <p:spPr>
          <a:xfrm flipV="1">
            <a:off x="4319280" y="1556640"/>
            <a:ext cx="73800" cy="864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pic>
        <p:nvPicPr>
          <p:cNvPr id="311" name="Picture 8" descr="http://thumbs.dreamstime.com/z/%D0%B8%D0%BA%D0%BE%D0%BD%D0%B0-%D0%BA%D0%B0%D0%BB%D0%B5%D0%BD?-%D0%B0%D1%80%D0%B0-%D0%B2%D0%B5%D0%BA%D1%82%D0%BE%D1%80%D0%B0-29156874.jpg"/>
          <p:cNvPicPr/>
          <p:nvPr/>
        </p:nvPicPr>
        <p:blipFill>
          <a:blip r:embed="rId10"/>
          <a:srcRect l="28510" t="6545" r="14231" b="12993"/>
          <a:stretch/>
        </p:blipFill>
        <p:spPr>
          <a:xfrm>
            <a:off x="7451640" y="5300640"/>
            <a:ext cx="433440" cy="603360"/>
          </a:xfrm>
          <a:prstGeom prst="rect">
            <a:avLst/>
          </a:prstGeom>
          <a:ln w="0">
            <a:noFill/>
          </a:ln>
        </p:spPr>
      </p:pic>
      <p:sp>
        <p:nvSpPr>
          <p:cNvPr id="312" name="Заголовок 1"/>
          <p:cNvSpPr/>
          <p:nvPr/>
        </p:nvSpPr>
        <p:spPr>
          <a:xfrm>
            <a:off x="324000" y="58680"/>
            <a:ext cx="849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4617b"/>
                </a:solidFill>
                <a:latin typeface="Calibri"/>
              </a:rPr>
              <a:t>Каюм Насыйриның күпкырлы иҗ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66"/>
          <p:cNvSpPr/>
          <p:nvPr/>
        </p:nvSpPr>
        <p:spPr>
          <a:xfrm>
            <a:off x="7524720" y="620640"/>
            <a:ext cx="11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җек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67"/>
          <p:cNvSpPr/>
          <p:nvPr/>
        </p:nvSpPr>
        <p:spPr>
          <a:xfrm>
            <a:off x="7308720" y="3141720"/>
            <a:ext cx="18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Әбугалисин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5" name="Прямая со стрелкой 71"/>
          <p:cNvCxnSpPr>
            <a:endCxn id="301" idx="0"/>
          </p:cNvCxnSpPr>
          <p:nvPr/>
        </p:nvCxnSpPr>
        <p:spPr>
          <a:xfrm>
            <a:off x="7164000" y="4581000"/>
            <a:ext cx="1080360" cy="36108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triangle" w="med"/>
          </a:ln>
        </p:spPr>
      </p:cxnSp>
      <p:cxnSp>
        <p:nvCxnSpPr>
          <p:cNvPr id="316" name="Прямая со стрелкой 73"/>
          <p:cNvCxnSpPr>
            <a:endCxn id="314" idx="0"/>
          </p:cNvCxnSpPr>
          <p:nvPr/>
        </p:nvCxnSpPr>
        <p:spPr>
          <a:xfrm>
            <a:off x="7667640" y="2924280"/>
            <a:ext cx="559080" cy="21816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triangle" w="med"/>
          </a:ln>
        </p:spPr>
      </p:cxnSp>
      <p:cxnSp>
        <p:nvCxnSpPr>
          <p:cNvPr id="317" name="Прямая со стрелкой 76"/>
          <p:cNvCxnSpPr>
            <a:endCxn id="313" idx="1"/>
          </p:cNvCxnSpPr>
          <p:nvPr/>
        </p:nvCxnSpPr>
        <p:spPr>
          <a:xfrm flipV="1">
            <a:off x="7020000" y="804240"/>
            <a:ext cx="505440" cy="39276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triangle" w="med"/>
          </a:ln>
        </p:spPr>
      </p:cxnSp>
      <p:cxnSp>
        <p:nvCxnSpPr>
          <p:cNvPr id="318" name="Прямая со стрелкой 84"/>
          <p:cNvCxnSpPr>
            <a:endCxn id="302" idx="0"/>
          </p:cNvCxnSpPr>
          <p:nvPr/>
        </p:nvCxnSpPr>
        <p:spPr>
          <a:xfrm>
            <a:off x="4284720" y="5013360"/>
            <a:ext cx="358920" cy="50400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triangle" w="med"/>
          </a:ln>
        </p:spPr>
      </p:cxnSp>
      <p:cxnSp>
        <p:nvCxnSpPr>
          <p:cNvPr id="319" name="Прямая со стрелкой 94"/>
          <p:cNvCxnSpPr>
            <a:endCxn id="300" idx="0"/>
          </p:cNvCxnSpPr>
          <p:nvPr/>
        </p:nvCxnSpPr>
        <p:spPr>
          <a:xfrm flipH="1">
            <a:off x="1535040" y="3933360"/>
            <a:ext cx="300600" cy="35964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s://ds04.infourok.ru/uploads/ex/0b59/000e9dd0-9540fd2f/img3.jpg"/>
          <p:cNvPicPr/>
          <p:nvPr/>
        </p:nvPicPr>
        <p:blipFill>
          <a:blip r:embed="rId2"/>
          <a:stretch/>
        </p:blipFill>
        <p:spPr>
          <a:xfrm>
            <a:off x="52560" y="6480"/>
            <a:ext cx="909144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23760" y="333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үзлек карта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3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зговой штур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зговая атак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Стрелка вниз 3"/>
          <p:cNvSpPr/>
          <p:nvPr/>
        </p:nvSpPr>
        <p:spPr>
          <a:xfrm>
            <a:off x="3851280" y="1989000"/>
            <a:ext cx="649440" cy="198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тинаны </a:t>
            </a:r>
            <a:r>
              <a:rPr b="0" lang="tt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җанландыр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826920" y="1935000"/>
            <a:ext cx="7345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5:21:43Z</dcterms:created>
  <dc:creator>сабирзянов</dc:creator>
  <dc:description/>
  <dc:language>en-US</dc:language>
  <cp:lastModifiedBy>HP</cp:lastModifiedBy>
  <dcterms:modified xsi:type="dcterms:W3CDTF">2018-11-09T16:17:55Z</dcterms:modified>
  <cp:revision>59</cp:revision>
  <dc:subject/>
  <dc:title>Исем фигыльнең барлык, юклык формаларында килеш белән төрләнеше</dc:title>
</cp:coreProperties>
</file>