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664-77F3-41CC-B9D5-D7BAEE85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142-8DDB-43DA-A35B-9E629C1B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801-2BF8-42D6-A274-A71B5213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01D-9C5C-4707-B36C-752AFEB4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D73-EF07-42F5-B597-982043EE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C93-91FE-4D0F-B2C2-6FF16498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249-CA6B-40EE-BAD2-08C3EC56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64E-3A5B-4E68-AEDC-4866CF9C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F12-74AD-4CD9-B8CC-9E686E6F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101-1253-48A2-B81D-BAB6BD8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2BF-A91B-482C-A153-83382F5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B97-05F3-411D-AF9D-BFD25227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FDA7-8166-44EF-86B9-67DAC64FD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Line 8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5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15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Рисунок16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>
            <a:off x="539640" y="260280"/>
            <a:ext cx="57596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Picture 17" descr="02"/>
          <p:cNvPicPr/>
          <p:nvPr/>
        </p:nvPicPr>
        <p:blipFill>
          <a:blip r:embed="rId2"/>
          <a:stretch/>
        </p:blipFill>
        <p:spPr>
          <a:xfrm>
            <a:off x="6659640" y="1484280"/>
            <a:ext cx="2246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менную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5"/>
          <p:cNvGrpSpPr/>
          <p:nvPr/>
        </p:nvGrpSpPr>
        <p:grpSpPr>
          <a:xfrm>
            <a:off x="3844800" y="1116000"/>
            <a:ext cx="2403720" cy="1317600"/>
            <a:chOff x="3844800" y="1116000"/>
            <a:chExt cx="2403720" cy="1317600"/>
          </a:xfrm>
        </p:grpSpPr>
        <p:sp>
          <p:nvSpPr>
            <p:cNvPr id="248" name="Rectangle 6"/>
            <p:cNvSpPr/>
            <p:nvPr/>
          </p:nvSpPr>
          <p:spPr>
            <a:xfrm>
              <a:off x="3844800" y="147780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7"/>
                <p:cNvSpPr txBox="1"/>
                <p:nvPr/>
              </p:nvSpPr>
              <p:spPr>
                <a:xfrm>
                  <a:off x="3889800" y="1116000"/>
                  <a:ext cx="2212920" cy="13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0" name="Group 8"/>
          <p:cNvGrpSpPr/>
          <p:nvPr/>
        </p:nvGrpSpPr>
        <p:grpSpPr>
          <a:xfrm>
            <a:off x="5292720" y="2492280"/>
            <a:ext cx="2087640" cy="1297080"/>
            <a:chOff x="5292720" y="2492280"/>
            <a:chExt cx="2087640" cy="1297080"/>
          </a:xfrm>
        </p:grpSpPr>
        <p:grpSp>
          <p:nvGrpSpPr>
            <p:cNvPr id="251" name="Rectangle 9"/>
            <p:cNvGrpSpPr/>
            <p:nvPr/>
          </p:nvGrpSpPr>
          <p:grpSpPr>
            <a:xfrm>
              <a:off x="5292720" y="2492280"/>
              <a:ext cx="2087640" cy="1297080"/>
              <a:chOff x="5292720" y="2492280"/>
              <a:chExt cx="2087640" cy="1297080"/>
            </a:xfrm>
          </p:grpSpPr>
          <p:pic>
            <p:nvPicPr>
              <p:cNvPr id="252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249228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5299920" y="2497320"/>
                <a:ext cx="207252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10"/>
                <p:cNvSpPr txBox="1"/>
                <p:nvPr/>
              </p:nvSpPr>
              <p:spPr>
                <a:xfrm>
                  <a:off x="5620320" y="2824920"/>
                  <a:ext cx="14698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5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3"/>
          <p:cNvGrpSpPr/>
          <p:nvPr/>
        </p:nvGrpSpPr>
        <p:grpSpPr>
          <a:xfrm>
            <a:off x="2556000" y="4005360"/>
            <a:ext cx="2087280" cy="1296720"/>
            <a:chOff x="2556000" y="4005360"/>
            <a:chExt cx="2087280" cy="1296720"/>
          </a:xfrm>
        </p:grpSpPr>
        <p:grpSp>
          <p:nvGrpSpPr>
            <p:cNvPr id="258" name="Rectangle 14"/>
            <p:cNvGrpSpPr/>
            <p:nvPr/>
          </p:nvGrpSpPr>
          <p:grpSpPr>
            <a:xfrm>
              <a:off x="2556000" y="4005360"/>
              <a:ext cx="2087280" cy="1296720"/>
              <a:chOff x="2556000" y="4005360"/>
              <a:chExt cx="2087280" cy="1296720"/>
            </a:xfrm>
          </p:grpSpPr>
          <p:pic>
            <p:nvPicPr>
              <p:cNvPr id="25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4005360"/>
                <a:ext cx="2087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2563560" y="4011480"/>
                <a:ext cx="2072160" cy="12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1" name="Object 15"/>
                <p:cNvSpPr txBox="1"/>
                <p:nvPr/>
              </p:nvSpPr>
              <p:spPr>
                <a:xfrm>
                  <a:off x="2883240" y="4339440"/>
                  <a:ext cx="1471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2" name="Group 16"/>
          <p:cNvGrpSpPr/>
          <p:nvPr/>
        </p:nvGrpSpPr>
        <p:grpSpPr>
          <a:xfrm>
            <a:off x="5292720" y="3970440"/>
            <a:ext cx="2087640" cy="1430280"/>
            <a:chOff x="5292720" y="3970440"/>
            <a:chExt cx="2087640" cy="1430280"/>
          </a:xfrm>
        </p:grpSpPr>
        <p:grpSp>
          <p:nvGrpSpPr>
            <p:cNvPr id="263" name="Rectangle 17"/>
            <p:cNvGrpSpPr/>
            <p:nvPr/>
          </p:nvGrpSpPr>
          <p:grpSpPr>
            <a:xfrm>
              <a:off x="5292720" y="3998880"/>
              <a:ext cx="2087640" cy="1311120"/>
              <a:chOff x="5292720" y="3998880"/>
              <a:chExt cx="2087640" cy="1311120"/>
            </a:xfrm>
          </p:grpSpPr>
          <p:pic>
            <p:nvPicPr>
              <p:cNvPr id="26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2720" y="3998880"/>
                <a:ext cx="208764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299920" y="4005000"/>
                <a:ext cx="207252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Object 18"/>
                <p:cNvSpPr txBox="1"/>
                <p:nvPr/>
              </p:nvSpPr>
              <p:spPr>
                <a:xfrm>
                  <a:off x="5703840" y="3970440"/>
                  <a:ext cx="1301040" cy="14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7" name="Group 19"/>
          <p:cNvGrpSpPr/>
          <p:nvPr/>
        </p:nvGrpSpPr>
        <p:grpSpPr>
          <a:xfrm>
            <a:off x="2556000" y="2492280"/>
            <a:ext cx="2087280" cy="1297080"/>
            <a:chOff x="2556000" y="2492280"/>
            <a:chExt cx="2087280" cy="1297080"/>
          </a:xfrm>
        </p:grpSpPr>
        <p:grpSp>
          <p:nvGrpSpPr>
            <p:cNvPr id="268" name="Rectangle 20"/>
            <p:cNvGrpSpPr/>
            <p:nvPr/>
          </p:nvGrpSpPr>
          <p:grpSpPr>
            <a:xfrm>
              <a:off x="2556000" y="2492280"/>
              <a:ext cx="2087280" cy="1297080"/>
              <a:chOff x="2556000" y="2492280"/>
              <a:chExt cx="2087280" cy="1297080"/>
            </a:xfrm>
          </p:grpSpPr>
          <p:pic>
            <p:nvPicPr>
              <p:cNvPr id="269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6000" y="2492280"/>
                <a:ext cx="2087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563560" y="2497320"/>
                <a:ext cx="207216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1" name="Object 21"/>
                <p:cNvSpPr txBox="1"/>
                <p:nvPr/>
              </p:nvSpPr>
              <p:spPr>
                <a:xfrm>
                  <a:off x="2904120" y="2824920"/>
                  <a:ext cx="14270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Oval 22"/>
          <p:cNvSpPr/>
          <p:nvPr/>
        </p:nvSpPr>
        <p:spPr>
          <a:xfrm>
            <a:off x="6516720" y="620640"/>
            <a:ext cx="7207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602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622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5896080" y="1349280"/>
            <a:ext cx="2448000" cy="1530360"/>
            <a:chOff x="5896080" y="1349280"/>
            <a:chExt cx="2448000" cy="1530360"/>
          </a:xfrm>
        </p:grpSpPr>
        <p:sp>
          <p:nvSpPr>
            <p:cNvPr id="276" name="Rectangle 6"/>
            <p:cNvSpPr/>
            <p:nvPr/>
          </p:nvSpPr>
          <p:spPr>
            <a:xfrm>
              <a:off x="5940360" y="18151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Object 7"/>
                <p:cNvSpPr txBox="1"/>
                <p:nvPr/>
              </p:nvSpPr>
              <p:spPr>
                <a:xfrm>
                  <a:off x="5896080" y="1349280"/>
                  <a:ext cx="239256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rad>
                          <m:r>
                            <m:t xml:space="preserve">⋅</m:t>
                          </m:r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8" name="Group 8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grpSp>
          <p:nvGrpSpPr>
            <p:cNvPr id="279" name="Rectangle 9"/>
            <p:cNvGrpSpPr/>
            <p:nvPr/>
          </p:nvGrpSpPr>
          <p:grpSpPr>
            <a:xfrm>
              <a:off x="5292720" y="4148280"/>
              <a:ext cx="1295280" cy="1296720"/>
              <a:chOff x="5292720" y="4148280"/>
              <a:chExt cx="1295280" cy="1296720"/>
            </a:xfrm>
          </p:grpSpPr>
          <p:pic>
            <p:nvPicPr>
              <p:cNvPr id="280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48280"/>
                <a:ext cx="1295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5299920" y="4156920"/>
                <a:ext cx="1280520" cy="12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2" name="Object 10"/>
                <p:cNvSpPr txBox="1"/>
                <p:nvPr/>
              </p:nvSpPr>
              <p:spPr>
                <a:xfrm>
                  <a:off x="5330160" y="4365000"/>
                  <a:ext cx="1209960" cy="77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3" name="Group 11"/>
          <p:cNvGrpSpPr/>
          <p:nvPr/>
        </p:nvGrpSpPr>
        <p:grpSpPr>
          <a:xfrm>
            <a:off x="1692360" y="2708280"/>
            <a:ext cx="1295280" cy="1297080"/>
            <a:chOff x="1692360" y="2708280"/>
            <a:chExt cx="1295280" cy="1297080"/>
          </a:xfrm>
        </p:grpSpPr>
        <p:grpSp>
          <p:nvGrpSpPr>
            <p:cNvPr id="284" name="Rectangle 12"/>
            <p:cNvGrpSpPr/>
            <p:nvPr/>
          </p:nvGrpSpPr>
          <p:grpSpPr>
            <a:xfrm>
              <a:off x="1692360" y="2708280"/>
              <a:ext cx="1295280" cy="1297080"/>
              <a:chOff x="1692360" y="2708280"/>
              <a:chExt cx="1295280" cy="1297080"/>
            </a:xfrm>
          </p:grpSpPr>
          <p:pic>
            <p:nvPicPr>
              <p:cNvPr id="285" name="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2708280"/>
                <a:ext cx="1295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1695960" y="2715840"/>
                <a:ext cx="128628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7" name="Object 13"/>
                <p:cNvSpPr txBox="1"/>
                <p:nvPr/>
              </p:nvSpPr>
              <p:spPr>
                <a:xfrm>
                  <a:off x="1829160" y="2923200"/>
                  <a:ext cx="1010160" cy="77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8" name="Group 14"/>
          <p:cNvGrpSpPr/>
          <p:nvPr/>
        </p:nvGrpSpPr>
        <p:grpSpPr>
          <a:xfrm>
            <a:off x="3276720" y="3429000"/>
            <a:ext cx="1295280" cy="1297080"/>
            <a:chOff x="3276720" y="3429000"/>
            <a:chExt cx="1295280" cy="1297080"/>
          </a:xfrm>
        </p:grpSpPr>
        <p:grpSp>
          <p:nvGrpSpPr>
            <p:cNvPr id="289" name="Rectangle 15"/>
            <p:cNvGrpSpPr/>
            <p:nvPr/>
          </p:nvGrpSpPr>
          <p:grpSpPr>
            <a:xfrm>
              <a:off x="3276720" y="3429000"/>
              <a:ext cx="1295280" cy="1297080"/>
              <a:chOff x="3276720" y="3429000"/>
              <a:chExt cx="1295280" cy="1297080"/>
            </a:xfrm>
          </p:grpSpPr>
          <p:pic>
            <p:nvPicPr>
              <p:cNvPr id="290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3429000"/>
                <a:ext cx="1295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279600" y="3431880"/>
                <a:ext cx="128628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2" name="Object 16"/>
                <p:cNvSpPr txBox="1"/>
                <p:nvPr/>
              </p:nvSpPr>
              <p:spPr>
                <a:xfrm>
                  <a:off x="3624840" y="3728520"/>
                  <a:ext cx="589320" cy="60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3" name="Group 17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grpSp>
          <p:nvGrpSpPr>
            <p:cNvPr id="294" name="Rectangle 18"/>
            <p:cNvGrpSpPr/>
            <p:nvPr/>
          </p:nvGrpSpPr>
          <p:grpSpPr>
            <a:xfrm>
              <a:off x="7093080" y="4869000"/>
              <a:ext cx="1295280" cy="1296720"/>
              <a:chOff x="7093080" y="4869000"/>
              <a:chExt cx="1295280" cy="1296720"/>
            </a:xfrm>
          </p:grpSpPr>
          <p:pic>
            <p:nvPicPr>
              <p:cNvPr id="295" name="Rectangle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3080" y="4869000"/>
                <a:ext cx="1295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>
                <a:off x="7096320" y="4872960"/>
                <a:ext cx="1286280" cy="12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7" name="Object 19"/>
                <p:cNvSpPr txBox="1"/>
                <p:nvPr/>
              </p:nvSpPr>
              <p:spPr>
                <a:xfrm>
                  <a:off x="7522920" y="5190840"/>
                  <a:ext cx="420840" cy="55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8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2" descr="Рисунок16"/>
          <p:cNvPicPr/>
          <p:nvPr/>
        </p:nvPicPr>
        <p:blipFill>
          <a:blip r:embed="rId5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64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74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8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94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896080" y="1349280"/>
            <a:ext cx="2392200" cy="1530360"/>
            <a:chOff x="5896080" y="1349280"/>
            <a:chExt cx="2392200" cy="1530360"/>
          </a:xfrm>
        </p:grpSpPr>
        <p:sp>
          <p:nvSpPr>
            <p:cNvPr id="304" name="Rectangle 5"/>
            <p:cNvSpPr/>
            <p:nvPr/>
          </p:nvSpPr>
          <p:spPr>
            <a:xfrm>
              <a:off x="6571080" y="1866960"/>
              <a:ext cx="108612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6"/>
                <p:cNvSpPr txBox="1"/>
                <p:nvPr/>
              </p:nvSpPr>
              <p:spPr>
                <a:xfrm>
                  <a:off x="5896080" y="1349280"/>
                  <a:ext cx="239220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rad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7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Group 7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grpSp>
          <p:nvGrpSpPr>
            <p:cNvPr id="307" name="Rectangle 8"/>
            <p:cNvGrpSpPr/>
            <p:nvPr/>
          </p:nvGrpSpPr>
          <p:grpSpPr>
            <a:xfrm>
              <a:off x="5292720" y="4148280"/>
              <a:ext cx="1295280" cy="1296720"/>
              <a:chOff x="5292720" y="4148280"/>
              <a:chExt cx="1295280" cy="1296720"/>
            </a:xfrm>
          </p:grpSpPr>
          <p:pic>
            <p:nvPicPr>
              <p:cNvPr id="308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48280"/>
                <a:ext cx="1295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5299920" y="4156920"/>
                <a:ext cx="1280520" cy="12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10" name="Object 9"/>
                <p:cNvSpPr txBox="1"/>
                <p:nvPr/>
              </p:nvSpPr>
              <p:spPr>
                <a:xfrm>
                  <a:off x="5537160" y="4366440"/>
                  <a:ext cx="796320" cy="76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1" name="Group 10"/>
          <p:cNvGrpSpPr/>
          <p:nvPr/>
        </p:nvGrpSpPr>
        <p:grpSpPr>
          <a:xfrm>
            <a:off x="1692360" y="2708280"/>
            <a:ext cx="1295280" cy="1297080"/>
            <a:chOff x="1692360" y="2708280"/>
            <a:chExt cx="1295280" cy="1297080"/>
          </a:xfrm>
        </p:grpSpPr>
        <p:grpSp>
          <p:nvGrpSpPr>
            <p:cNvPr id="312" name="Rectangle 11"/>
            <p:cNvGrpSpPr/>
            <p:nvPr/>
          </p:nvGrpSpPr>
          <p:grpSpPr>
            <a:xfrm>
              <a:off x="1692360" y="2708280"/>
              <a:ext cx="1295280" cy="1297080"/>
              <a:chOff x="1692360" y="2708280"/>
              <a:chExt cx="1295280" cy="1297080"/>
            </a:xfrm>
          </p:grpSpPr>
          <p:pic>
            <p:nvPicPr>
              <p:cNvPr id="313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2708280"/>
                <a:ext cx="1295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695960" y="2715840"/>
                <a:ext cx="128628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15" name="Object 12"/>
                <p:cNvSpPr txBox="1"/>
                <p:nvPr/>
              </p:nvSpPr>
              <p:spPr>
                <a:xfrm>
                  <a:off x="1935000" y="2924640"/>
                  <a:ext cx="798480" cy="77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6" name="Group 13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grpSp>
          <p:nvGrpSpPr>
            <p:cNvPr id="317" name="Rectangle 14"/>
            <p:cNvGrpSpPr/>
            <p:nvPr/>
          </p:nvGrpSpPr>
          <p:grpSpPr>
            <a:xfrm>
              <a:off x="7093080" y="4869000"/>
              <a:ext cx="1295280" cy="1296720"/>
              <a:chOff x="7093080" y="4869000"/>
              <a:chExt cx="1295280" cy="1296720"/>
            </a:xfrm>
          </p:grpSpPr>
          <p:pic>
            <p:nvPicPr>
              <p:cNvPr id="31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3080" y="4869000"/>
                <a:ext cx="1295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7096320" y="4872960"/>
                <a:ext cx="1286280" cy="12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0" name="Object 15"/>
                <p:cNvSpPr txBox="1"/>
                <p:nvPr/>
              </p:nvSpPr>
              <p:spPr>
                <a:xfrm>
                  <a:off x="7524720" y="5168520"/>
                  <a:ext cx="420480" cy="60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Group 16"/>
          <p:cNvGrpSpPr/>
          <p:nvPr/>
        </p:nvGrpSpPr>
        <p:grpSpPr>
          <a:xfrm>
            <a:off x="3492360" y="3429000"/>
            <a:ext cx="1295640" cy="1297080"/>
            <a:chOff x="3492360" y="3429000"/>
            <a:chExt cx="1295640" cy="1297080"/>
          </a:xfrm>
        </p:grpSpPr>
        <p:grpSp>
          <p:nvGrpSpPr>
            <p:cNvPr id="322" name="Rectangle 17"/>
            <p:cNvGrpSpPr/>
            <p:nvPr/>
          </p:nvGrpSpPr>
          <p:grpSpPr>
            <a:xfrm>
              <a:off x="3492360" y="3429000"/>
              <a:ext cx="1295640" cy="1297080"/>
              <a:chOff x="3492360" y="3429000"/>
              <a:chExt cx="1295640" cy="1297080"/>
            </a:xfrm>
          </p:grpSpPr>
          <p:pic>
            <p:nvPicPr>
              <p:cNvPr id="323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360" y="3429000"/>
                <a:ext cx="1295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3497760" y="3431880"/>
                <a:ext cx="128664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5" name="Object 18"/>
                <p:cNvSpPr txBox="1"/>
                <p:nvPr/>
              </p:nvSpPr>
              <p:spPr>
                <a:xfrm>
                  <a:off x="3610080" y="3664080"/>
                  <a:ext cx="10512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2124000" y="5445000"/>
            <a:ext cx="302436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1" descr="Рисунок16"/>
          <p:cNvPicPr/>
          <p:nvPr/>
        </p:nvPicPr>
        <p:blipFill>
          <a:blip r:embed="rId5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6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войства дробей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циональные дроб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826920" y="2349360"/>
                <a:ext cx="496908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2" name="Picture 4" descr="02"/>
          <p:cNvPicPr/>
          <p:nvPr/>
        </p:nvPicPr>
        <p:blipFill>
          <a:blip r:embed="rId1"/>
          <a:stretch/>
        </p:blipFill>
        <p:spPr>
          <a:xfrm>
            <a:off x="6156360" y="4437000"/>
            <a:ext cx="2074680" cy="2421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5"/>
          <p:cNvGrpSpPr/>
          <p:nvPr/>
        </p:nvGrpSpPr>
        <p:grpSpPr>
          <a:xfrm>
            <a:off x="2700360" y="1052640"/>
            <a:ext cx="4424400" cy="1404720"/>
            <a:chOff x="2700360" y="1052640"/>
            <a:chExt cx="4424400" cy="1404720"/>
          </a:xfrm>
        </p:grpSpPr>
        <p:sp>
          <p:nvSpPr>
            <p:cNvPr id="336" name="Rectangle 6"/>
            <p:cNvSpPr/>
            <p:nvPr/>
          </p:nvSpPr>
          <p:spPr>
            <a:xfrm>
              <a:off x="3760560" y="1457280"/>
              <a:ext cx="240300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7" name="Object 7"/>
                <p:cNvSpPr txBox="1"/>
                <p:nvPr/>
              </p:nvSpPr>
              <p:spPr>
                <a:xfrm>
                  <a:off x="2700360" y="1052640"/>
                  <a:ext cx="4424400" cy="14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8" name="Group 8"/>
          <p:cNvGrpSpPr/>
          <p:nvPr/>
        </p:nvGrpSpPr>
        <p:grpSpPr>
          <a:xfrm>
            <a:off x="5364000" y="2565360"/>
            <a:ext cx="2087640" cy="1350720"/>
            <a:chOff x="5364000" y="2565360"/>
            <a:chExt cx="2087640" cy="1350720"/>
          </a:xfrm>
        </p:grpSpPr>
        <p:grpSp>
          <p:nvGrpSpPr>
            <p:cNvPr id="339" name="Rectangle 9"/>
            <p:cNvGrpSpPr/>
            <p:nvPr/>
          </p:nvGrpSpPr>
          <p:grpSpPr>
            <a:xfrm>
              <a:off x="5364000" y="2565360"/>
              <a:ext cx="2087640" cy="1306800"/>
              <a:chOff x="5364000" y="2565360"/>
              <a:chExt cx="2087640" cy="1306800"/>
            </a:xfrm>
          </p:grpSpPr>
          <p:pic>
            <p:nvPicPr>
              <p:cNvPr id="34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2565360"/>
                <a:ext cx="2087640" cy="13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5369400" y="2570400"/>
                <a:ext cx="207828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2" name="Object 10"/>
                <p:cNvSpPr txBox="1"/>
                <p:nvPr/>
              </p:nvSpPr>
              <p:spPr>
                <a:xfrm>
                  <a:off x="5711760" y="2577960"/>
                  <a:ext cx="143136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3"/>
          <p:cNvGrpSpPr/>
          <p:nvPr/>
        </p:nvGrpSpPr>
        <p:grpSpPr>
          <a:xfrm>
            <a:off x="5364000" y="4076640"/>
            <a:ext cx="2087640" cy="1352160"/>
            <a:chOff x="5364000" y="4076640"/>
            <a:chExt cx="2087640" cy="1352160"/>
          </a:xfrm>
        </p:grpSpPr>
        <p:grpSp>
          <p:nvGrpSpPr>
            <p:cNvPr id="346" name="Rectangle 14"/>
            <p:cNvGrpSpPr/>
            <p:nvPr/>
          </p:nvGrpSpPr>
          <p:grpSpPr>
            <a:xfrm>
              <a:off x="5364000" y="4076640"/>
              <a:ext cx="2087640" cy="1306440"/>
              <a:chOff x="5364000" y="4076640"/>
              <a:chExt cx="2087640" cy="1306440"/>
            </a:xfrm>
          </p:grpSpPr>
          <p:pic>
            <p:nvPicPr>
              <p:cNvPr id="34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4076640"/>
                <a:ext cx="208764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5369400" y="4080960"/>
                <a:ext cx="2078280" cy="12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9" name="Object 15"/>
                <p:cNvSpPr txBox="1"/>
                <p:nvPr/>
              </p:nvSpPr>
              <p:spPr>
                <a:xfrm>
                  <a:off x="5460120" y="4086000"/>
                  <a:ext cx="193716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Group 16"/>
          <p:cNvGrpSpPr/>
          <p:nvPr/>
        </p:nvGrpSpPr>
        <p:grpSpPr>
          <a:xfrm>
            <a:off x="2525760" y="4076640"/>
            <a:ext cx="2328840" cy="1350720"/>
            <a:chOff x="2525760" y="4076640"/>
            <a:chExt cx="2328840" cy="1350720"/>
          </a:xfrm>
        </p:grpSpPr>
        <p:grpSp>
          <p:nvGrpSpPr>
            <p:cNvPr id="351" name="Rectangle 17"/>
            <p:cNvGrpSpPr/>
            <p:nvPr/>
          </p:nvGrpSpPr>
          <p:grpSpPr>
            <a:xfrm>
              <a:off x="2620800" y="4076640"/>
              <a:ext cx="2097360" cy="1306800"/>
              <a:chOff x="2620800" y="4076640"/>
              <a:chExt cx="2097360" cy="1306800"/>
            </a:xfrm>
          </p:grpSpPr>
          <p:pic>
            <p:nvPicPr>
              <p:cNvPr id="352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620800" y="4076640"/>
                <a:ext cx="2097360" cy="13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2626560" y="4080960"/>
                <a:ext cx="208800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4" name="Object 18"/>
                <p:cNvSpPr txBox="1"/>
                <p:nvPr/>
              </p:nvSpPr>
              <p:spPr>
                <a:xfrm>
                  <a:off x="2525760" y="4089240"/>
                  <a:ext cx="232884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" name="Group 19"/>
          <p:cNvGrpSpPr/>
          <p:nvPr/>
        </p:nvGrpSpPr>
        <p:grpSpPr>
          <a:xfrm>
            <a:off x="2627280" y="2565360"/>
            <a:ext cx="2087640" cy="1348920"/>
            <a:chOff x="2627280" y="2565360"/>
            <a:chExt cx="2087640" cy="1348920"/>
          </a:xfrm>
        </p:grpSpPr>
        <p:grpSp>
          <p:nvGrpSpPr>
            <p:cNvPr id="356" name="Rectangle 20"/>
            <p:cNvGrpSpPr/>
            <p:nvPr/>
          </p:nvGrpSpPr>
          <p:grpSpPr>
            <a:xfrm>
              <a:off x="2627280" y="2565360"/>
              <a:ext cx="2087640" cy="1306440"/>
              <a:chOff x="2627280" y="2565360"/>
              <a:chExt cx="2087640" cy="1306440"/>
            </a:xfrm>
          </p:grpSpPr>
          <p:pic>
            <p:nvPicPr>
              <p:cNvPr id="357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627280" y="2565360"/>
                <a:ext cx="208764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>
                <a:off x="2633040" y="2570400"/>
                <a:ext cx="2078280" cy="12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9" name="Object 21"/>
                <p:cNvSpPr txBox="1"/>
                <p:nvPr/>
              </p:nvSpPr>
              <p:spPr>
                <a:xfrm>
                  <a:off x="2975040" y="2576160"/>
                  <a:ext cx="143280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Rectangle 22"/>
          <p:cNvSpPr/>
          <p:nvPr/>
        </p:nvSpPr>
        <p:spPr>
          <a:xfrm>
            <a:off x="3059280" y="189000"/>
            <a:ext cx="5760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олните 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824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6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5"/>
          <p:cNvGrpSpPr/>
          <p:nvPr/>
        </p:nvGrpSpPr>
        <p:grpSpPr>
          <a:xfrm>
            <a:off x="2916360" y="1052640"/>
            <a:ext cx="4198680" cy="1447560"/>
            <a:chOff x="2916360" y="1052640"/>
            <a:chExt cx="4198680" cy="1447560"/>
          </a:xfrm>
        </p:grpSpPr>
        <p:sp>
          <p:nvSpPr>
            <p:cNvPr id="364" name="Rectangle 6"/>
            <p:cNvSpPr/>
            <p:nvPr/>
          </p:nvSpPr>
          <p:spPr>
            <a:xfrm>
              <a:off x="3863160" y="1477440"/>
              <a:ext cx="240372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7"/>
                <p:cNvSpPr txBox="1"/>
                <p:nvPr/>
              </p:nvSpPr>
              <p:spPr>
                <a:xfrm>
                  <a:off x="2916360" y="1052640"/>
                  <a:ext cx="4198680" cy="14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6" name="Group 8"/>
          <p:cNvGrpSpPr/>
          <p:nvPr/>
        </p:nvGrpSpPr>
        <p:grpSpPr>
          <a:xfrm>
            <a:off x="5364000" y="4019400"/>
            <a:ext cx="2087640" cy="1473120"/>
            <a:chOff x="5364000" y="4019400"/>
            <a:chExt cx="2087640" cy="1473120"/>
          </a:xfrm>
        </p:grpSpPr>
        <p:grpSp>
          <p:nvGrpSpPr>
            <p:cNvPr id="367" name="Rectangle 9"/>
            <p:cNvGrpSpPr/>
            <p:nvPr/>
          </p:nvGrpSpPr>
          <p:grpSpPr>
            <a:xfrm>
              <a:off x="5364000" y="4071600"/>
              <a:ext cx="2087640" cy="1311480"/>
              <a:chOff x="5364000" y="4071600"/>
              <a:chExt cx="2087640" cy="1311480"/>
            </a:xfrm>
          </p:grpSpPr>
          <p:pic>
            <p:nvPicPr>
              <p:cNvPr id="368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407160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5369400" y="407592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0" name="Object 10"/>
                <p:cNvSpPr txBox="1"/>
                <p:nvPr/>
              </p:nvSpPr>
              <p:spPr>
                <a:xfrm>
                  <a:off x="5605560" y="4019400"/>
                  <a:ext cx="1643040" cy="14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3"/>
          <p:cNvGrpSpPr/>
          <p:nvPr/>
        </p:nvGrpSpPr>
        <p:grpSpPr>
          <a:xfrm>
            <a:off x="5364000" y="2565360"/>
            <a:ext cx="2087640" cy="1352160"/>
            <a:chOff x="5364000" y="2565360"/>
            <a:chExt cx="2087640" cy="1352160"/>
          </a:xfrm>
        </p:grpSpPr>
        <p:grpSp>
          <p:nvGrpSpPr>
            <p:cNvPr id="374" name="Rectangle 14"/>
            <p:cNvGrpSpPr/>
            <p:nvPr/>
          </p:nvGrpSpPr>
          <p:grpSpPr>
            <a:xfrm>
              <a:off x="5364000" y="2565360"/>
              <a:ext cx="2087640" cy="1306440"/>
              <a:chOff x="5364000" y="2565360"/>
              <a:chExt cx="2087640" cy="130644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2565360"/>
                <a:ext cx="208764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5369400" y="2570400"/>
                <a:ext cx="2078280" cy="12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7" name="Object 15"/>
                <p:cNvSpPr txBox="1"/>
                <p:nvPr/>
              </p:nvSpPr>
              <p:spPr>
                <a:xfrm>
                  <a:off x="5880600" y="2574720"/>
                  <a:ext cx="109332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8" name="Group 16"/>
          <p:cNvGrpSpPr/>
          <p:nvPr/>
        </p:nvGrpSpPr>
        <p:grpSpPr>
          <a:xfrm>
            <a:off x="2627280" y="4076640"/>
            <a:ext cx="2087640" cy="1350720"/>
            <a:chOff x="2627280" y="4076640"/>
            <a:chExt cx="2087640" cy="1350720"/>
          </a:xfrm>
        </p:grpSpPr>
        <p:grpSp>
          <p:nvGrpSpPr>
            <p:cNvPr id="379" name="Rectangle 17"/>
            <p:cNvGrpSpPr/>
            <p:nvPr/>
          </p:nvGrpSpPr>
          <p:grpSpPr>
            <a:xfrm>
              <a:off x="2627280" y="4076640"/>
              <a:ext cx="2087640" cy="1306800"/>
              <a:chOff x="2627280" y="4076640"/>
              <a:chExt cx="2087640" cy="1306800"/>
            </a:xfrm>
          </p:grpSpPr>
          <p:pic>
            <p:nvPicPr>
              <p:cNvPr id="380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627280" y="4076640"/>
                <a:ext cx="2087640" cy="13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2633040" y="4080960"/>
                <a:ext cx="207828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2" name="Object 18"/>
                <p:cNvSpPr txBox="1"/>
                <p:nvPr/>
              </p:nvSpPr>
              <p:spPr>
                <a:xfrm>
                  <a:off x="3143880" y="4090680"/>
                  <a:ext cx="109476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3" name="Group 19"/>
          <p:cNvGrpSpPr/>
          <p:nvPr/>
        </p:nvGrpSpPr>
        <p:grpSpPr>
          <a:xfrm>
            <a:off x="2627280" y="2508120"/>
            <a:ext cx="2087640" cy="1473120"/>
            <a:chOff x="2627280" y="2508120"/>
            <a:chExt cx="2087640" cy="1473120"/>
          </a:xfrm>
        </p:grpSpPr>
        <p:grpSp>
          <p:nvGrpSpPr>
            <p:cNvPr id="384" name="Rectangle 20"/>
            <p:cNvGrpSpPr/>
            <p:nvPr/>
          </p:nvGrpSpPr>
          <p:grpSpPr>
            <a:xfrm>
              <a:off x="2627280" y="2560320"/>
              <a:ext cx="2087640" cy="1311480"/>
              <a:chOff x="2627280" y="2560320"/>
              <a:chExt cx="2087640" cy="1311480"/>
            </a:xfrm>
          </p:grpSpPr>
          <p:pic>
            <p:nvPicPr>
              <p:cNvPr id="385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627280" y="256032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2633040" y="256536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7" name="Object 21"/>
                <p:cNvSpPr txBox="1"/>
                <p:nvPr/>
              </p:nvSpPr>
              <p:spPr>
                <a:xfrm>
                  <a:off x="2868840" y="2508120"/>
                  <a:ext cx="1644840" cy="14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8" name="Rectangle 22"/>
          <p:cNvSpPr/>
          <p:nvPr/>
        </p:nvSpPr>
        <p:spPr>
          <a:xfrm>
            <a:off x="3059280" y="189000"/>
            <a:ext cx="5760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олните 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908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26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32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42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952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5"/>
          <p:cNvGrpSpPr/>
          <p:nvPr/>
        </p:nvGrpSpPr>
        <p:grpSpPr>
          <a:xfrm>
            <a:off x="3059280" y="1052640"/>
            <a:ext cx="3841560" cy="1404720"/>
            <a:chOff x="3059280" y="1052640"/>
            <a:chExt cx="3841560" cy="1404720"/>
          </a:xfrm>
        </p:grpSpPr>
        <p:sp>
          <p:nvSpPr>
            <p:cNvPr id="392" name="Rectangle 6"/>
            <p:cNvSpPr/>
            <p:nvPr/>
          </p:nvSpPr>
          <p:spPr>
            <a:xfrm>
              <a:off x="3827880" y="1457280"/>
              <a:ext cx="240480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Object 7"/>
                <p:cNvSpPr txBox="1"/>
                <p:nvPr/>
              </p:nvSpPr>
              <p:spPr>
                <a:xfrm>
                  <a:off x="3059280" y="1052640"/>
                  <a:ext cx="3841560" cy="14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:</m:t>
                      </m:r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4" name="Group 8"/>
          <p:cNvGrpSpPr/>
          <p:nvPr/>
        </p:nvGrpSpPr>
        <p:grpSpPr>
          <a:xfrm>
            <a:off x="5364000" y="4076640"/>
            <a:ext cx="2087640" cy="1350720"/>
            <a:chOff x="5364000" y="4076640"/>
            <a:chExt cx="2087640" cy="1350720"/>
          </a:xfrm>
        </p:grpSpPr>
        <p:grpSp>
          <p:nvGrpSpPr>
            <p:cNvPr id="395" name="Rectangle 9"/>
            <p:cNvGrpSpPr/>
            <p:nvPr/>
          </p:nvGrpSpPr>
          <p:grpSpPr>
            <a:xfrm>
              <a:off x="5364000" y="4076640"/>
              <a:ext cx="2087640" cy="1306800"/>
              <a:chOff x="5364000" y="4076640"/>
              <a:chExt cx="2087640" cy="1306800"/>
            </a:xfrm>
          </p:grpSpPr>
          <p:pic>
            <p:nvPicPr>
              <p:cNvPr id="396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4076640"/>
                <a:ext cx="2087640" cy="13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369400" y="4080960"/>
                <a:ext cx="207828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8" name="Object 10"/>
                <p:cNvSpPr txBox="1"/>
                <p:nvPr/>
              </p:nvSpPr>
              <p:spPr>
                <a:xfrm>
                  <a:off x="5795280" y="4089240"/>
                  <a:ext cx="126396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9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3"/>
          <p:cNvGrpSpPr/>
          <p:nvPr/>
        </p:nvGrpSpPr>
        <p:grpSpPr>
          <a:xfrm>
            <a:off x="2627280" y="2454120"/>
            <a:ext cx="2087640" cy="1434960"/>
            <a:chOff x="2627280" y="2454120"/>
            <a:chExt cx="2087640" cy="1434960"/>
          </a:xfrm>
        </p:grpSpPr>
        <p:grpSp>
          <p:nvGrpSpPr>
            <p:cNvPr id="402" name="Rectangle 14"/>
            <p:cNvGrpSpPr/>
            <p:nvPr/>
          </p:nvGrpSpPr>
          <p:grpSpPr>
            <a:xfrm>
              <a:off x="2627280" y="2487240"/>
              <a:ext cx="2087640" cy="1311480"/>
              <a:chOff x="2627280" y="2487240"/>
              <a:chExt cx="2087640" cy="131148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248724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2633040" y="249228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15"/>
                <p:cNvSpPr txBox="1"/>
                <p:nvPr/>
              </p:nvSpPr>
              <p:spPr>
                <a:xfrm>
                  <a:off x="3080880" y="2454120"/>
                  <a:ext cx="1219680" cy="14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6" name="Group 16"/>
          <p:cNvGrpSpPr/>
          <p:nvPr/>
        </p:nvGrpSpPr>
        <p:grpSpPr>
          <a:xfrm>
            <a:off x="2627280" y="4041720"/>
            <a:ext cx="2087640" cy="1428480"/>
            <a:chOff x="2627280" y="4041720"/>
            <a:chExt cx="2087640" cy="1428480"/>
          </a:xfrm>
        </p:grpSpPr>
        <p:grpSp>
          <p:nvGrpSpPr>
            <p:cNvPr id="407" name="Rectangle 17"/>
            <p:cNvGrpSpPr/>
            <p:nvPr/>
          </p:nvGrpSpPr>
          <p:grpSpPr>
            <a:xfrm>
              <a:off x="2627280" y="4071600"/>
              <a:ext cx="2087640" cy="1311480"/>
              <a:chOff x="2627280" y="4071600"/>
              <a:chExt cx="2087640" cy="1311480"/>
            </a:xfrm>
          </p:grpSpPr>
          <p:pic>
            <p:nvPicPr>
              <p:cNvPr id="408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627280" y="407160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2633040" y="407592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0" name="Object 18"/>
                <p:cNvSpPr txBox="1"/>
                <p:nvPr/>
              </p:nvSpPr>
              <p:spPr>
                <a:xfrm>
                  <a:off x="3080880" y="4041720"/>
                  <a:ext cx="1219680" cy="14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Group 19"/>
          <p:cNvGrpSpPr/>
          <p:nvPr/>
        </p:nvGrpSpPr>
        <p:grpSpPr>
          <a:xfrm>
            <a:off x="5364000" y="2457360"/>
            <a:ext cx="2087640" cy="1428480"/>
            <a:chOff x="5364000" y="2457360"/>
            <a:chExt cx="2087640" cy="1428480"/>
          </a:xfrm>
        </p:grpSpPr>
        <p:grpSp>
          <p:nvGrpSpPr>
            <p:cNvPr id="412" name="Rectangle 20"/>
            <p:cNvGrpSpPr/>
            <p:nvPr/>
          </p:nvGrpSpPr>
          <p:grpSpPr>
            <a:xfrm>
              <a:off x="5364000" y="2487240"/>
              <a:ext cx="2087640" cy="1311480"/>
              <a:chOff x="5364000" y="2487240"/>
              <a:chExt cx="2087640" cy="1311480"/>
            </a:xfrm>
          </p:grpSpPr>
          <p:pic>
            <p:nvPicPr>
              <p:cNvPr id="413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364000" y="248724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5369400" y="249228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5" name="Object 21"/>
                <p:cNvSpPr txBox="1"/>
                <p:nvPr/>
              </p:nvSpPr>
              <p:spPr>
                <a:xfrm>
                  <a:off x="5795280" y="2457360"/>
                  <a:ext cx="1263960" cy="14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6" name="Rectangle 22"/>
          <p:cNvSpPr/>
          <p:nvPr/>
        </p:nvSpPr>
        <p:spPr>
          <a:xfrm>
            <a:off x="3059280" y="189000"/>
            <a:ext cx="5760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олните 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0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8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4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026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036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6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7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8" descr="Рисунок16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9"/>
          <p:cNvSpPr/>
          <p:nvPr/>
        </p:nvSpPr>
        <p:spPr>
          <a:xfrm>
            <a:off x="720" y="189000"/>
            <a:ext cx="928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дка  за  одно  и  то  же  врем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 проплыть  40 км  по  течению  реки  или  25 км  проти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чения  реки. Найдите собственную  скорость  лодки, ес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орость  течения  реки2 км/ч. Обозначив собственную скор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дки  за х км/ч,  можно  составить 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71640" y="189000"/>
            <a:ext cx="2087640" cy="431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22"/>
          <p:cNvGrpSpPr/>
          <p:nvPr/>
        </p:nvGrpSpPr>
        <p:grpSpPr>
          <a:xfrm>
            <a:off x="971640" y="2125800"/>
            <a:ext cx="3887640" cy="1339560"/>
            <a:chOff x="971640" y="2125800"/>
            <a:chExt cx="3887640" cy="1339560"/>
          </a:xfrm>
        </p:grpSpPr>
        <p:grpSp>
          <p:nvGrpSpPr>
            <p:cNvPr id="424" name="Rectangle 23"/>
            <p:cNvGrpSpPr/>
            <p:nvPr/>
          </p:nvGrpSpPr>
          <p:grpSpPr>
            <a:xfrm>
              <a:off x="971640" y="2127240"/>
              <a:ext cx="3887640" cy="1311120"/>
              <a:chOff x="971640" y="2127240"/>
              <a:chExt cx="3887640" cy="1311120"/>
            </a:xfrm>
          </p:grpSpPr>
          <p:pic>
            <p:nvPicPr>
              <p:cNvPr id="425" name="Rectangle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127240"/>
                <a:ext cx="388764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979920" y="2133000"/>
                <a:ext cx="387432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7" name="Object 24"/>
                <p:cNvSpPr txBox="1"/>
                <p:nvPr/>
              </p:nvSpPr>
              <p:spPr>
                <a:xfrm>
                  <a:off x="1273320" y="2125800"/>
                  <a:ext cx="3160080" cy="13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8" name="Group 25"/>
          <p:cNvGrpSpPr/>
          <p:nvPr/>
        </p:nvGrpSpPr>
        <p:grpSpPr>
          <a:xfrm>
            <a:off x="5076720" y="2133720"/>
            <a:ext cx="3888000" cy="1296720"/>
            <a:chOff x="5076720" y="2133720"/>
            <a:chExt cx="3888000" cy="1296720"/>
          </a:xfrm>
        </p:grpSpPr>
        <p:grpSp>
          <p:nvGrpSpPr>
            <p:cNvPr id="429" name="Rectangle 26"/>
            <p:cNvGrpSpPr/>
            <p:nvPr/>
          </p:nvGrpSpPr>
          <p:grpSpPr>
            <a:xfrm>
              <a:off x="5076720" y="2133720"/>
              <a:ext cx="3888000" cy="1296720"/>
              <a:chOff x="5076720" y="2133720"/>
              <a:chExt cx="3888000" cy="1296720"/>
            </a:xfrm>
          </p:grpSpPr>
          <p:pic>
            <p:nvPicPr>
              <p:cNvPr id="430" name="Rectangl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5076720" y="2133720"/>
                <a:ext cx="388800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5081400" y="2139480"/>
                <a:ext cx="3874680" cy="12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2" name="Object 27"/>
                <p:cNvSpPr txBox="1"/>
                <p:nvPr/>
              </p:nvSpPr>
              <p:spPr>
                <a:xfrm>
                  <a:off x="5293080" y="2430000"/>
                  <a:ext cx="332784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Group 28"/>
          <p:cNvGrpSpPr/>
          <p:nvPr/>
        </p:nvGrpSpPr>
        <p:grpSpPr>
          <a:xfrm>
            <a:off x="5076720" y="3565440"/>
            <a:ext cx="3888000" cy="1338120"/>
            <a:chOff x="5076720" y="3565440"/>
            <a:chExt cx="3888000" cy="1338120"/>
          </a:xfrm>
        </p:grpSpPr>
        <p:grpSp>
          <p:nvGrpSpPr>
            <p:cNvPr id="434" name="Rectangle 29"/>
            <p:cNvGrpSpPr/>
            <p:nvPr/>
          </p:nvGrpSpPr>
          <p:grpSpPr>
            <a:xfrm>
              <a:off x="5076720" y="3565440"/>
              <a:ext cx="3888000" cy="1311120"/>
              <a:chOff x="5076720" y="3565440"/>
              <a:chExt cx="3888000" cy="1311120"/>
            </a:xfrm>
          </p:grpSpPr>
          <p:pic>
            <p:nvPicPr>
              <p:cNvPr id="435" name="Rectangle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5076720" y="3565440"/>
                <a:ext cx="388800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5081400" y="3572640"/>
                <a:ext cx="387468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7" name="Object 30"/>
                <p:cNvSpPr txBox="1"/>
                <p:nvPr/>
              </p:nvSpPr>
              <p:spPr>
                <a:xfrm>
                  <a:off x="5330880" y="3565440"/>
                  <a:ext cx="324576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8" name="Group 31"/>
          <p:cNvGrpSpPr/>
          <p:nvPr/>
        </p:nvGrpSpPr>
        <p:grpSpPr>
          <a:xfrm>
            <a:off x="971640" y="3565440"/>
            <a:ext cx="3887640" cy="1338120"/>
            <a:chOff x="971640" y="3565440"/>
            <a:chExt cx="3887640" cy="1338120"/>
          </a:xfrm>
        </p:grpSpPr>
        <p:grpSp>
          <p:nvGrpSpPr>
            <p:cNvPr id="439" name="Rectangle 32"/>
            <p:cNvGrpSpPr/>
            <p:nvPr/>
          </p:nvGrpSpPr>
          <p:grpSpPr>
            <a:xfrm>
              <a:off x="971640" y="3565440"/>
              <a:ext cx="3887640" cy="1311120"/>
              <a:chOff x="971640" y="3565440"/>
              <a:chExt cx="3887640" cy="1311120"/>
            </a:xfrm>
          </p:grpSpPr>
          <p:pic>
            <p:nvPicPr>
              <p:cNvPr id="440" name="Rectangle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971640" y="3565440"/>
                <a:ext cx="388764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979920" y="3572640"/>
                <a:ext cx="387432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2" name="Object 33"/>
                <p:cNvSpPr txBox="1"/>
                <p:nvPr/>
              </p:nvSpPr>
              <p:spPr>
                <a:xfrm>
                  <a:off x="1464840" y="3565440"/>
                  <a:ext cx="277848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0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1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10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10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107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092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3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8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113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123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2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133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900000" y="1557360"/>
            <a:ext cx="3160800" cy="1530360"/>
            <a:chOff x="900000" y="1557360"/>
            <a:chExt cx="3160800" cy="1530360"/>
          </a:xfrm>
        </p:grpSpPr>
        <p:sp>
          <p:nvSpPr>
            <p:cNvPr id="445" name="Rectangle 5"/>
            <p:cNvSpPr/>
            <p:nvPr/>
          </p:nvSpPr>
          <p:spPr>
            <a:xfrm>
              <a:off x="1329480" y="2025000"/>
              <a:ext cx="240444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6"/>
                <p:cNvSpPr txBox="1"/>
                <p:nvPr/>
              </p:nvSpPr>
              <p:spPr>
                <a:xfrm>
                  <a:off x="900000" y="1557360"/>
                  <a:ext cx="316080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7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2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34"/>
          <p:cNvGrpSpPr/>
          <p:nvPr/>
        </p:nvGrpSpPr>
        <p:grpSpPr>
          <a:xfrm>
            <a:off x="5724360" y="2421000"/>
            <a:ext cx="2448000" cy="744120"/>
            <a:chOff x="5724360" y="2421000"/>
            <a:chExt cx="2448000" cy="744120"/>
          </a:xfrm>
        </p:grpSpPr>
        <p:grpSp>
          <p:nvGrpSpPr>
            <p:cNvPr id="452" name="Rectangle 35"/>
            <p:cNvGrpSpPr/>
            <p:nvPr/>
          </p:nvGrpSpPr>
          <p:grpSpPr>
            <a:xfrm>
              <a:off x="5724360" y="2421000"/>
              <a:ext cx="2448000" cy="725400"/>
              <a:chOff x="5724360" y="2421000"/>
              <a:chExt cx="2448000" cy="725400"/>
            </a:xfrm>
          </p:grpSpPr>
          <p:pic>
            <p:nvPicPr>
              <p:cNvPr id="453" name="Rect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2421000"/>
                <a:ext cx="24480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>
                <a:off x="5730480" y="2427840"/>
                <a:ext cx="2433240" cy="71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55" name="Object 36"/>
                <p:cNvSpPr txBox="1"/>
                <p:nvPr/>
              </p:nvSpPr>
              <p:spPr>
                <a:xfrm>
                  <a:off x="6415560" y="2435040"/>
                  <a:ext cx="10080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6" name="Group 37"/>
          <p:cNvGrpSpPr/>
          <p:nvPr/>
        </p:nvGrpSpPr>
        <p:grpSpPr>
          <a:xfrm>
            <a:off x="5724360" y="3429000"/>
            <a:ext cx="2448000" cy="744120"/>
            <a:chOff x="5724360" y="3429000"/>
            <a:chExt cx="2448000" cy="744120"/>
          </a:xfrm>
        </p:grpSpPr>
        <p:grpSp>
          <p:nvGrpSpPr>
            <p:cNvPr id="457" name="Rectangle 38"/>
            <p:cNvGrpSpPr/>
            <p:nvPr/>
          </p:nvGrpSpPr>
          <p:grpSpPr>
            <a:xfrm>
              <a:off x="5724360" y="3429000"/>
              <a:ext cx="2448000" cy="728640"/>
              <a:chOff x="5724360" y="3429000"/>
              <a:chExt cx="2448000" cy="728640"/>
            </a:xfrm>
          </p:grpSpPr>
          <p:pic>
            <p:nvPicPr>
              <p:cNvPr id="458" name="Rectangle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3429000"/>
                <a:ext cx="244800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5730480" y="3431880"/>
                <a:ext cx="24332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60" name="Object 39"/>
                <p:cNvSpPr txBox="1"/>
                <p:nvPr/>
              </p:nvSpPr>
              <p:spPr>
                <a:xfrm>
                  <a:off x="6101280" y="3439800"/>
                  <a:ext cx="16380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Group 40"/>
          <p:cNvGrpSpPr/>
          <p:nvPr/>
        </p:nvGrpSpPr>
        <p:grpSpPr>
          <a:xfrm>
            <a:off x="5724360" y="4437000"/>
            <a:ext cx="2448000" cy="744120"/>
            <a:chOff x="5724360" y="4437000"/>
            <a:chExt cx="2448000" cy="744120"/>
          </a:xfrm>
        </p:grpSpPr>
        <p:grpSp>
          <p:nvGrpSpPr>
            <p:cNvPr id="462" name="Rectangle 41"/>
            <p:cNvGrpSpPr/>
            <p:nvPr/>
          </p:nvGrpSpPr>
          <p:grpSpPr>
            <a:xfrm>
              <a:off x="5724360" y="4437000"/>
              <a:ext cx="2448000" cy="727200"/>
              <a:chOff x="5724360" y="4437000"/>
              <a:chExt cx="2448000" cy="727200"/>
            </a:xfrm>
          </p:grpSpPr>
          <p:pic>
            <p:nvPicPr>
              <p:cNvPr id="463" name="Rectangle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4437000"/>
                <a:ext cx="2448000" cy="72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5730480" y="4442040"/>
                <a:ext cx="243324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65" name="Object 42"/>
                <p:cNvSpPr txBox="1"/>
                <p:nvPr/>
              </p:nvSpPr>
              <p:spPr>
                <a:xfrm>
                  <a:off x="6268680" y="4449240"/>
                  <a:ext cx="13050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6" name="Group 43"/>
          <p:cNvGrpSpPr/>
          <p:nvPr/>
        </p:nvGrpSpPr>
        <p:grpSpPr>
          <a:xfrm>
            <a:off x="5724360" y="5516640"/>
            <a:ext cx="2448000" cy="744120"/>
            <a:chOff x="5724360" y="5516640"/>
            <a:chExt cx="2448000" cy="744120"/>
          </a:xfrm>
        </p:grpSpPr>
        <p:grpSp>
          <p:nvGrpSpPr>
            <p:cNvPr id="467" name="Rectangle 44"/>
            <p:cNvGrpSpPr/>
            <p:nvPr/>
          </p:nvGrpSpPr>
          <p:grpSpPr>
            <a:xfrm>
              <a:off x="5724360" y="5516640"/>
              <a:ext cx="2448000" cy="725400"/>
              <a:chOff x="5724360" y="5516640"/>
              <a:chExt cx="2448000" cy="725400"/>
            </a:xfrm>
          </p:grpSpPr>
          <p:pic>
            <p:nvPicPr>
              <p:cNvPr id="468" name="Rectangle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360" y="5516640"/>
                <a:ext cx="24480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5730480" y="5522040"/>
                <a:ext cx="2433240" cy="71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0" name="Object 45"/>
                <p:cNvSpPr txBox="1"/>
                <p:nvPr/>
              </p:nvSpPr>
              <p:spPr>
                <a:xfrm>
                  <a:off x="6270480" y="5530680"/>
                  <a:ext cx="130176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0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5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195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4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20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4"/>
          <p:cNvGrpSpPr/>
          <p:nvPr/>
        </p:nvGrpSpPr>
        <p:grpSpPr>
          <a:xfrm>
            <a:off x="1332000" y="1197000"/>
            <a:ext cx="4964040" cy="807840"/>
            <a:chOff x="1332000" y="1197000"/>
            <a:chExt cx="4964040" cy="807840"/>
          </a:xfrm>
        </p:grpSpPr>
        <p:sp>
          <p:nvSpPr>
            <p:cNvPr id="473" name="Rectangle 5"/>
            <p:cNvSpPr/>
            <p:nvPr/>
          </p:nvSpPr>
          <p:spPr>
            <a:xfrm>
              <a:off x="2662200" y="1302120"/>
              <a:ext cx="240408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6"/>
                <p:cNvSpPr txBox="1"/>
                <p:nvPr/>
              </p:nvSpPr>
              <p:spPr>
                <a:xfrm>
                  <a:off x="1332000" y="1197000"/>
                  <a:ext cx="4964040" cy="80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у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5" name="Group 7"/>
          <p:cNvGrpSpPr/>
          <p:nvPr/>
        </p:nvGrpSpPr>
        <p:grpSpPr>
          <a:xfrm>
            <a:off x="5292720" y="4079880"/>
            <a:ext cx="1295280" cy="1366560"/>
            <a:chOff x="5292720" y="4079880"/>
            <a:chExt cx="1295280" cy="1366560"/>
          </a:xfrm>
        </p:grpSpPr>
        <p:grpSp>
          <p:nvGrpSpPr>
            <p:cNvPr id="476" name="Rectangle 8"/>
            <p:cNvGrpSpPr/>
            <p:nvPr/>
          </p:nvGrpSpPr>
          <p:grpSpPr>
            <a:xfrm>
              <a:off x="5292720" y="4144320"/>
              <a:ext cx="1295280" cy="1302120"/>
              <a:chOff x="5292720" y="4144320"/>
              <a:chExt cx="1295280" cy="1302120"/>
            </a:xfrm>
          </p:grpSpPr>
          <p:pic>
            <p:nvPicPr>
              <p:cNvPr id="477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44320"/>
                <a:ext cx="1295280" cy="130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5299920" y="4148640"/>
                <a:ext cx="128052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9" name="Object 9"/>
                <p:cNvSpPr txBox="1"/>
                <p:nvPr/>
              </p:nvSpPr>
              <p:spPr>
                <a:xfrm>
                  <a:off x="5538960" y="4079880"/>
                  <a:ext cx="79632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0" name="Group 10"/>
          <p:cNvGrpSpPr/>
          <p:nvPr/>
        </p:nvGrpSpPr>
        <p:grpSpPr>
          <a:xfrm>
            <a:off x="1692360" y="2637000"/>
            <a:ext cx="1295280" cy="1368000"/>
            <a:chOff x="1692360" y="2637000"/>
            <a:chExt cx="1295280" cy="1368000"/>
          </a:xfrm>
        </p:grpSpPr>
        <p:grpSp>
          <p:nvGrpSpPr>
            <p:cNvPr id="481" name="Rectangle 11"/>
            <p:cNvGrpSpPr/>
            <p:nvPr/>
          </p:nvGrpSpPr>
          <p:grpSpPr>
            <a:xfrm>
              <a:off x="1692360" y="2700360"/>
              <a:ext cx="1295280" cy="1304640"/>
              <a:chOff x="1692360" y="2700360"/>
              <a:chExt cx="1295280" cy="1304640"/>
            </a:xfrm>
          </p:grpSpPr>
          <p:pic>
            <p:nvPicPr>
              <p:cNvPr id="482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2700360"/>
                <a:ext cx="1295280" cy="13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1695960" y="2707920"/>
                <a:ext cx="128628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4" name="Object 12"/>
                <p:cNvSpPr txBox="1"/>
                <p:nvPr/>
              </p:nvSpPr>
              <p:spPr>
                <a:xfrm>
                  <a:off x="1747080" y="2637000"/>
                  <a:ext cx="117720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5" name="Group 13"/>
          <p:cNvGrpSpPr/>
          <p:nvPr/>
        </p:nvGrpSpPr>
        <p:grpSpPr>
          <a:xfrm>
            <a:off x="3492360" y="3429000"/>
            <a:ext cx="1295640" cy="1297080"/>
            <a:chOff x="3492360" y="3429000"/>
            <a:chExt cx="1295640" cy="1297080"/>
          </a:xfrm>
        </p:grpSpPr>
        <p:grpSp>
          <p:nvGrpSpPr>
            <p:cNvPr id="486" name="Rectangle 14"/>
            <p:cNvGrpSpPr/>
            <p:nvPr/>
          </p:nvGrpSpPr>
          <p:grpSpPr>
            <a:xfrm>
              <a:off x="3492360" y="3429000"/>
              <a:ext cx="1295640" cy="1297080"/>
              <a:chOff x="3492360" y="3429000"/>
              <a:chExt cx="1295640" cy="1297080"/>
            </a:xfrm>
          </p:grpSpPr>
          <p:pic>
            <p:nvPicPr>
              <p:cNvPr id="4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360" y="3429000"/>
                <a:ext cx="1295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3497760" y="3431880"/>
                <a:ext cx="128664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9" name="Object 15"/>
                <p:cNvSpPr txBox="1"/>
                <p:nvPr/>
              </p:nvSpPr>
              <p:spPr>
                <a:xfrm>
                  <a:off x="3840480" y="3726720"/>
                  <a:ext cx="591120" cy="60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0" name="Group 16"/>
          <p:cNvGrpSpPr/>
          <p:nvPr/>
        </p:nvGrpSpPr>
        <p:grpSpPr>
          <a:xfrm>
            <a:off x="7093080" y="4795920"/>
            <a:ext cx="1295280" cy="1369440"/>
            <a:chOff x="7093080" y="4795920"/>
            <a:chExt cx="1295280" cy="1369440"/>
          </a:xfrm>
        </p:grpSpPr>
        <p:grpSp>
          <p:nvGrpSpPr>
            <p:cNvPr id="491" name="Rectangle 17"/>
            <p:cNvGrpSpPr/>
            <p:nvPr/>
          </p:nvGrpSpPr>
          <p:grpSpPr>
            <a:xfrm>
              <a:off x="7093080" y="4863600"/>
              <a:ext cx="1295280" cy="1301760"/>
              <a:chOff x="7093080" y="4863600"/>
              <a:chExt cx="1295280" cy="1301760"/>
            </a:xfrm>
          </p:grpSpPr>
          <p:pic>
            <p:nvPicPr>
              <p:cNvPr id="492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3080" y="4863600"/>
                <a:ext cx="1295280" cy="13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7096320" y="4867560"/>
                <a:ext cx="128628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4" name="Object 18"/>
                <p:cNvSpPr txBox="1"/>
                <p:nvPr/>
              </p:nvSpPr>
              <p:spPr>
                <a:xfrm>
                  <a:off x="7209360" y="4795920"/>
                  <a:ext cx="104760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1" descr="Рисунок16"/>
          <p:cNvPicPr/>
          <p:nvPr/>
        </p:nvPicPr>
        <p:blipFill>
          <a:blip r:embed="rId5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498" name="Oval 22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26"/>
          <p:cNvGrpSpPr/>
          <p:nvPr/>
        </p:nvGrpSpPr>
        <p:grpSpPr>
          <a:xfrm>
            <a:off x="6588000" y="1557360"/>
            <a:ext cx="2403720" cy="1319040"/>
            <a:chOff x="6588000" y="1557360"/>
            <a:chExt cx="2403720" cy="1319040"/>
          </a:xfrm>
        </p:grpSpPr>
        <p:sp>
          <p:nvSpPr>
            <p:cNvPr id="500" name="Rectangle 27"/>
            <p:cNvSpPr/>
            <p:nvPr/>
          </p:nvSpPr>
          <p:spPr>
            <a:xfrm>
              <a:off x="6588000" y="1920240"/>
              <a:ext cx="240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Object 28"/>
                <p:cNvSpPr txBox="1"/>
                <p:nvPr/>
              </p:nvSpPr>
              <p:spPr>
                <a:xfrm>
                  <a:off x="6768720" y="1557360"/>
                  <a:ext cx="1944720" cy="13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2" name="Rectangle 29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0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263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73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9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0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0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рифметическим квадратным корнем из неотрицательного числа а называют такое неотрицательное числ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квадрат которого равен 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5280" y="260280"/>
            <a:ext cx="8424720" cy="1224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рифм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вадратный кор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Рисунок16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g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&lt;a.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Если а&lt;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то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b&gt;a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l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&lt;c,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a&lt;c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l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любое число, т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+c&lt;b+c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l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&lt;d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+c&lt;b+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l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&lt;d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c&lt;b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ойства числовых неравенств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05" name="Picture 18" descr="Рисунок16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5"/>
          <p:cNvGrpSpPr/>
          <p:nvPr/>
        </p:nvGrpSpPr>
        <p:grpSpPr>
          <a:xfrm>
            <a:off x="2124000" y="1268280"/>
            <a:ext cx="4648320" cy="723960"/>
            <a:chOff x="2124000" y="1268280"/>
            <a:chExt cx="4648320" cy="723960"/>
          </a:xfrm>
        </p:grpSpPr>
        <p:sp>
          <p:nvSpPr>
            <p:cNvPr id="509" name="Rectangle 6"/>
            <p:cNvSpPr/>
            <p:nvPr/>
          </p:nvSpPr>
          <p:spPr>
            <a:xfrm>
              <a:off x="3296160" y="133164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Object 7"/>
                <p:cNvSpPr txBox="1"/>
                <p:nvPr/>
              </p:nvSpPr>
              <p:spPr>
                <a:xfrm>
                  <a:off x="2124000" y="1268280"/>
                  <a:ext cx="464832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Group 8"/>
          <p:cNvGrpSpPr/>
          <p:nvPr/>
        </p:nvGrpSpPr>
        <p:grpSpPr>
          <a:xfrm>
            <a:off x="5292720" y="2349360"/>
            <a:ext cx="2087640" cy="1297080"/>
            <a:chOff x="5292720" y="2349360"/>
            <a:chExt cx="2087640" cy="1297080"/>
          </a:xfrm>
        </p:grpSpPr>
        <p:grpSp>
          <p:nvGrpSpPr>
            <p:cNvPr id="512" name="Rectangle 9"/>
            <p:cNvGrpSpPr/>
            <p:nvPr/>
          </p:nvGrpSpPr>
          <p:grpSpPr>
            <a:xfrm>
              <a:off x="5292720" y="2349360"/>
              <a:ext cx="2087640" cy="1297080"/>
              <a:chOff x="5292720" y="2349360"/>
              <a:chExt cx="2087640" cy="1297080"/>
            </a:xfrm>
          </p:grpSpPr>
          <p:pic>
            <p:nvPicPr>
              <p:cNvPr id="513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234936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5299920" y="2357640"/>
                <a:ext cx="207252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5" name="Object 10"/>
                <p:cNvSpPr txBox="1"/>
                <p:nvPr/>
              </p:nvSpPr>
              <p:spPr>
                <a:xfrm>
                  <a:off x="5429880" y="2664720"/>
                  <a:ext cx="1849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6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3"/>
          <p:cNvGrpSpPr/>
          <p:nvPr/>
        </p:nvGrpSpPr>
        <p:grpSpPr>
          <a:xfrm>
            <a:off x="2556000" y="3860640"/>
            <a:ext cx="2087280" cy="1297080"/>
            <a:chOff x="2556000" y="3860640"/>
            <a:chExt cx="2087280" cy="1297080"/>
          </a:xfrm>
        </p:grpSpPr>
        <p:grpSp>
          <p:nvGrpSpPr>
            <p:cNvPr id="519" name="Rectangle 14"/>
            <p:cNvGrpSpPr/>
            <p:nvPr/>
          </p:nvGrpSpPr>
          <p:grpSpPr>
            <a:xfrm>
              <a:off x="2556000" y="3860640"/>
              <a:ext cx="2087280" cy="1297080"/>
              <a:chOff x="2556000" y="3860640"/>
              <a:chExt cx="2087280" cy="1297080"/>
            </a:xfrm>
          </p:grpSpPr>
          <p:pic>
            <p:nvPicPr>
              <p:cNvPr id="52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3860640"/>
                <a:ext cx="2087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"/>
              <p:cNvSpPr/>
              <p:nvPr/>
            </p:nvSpPr>
            <p:spPr>
              <a:xfrm>
                <a:off x="2563560" y="3868560"/>
                <a:ext cx="207216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2" name="Object 15"/>
                <p:cNvSpPr txBox="1"/>
                <p:nvPr/>
              </p:nvSpPr>
              <p:spPr>
                <a:xfrm>
                  <a:off x="2693160" y="4174560"/>
                  <a:ext cx="185076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3" name="Group 16"/>
          <p:cNvGrpSpPr/>
          <p:nvPr/>
        </p:nvGrpSpPr>
        <p:grpSpPr>
          <a:xfrm>
            <a:off x="5292720" y="3860640"/>
            <a:ext cx="2087640" cy="1297080"/>
            <a:chOff x="5292720" y="3860640"/>
            <a:chExt cx="2087640" cy="1297080"/>
          </a:xfrm>
        </p:grpSpPr>
        <p:grpSp>
          <p:nvGrpSpPr>
            <p:cNvPr id="524" name="Rectangle 17"/>
            <p:cNvGrpSpPr/>
            <p:nvPr/>
          </p:nvGrpSpPr>
          <p:grpSpPr>
            <a:xfrm>
              <a:off x="5292720" y="3860640"/>
              <a:ext cx="2087640" cy="1297080"/>
              <a:chOff x="5292720" y="3860640"/>
              <a:chExt cx="2087640" cy="1297080"/>
            </a:xfrm>
          </p:grpSpPr>
          <p:pic>
            <p:nvPicPr>
              <p:cNvPr id="525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2720" y="386064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5299920" y="3868560"/>
                <a:ext cx="207252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7" name="Object 18"/>
                <p:cNvSpPr txBox="1"/>
                <p:nvPr/>
              </p:nvSpPr>
              <p:spPr>
                <a:xfrm>
                  <a:off x="5451480" y="4176000"/>
                  <a:ext cx="1806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Group 19"/>
          <p:cNvGrpSpPr/>
          <p:nvPr/>
        </p:nvGrpSpPr>
        <p:grpSpPr>
          <a:xfrm>
            <a:off x="2556000" y="2349360"/>
            <a:ext cx="2087280" cy="1297080"/>
            <a:chOff x="2556000" y="2349360"/>
            <a:chExt cx="2087280" cy="1297080"/>
          </a:xfrm>
        </p:grpSpPr>
        <p:grpSp>
          <p:nvGrpSpPr>
            <p:cNvPr id="529" name="Rectangle 20"/>
            <p:cNvGrpSpPr/>
            <p:nvPr/>
          </p:nvGrpSpPr>
          <p:grpSpPr>
            <a:xfrm>
              <a:off x="2556000" y="2349360"/>
              <a:ext cx="2087280" cy="1297080"/>
              <a:chOff x="2556000" y="2349360"/>
              <a:chExt cx="2087280" cy="1297080"/>
            </a:xfrm>
          </p:grpSpPr>
          <p:pic>
            <p:nvPicPr>
              <p:cNvPr id="530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6000" y="2349360"/>
                <a:ext cx="2087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2563560" y="2357640"/>
                <a:ext cx="207216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2" name="Object 21"/>
                <p:cNvSpPr txBox="1"/>
                <p:nvPr/>
              </p:nvSpPr>
              <p:spPr>
                <a:xfrm>
                  <a:off x="2840760" y="2664720"/>
                  <a:ext cx="155484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3" name="Rectangle 26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не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0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4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365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1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7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3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389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8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399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неравен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4"/>
          <p:cNvGrpSpPr/>
          <p:nvPr/>
        </p:nvGrpSpPr>
        <p:grpSpPr>
          <a:xfrm>
            <a:off x="1332000" y="1490760"/>
            <a:ext cx="2573280" cy="1531800"/>
            <a:chOff x="1332000" y="1490760"/>
            <a:chExt cx="2573280" cy="1531800"/>
          </a:xfrm>
        </p:grpSpPr>
        <p:sp>
          <p:nvSpPr>
            <p:cNvPr id="537" name="Rectangle 5"/>
            <p:cNvSpPr/>
            <p:nvPr/>
          </p:nvSpPr>
          <p:spPr>
            <a:xfrm>
              <a:off x="1468800" y="1958040"/>
              <a:ext cx="24033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8" name="Object 6"/>
                <p:cNvSpPr txBox="1"/>
                <p:nvPr/>
              </p:nvSpPr>
              <p:spPr>
                <a:xfrm>
                  <a:off x="1332000" y="1490760"/>
                  <a:ext cx="2573280" cy="15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9" name="Group 7"/>
          <p:cNvGrpSpPr/>
          <p:nvPr/>
        </p:nvGrpSpPr>
        <p:grpSpPr>
          <a:xfrm>
            <a:off x="5724360" y="4437000"/>
            <a:ext cx="2448000" cy="720720"/>
            <a:chOff x="5724360" y="4437000"/>
            <a:chExt cx="2448000" cy="720720"/>
          </a:xfrm>
        </p:grpSpPr>
        <p:grpSp>
          <p:nvGrpSpPr>
            <p:cNvPr id="540" name="Rectangle 8"/>
            <p:cNvGrpSpPr/>
            <p:nvPr/>
          </p:nvGrpSpPr>
          <p:grpSpPr>
            <a:xfrm>
              <a:off x="5724360" y="4437000"/>
              <a:ext cx="2448000" cy="720720"/>
              <a:chOff x="5724360" y="4437000"/>
              <a:chExt cx="2448000" cy="720720"/>
            </a:xfrm>
          </p:grpSpPr>
          <p:pic>
            <p:nvPicPr>
              <p:cNvPr id="541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4437000"/>
                <a:ext cx="24480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5730480" y="4442040"/>
                <a:ext cx="243324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43" name="Object 9"/>
                <p:cNvSpPr txBox="1"/>
                <p:nvPr/>
              </p:nvSpPr>
              <p:spPr>
                <a:xfrm>
                  <a:off x="5911920" y="4513320"/>
                  <a:ext cx="20170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4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2"/>
          <p:cNvGrpSpPr/>
          <p:nvPr/>
        </p:nvGrpSpPr>
        <p:grpSpPr>
          <a:xfrm>
            <a:off x="5724360" y="3429000"/>
            <a:ext cx="2448000" cy="720720"/>
            <a:chOff x="5724360" y="3429000"/>
            <a:chExt cx="2448000" cy="720720"/>
          </a:xfrm>
        </p:grpSpPr>
        <p:grpSp>
          <p:nvGrpSpPr>
            <p:cNvPr id="547" name="Rectangle 13"/>
            <p:cNvGrpSpPr/>
            <p:nvPr/>
          </p:nvGrpSpPr>
          <p:grpSpPr>
            <a:xfrm>
              <a:off x="5724360" y="3429000"/>
              <a:ext cx="2448000" cy="720720"/>
              <a:chOff x="5724360" y="3429000"/>
              <a:chExt cx="2448000" cy="720720"/>
            </a:xfrm>
          </p:grpSpPr>
          <p:pic>
            <p:nvPicPr>
              <p:cNvPr id="548" name="Rectangl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29000"/>
                <a:ext cx="24480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5730480" y="3431880"/>
                <a:ext cx="243324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0" name="Object 14"/>
                <p:cNvSpPr txBox="1"/>
                <p:nvPr/>
              </p:nvSpPr>
              <p:spPr>
                <a:xfrm>
                  <a:off x="5911920" y="3503880"/>
                  <a:ext cx="20170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15"/>
          <p:cNvGrpSpPr/>
          <p:nvPr/>
        </p:nvGrpSpPr>
        <p:grpSpPr>
          <a:xfrm>
            <a:off x="5724360" y="2421000"/>
            <a:ext cx="2448000" cy="720720"/>
            <a:chOff x="5724360" y="2421000"/>
            <a:chExt cx="2448000" cy="720720"/>
          </a:xfrm>
        </p:grpSpPr>
        <p:grpSp>
          <p:nvGrpSpPr>
            <p:cNvPr id="552" name="Rectangle 16"/>
            <p:cNvGrpSpPr/>
            <p:nvPr/>
          </p:nvGrpSpPr>
          <p:grpSpPr>
            <a:xfrm>
              <a:off x="5724360" y="2421000"/>
              <a:ext cx="2448000" cy="720720"/>
              <a:chOff x="5724360" y="2421000"/>
              <a:chExt cx="2448000" cy="720720"/>
            </a:xfrm>
          </p:grpSpPr>
          <p:pic>
            <p:nvPicPr>
              <p:cNvPr id="553" name="Rectangl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2421000"/>
                <a:ext cx="24480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5730480" y="2427480"/>
                <a:ext cx="243324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5" name="Object 17"/>
                <p:cNvSpPr txBox="1"/>
                <p:nvPr/>
              </p:nvSpPr>
              <p:spPr>
                <a:xfrm>
                  <a:off x="6248160" y="2499120"/>
                  <a:ext cx="1347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6" name="Group 18"/>
          <p:cNvGrpSpPr/>
          <p:nvPr/>
        </p:nvGrpSpPr>
        <p:grpSpPr>
          <a:xfrm>
            <a:off x="5724360" y="5589720"/>
            <a:ext cx="2448000" cy="720720"/>
            <a:chOff x="5724360" y="5589720"/>
            <a:chExt cx="2448000" cy="720720"/>
          </a:xfrm>
        </p:grpSpPr>
        <p:grpSp>
          <p:nvGrpSpPr>
            <p:cNvPr id="557" name="Rectangle 19"/>
            <p:cNvGrpSpPr/>
            <p:nvPr/>
          </p:nvGrpSpPr>
          <p:grpSpPr>
            <a:xfrm>
              <a:off x="5724360" y="5589720"/>
              <a:ext cx="2448000" cy="720720"/>
              <a:chOff x="5724360" y="5589720"/>
              <a:chExt cx="2448000" cy="720720"/>
            </a:xfrm>
          </p:grpSpPr>
          <p:pic>
            <p:nvPicPr>
              <p:cNvPr id="55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89720"/>
                <a:ext cx="24480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5730480" y="5595120"/>
                <a:ext cx="243324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0" name="Object 20"/>
                <p:cNvSpPr txBox="1"/>
                <p:nvPr/>
              </p:nvSpPr>
              <p:spPr>
                <a:xfrm>
                  <a:off x="6374520" y="5667840"/>
                  <a:ext cx="1091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1" name="Picture 22" descr="Рисунок16"/>
          <p:cNvPicPr/>
          <p:nvPr/>
        </p:nvPicPr>
        <p:blipFill>
          <a:blip r:embed="rId5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0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59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469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479" nodeType="clickEffect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489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6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авнение вида                                  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зывается квадратным уравнением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искриминан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орни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вадратные уравне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5"/>
              <p:cNvSpPr txBox="1"/>
              <p:nvPr/>
            </p:nvSpPr>
            <p:spPr>
              <a:xfrm>
                <a:off x="4211640" y="1341360"/>
                <a:ext cx="34750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х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3203640" y="2637000"/>
                <a:ext cx="29224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4"/>
              <p:cNvSpPr txBox="1"/>
              <p:nvPr/>
            </p:nvSpPr>
            <p:spPr>
              <a:xfrm>
                <a:off x="395280" y="4149720"/>
                <a:ext cx="82011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nodeType="clickEffect" fill="hold">
                      <p:stCondLst>
                        <p:cond delay="0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1828800" y="1187280"/>
            <a:ext cx="5000760" cy="766800"/>
            <a:chOff x="1828800" y="1187280"/>
            <a:chExt cx="5000760" cy="766800"/>
          </a:xfrm>
        </p:grpSpPr>
        <p:sp>
          <p:nvSpPr>
            <p:cNvPr id="569" name="Rectangle 5"/>
            <p:cNvSpPr/>
            <p:nvPr/>
          </p:nvSpPr>
          <p:spPr>
            <a:xfrm>
              <a:off x="3115800" y="1274040"/>
              <a:ext cx="253440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0" name="Object 6"/>
                <p:cNvSpPr txBox="1"/>
                <p:nvPr/>
              </p:nvSpPr>
              <p:spPr>
                <a:xfrm>
                  <a:off x="1828800" y="1187280"/>
                  <a:ext cx="500076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гр</m:t>
                      </m:r>
                      <m:r>
                        <m:t xml:space="preserve">: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1" name="Rectangle 26"/>
          <p:cNvSpPr/>
          <p:nvPr/>
        </p:nvSpPr>
        <p:spPr>
          <a:xfrm>
            <a:off x="1476360" y="189000"/>
            <a:ext cx="7416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сумму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7" descr="02"/>
          <p:cNvPicPr/>
          <p:nvPr/>
        </p:nvPicPr>
        <p:blipFill>
          <a:blip r:embed="rId1"/>
          <a:stretch/>
        </p:blipFill>
        <p:spPr>
          <a:xfrm>
            <a:off x="324000" y="4076640"/>
            <a:ext cx="2074680" cy="242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3" name="Object 30"/>
              <p:cNvSpPr txBox="1"/>
              <p:nvPr/>
            </p:nvSpPr>
            <p:spPr>
              <a:xfrm>
                <a:off x="1042920" y="2060640"/>
                <a:ext cx="5639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гр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4" name="Group 3"/>
          <p:cNvGrpSpPr/>
          <p:nvPr/>
        </p:nvGrpSpPr>
        <p:grpSpPr>
          <a:xfrm>
            <a:off x="611280" y="1373040"/>
            <a:ext cx="6646680" cy="2057040"/>
            <a:chOff x="611280" y="1373040"/>
            <a:chExt cx="6646680" cy="2057040"/>
          </a:xfrm>
        </p:grpSpPr>
        <p:sp>
          <p:nvSpPr>
            <p:cNvPr id="575" name="Rectangle 4"/>
            <p:cNvSpPr/>
            <p:nvPr/>
          </p:nvSpPr>
          <p:spPr>
            <a:xfrm>
              <a:off x="3346920" y="1373040"/>
              <a:ext cx="327744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Object 5"/>
                <p:cNvSpPr txBox="1"/>
                <p:nvPr/>
              </p:nvSpPr>
              <p:spPr>
                <a:xfrm>
                  <a:off x="611280" y="2664720"/>
                  <a:ext cx="664668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IIгр</m:t>
                      </m:r>
                      <m:r>
                        <m:t xml:space="preserve">: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7" name="Group 3"/>
          <p:cNvGrpSpPr/>
          <p:nvPr/>
        </p:nvGrpSpPr>
        <p:grpSpPr>
          <a:xfrm>
            <a:off x="900000" y="1373040"/>
            <a:ext cx="6840720" cy="2734920"/>
            <a:chOff x="900000" y="1373040"/>
            <a:chExt cx="6840720" cy="2734920"/>
          </a:xfrm>
        </p:grpSpPr>
        <p:sp>
          <p:nvSpPr>
            <p:cNvPr id="578" name="Rectangle 4"/>
            <p:cNvSpPr/>
            <p:nvPr/>
          </p:nvSpPr>
          <p:spPr>
            <a:xfrm>
              <a:off x="3612600" y="1373040"/>
              <a:ext cx="29613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Object 33"/>
                <p:cNvSpPr txBox="1"/>
                <p:nvPr/>
              </p:nvSpPr>
              <p:spPr>
                <a:xfrm>
                  <a:off x="900000" y="3428640"/>
                  <a:ext cx="684072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Vгр</m:t>
                      </m:r>
                      <m:r>
                        <m:t xml:space="preserve">: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nodeType="clickEffect" fill="hold">
                      <p:stCondLst>
                        <p:cond delay="0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гр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р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р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р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бери правильный отве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82" name="Group 10"/>
          <p:cNvGrpSpPr/>
          <p:nvPr/>
        </p:nvGrpSpPr>
        <p:grpSpPr>
          <a:xfrm>
            <a:off x="1692360" y="1413000"/>
            <a:ext cx="1295280" cy="1152360"/>
            <a:chOff x="1692360" y="1413000"/>
            <a:chExt cx="1295280" cy="1152360"/>
          </a:xfrm>
        </p:grpSpPr>
        <p:grpSp>
          <p:nvGrpSpPr>
            <p:cNvPr id="583" name="Rectangle 11"/>
            <p:cNvGrpSpPr/>
            <p:nvPr/>
          </p:nvGrpSpPr>
          <p:grpSpPr>
            <a:xfrm>
              <a:off x="1692360" y="1413000"/>
              <a:ext cx="1295280" cy="1152360"/>
              <a:chOff x="1692360" y="1413000"/>
              <a:chExt cx="1295280" cy="1152360"/>
            </a:xfrm>
          </p:grpSpPr>
          <p:pic>
            <p:nvPicPr>
              <p:cNvPr id="584" name="Rectangl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413000"/>
                <a:ext cx="129528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695960" y="1417320"/>
                <a:ext cx="128628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86" name="Object 2"/>
                <p:cNvSpPr txBox="1"/>
                <p:nvPr/>
              </p:nvSpPr>
              <p:spPr>
                <a:xfrm>
                  <a:off x="1830960" y="1639440"/>
                  <a:ext cx="1008360" cy="61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1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7" name="Group 10"/>
          <p:cNvGrpSpPr/>
          <p:nvPr/>
        </p:nvGrpSpPr>
        <p:grpSpPr>
          <a:xfrm>
            <a:off x="6804000" y="1413000"/>
            <a:ext cx="1295280" cy="1152360"/>
            <a:chOff x="6804000" y="1413000"/>
            <a:chExt cx="1295280" cy="1152360"/>
          </a:xfrm>
        </p:grpSpPr>
        <p:grpSp>
          <p:nvGrpSpPr>
            <p:cNvPr id="588" name="Rectangle 11"/>
            <p:cNvGrpSpPr/>
            <p:nvPr/>
          </p:nvGrpSpPr>
          <p:grpSpPr>
            <a:xfrm>
              <a:off x="6804000" y="1413000"/>
              <a:ext cx="1295280" cy="1152360"/>
              <a:chOff x="6804000" y="1413000"/>
              <a:chExt cx="1295280" cy="1152360"/>
            </a:xfrm>
          </p:grpSpPr>
          <p:pic>
            <p:nvPicPr>
              <p:cNvPr id="589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6804000" y="1413000"/>
                <a:ext cx="129528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"/>
              <p:cNvSpPr/>
              <p:nvPr/>
            </p:nvSpPr>
            <p:spPr>
              <a:xfrm>
                <a:off x="6810840" y="1417320"/>
                <a:ext cx="128052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1" name="Object 7"/>
                <p:cNvSpPr txBox="1"/>
                <p:nvPr/>
              </p:nvSpPr>
              <p:spPr>
                <a:xfrm>
                  <a:off x="7031160" y="1639440"/>
                  <a:ext cx="835920" cy="61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Group 10"/>
          <p:cNvGrpSpPr/>
          <p:nvPr/>
        </p:nvGrpSpPr>
        <p:grpSpPr>
          <a:xfrm>
            <a:off x="3348000" y="1413000"/>
            <a:ext cx="1323720" cy="1162080"/>
            <a:chOff x="3348000" y="1413000"/>
            <a:chExt cx="1323720" cy="1162080"/>
          </a:xfrm>
        </p:grpSpPr>
        <p:grpSp>
          <p:nvGrpSpPr>
            <p:cNvPr id="593" name="Rectangle 11"/>
            <p:cNvGrpSpPr/>
            <p:nvPr/>
          </p:nvGrpSpPr>
          <p:grpSpPr>
            <a:xfrm>
              <a:off x="3348000" y="1413000"/>
              <a:ext cx="1323720" cy="1162080"/>
              <a:chOff x="3348000" y="1413000"/>
              <a:chExt cx="1323720" cy="1162080"/>
            </a:xfrm>
          </p:grpSpPr>
          <p:pic>
            <p:nvPicPr>
              <p:cNvPr id="594" name="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1413000"/>
                <a:ext cx="1323720" cy="11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3355200" y="1417320"/>
                <a:ext cx="1312920" cy="11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6" name="Object 8"/>
                <p:cNvSpPr txBox="1"/>
                <p:nvPr/>
              </p:nvSpPr>
              <p:spPr>
                <a:xfrm>
                  <a:off x="3409200" y="1643040"/>
                  <a:ext cx="1201320" cy="61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3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10"/>
          <p:cNvGrpSpPr/>
          <p:nvPr/>
        </p:nvGrpSpPr>
        <p:grpSpPr>
          <a:xfrm>
            <a:off x="5148360" y="1413000"/>
            <a:ext cx="1295280" cy="1152360"/>
            <a:chOff x="5148360" y="1413000"/>
            <a:chExt cx="1295280" cy="1152360"/>
          </a:xfrm>
        </p:grpSpPr>
        <p:grpSp>
          <p:nvGrpSpPr>
            <p:cNvPr id="598" name="Rectangle 11"/>
            <p:cNvGrpSpPr/>
            <p:nvPr/>
          </p:nvGrpSpPr>
          <p:grpSpPr>
            <a:xfrm>
              <a:off x="5148360" y="1413000"/>
              <a:ext cx="1295280" cy="1152360"/>
              <a:chOff x="5148360" y="1413000"/>
              <a:chExt cx="1295280" cy="1152360"/>
            </a:xfrm>
          </p:grpSpPr>
          <p:pic>
            <p:nvPicPr>
              <p:cNvPr id="599" name="Rectangl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8360" y="1413000"/>
                <a:ext cx="129528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5151240" y="1417320"/>
                <a:ext cx="128628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1" name="Object 9"/>
                <p:cNvSpPr txBox="1"/>
                <p:nvPr/>
              </p:nvSpPr>
              <p:spPr>
                <a:xfrm>
                  <a:off x="5340240" y="1702080"/>
                  <a:ext cx="798480" cy="61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2" name="Group 10"/>
          <p:cNvGrpSpPr/>
          <p:nvPr/>
        </p:nvGrpSpPr>
        <p:grpSpPr>
          <a:xfrm>
            <a:off x="1692360" y="2637000"/>
            <a:ext cx="1295280" cy="1296360"/>
            <a:chOff x="1692360" y="2637000"/>
            <a:chExt cx="1295280" cy="1296360"/>
          </a:xfrm>
        </p:grpSpPr>
        <p:grpSp>
          <p:nvGrpSpPr>
            <p:cNvPr id="603" name="Rectangle 11"/>
            <p:cNvGrpSpPr/>
            <p:nvPr/>
          </p:nvGrpSpPr>
          <p:grpSpPr>
            <a:xfrm>
              <a:off x="1692360" y="2637000"/>
              <a:ext cx="1295280" cy="1258200"/>
              <a:chOff x="1692360" y="2637000"/>
              <a:chExt cx="1295280" cy="1258200"/>
            </a:xfrm>
          </p:grpSpPr>
          <p:pic>
            <p:nvPicPr>
              <p:cNvPr id="604" name="Rectangl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2360" y="2637000"/>
                <a:ext cx="1295280" cy="12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1695960" y="2640240"/>
                <a:ext cx="1286280" cy="12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6" name="Object 10"/>
                <p:cNvSpPr txBox="1"/>
                <p:nvPr/>
              </p:nvSpPr>
              <p:spPr>
                <a:xfrm>
                  <a:off x="1775520" y="2639880"/>
                  <a:ext cx="1137960" cy="12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7" name="Group 10"/>
          <p:cNvGrpSpPr/>
          <p:nvPr/>
        </p:nvGrpSpPr>
        <p:grpSpPr>
          <a:xfrm>
            <a:off x="3276720" y="2565360"/>
            <a:ext cx="1366200" cy="1294920"/>
            <a:chOff x="3276720" y="2565360"/>
            <a:chExt cx="1366200" cy="1294920"/>
          </a:xfrm>
        </p:grpSpPr>
        <p:grpSp>
          <p:nvGrpSpPr>
            <p:cNvPr id="608" name="Rectangle 11"/>
            <p:cNvGrpSpPr/>
            <p:nvPr/>
          </p:nvGrpSpPr>
          <p:grpSpPr>
            <a:xfrm>
              <a:off x="3345840" y="2626560"/>
              <a:ext cx="1297080" cy="1233720"/>
              <a:chOff x="3345840" y="2626560"/>
              <a:chExt cx="1297080" cy="1233720"/>
            </a:xfrm>
          </p:grpSpPr>
          <p:pic>
            <p:nvPicPr>
              <p:cNvPr id="609" name="Rectangl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345840" y="2626560"/>
                <a:ext cx="1297080" cy="12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>
                <a:off x="3349800" y="2631960"/>
                <a:ext cx="128520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1" name="Object 11"/>
                <p:cNvSpPr txBox="1"/>
                <p:nvPr/>
              </p:nvSpPr>
              <p:spPr>
                <a:xfrm>
                  <a:off x="3276720" y="2565360"/>
                  <a:ext cx="13586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2" name="Group 10"/>
          <p:cNvGrpSpPr/>
          <p:nvPr/>
        </p:nvGrpSpPr>
        <p:grpSpPr>
          <a:xfrm>
            <a:off x="5148360" y="2637000"/>
            <a:ext cx="1294920" cy="1271160"/>
            <a:chOff x="5148360" y="2637000"/>
            <a:chExt cx="1294920" cy="1271160"/>
          </a:xfrm>
        </p:grpSpPr>
        <p:grpSp>
          <p:nvGrpSpPr>
            <p:cNvPr id="613" name="Rectangle 11"/>
            <p:cNvGrpSpPr/>
            <p:nvPr/>
          </p:nvGrpSpPr>
          <p:grpSpPr>
            <a:xfrm>
              <a:off x="5148360" y="2637000"/>
              <a:ext cx="1294920" cy="1234080"/>
              <a:chOff x="5148360" y="2637000"/>
              <a:chExt cx="1294920" cy="1234080"/>
            </a:xfrm>
          </p:grpSpPr>
          <p:pic>
            <p:nvPicPr>
              <p:cNvPr id="614" name="Rectangle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5148360" y="2637000"/>
                <a:ext cx="1294920" cy="123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151240" y="2640240"/>
                <a:ext cx="1285920" cy="12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6" name="Object 12"/>
                <p:cNvSpPr txBox="1"/>
                <p:nvPr/>
              </p:nvSpPr>
              <p:spPr>
                <a:xfrm>
                  <a:off x="5151600" y="2639520"/>
                  <a:ext cx="1198440" cy="126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7" name="Group 10"/>
          <p:cNvGrpSpPr/>
          <p:nvPr/>
        </p:nvGrpSpPr>
        <p:grpSpPr>
          <a:xfrm>
            <a:off x="6732720" y="2637000"/>
            <a:ext cx="1379160" cy="1271160"/>
            <a:chOff x="6732720" y="2637000"/>
            <a:chExt cx="1379160" cy="1271160"/>
          </a:xfrm>
        </p:grpSpPr>
        <p:grpSp>
          <p:nvGrpSpPr>
            <p:cNvPr id="618" name="Rectangle 11"/>
            <p:cNvGrpSpPr/>
            <p:nvPr/>
          </p:nvGrpSpPr>
          <p:grpSpPr>
            <a:xfrm>
              <a:off x="6808320" y="2637000"/>
              <a:ext cx="1303560" cy="1234080"/>
              <a:chOff x="6808320" y="2637000"/>
              <a:chExt cx="1303560" cy="1234080"/>
            </a:xfrm>
          </p:grpSpPr>
          <p:pic>
            <p:nvPicPr>
              <p:cNvPr id="619" name="Rectangl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6808320" y="2637000"/>
                <a:ext cx="1303560" cy="123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6815520" y="2640240"/>
                <a:ext cx="1288440" cy="12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1" name="Object 13"/>
                <p:cNvSpPr txBox="1"/>
                <p:nvPr/>
              </p:nvSpPr>
              <p:spPr>
                <a:xfrm>
                  <a:off x="6732720" y="2639880"/>
                  <a:ext cx="13496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Group 10"/>
          <p:cNvGrpSpPr/>
          <p:nvPr/>
        </p:nvGrpSpPr>
        <p:grpSpPr>
          <a:xfrm>
            <a:off x="1692360" y="3933720"/>
            <a:ext cx="1295280" cy="1158840"/>
            <a:chOff x="1692360" y="3933720"/>
            <a:chExt cx="1295280" cy="1158840"/>
          </a:xfrm>
        </p:grpSpPr>
        <p:grpSp>
          <p:nvGrpSpPr>
            <p:cNvPr id="623" name="Rectangle 11"/>
            <p:cNvGrpSpPr/>
            <p:nvPr/>
          </p:nvGrpSpPr>
          <p:grpSpPr>
            <a:xfrm>
              <a:off x="1692360" y="3933720"/>
              <a:ext cx="1295280" cy="1158840"/>
              <a:chOff x="1692360" y="3933720"/>
              <a:chExt cx="1295280" cy="1158840"/>
            </a:xfrm>
          </p:grpSpPr>
          <p:pic>
            <p:nvPicPr>
              <p:cNvPr id="624" name="Rectangl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1692360" y="3933720"/>
                <a:ext cx="1295280" cy="115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>
                <a:off x="1695960" y="3941640"/>
                <a:ext cx="1286280" cy="11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Object 14"/>
                <p:cNvSpPr txBox="1"/>
                <p:nvPr/>
              </p:nvSpPr>
              <p:spPr>
                <a:xfrm>
                  <a:off x="1786680" y="4229640"/>
                  <a:ext cx="1095480" cy="61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7" name="Group 10"/>
          <p:cNvGrpSpPr/>
          <p:nvPr/>
        </p:nvGrpSpPr>
        <p:grpSpPr>
          <a:xfrm>
            <a:off x="3348000" y="3929040"/>
            <a:ext cx="1364760" cy="1155600"/>
            <a:chOff x="3348000" y="3929040"/>
            <a:chExt cx="1364760" cy="1155600"/>
          </a:xfrm>
        </p:grpSpPr>
        <p:grpSp>
          <p:nvGrpSpPr>
            <p:cNvPr id="628" name="Rectangle 11"/>
            <p:cNvGrpSpPr/>
            <p:nvPr/>
          </p:nvGrpSpPr>
          <p:grpSpPr>
            <a:xfrm>
              <a:off x="3348000" y="3929040"/>
              <a:ext cx="1297440" cy="1155600"/>
              <a:chOff x="3348000" y="3929040"/>
              <a:chExt cx="1297440" cy="1155600"/>
            </a:xfrm>
          </p:grpSpPr>
          <p:pic>
            <p:nvPicPr>
              <p:cNvPr id="629" name="Rectangl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48000" y="3929040"/>
                <a:ext cx="1297440" cy="11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3355200" y="3931920"/>
                <a:ext cx="1285560" cy="11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1" name="Object 16"/>
                <p:cNvSpPr txBox="1"/>
                <p:nvPr/>
              </p:nvSpPr>
              <p:spPr>
                <a:xfrm>
                  <a:off x="3355560" y="4150440"/>
                  <a:ext cx="1357200" cy="61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Group 10"/>
          <p:cNvGrpSpPr/>
          <p:nvPr/>
        </p:nvGrpSpPr>
        <p:grpSpPr>
          <a:xfrm>
            <a:off x="4973760" y="3933720"/>
            <a:ext cx="1469520" cy="1227240"/>
            <a:chOff x="4973760" y="3933720"/>
            <a:chExt cx="1469520" cy="1227240"/>
          </a:xfrm>
        </p:grpSpPr>
        <p:grpSp>
          <p:nvGrpSpPr>
            <p:cNvPr id="633" name="Rectangle 11"/>
            <p:cNvGrpSpPr/>
            <p:nvPr/>
          </p:nvGrpSpPr>
          <p:grpSpPr>
            <a:xfrm>
              <a:off x="5101200" y="3933720"/>
              <a:ext cx="1342080" cy="1227240"/>
              <a:chOff x="5101200" y="3933720"/>
              <a:chExt cx="1342080" cy="1227240"/>
            </a:xfrm>
          </p:grpSpPr>
          <p:pic>
            <p:nvPicPr>
              <p:cNvPr id="634" name="Rectangle 11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01200" y="3933720"/>
                <a:ext cx="1342080" cy="12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>
                <a:off x="5108400" y="3941280"/>
                <a:ext cx="1329120" cy="12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6" name="Object 17"/>
                <p:cNvSpPr txBox="1"/>
                <p:nvPr/>
              </p:nvSpPr>
              <p:spPr>
                <a:xfrm>
                  <a:off x="4973760" y="4243320"/>
                  <a:ext cx="132156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7" name="Group 10"/>
          <p:cNvGrpSpPr/>
          <p:nvPr/>
        </p:nvGrpSpPr>
        <p:grpSpPr>
          <a:xfrm>
            <a:off x="6804000" y="3932280"/>
            <a:ext cx="1344240" cy="1227240"/>
            <a:chOff x="6804000" y="3932280"/>
            <a:chExt cx="1344240" cy="1227240"/>
          </a:xfrm>
        </p:grpSpPr>
        <p:grpSp>
          <p:nvGrpSpPr>
            <p:cNvPr id="638" name="Rectangle 11"/>
            <p:cNvGrpSpPr/>
            <p:nvPr/>
          </p:nvGrpSpPr>
          <p:grpSpPr>
            <a:xfrm>
              <a:off x="6804000" y="3932280"/>
              <a:ext cx="1305000" cy="1227240"/>
              <a:chOff x="6804000" y="3932280"/>
              <a:chExt cx="1305000" cy="1227240"/>
            </a:xfrm>
          </p:grpSpPr>
          <p:pic>
            <p:nvPicPr>
              <p:cNvPr id="639" name="Rectangle 11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04000" y="3932280"/>
                <a:ext cx="1305000" cy="12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6810840" y="3938400"/>
                <a:ext cx="128988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1" name="Object 18"/>
                <p:cNvSpPr txBox="1"/>
                <p:nvPr/>
              </p:nvSpPr>
              <p:spPr>
                <a:xfrm>
                  <a:off x="6809760" y="4243320"/>
                  <a:ext cx="133848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2" name="Group 10"/>
          <p:cNvGrpSpPr/>
          <p:nvPr/>
        </p:nvGrpSpPr>
        <p:grpSpPr>
          <a:xfrm>
            <a:off x="1692360" y="5300640"/>
            <a:ext cx="1295280" cy="1203480"/>
            <a:chOff x="1692360" y="5300640"/>
            <a:chExt cx="1295280" cy="1203480"/>
          </a:xfrm>
        </p:grpSpPr>
        <p:grpSp>
          <p:nvGrpSpPr>
            <p:cNvPr id="643" name="Rectangle 11"/>
            <p:cNvGrpSpPr/>
            <p:nvPr/>
          </p:nvGrpSpPr>
          <p:grpSpPr>
            <a:xfrm>
              <a:off x="1692360" y="5300640"/>
              <a:ext cx="1295280" cy="1167840"/>
              <a:chOff x="1692360" y="5300640"/>
              <a:chExt cx="1295280" cy="1167840"/>
            </a:xfrm>
          </p:grpSpPr>
          <p:pic>
            <p:nvPicPr>
              <p:cNvPr id="644" name="Rectangle 11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92360" y="5300640"/>
                <a:ext cx="129528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1695960" y="5303520"/>
                <a:ext cx="1286280" cy="11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6" name="Object 19"/>
                <p:cNvSpPr txBox="1"/>
                <p:nvPr/>
              </p:nvSpPr>
              <p:spPr>
                <a:xfrm>
                  <a:off x="1892160" y="5303520"/>
                  <a:ext cx="885240" cy="12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7" name="Group 10"/>
          <p:cNvGrpSpPr/>
          <p:nvPr/>
        </p:nvGrpSpPr>
        <p:grpSpPr>
          <a:xfrm>
            <a:off x="3348000" y="5229360"/>
            <a:ext cx="1293840" cy="1228320"/>
            <a:chOff x="3348000" y="5229360"/>
            <a:chExt cx="1293840" cy="1228320"/>
          </a:xfrm>
        </p:grpSpPr>
        <p:grpSp>
          <p:nvGrpSpPr>
            <p:cNvPr id="648" name="Rectangle 11"/>
            <p:cNvGrpSpPr/>
            <p:nvPr/>
          </p:nvGrpSpPr>
          <p:grpSpPr>
            <a:xfrm>
              <a:off x="3348000" y="5297040"/>
              <a:ext cx="1293840" cy="1160640"/>
              <a:chOff x="3348000" y="5297040"/>
              <a:chExt cx="1293840" cy="1160640"/>
            </a:xfrm>
          </p:grpSpPr>
          <p:pic>
            <p:nvPicPr>
              <p:cNvPr id="649" name="Rectangle 11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48000" y="5297040"/>
                <a:ext cx="1293840" cy="11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>
                <a:off x="3355200" y="5301000"/>
                <a:ext cx="1283400" cy="11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1" name="Object 20"/>
                <p:cNvSpPr txBox="1"/>
                <p:nvPr/>
              </p:nvSpPr>
              <p:spPr>
                <a:xfrm>
                  <a:off x="3458160" y="5229360"/>
                  <a:ext cx="1007280" cy="119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2" name="Group 10"/>
          <p:cNvGrpSpPr/>
          <p:nvPr/>
        </p:nvGrpSpPr>
        <p:grpSpPr>
          <a:xfrm>
            <a:off x="5059440" y="5300640"/>
            <a:ext cx="1385280" cy="1271160"/>
            <a:chOff x="5059440" y="5300640"/>
            <a:chExt cx="1385280" cy="1271160"/>
          </a:xfrm>
        </p:grpSpPr>
        <p:grpSp>
          <p:nvGrpSpPr>
            <p:cNvPr id="653" name="Rectangle 11"/>
            <p:cNvGrpSpPr/>
            <p:nvPr/>
          </p:nvGrpSpPr>
          <p:grpSpPr>
            <a:xfrm>
              <a:off x="5144400" y="5300640"/>
              <a:ext cx="1300320" cy="1234080"/>
              <a:chOff x="5144400" y="5300640"/>
              <a:chExt cx="1300320" cy="1234080"/>
            </a:xfrm>
          </p:grpSpPr>
          <p:pic>
            <p:nvPicPr>
              <p:cNvPr id="654" name="Rectangle 11" descr=""/>
              <p:cNvPicPr/>
              <p:nvPr/>
            </p:nvPicPr>
            <p:blipFill>
              <a:blip r:embed="rId15"/>
              <a:stretch/>
            </p:blipFill>
            <p:spPr>
              <a:xfrm>
                <a:off x="5144400" y="5300640"/>
                <a:ext cx="1300320" cy="123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5147280" y="5303520"/>
                <a:ext cx="1291320" cy="12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6" name="Object 21"/>
                <p:cNvSpPr txBox="1"/>
                <p:nvPr/>
              </p:nvSpPr>
              <p:spPr>
                <a:xfrm>
                  <a:off x="5059440" y="5303520"/>
                  <a:ext cx="13820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Group 10"/>
          <p:cNvGrpSpPr/>
          <p:nvPr/>
        </p:nvGrpSpPr>
        <p:grpSpPr>
          <a:xfrm>
            <a:off x="6804000" y="5300640"/>
            <a:ext cx="1295280" cy="1228680"/>
            <a:chOff x="6804000" y="5300640"/>
            <a:chExt cx="1295280" cy="1228680"/>
          </a:xfrm>
        </p:grpSpPr>
        <p:grpSp>
          <p:nvGrpSpPr>
            <p:cNvPr id="658" name="Rectangle 11"/>
            <p:cNvGrpSpPr/>
            <p:nvPr/>
          </p:nvGrpSpPr>
          <p:grpSpPr>
            <a:xfrm>
              <a:off x="6804000" y="5300640"/>
              <a:ext cx="1295280" cy="1228680"/>
              <a:chOff x="6804000" y="5300640"/>
              <a:chExt cx="1295280" cy="1228680"/>
            </a:xfrm>
          </p:grpSpPr>
          <p:pic>
            <p:nvPicPr>
              <p:cNvPr id="659" name="Rectangle 11" descr=""/>
              <p:cNvPicPr/>
              <p:nvPr/>
            </p:nvPicPr>
            <p:blipFill>
              <a:blip r:embed="rId16"/>
              <a:stretch/>
            </p:blipFill>
            <p:spPr>
              <a:xfrm>
                <a:off x="6804000" y="5300640"/>
                <a:ext cx="129528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6810840" y="5303520"/>
                <a:ext cx="1280520" cy="12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61" name="Object 22"/>
                <p:cNvSpPr txBox="1"/>
                <p:nvPr/>
              </p:nvSpPr>
              <p:spPr>
                <a:xfrm>
                  <a:off x="6999840" y="5588640"/>
                  <a:ext cx="948600" cy="65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nodeType="clickEffect" fill="hold">
                      <p:stCondLst>
                        <p:cond delay="0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5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7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3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95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3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2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3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4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63" name="Picture 27" descr="02"/>
          <p:cNvPicPr/>
          <p:nvPr/>
        </p:nvPicPr>
        <p:blipFill>
          <a:blip r:embed="rId1"/>
          <a:stretch/>
        </p:blipFill>
        <p:spPr>
          <a:xfrm>
            <a:off x="250920" y="4149720"/>
            <a:ext cx="20746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ectangle 11"/>
          <p:cNvGrpSpPr/>
          <p:nvPr/>
        </p:nvGrpSpPr>
        <p:grpSpPr>
          <a:xfrm>
            <a:off x="676440" y="1695600"/>
            <a:ext cx="1957320" cy="590400"/>
            <a:chOff x="676440" y="1695600"/>
            <a:chExt cx="1957320" cy="590400"/>
          </a:xfrm>
        </p:grpSpPr>
        <p:pic>
          <p:nvPicPr>
            <p:cNvPr id="665" name="Rectangle 11" descr=""/>
            <p:cNvPicPr/>
            <p:nvPr/>
          </p:nvPicPr>
          <p:blipFill>
            <a:blip r:embed="rId2"/>
            <a:stretch/>
          </p:blipFill>
          <p:spPr>
            <a:xfrm>
              <a:off x="676440" y="1695600"/>
              <a:ext cx="19573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684360" y="1700280"/>
              <a:ext cx="194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7" name="Object 12"/>
              <p:cNvSpPr txBox="1"/>
              <p:nvPr/>
            </p:nvSpPr>
            <p:spPr>
              <a:xfrm>
                <a:off x="826920" y="1773360"/>
                <a:ext cx="1646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8" name="Rectangle 11"/>
          <p:cNvGrpSpPr/>
          <p:nvPr/>
        </p:nvGrpSpPr>
        <p:grpSpPr>
          <a:xfrm>
            <a:off x="2693880" y="1695600"/>
            <a:ext cx="1957320" cy="590400"/>
            <a:chOff x="2693880" y="1695600"/>
            <a:chExt cx="1957320" cy="590400"/>
          </a:xfrm>
        </p:grpSpPr>
        <p:pic>
          <p:nvPicPr>
            <p:cNvPr id="669" name="Rectangle 11" descr=""/>
            <p:cNvPicPr/>
            <p:nvPr/>
          </p:nvPicPr>
          <p:blipFill>
            <a:blip r:embed="rId3"/>
            <a:stretch/>
          </p:blipFill>
          <p:spPr>
            <a:xfrm>
              <a:off x="2693880" y="1695600"/>
              <a:ext cx="19573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2700360" y="1700280"/>
              <a:ext cx="194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1" name="Object 8"/>
              <p:cNvSpPr txBox="1"/>
              <p:nvPr/>
            </p:nvSpPr>
            <p:spPr>
              <a:xfrm>
                <a:off x="2700360" y="1628640"/>
                <a:ext cx="2066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9"/>
              <p:cNvSpPr txBox="1"/>
              <p:nvPr/>
            </p:nvSpPr>
            <p:spPr>
              <a:xfrm>
                <a:off x="7164360" y="1628640"/>
                <a:ext cx="10810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3" name="Rectangle 11"/>
          <p:cNvGrpSpPr/>
          <p:nvPr/>
        </p:nvGrpSpPr>
        <p:grpSpPr>
          <a:xfrm>
            <a:off x="6724800" y="1695600"/>
            <a:ext cx="1955520" cy="590400"/>
            <a:chOff x="6724800" y="1695600"/>
            <a:chExt cx="1955520" cy="590400"/>
          </a:xfrm>
        </p:grpSpPr>
        <p:pic>
          <p:nvPicPr>
            <p:cNvPr id="674" name="Rectangle 11" descr=""/>
            <p:cNvPicPr/>
            <p:nvPr/>
          </p:nvPicPr>
          <p:blipFill>
            <a:blip r:embed="rId4"/>
            <a:stretch/>
          </p:blipFill>
          <p:spPr>
            <a:xfrm>
              <a:off x="6724800" y="1695600"/>
              <a:ext cx="19555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6732720" y="1700280"/>
              <a:ext cx="194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0"/>
          <p:cNvGrpSpPr/>
          <p:nvPr/>
        </p:nvGrpSpPr>
        <p:grpSpPr>
          <a:xfrm>
            <a:off x="4738680" y="1628640"/>
            <a:ext cx="2033280" cy="720720"/>
            <a:chOff x="4738680" y="1628640"/>
            <a:chExt cx="2033280" cy="720720"/>
          </a:xfrm>
        </p:grpSpPr>
        <p:grpSp>
          <p:nvGrpSpPr>
            <p:cNvPr id="677" name="Rectangle 11"/>
            <p:cNvGrpSpPr/>
            <p:nvPr/>
          </p:nvGrpSpPr>
          <p:grpSpPr>
            <a:xfrm>
              <a:off x="4833360" y="1628640"/>
              <a:ext cx="1823400" cy="720720"/>
              <a:chOff x="4833360" y="1628640"/>
              <a:chExt cx="1823400" cy="720720"/>
            </a:xfrm>
          </p:grpSpPr>
          <p:pic>
            <p:nvPicPr>
              <p:cNvPr id="678" name="Rectangl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833360" y="1628640"/>
                <a:ext cx="18234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4841640" y="1635480"/>
                <a:ext cx="180648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80" name="Object 5"/>
                <p:cNvSpPr txBox="1"/>
                <p:nvPr/>
              </p:nvSpPr>
              <p:spPr>
                <a:xfrm>
                  <a:off x="4738680" y="1680840"/>
                  <a:ext cx="20332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1" name="Group 10"/>
          <p:cNvGrpSpPr/>
          <p:nvPr/>
        </p:nvGrpSpPr>
        <p:grpSpPr>
          <a:xfrm>
            <a:off x="684360" y="2349360"/>
            <a:ext cx="1928160" cy="719280"/>
            <a:chOff x="684360" y="2349360"/>
            <a:chExt cx="1928160" cy="719280"/>
          </a:xfrm>
        </p:grpSpPr>
        <p:grpSp>
          <p:nvGrpSpPr>
            <p:cNvPr id="682" name="Rectangle 11"/>
            <p:cNvGrpSpPr/>
            <p:nvPr/>
          </p:nvGrpSpPr>
          <p:grpSpPr>
            <a:xfrm>
              <a:off x="684360" y="2349360"/>
              <a:ext cx="1771920" cy="719280"/>
              <a:chOff x="684360" y="2349360"/>
              <a:chExt cx="1771920" cy="719280"/>
            </a:xfrm>
          </p:grpSpPr>
          <p:pic>
            <p:nvPicPr>
              <p:cNvPr id="683" name="Rectangl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2349360"/>
                <a:ext cx="177192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691560" y="2357640"/>
                <a:ext cx="1756080" cy="70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85" name="Object 2"/>
                <p:cNvSpPr txBox="1"/>
                <p:nvPr/>
              </p:nvSpPr>
              <p:spPr>
                <a:xfrm>
                  <a:off x="738360" y="2502360"/>
                  <a:ext cx="18741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8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x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6" name="Group 10"/>
          <p:cNvGrpSpPr/>
          <p:nvPr/>
        </p:nvGrpSpPr>
        <p:grpSpPr>
          <a:xfrm>
            <a:off x="2627280" y="2421000"/>
            <a:ext cx="2376000" cy="574560"/>
            <a:chOff x="2627280" y="2421000"/>
            <a:chExt cx="2376000" cy="574560"/>
          </a:xfrm>
        </p:grpSpPr>
        <p:grpSp>
          <p:nvGrpSpPr>
            <p:cNvPr id="687" name="Rectangle 11"/>
            <p:cNvGrpSpPr/>
            <p:nvPr/>
          </p:nvGrpSpPr>
          <p:grpSpPr>
            <a:xfrm>
              <a:off x="2693520" y="2421000"/>
              <a:ext cx="2309760" cy="574560"/>
              <a:chOff x="2693520" y="2421000"/>
              <a:chExt cx="2309760" cy="574560"/>
            </a:xfrm>
          </p:grpSpPr>
          <p:pic>
            <p:nvPicPr>
              <p:cNvPr id="688" name="Rectangle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2693520" y="2421000"/>
                <a:ext cx="230976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"/>
              <p:cNvSpPr/>
              <p:nvPr/>
            </p:nvSpPr>
            <p:spPr>
              <a:xfrm>
                <a:off x="2698200" y="2427480"/>
                <a:ext cx="2297880" cy="56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0" name="Object 25"/>
                <p:cNvSpPr txBox="1"/>
                <p:nvPr/>
              </p:nvSpPr>
              <p:spPr>
                <a:xfrm>
                  <a:off x="2627280" y="2427840"/>
                  <a:ext cx="2341080" cy="49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1" name="Group 10"/>
          <p:cNvGrpSpPr/>
          <p:nvPr/>
        </p:nvGrpSpPr>
        <p:grpSpPr>
          <a:xfrm>
            <a:off x="5075280" y="2421000"/>
            <a:ext cx="1526760" cy="576360"/>
            <a:chOff x="5075280" y="2421000"/>
            <a:chExt cx="1526760" cy="576360"/>
          </a:xfrm>
        </p:grpSpPr>
        <p:grpSp>
          <p:nvGrpSpPr>
            <p:cNvPr id="692" name="Rectangle 11"/>
            <p:cNvGrpSpPr/>
            <p:nvPr/>
          </p:nvGrpSpPr>
          <p:grpSpPr>
            <a:xfrm>
              <a:off x="5075280" y="2421000"/>
              <a:ext cx="1447920" cy="576360"/>
              <a:chOff x="5075280" y="2421000"/>
              <a:chExt cx="1447920" cy="576360"/>
            </a:xfrm>
          </p:grpSpPr>
          <p:pic>
            <p:nvPicPr>
              <p:cNvPr id="693" name="Rectangl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075280" y="2421000"/>
                <a:ext cx="14479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078520" y="2427480"/>
                <a:ext cx="143712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5" name="Object 26"/>
                <p:cNvSpPr txBox="1"/>
                <p:nvPr/>
              </p:nvSpPr>
              <p:spPr>
                <a:xfrm>
                  <a:off x="5151240" y="2498040"/>
                  <a:ext cx="1450800" cy="42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орней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не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6" name="Group 10"/>
          <p:cNvGrpSpPr/>
          <p:nvPr/>
        </p:nvGrpSpPr>
        <p:grpSpPr>
          <a:xfrm>
            <a:off x="6732720" y="2389320"/>
            <a:ext cx="1295280" cy="607680"/>
            <a:chOff x="6732720" y="2389320"/>
            <a:chExt cx="1295280" cy="607680"/>
          </a:xfrm>
        </p:grpSpPr>
        <p:grpSp>
          <p:nvGrpSpPr>
            <p:cNvPr id="697" name="Rectangle 11"/>
            <p:cNvGrpSpPr/>
            <p:nvPr/>
          </p:nvGrpSpPr>
          <p:grpSpPr>
            <a:xfrm>
              <a:off x="6732720" y="2413440"/>
              <a:ext cx="1295280" cy="583560"/>
              <a:chOff x="6732720" y="2413440"/>
              <a:chExt cx="1295280" cy="583560"/>
            </a:xfrm>
          </p:grpSpPr>
          <p:pic>
            <p:nvPicPr>
              <p:cNvPr id="698" name="Rectangl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32720" y="2413440"/>
                <a:ext cx="1295280" cy="58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741000" y="2419920"/>
                <a:ext cx="1280520" cy="56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00" name="Object 27"/>
                <p:cNvSpPr txBox="1"/>
                <p:nvPr/>
              </p:nvSpPr>
              <p:spPr>
                <a:xfrm>
                  <a:off x="6875640" y="2389320"/>
                  <a:ext cx="1003320" cy="59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1" name="Group 10"/>
          <p:cNvGrpSpPr/>
          <p:nvPr/>
        </p:nvGrpSpPr>
        <p:grpSpPr>
          <a:xfrm>
            <a:off x="539640" y="3141720"/>
            <a:ext cx="2016000" cy="358560"/>
            <a:chOff x="539640" y="3141720"/>
            <a:chExt cx="2016000" cy="358560"/>
          </a:xfrm>
        </p:grpSpPr>
        <p:grpSp>
          <p:nvGrpSpPr>
            <p:cNvPr id="702" name="Rectangle 11"/>
            <p:cNvGrpSpPr/>
            <p:nvPr/>
          </p:nvGrpSpPr>
          <p:grpSpPr>
            <a:xfrm>
              <a:off x="621000" y="3141720"/>
              <a:ext cx="1934640" cy="358560"/>
              <a:chOff x="621000" y="3141720"/>
              <a:chExt cx="1934640" cy="358560"/>
            </a:xfrm>
          </p:grpSpPr>
          <p:pic>
            <p:nvPicPr>
              <p:cNvPr id="703" name="Rectangl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1000" y="3141720"/>
                <a:ext cx="193464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>
                <a:off x="624960" y="3149640"/>
                <a:ext cx="19260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05" name="Object 28"/>
                <p:cNvSpPr txBox="1"/>
                <p:nvPr/>
              </p:nvSpPr>
              <p:spPr>
                <a:xfrm>
                  <a:off x="539640" y="3149640"/>
                  <a:ext cx="201132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6" name="Group 10"/>
          <p:cNvGrpSpPr/>
          <p:nvPr/>
        </p:nvGrpSpPr>
        <p:grpSpPr>
          <a:xfrm>
            <a:off x="2700360" y="3067200"/>
            <a:ext cx="1295280" cy="433080"/>
            <a:chOff x="2700360" y="3067200"/>
            <a:chExt cx="1295280" cy="433080"/>
          </a:xfrm>
        </p:grpSpPr>
        <p:grpSp>
          <p:nvGrpSpPr>
            <p:cNvPr id="707" name="Rectangle 11"/>
            <p:cNvGrpSpPr/>
            <p:nvPr/>
          </p:nvGrpSpPr>
          <p:grpSpPr>
            <a:xfrm>
              <a:off x="2700360" y="3067200"/>
              <a:ext cx="1295280" cy="426240"/>
              <a:chOff x="2700360" y="3067200"/>
              <a:chExt cx="1295280" cy="426240"/>
            </a:xfrm>
          </p:grpSpPr>
          <p:pic>
            <p:nvPicPr>
              <p:cNvPr id="708" name="Rectangle 1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00360" y="3067200"/>
                <a:ext cx="1295280" cy="42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"/>
              <p:cNvSpPr/>
              <p:nvPr/>
            </p:nvSpPr>
            <p:spPr>
              <a:xfrm>
                <a:off x="2706120" y="3075120"/>
                <a:ext cx="12862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10" name="Object 29"/>
                <p:cNvSpPr txBox="1"/>
                <p:nvPr/>
              </p:nvSpPr>
              <p:spPr>
                <a:xfrm>
                  <a:off x="2721960" y="3073680"/>
                  <a:ext cx="1260360" cy="42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7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1" name="Group 10"/>
          <p:cNvGrpSpPr/>
          <p:nvPr/>
        </p:nvGrpSpPr>
        <p:grpSpPr>
          <a:xfrm>
            <a:off x="4211640" y="3068640"/>
            <a:ext cx="1295280" cy="431640"/>
            <a:chOff x="4211640" y="3068640"/>
            <a:chExt cx="1295280" cy="431640"/>
          </a:xfrm>
        </p:grpSpPr>
        <p:grpSp>
          <p:nvGrpSpPr>
            <p:cNvPr id="712" name="Rectangle 11"/>
            <p:cNvGrpSpPr/>
            <p:nvPr/>
          </p:nvGrpSpPr>
          <p:grpSpPr>
            <a:xfrm>
              <a:off x="4211640" y="3068640"/>
              <a:ext cx="1295280" cy="431640"/>
              <a:chOff x="4211640" y="3068640"/>
              <a:chExt cx="1295280" cy="431640"/>
            </a:xfrm>
          </p:grpSpPr>
          <p:pic>
            <p:nvPicPr>
              <p:cNvPr id="713" name="Rectangle 1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11640" y="3068640"/>
                <a:ext cx="12952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"/>
              <p:cNvSpPr/>
              <p:nvPr/>
            </p:nvSpPr>
            <p:spPr>
              <a:xfrm>
                <a:off x="4216680" y="3076560"/>
                <a:ext cx="128628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15" name="Object 30"/>
                <p:cNvSpPr txBox="1"/>
                <p:nvPr/>
              </p:nvSpPr>
              <p:spPr>
                <a:xfrm>
                  <a:off x="4455720" y="3158640"/>
                  <a:ext cx="79848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Group 10"/>
          <p:cNvGrpSpPr/>
          <p:nvPr/>
        </p:nvGrpSpPr>
        <p:grpSpPr>
          <a:xfrm>
            <a:off x="5940360" y="3040200"/>
            <a:ext cx="1295640" cy="533160"/>
            <a:chOff x="5940360" y="3040200"/>
            <a:chExt cx="1295640" cy="533160"/>
          </a:xfrm>
        </p:grpSpPr>
        <p:grpSp>
          <p:nvGrpSpPr>
            <p:cNvPr id="717" name="Rectangle 11"/>
            <p:cNvGrpSpPr/>
            <p:nvPr/>
          </p:nvGrpSpPr>
          <p:grpSpPr>
            <a:xfrm>
              <a:off x="5940360" y="3060360"/>
              <a:ext cx="1295640" cy="513000"/>
              <a:chOff x="5940360" y="3060360"/>
              <a:chExt cx="1295640" cy="513000"/>
            </a:xfrm>
          </p:grpSpPr>
          <p:pic>
            <p:nvPicPr>
              <p:cNvPr id="718" name="Rectangle 11" descr=""/>
              <p:cNvPicPr/>
              <p:nvPr/>
            </p:nvPicPr>
            <p:blipFill>
              <a:blip r:embed="rId13"/>
              <a:stretch/>
            </p:blipFill>
            <p:spPr>
              <a:xfrm>
                <a:off x="5940360" y="3060360"/>
                <a:ext cx="1295640" cy="51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" name=""/>
              <p:cNvSpPr/>
              <p:nvPr/>
            </p:nvSpPr>
            <p:spPr>
              <a:xfrm>
                <a:off x="5949000" y="3069000"/>
                <a:ext cx="128088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20" name="Object 31"/>
                <p:cNvSpPr txBox="1"/>
                <p:nvPr/>
              </p:nvSpPr>
              <p:spPr>
                <a:xfrm>
                  <a:off x="6084720" y="3040200"/>
                  <a:ext cx="10036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1" name="Group 10"/>
          <p:cNvGrpSpPr/>
          <p:nvPr/>
        </p:nvGrpSpPr>
        <p:grpSpPr>
          <a:xfrm>
            <a:off x="1908000" y="3716280"/>
            <a:ext cx="2374920" cy="592200"/>
            <a:chOff x="1908000" y="3716280"/>
            <a:chExt cx="2374920" cy="592200"/>
          </a:xfrm>
        </p:grpSpPr>
        <p:grpSp>
          <p:nvGrpSpPr>
            <p:cNvPr id="722" name="Rectangle 11"/>
            <p:cNvGrpSpPr/>
            <p:nvPr/>
          </p:nvGrpSpPr>
          <p:grpSpPr>
            <a:xfrm>
              <a:off x="2042280" y="3716280"/>
              <a:ext cx="2139120" cy="592200"/>
              <a:chOff x="2042280" y="3716280"/>
              <a:chExt cx="2139120" cy="592200"/>
            </a:xfrm>
          </p:grpSpPr>
          <p:pic>
            <p:nvPicPr>
              <p:cNvPr id="723" name="Rectangle 11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42280" y="3716280"/>
                <a:ext cx="2139120" cy="5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4" name=""/>
              <p:cNvSpPr/>
              <p:nvPr/>
            </p:nvSpPr>
            <p:spPr>
              <a:xfrm>
                <a:off x="2048760" y="3719880"/>
                <a:ext cx="2126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25" name="Object 32"/>
                <p:cNvSpPr txBox="1"/>
                <p:nvPr/>
              </p:nvSpPr>
              <p:spPr>
                <a:xfrm>
                  <a:off x="1908000" y="3790080"/>
                  <a:ext cx="2374920" cy="31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yx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6" name="Group 10"/>
          <p:cNvGrpSpPr/>
          <p:nvPr/>
        </p:nvGrpSpPr>
        <p:grpSpPr>
          <a:xfrm>
            <a:off x="4211640" y="3716280"/>
            <a:ext cx="1368000" cy="576360"/>
            <a:chOff x="4211640" y="3716280"/>
            <a:chExt cx="1368000" cy="576360"/>
          </a:xfrm>
        </p:grpSpPr>
        <p:grpSp>
          <p:nvGrpSpPr>
            <p:cNvPr id="727" name="Rectangle 11"/>
            <p:cNvGrpSpPr/>
            <p:nvPr/>
          </p:nvGrpSpPr>
          <p:grpSpPr>
            <a:xfrm>
              <a:off x="4211640" y="3716280"/>
              <a:ext cx="1299960" cy="576360"/>
              <a:chOff x="4211640" y="3716280"/>
              <a:chExt cx="1299960" cy="576360"/>
            </a:xfrm>
          </p:grpSpPr>
          <p:pic>
            <p:nvPicPr>
              <p:cNvPr id="728" name="Rectangle 11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11640" y="3716280"/>
                <a:ext cx="129996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216680" y="3719880"/>
                <a:ext cx="1290960" cy="5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0" name="Object 33"/>
                <p:cNvSpPr txBox="1"/>
                <p:nvPr/>
              </p:nvSpPr>
              <p:spPr>
                <a:xfrm>
                  <a:off x="4215960" y="3719520"/>
                  <a:ext cx="1363680" cy="51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1" name="Group 10"/>
          <p:cNvGrpSpPr/>
          <p:nvPr/>
        </p:nvGrpSpPr>
        <p:grpSpPr>
          <a:xfrm>
            <a:off x="5651640" y="3789360"/>
            <a:ext cx="1350360" cy="504720"/>
            <a:chOff x="5651640" y="3789360"/>
            <a:chExt cx="1350360" cy="504720"/>
          </a:xfrm>
        </p:grpSpPr>
        <p:grpSp>
          <p:nvGrpSpPr>
            <p:cNvPr id="732" name="Rectangle 11"/>
            <p:cNvGrpSpPr/>
            <p:nvPr/>
          </p:nvGrpSpPr>
          <p:grpSpPr>
            <a:xfrm>
              <a:off x="5699160" y="3789360"/>
              <a:ext cx="1302840" cy="504720"/>
              <a:chOff x="5699160" y="3789360"/>
              <a:chExt cx="1302840" cy="504720"/>
            </a:xfrm>
          </p:grpSpPr>
          <p:pic>
            <p:nvPicPr>
              <p:cNvPr id="733" name="Rectangle 11" descr=""/>
              <p:cNvPicPr/>
              <p:nvPr/>
            </p:nvPicPr>
            <p:blipFill>
              <a:blip r:embed="rId16"/>
              <a:stretch/>
            </p:blipFill>
            <p:spPr>
              <a:xfrm>
                <a:off x="5699160" y="3789360"/>
                <a:ext cx="1302840" cy="50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4" name=""/>
              <p:cNvSpPr/>
              <p:nvPr/>
            </p:nvSpPr>
            <p:spPr>
              <a:xfrm>
                <a:off x="5706360" y="3792960"/>
                <a:ext cx="1287720" cy="4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5" name="Object 34"/>
                <p:cNvSpPr txBox="1"/>
                <p:nvPr/>
              </p:nvSpPr>
              <p:spPr>
                <a:xfrm>
                  <a:off x="5651640" y="3863520"/>
                  <a:ext cx="1262160" cy="26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6" name="Group 10"/>
          <p:cNvGrpSpPr/>
          <p:nvPr/>
        </p:nvGrpSpPr>
        <p:grpSpPr>
          <a:xfrm>
            <a:off x="7164360" y="3716280"/>
            <a:ext cx="1722240" cy="649440"/>
            <a:chOff x="7164360" y="3716280"/>
            <a:chExt cx="1722240" cy="649440"/>
          </a:xfrm>
        </p:grpSpPr>
        <p:grpSp>
          <p:nvGrpSpPr>
            <p:cNvPr id="737" name="Rectangle 11"/>
            <p:cNvGrpSpPr/>
            <p:nvPr/>
          </p:nvGrpSpPr>
          <p:grpSpPr>
            <a:xfrm>
              <a:off x="7229520" y="3716280"/>
              <a:ext cx="1596960" cy="649440"/>
              <a:chOff x="7229520" y="3716280"/>
              <a:chExt cx="1596960" cy="649440"/>
            </a:xfrm>
          </p:grpSpPr>
          <p:pic>
            <p:nvPicPr>
              <p:cNvPr id="738" name="Rectangle 11" descr=""/>
              <p:cNvPicPr/>
              <p:nvPr/>
            </p:nvPicPr>
            <p:blipFill>
              <a:blip r:embed="rId17"/>
              <a:stretch/>
            </p:blipFill>
            <p:spPr>
              <a:xfrm>
                <a:off x="7229520" y="3716280"/>
                <a:ext cx="1596960" cy="64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>
                <a:off x="7235280" y="3719880"/>
                <a:ext cx="158436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35"/>
                <p:cNvSpPr txBox="1"/>
                <p:nvPr/>
              </p:nvSpPr>
              <p:spPr>
                <a:xfrm>
                  <a:off x="7164360" y="3791520"/>
                  <a:ext cx="1722240" cy="53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nodeType="clickEffect" fill="hold">
                      <p:stCondLst>
                        <p:cond delay="0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5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5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65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9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7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5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7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1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8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7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8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3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9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9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0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5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0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1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1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19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2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ойства 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вадратного корн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319040" y="1689120"/>
                <a:ext cx="5716800" cy="45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den>
                        </m:f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4" name="Picture 17" descr="02"/>
          <p:cNvPicPr/>
          <p:nvPr/>
        </p:nvPicPr>
        <p:blipFill>
          <a:blip r:embed="rId1"/>
          <a:stretch/>
        </p:blipFill>
        <p:spPr>
          <a:xfrm>
            <a:off x="6443640" y="4078440"/>
            <a:ext cx="22464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4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положите в поряд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зраст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7"/>
          <p:cNvGrpSpPr/>
          <p:nvPr/>
        </p:nvGrpSpPr>
        <p:grpSpPr>
          <a:xfrm>
            <a:off x="1515960" y="1523880"/>
            <a:ext cx="5641920" cy="808200"/>
            <a:chOff x="1515960" y="1523880"/>
            <a:chExt cx="5641920" cy="808200"/>
          </a:xfrm>
        </p:grpSpPr>
        <p:sp>
          <p:nvSpPr>
            <p:cNvPr id="79" name="Rectangle 8"/>
            <p:cNvSpPr/>
            <p:nvPr/>
          </p:nvSpPr>
          <p:spPr>
            <a:xfrm>
              <a:off x="3184560" y="163008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Object 9"/>
                <p:cNvSpPr txBox="1"/>
                <p:nvPr/>
              </p:nvSpPr>
              <p:spPr>
                <a:xfrm>
                  <a:off x="1515960" y="1523880"/>
                  <a:ext cx="56419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п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р</m:t>
                      </m:r>
                      <m:r>
                        <m:t xml:space="preserve">=</m:t>
                      </m:r>
                      <m:r>
                        <m:t xml:space="preserve">4,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Group 26"/>
          <p:cNvGrpSpPr/>
          <p:nvPr/>
        </p:nvGrpSpPr>
        <p:grpSpPr>
          <a:xfrm>
            <a:off x="1332000" y="2708280"/>
            <a:ext cx="1863720" cy="729720"/>
            <a:chOff x="1332000" y="2708280"/>
            <a:chExt cx="1863720" cy="729720"/>
          </a:xfrm>
        </p:grpSpPr>
        <p:grpSp>
          <p:nvGrpSpPr>
            <p:cNvPr id="82" name="Rectangle 11"/>
            <p:cNvGrpSpPr/>
            <p:nvPr/>
          </p:nvGrpSpPr>
          <p:grpSpPr>
            <a:xfrm>
              <a:off x="1395360" y="2708280"/>
              <a:ext cx="1743120" cy="657720"/>
              <a:chOff x="1395360" y="2708280"/>
              <a:chExt cx="1743120" cy="657720"/>
            </a:xfrm>
          </p:grpSpPr>
          <p:pic>
            <p:nvPicPr>
              <p:cNvPr id="83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395360" y="2708280"/>
                <a:ext cx="174312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402560" y="2715840"/>
                <a:ext cx="172692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5" name="Object 12"/>
                <p:cNvSpPr txBox="1"/>
                <p:nvPr/>
              </p:nvSpPr>
              <p:spPr>
                <a:xfrm>
                  <a:off x="1332000" y="2755080"/>
                  <a:ext cx="186372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п</m:t>
                      </m:r>
                      <m:r>
                        <m:t xml:space="preserve">,</m:t>
                      </m:r>
                      <m:r>
                        <m:t xml:space="preserve">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" name="AutoShape 24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7"/>
          <p:cNvGrpSpPr/>
          <p:nvPr/>
        </p:nvGrpSpPr>
        <p:grpSpPr>
          <a:xfrm>
            <a:off x="3184560" y="3429000"/>
            <a:ext cx="1905120" cy="729720"/>
            <a:chOff x="3184560" y="3429000"/>
            <a:chExt cx="1905120" cy="729720"/>
          </a:xfrm>
        </p:grpSpPr>
        <p:grpSp>
          <p:nvGrpSpPr>
            <p:cNvPr id="89" name="Rectangle 28"/>
            <p:cNvGrpSpPr/>
            <p:nvPr/>
          </p:nvGrpSpPr>
          <p:grpSpPr>
            <a:xfrm>
              <a:off x="3273480" y="3429000"/>
              <a:ext cx="1736640" cy="655560"/>
              <a:chOff x="3273480" y="3429000"/>
              <a:chExt cx="1736640" cy="655560"/>
            </a:xfrm>
          </p:grpSpPr>
          <p:pic>
            <p:nvPicPr>
              <p:cNvPr id="90" name="Rectangle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3480" y="3429000"/>
                <a:ext cx="1736640" cy="65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3276360" y="3431880"/>
                <a:ext cx="172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2" name="Object 29"/>
                <p:cNvSpPr txBox="1"/>
                <p:nvPr/>
              </p:nvSpPr>
              <p:spPr>
                <a:xfrm>
                  <a:off x="3184560" y="3470040"/>
                  <a:ext cx="1905120" cy="68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п</m:t>
                      </m:r>
                      <m:r>
                        <m:t xml:space="preserve">,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" name="Group 30"/>
          <p:cNvGrpSpPr/>
          <p:nvPr/>
        </p:nvGrpSpPr>
        <p:grpSpPr>
          <a:xfrm>
            <a:off x="5056200" y="4149720"/>
            <a:ext cx="1905120" cy="729720"/>
            <a:chOff x="5056200" y="4149720"/>
            <a:chExt cx="1905120" cy="729720"/>
          </a:xfrm>
        </p:grpSpPr>
        <p:grpSp>
          <p:nvGrpSpPr>
            <p:cNvPr id="94" name="Rectangle 31"/>
            <p:cNvGrpSpPr/>
            <p:nvPr/>
          </p:nvGrpSpPr>
          <p:grpSpPr>
            <a:xfrm>
              <a:off x="5145120" y="4149720"/>
              <a:ext cx="1736640" cy="654480"/>
              <a:chOff x="5145120" y="4149720"/>
              <a:chExt cx="1736640" cy="654480"/>
            </a:xfrm>
          </p:grpSpPr>
          <p:pic>
            <p:nvPicPr>
              <p:cNvPr id="95" name="Rectangl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5120" y="4149720"/>
                <a:ext cx="173664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5148000" y="4154040"/>
                <a:ext cx="172656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7" name="Object 32"/>
                <p:cNvSpPr txBox="1"/>
                <p:nvPr/>
              </p:nvSpPr>
              <p:spPr>
                <a:xfrm>
                  <a:off x="5056200" y="4192560"/>
                  <a:ext cx="1905120" cy="68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t xml:space="preserve">п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Group 33"/>
          <p:cNvGrpSpPr/>
          <p:nvPr/>
        </p:nvGrpSpPr>
        <p:grpSpPr>
          <a:xfrm>
            <a:off x="6926400" y="4869000"/>
            <a:ext cx="1906560" cy="729720"/>
            <a:chOff x="6926400" y="4869000"/>
            <a:chExt cx="1906560" cy="729720"/>
          </a:xfrm>
        </p:grpSpPr>
        <p:grpSp>
          <p:nvGrpSpPr>
            <p:cNvPr id="99" name="Rectangle 34"/>
            <p:cNvGrpSpPr/>
            <p:nvPr/>
          </p:nvGrpSpPr>
          <p:grpSpPr>
            <a:xfrm>
              <a:off x="7016760" y="4869000"/>
              <a:ext cx="1736640" cy="654480"/>
              <a:chOff x="7016760" y="4869000"/>
              <a:chExt cx="1736640" cy="654480"/>
            </a:xfrm>
          </p:grpSpPr>
          <p:pic>
            <p:nvPicPr>
              <p:cNvPr id="100" name="Rectangl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6760" y="4869000"/>
                <a:ext cx="173664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7020000" y="4872960"/>
                <a:ext cx="172656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35"/>
                <p:cNvSpPr txBox="1"/>
                <p:nvPr/>
              </p:nvSpPr>
              <p:spPr>
                <a:xfrm>
                  <a:off x="6926400" y="4913280"/>
                  <a:ext cx="190656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п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положите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быв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5"/>
          <p:cNvGrpSpPr/>
          <p:nvPr/>
        </p:nvGrpSpPr>
        <p:grpSpPr>
          <a:xfrm>
            <a:off x="1692360" y="1268280"/>
            <a:ext cx="5508720" cy="808200"/>
            <a:chOff x="1692360" y="1268280"/>
            <a:chExt cx="5508720" cy="808200"/>
          </a:xfrm>
        </p:grpSpPr>
        <p:sp>
          <p:nvSpPr>
            <p:cNvPr id="107" name="Rectangle 6"/>
            <p:cNvSpPr/>
            <p:nvPr/>
          </p:nvSpPr>
          <p:spPr>
            <a:xfrm>
              <a:off x="3295800" y="1374480"/>
              <a:ext cx="2403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7"/>
                <p:cNvSpPr txBox="1"/>
                <p:nvPr/>
              </p:nvSpPr>
              <p:spPr>
                <a:xfrm>
                  <a:off x="1692360" y="1268280"/>
                  <a:ext cx="55087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3,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212400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"/>
          <p:cNvGrpSpPr/>
          <p:nvPr/>
        </p:nvGrpSpPr>
        <p:grpSpPr>
          <a:xfrm>
            <a:off x="1403280" y="2708280"/>
            <a:ext cx="1727280" cy="729720"/>
            <a:chOff x="1403280" y="2708280"/>
            <a:chExt cx="1727280" cy="729720"/>
          </a:xfrm>
        </p:grpSpPr>
        <p:grpSp>
          <p:nvGrpSpPr>
            <p:cNvPr id="112" name="Rectangle 35"/>
            <p:cNvGrpSpPr/>
            <p:nvPr/>
          </p:nvGrpSpPr>
          <p:grpSpPr>
            <a:xfrm>
              <a:off x="1403280" y="2708280"/>
              <a:ext cx="1727280" cy="657720"/>
              <a:chOff x="1403280" y="2708280"/>
              <a:chExt cx="1727280" cy="657720"/>
            </a:xfrm>
          </p:grpSpPr>
          <p:pic>
            <p:nvPicPr>
              <p:cNvPr id="113" name="Rect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3280" y="2708280"/>
                <a:ext cx="17272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1410480" y="2715840"/>
                <a:ext cx="171144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5" name="Object 36"/>
                <p:cNvSpPr txBox="1"/>
                <p:nvPr/>
              </p:nvSpPr>
              <p:spPr>
                <a:xfrm>
                  <a:off x="1443960" y="2755080"/>
                  <a:ext cx="16372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Group 37"/>
          <p:cNvGrpSpPr/>
          <p:nvPr/>
        </p:nvGrpSpPr>
        <p:grpSpPr>
          <a:xfrm>
            <a:off x="3276720" y="3429000"/>
            <a:ext cx="1726920" cy="729720"/>
            <a:chOff x="3276720" y="3429000"/>
            <a:chExt cx="1726920" cy="729720"/>
          </a:xfrm>
        </p:grpSpPr>
        <p:grpSp>
          <p:nvGrpSpPr>
            <p:cNvPr id="117" name="Rectangle 38"/>
            <p:cNvGrpSpPr/>
            <p:nvPr/>
          </p:nvGrpSpPr>
          <p:grpSpPr>
            <a:xfrm>
              <a:off x="3276720" y="3429000"/>
              <a:ext cx="1726920" cy="655560"/>
              <a:chOff x="3276720" y="3429000"/>
              <a:chExt cx="1726920" cy="655560"/>
            </a:xfrm>
          </p:grpSpPr>
          <p:pic>
            <p:nvPicPr>
              <p:cNvPr id="118" name="Rectangle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3429000"/>
                <a:ext cx="1726920" cy="65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9600" y="3431880"/>
                <a:ext cx="171684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0" name="Object 39"/>
                <p:cNvSpPr txBox="1"/>
                <p:nvPr/>
              </p:nvSpPr>
              <p:spPr>
                <a:xfrm>
                  <a:off x="3292200" y="3470040"/>
                  <a:ext cx="1682640" cy="68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" name="Group 40"/>
          <p:cNvGrpSpPr/>
          <p:nvPr/>
        </p:nvGrpSpPr>
        <p:grpSpPr>
          <a:xfrm>
            <a:off x="5148360" y="4149720"/>
            <a:ext cx="1727280" cy="729720"/>
            <a:chOff x="5148360" y="4149720"/>
            <a:chExt cx="1727280" cy="729720"/>
          </a:xfrm>
        </p:grpSpPr>
        <p:grpSp>
          <p:nvGrpSpPr>
            <p:cNvPr id="122" name="Rectangle 41"/>
            <p:cNvGrpSpPr/>
            <p:nvPr/>
          </p:nvGrpSpPr>
          <p:grpSpPr>
            <a:xfrm>
              <a:off x="5148360" y="4149720"/>
              <a:ext cx="1727280" cy="654480"/>
              <a:chOff x="5148360" y="4149720"/>
              <a:chExt cx="1727280" cy="654480"/>
            </a:xfrm>
          </p:grpSpPr>
          <p:pic>
            <p:nvPicPr>
              <p:cNvPr id="123" name="Rectangle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8360" y="4149720"/>
                <a:ext cx="172728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151240" y="4154040"/>
                <a:ext cx="171720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5" name="Object 42"/>
                <p:cNvSpPr txBox="1"/>
                <p:nvPr/>
              </p:nvSpPr>
              <p:spPr>
                <a:xfrm>
                  <a:off x="5163840" y="4192560"/>
                  <a:ext cx="1684440" cy="68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43"/>
          <p:cNvGrpSpPr/>
          <p:nvPr/>
        </p:nvGrpSpPr>
        <p:grpSpPr>
          <a:xfrm>
            <a:off x="7020000" y="4869000"/>
            <a:ext cx="1727280" cy="729720"/>
            <a:chOff x="7020000" y="4869000"/>
            <a:chExt cx="1727280" cy="729720"/>
          </a:xfrm>
        </p:grpSpPr>
        <p:grpSp>
          <p:nvGrpSpPr>
            <p:cNvPr id="127" name="Rectangle 44"/>
            <p:cNvGrpSpPr/>
            <p:nvPr/>
          </p:nvGrpSpPr>
          <p:grpSpPr>
            <a:xfrm>
              <a:off x="7020000" y="4869000"/>
              <a:ext cx="1727280" cy="654480"/>
              <a:chOff x="7020000" y="4869000"/>
              <a:chExt cx="1727280" cy="654480"/>
            </a:xfrm>
          </p:grpSpPr>
          <p:pic>
            <p:nvPicPr>
              <p:cNvPr id="128" name="Rectangle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7020000" y="4869000"/>
                <a:ext cx="172728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023240" y="4872960"/>
                <a:ext cx="171720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0" name="Object 45"/>
                <p:cNvSpPr txBox="1"/>
                <p:nvPr/>
              </p:nvSpPr>
              <p:spPr>
                <a:xfrm>
                  <a:off x="7035480" y="4913280"/>
                  <a:ext cx="168444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кажите наибольшее чис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  перечисленных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2643120" y="1523880"/>
            <a:ext cx="3386160" cy="809640"/>
            <a:chOff x="2643120" y="1523880"/>
            <a:chExt cx="3386160" cy="809640"/>
          </a:xfrm>
        </p:grpSpPr>
        <p:sp>
          <p:nvSpPr>
            <p:cNvPr id="135" name="Rectangle 6"/>
            <p:cNvSpPr/>
            <p:nvPr/>
          </p:nvSpPr>
          <p:spPr>
            <a:xfrm>
              <a:off x="3184920" y="1629000"/>
              <a:ext cx="24026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7"/>
                <p:cNvSpPr txBox="1"/>
                <p:nvPr/>
              </p:nvSpPr>
              <p:spPr>
                <a:xfrm>
                  <a:off x="2643120" y="1523880"/>
                  <a:ext cx="338616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Group 8"/>
          <p:cNvGrpSpPr/>
          <p:nvPr/>
        </p:nvGrpSpPr>
        <p:grpSpPr>
          <a:xfrm>
            <a:off x="5238720" y="4149720"/>
            <a:ext cx="1395360" cy="1297080"/>
            <a:chOff x="5238720" y="4149720"/>
            <a:chExt cx="1395360" cy="1297080"/>
          </a:xfrm>
        </p:grpSpPr>
        <p:grpSp>
          <p:nvGrpSpPr>
            <p:cNvPr id="138" name="Rectangle 9"/>
            <p:cNvGrpSpPr/>
            <p:nvPr/>
          </p:nvGrpSpPr>
          <p:grpSpPr>
            <a:xfrm>
              <a:off x="5284440" y="4149720"/>
              <a:ext cx="1311120" cy="1297080"/>
              <a:chOff x="5284440" y="4149720"/>
              <a:chExt cx="1311120" cy="1297080"/>
            </a:xfrm>
          </p:grpSpPr>
          <p:pic>
            <p:nvPicPr>
              <p:cNvPr id="139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284440" y="4149720"/>
                <a:ext cx="13111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5291640" y="4154040"/>
                <a:ext cx="129600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Object 10"/>
                <p:cNvSpPr txBox="1"/>
                <p:nvPr/>
              </p:nvSpPr>
              <p:spPr>
                <a:xfrm>
                  <a:off x="5238720" y="4340520"/>
                  <a:ext cx="139536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" name="Group 11"/>
          <p:cNvGrpSpPr/>
          <p:nvPr/>
        </p:nvGrpSpPr>
        <p:grpSpPr>
          <a:xfrm>
            <a:off x="3492360" y="3429000"/>
            <a:ext cx="1295640" cy="1297080"/>
            <a:chOff x="3492360" y="3429000"/>
            <a:chExt cx="1295640" cy="1297080"/>
          </a:xfrm>
        </p:grpSpPr>
        <p:grpSp>
          <p:nvGrpSpPr>
            <p:cNvPr id="143" name="Rectangle 12"/>
            <p:cNvGrpSpPr/>
            <p:nvPr/>
          </p:nvGrpSpPr>
          <p:grpSpPr>
            <a:xfrm>
              <a:off x="3492360" y="3429000"/>
              <a:ext cx="1295640" cy="1297080"/>
              <a:chOff x="3492360" y="3429000"/>
              <a:chExt cx="1295640" cy="1297080"/>
            </a:xfrm>
          </p:grpSpPr>
          <p:pic>
            <p:nvPicPr>
              <p:cNvPr id="144" name="Rectangl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360" y="3429000"/>
                <a:ext cx="1295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3497760" y="3431880"/>
                <a:ext cx="128664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6" name="Object 13"/>
                <p:cNvSpPr txBox="1"/>
                <p:nvPr/>
              </p:nvSpPr>
              <p:spPr>
                <a:xfrm>
                  <a:off x="3548520" y="3684240"/>
                  <a:ext cx="1179000" cy="6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" name="Group 14"/>
          <p:cNvGrpSpPr/>
          <p:nvPr/>
        </p:nvGrpSpPr>
        <p:grpSpPr>
          <a:xfrm>
            <a:off x="1547640" y="2708280"/>
            <a:ext cx="1398600" cy="1297080"/>
            <a:chOff x="1547640" y="2708280"/>
            <a:chExt cx="1398600" cy="1297080"/>
          </a:xfrm>
        </p:grpSpPr>
        <p:grpSp>
          <p:nvGrpSpPr>
            <p:cNvPr id="148" name="Rectangle 15"/>
            <p:cNvGrpSpPr/>
            <p:nvPr/>
          </p:nvGrpSpPr>
          <p:grpSpPr>
            <a:xfrm>
              <a:off x="1596960" y="2708280"/>
              <a:ext cx="1311120" cy="1297080"/>
              <a:chOff x="1596960" y="2708280"/>
              <a:chExt cx="1311120" cy="1297080"/>
            </a:xfrm>
          </p:grpSpPr>
          <p:pic>
            <p:nvPicPr>
              <p:cNvPr id="149" name="Rectangl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6960" y="2708280"/>
                <a:ext cx="13111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1603080" y="2715840"/>
                <a:ext cx="129600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1" name="Object 16"/>
                <p:cNvSpPr txBox="1"/>
                <p:nvPr/>
              </p:nvSpPr>
              <p:spPr>
                <a:xfrm>
                  <a:off x="1547640" y="2902680"/>
                  <a:ext cx="1398600" cy="81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2" name="Group 17"/>
          <p:cNvGrpSpPr/>
          <p:nvPr/>
        </p:nvGrpSpPr>
        <p:grpSpPr>
          <a:xfrm>
            <a:off x="7093080" y="4778280"/>
            <a:ext cx="1295280" cy="1387080"/>
            <a:chOff x="7093080" y="4778280"/>
            <a:chExt cx="1295280" cy="1387080"/>
          </a:xfrm>
        </p:grpSpPr>
        <p:grpSp>
          <p:nvGrpSpPr>
            <p:cNvPr id="153" name="Rectangle 18"/>
            <p:cNvGrpSpPr/>
            <p:nvPr/>
          </p:nvGrpSpPr>
          <p:grpSpPr>
            <a:xfrm>
              <a:off x="7093080" y="4863600"/>
              <a:ext cx="1295280" cy="1301760"/>
              <a:chOff x="7093080" y="4863600"/>
              <a:chExt cx="1295280" cy="1301760"/>
            </a:xfrm>
          </p:grpSpPr>
          <p:pic>
            <p:nvPicPr>
              <p:cNvPr id="154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093080" y="4863600"/>
                <a:ext cx="1295280" cy="13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096320" y="4867560"/>
                <a:ext cx="128628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6" name="Object 19"/>
                <p:cNvSpPr txBox="1"/>
                <p:nvPr/>
              </p:nvSpPr>
              <p:spPr>
                <a:xfrm>
                  <a:off x="7103520" y="4778280"/>
                  <a:ext cx="1260720" cy="13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не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знаю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7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1176480" y="1268280"/>
            <a:ext cx="6321240" cy="1319400"/>
            <a:chOff x="1176480" y="1268280"/>
            <a:chExt cx="6321240" cy="1319400"/>
          </a:xfrm>
        </p:grpSpPr>
        <p:sp>
          <p:nvSpPr>
            <p:cNvPr id="162" name="Rectangle 5"/>
            <p:cNvSpPr/>
            <p:nvPr/>
          </p:nvSpPr>
          <p:spPr>
            <a:xfrm>
              <a:off x="3184920" y="1629720"/>
              <a:ext cx="2403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6"/>
                <p:cNvSpPr txBox="1"/>
                <p:nvPr/>
              </p:nvSpPr>
              <p:spPr>
                <a:xfrm>
                  <a:off x="1176480" y="1268280"/>
                  <a:ext cx="632124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</m:e>
                      </m:rad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9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Group 7"/>
          <p:cNvGrpSpPr/>
          <p:nvPr/>
        </p:nvGrpSpPr>
        <p:grpSpPr>
          <a:xfrm>
            <a:off x="5724360" y="4424400"/>
            <a:ext cx="2448000" cy="779400"/>
            <a:chOff x="5724360" y="4424400"/>
            <a:chExt cx="2448000" cy="779400"/>
          </a:xfrm>
        </p:grpSpPr>
        <p:grpSp>
          <p:nvGrpSpPr>
            <p:cNvPr id="165" name="Rectangle 8"/>
            <p:cNvGrpSpPr/>
            <p:nvPr/>
          </p:nvGrpSpPr>
          <p:grpSpPr>
            <a:xfrm>
              <a:off x="5724360" y="4432320"/>
              <a:ext cx="2448000" cy="731880"/>
              <a:chOff x="5724360" y="4432320"/>
              <a:chExt cx="2448000" cy="731880"/>
            </a:xfrm>
          </p:grpSpPr>
          <p:pic>
            <p:nvPicPr>
              <p:cNvPr id="166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4432320"/>
                <a:ext cx="244800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5730480" y="4437360"/>
                <a:ext cx="243324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8" name="Object 9"/>
                <p:cNvSpPr txBox="1"/>
                <p:nvPr/>
              </p:nvSpPr>
              <p:spPr>
                <a:xfrm>
                  <a:off x="6309720" y="4424400"/>
                  <a:ext cx="122004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9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2" descr="Рисунок16"/>
          <p:cNvPicPr/>
          <p:nvPr/>
        </p:nvPicPr>
        <p:blipFill>
          <a:blip r:embed="rId2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3"/>
          <p:cNvGrpSpPr/>
          <p:nvPr/>
        </p:nvGrpSpPr>
        <p:grpSpPr>
          <a:xfrm>
            <a:off x="5724360" y="3416400"/>
            <a:ext cx="2448000" cy="779400"/>
            <a:chOff x="5724360" y="3416400"/>
            <a:chExt cx="2448000" cy="779400"/>
          </a:xfrm>
        </p:grpSpPr>
        <p:grpSp>
          <p:nvGrpSpPr>
            <p:cNvPr id="173" name="Rectangle 14"/>
            <p:cNvGrpSpPr/>
            <p:nvPr/>
          </p:nvGrpSpPr>
          <p:grpSpPr>
            <a:xfrm>
              <a:off x="5724360" y="3425760"/>
              <a:ext cx="2448000" cy="731880"/>
              <a:chOff x="5724360" y="3425760"/>
              <a:chExt cx="2448000" cy="731880"/>
            </a:xfrm>
          </p:grpSpPr>
          <p:pic>
            <p:nvPicPr>
              <p:cNvPr id="174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3425760"/>
                <a:ext cx="244800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730480" y="3428640"/>
                <a:ext cx="243324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6" name="Object 15"/>
                <p:cNvSpPr txBox="1"/>
                <p:nvPr/>
              </p:nvSpPr>
              <p:spPr>
                <a:xfrm>
                  <a:off x="6354000" y="3416400"/>
                  <a:ext cx="11343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7" name="Group 16"/>
          <p:cNvGrpSpPr/>
          <p:nvPr/>
        </p:nvGrpSpPr>
        <p:grpSpPr>
          <a:xfrm>
            <a:off x="5724360" y="2408400"/>
            <a:ext cx="2448000" cy="779400"/>
            <a:chOff x="5724360" y="2408400"/>
            <a:chExt cx="2448000" cy="779400"/>
          </a:xfrm>
        </p:grpSpPr>
        <p:grpSp>
          <p:nvGrpSpPr>
            <p:cNvPr id="178" name="Rectangle 17"/>
            <p:cNvGrpSpPr/>
            <p:nvPr/>
          </p:nvGrpSpPr>
          <p:grpSpPr>
            <a:xfrm>
              <a:off x="5724360" y="2414520"/>
              <a:ext cx="2448000" cy="731880"/>
              <a:chOff x="5724360" y="2414520"/>
              <a:chExt cx="2448000" cy="731880"/>
            </a:xfrm>
          </p:grpSpPr>
          <p:pic>
            <p:nvPicPr>
              <p:cNvPr id="179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2414520"/>
                <a:ext cx="244800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5730480" y="2421360"/>
                <a:ext cx="243324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1" name="Object 18"/>
                <p:cNvSpPr txBox="1"/>
                <p:nvPr/>
              </p:nvSpPr>
              <p:spPr>
                <a:xfrm>
                  <a:off x="6311520" y="2408400"/>
                  <a:ext cx="12196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Group 19"/>
          <p:cNvGrpSpPr/>
          <p:nvPr/>
        </p:nvGrpSpPr>
        <p:grpSpPr>
          <a:xfrm>
            <a:off x="5724360" y="5576760"/>
            <a:ext cx="2448000" cy="779400"/>
            <a:chOff x="5724360" y="5576760"/>
            <a:chExt cx="2448000" cy="779400"/>
          </a:xfrm>
        </p:grpSpPr>
        <p:grpSp>
          <p:nvGrpSpPr>
            <p:cNvPr id="183" name="Rectangle 20"/>
            <p:cNvGrpSpPr/>
            <p:nvPr/>
          </p:nvGrpSpPr>
          <p:grpSpPr>
            <a:xfrm>
              <a:off x="5724360" y="5582880"/>
              <a:ext cx="2448000" cy="731880"/>
              <a:chOff x="5724360" y="5582880"/>
              <a:chExt cx="2448000" cy="731880"/>
            </a:xfrm>
          </p:grpSpPr>
          <p:pic>
            <p:nvPicPr>
              <p:cNvPr id="184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360" y="5582880"/>
                <a:ext cx="244800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5730480" y="5588280"/>
                <a:ext cx="243324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6" name="Object 21"/>
                <p:cNvSpPr txBox="1"/>
                <p:nvPr/>
              </p:nvSpPr>
              <p:spPr>
                <a:xfrm>
                  <a:off x="6417000" y="5576760"/>
                  <a:ext cx="10083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950760" y="1523880"/>
            <a:ext cx="6772320" cy="808200"/>
            <a:chOff x="950760" y="1523880"/>
            <a:chExt cx="6772320" cy="808200"/>
          </a:xfrm>
        </p:grpSpPr>
        <p:sp>
          <p:nvSpPr>
            <p:cNvPr id="190" name="Rectangle 6"/>
            <p:cNvSpPr/>
            <p:nvPr/>
          </p:nvSpPr>
          <p:spPr>
            <a:xfrm>
              <a:off x="3184560" y="1630080"/>
              <a:ext cx="240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7"/>
                <p:cNvSpPr txBox="1"/>
                <p:nvPr/>
              </p:nvSpPr>
              <p:spPr>
                <a:xfrm>
                  <a:off x="950760" y="1523880"/>
                  <a:ext cx="67723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7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Group 23"/>
          <p:cNvGrpSpPr/>
          <p:nvPr/>
        </p:nvGrpSpPr>
        <p:grpSpPr>
          <a:xfrm>
            <a:off x="5724360" y="2349360"/>
            <a:ext cx="2448000" cy="744480"/>
            <a:chOff x="5724360" y="2349360"/>
            <a:chExt cx="2448000" cy="744480"/>
          </a:xfrm>
        </p:grpSpPr>
        <p:grpSp>
          <p:nvGrpSpPr>
            <p:cNvPr id="193" name="Rectangle 9"/>
            <p:cNvGrpSpPr/>
            <p:nvPr/>
          </p:nvGrpSpPr>
          <p:grpSpPr>
            <a:xfrm>
              <a:off x="5724360" y="2349360"/>
              <a:ext cx="2448000" cy="730440"/>
              <a:chOff x="5724360" y="2349360"/>
              <a:chExt cx="2448000" cy="730440"/>
            </a:xfrm>
          </p:grpSpPr>
          <p:pic>
            <p:nvPicPr>
              <p:cNvPr id="194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2349360"/>
                <a:ext cx="2448000" cy="7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5730480" y="2357640"/>
                <a:ext cx="243324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6" name="Object 10"/>
                <p:cNvSpPr txBox="1"/>
                <p:nvPr/>
              </p:nvSpPr>
              <p:spPr>
                <a:xfrm>
                  <a:off x="6268680" y="2364840"/>
                  <a:ext cx="1303560" cy="72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7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2" descr="Рисунок16"/>
          <p:cNvPicPr/>
          <p:nvPr/>
        </p:nvPicPr>
        <p:blipFill>
          <a:blip r:embed="rId2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24"/>
          <p:cNvGrpSpPr/>
          <p:nvPr/>
        </p:nvGrpSpPr>
        <p:grpSpPr>
          <a:xfrm>
            <a:off x="5724360" y="3429000"/>
            <a:ext cx="2448000" cy="744120"/>
            <a:chOff x="5724360" y="3429000"/>
            <a:chExt cx="2448000" cy="744120"/>
          </a:xfrm>
        </p:grpSpPr>
        <p:grpSp>
          <p:nvGrpSpPr>
            <p:cNvPr id="201" name="Rectangle 25"/>
            <p:cNvGrpSpPr/>
            <p:nvPr/>
          </p:nvGrpSpPr>
          <p:grpSpPr>
            <a:xfrm>
              <a:off x="5724360" y="3429000"/>
              <a:ext cx="2448000" cy="728640"/>
              <a:chOff x="5724360" y="3429000"/>
              <a:chExt cx="2448000" cy="728640"/>
            </a:xfrm>
          </p:grpSpPr>
          <p:pic>
            <p:nvPicPr>
              <p:cNvPr id="202" name="Rectangle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3429000"/>
                <a:ext cx="244800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5730480" y="3431880"/>
                <a:ext cx="24332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4" name="Object 26"/>
                <p:cNvSpPr txBox="1"/>
                <p:nvPr/>
              </p:nvSpPr>
              <p:spPr>
                <a:xfrm>
                  <a:off x="6289200" y="3439800"/>
                  <a:ext cx="126252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8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5" name="Group 27"/>
          <p:cNvGrpSpPr/>
          <p:nvPr/>
        </p:nvGrpSpPr>
        <p:grpSpPr>
          <a:xfrm>
            <a:off x="5724360" y="4508640"/>
            <a:ext cx="2448000" cy="744120"/>
            <a:chOff x="5724360" y="4508640"/>
            <a:chExt cx="2448000" cy="744120"/>
          </a:xfrm>
        </p:grpSpPr>
        <p:grpSp>
          <p:nvGrpSpPr>
            <p:cNvPr id="206" name="Rectangle 28"/>
            <p:cNvGrpSpPr/>
            <p:nvPr/>
          </p:nvGrpSpPr>
          <p:grpSpPr>
            <a:xfrm>
              <a:off x="5724360" y="4508640"/>
              <a:ext cx="2448000" cy="728640"/>
              <a:chOff x="5724360" y="4508640"/>
              <a:chExt cx="2448000" cy="728640"/>
            </a:xfrm>
          </p:grpSpPr>
          <p:pic>
            <p:nvPicPr>
              <p:cNvPr id="207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4508640"/>
                <a:ext cx="244800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5730480" y="4511880"/>
                <a:ext cx="24332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9" name="Object 29"/>
                <p:cNvSpPr txBox="1"/>
                <p:nvPr/>
              </p:nvSpPr>
              <p:spPr>
                <a:xfrm>
                  <a:off x="6395040" y="4519440"/>
                  <a:ext cx="105264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0" name="Group 30"/>
          <p:cNvGrpSpPr/>
          <p:nvPr/>
        </p:nvGrpSpPr>
        <p:grpSpPr>
          <a:xfrm>
            <a:off x="5724360" y="5589720"/>
            <a:ext cx="2448000" cy="744120"/>
            <a:chOff x="5724360" y="5589720"/>
            <a:chExt cx="2448000" cy="744120"/>
          </a:xfrm>
        </p:grpSpPr>
        <p:grpSp>
          <p:nvGrpSpPr>
            <p:cNvPr id="211" name="Rectangle 31"/>
            <p:cNvGrpSpPr/>
            <p:nvPr/>
          </p:nvGrpSpPr>
          <p:grpSpPr>
            <a:xfrm>
              <a:off x="5724360" y="5589720"/>
              <a:ext cx="2448000" cy="725400"/>
              <a:chOff x="5724360" y="5589720"/>
              <a:chExt cx="2448000" cy="725400"/>
            </a:xfrm>
          </p:grpSpPr>
          <p:pic>
            <p:nvPicPr>
              <p:cNvPr id="212" name="Rectangle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360" y="5589720"/>
                <a:ext cx="24480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5730480" y="5595120"/>
                <a:ext cx="2433240" cy="71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4" name="Object 32"/>
                <p:cNvSpPr txBox="1"/>
                <p:nvPr/>
              </p:nvSpPr>
              <p:spPr>
                <a:xfrm>
                  <a:off x="6268680" y="5603760"/>
                  <a:ext cx="130356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9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менную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5"/>
          <p:cNvGrpSpPr/>
          <p:nvPr/>
        </p:nvGrpSpPr>
        <p:grpSpPr>
          <a:xfrm>
            <a:off x="3416400" y="1055520"/>
            <a:ext cx="3160440" cy="1320840"/>
            <a:chOff x="3416400" y="1055520"/>
            <a:chExt cx="3160440" cy="1320840"/>
          </a:xfrm>
        </p:grpSpPr>
        <p:sp>
          <p:nvSpPr>
            <p:cNvPr id="219" name="Rectangle 6"/>
            <p:cNvSpPr/>
            <p:nvPr/>
          </p:nvSpPr>
          <p:spPr>
            <a:xfrm>
              <a:off x="3844440" y="14166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Object 7"/>
                <p:cNvSpPr txBox="1"/>
                <p:nvPr/>
              </p:nvSpPr>
              <p:spPr>
                <a:xfrm>
                  <a:off x="3416400" y="1055520"/>
                  <a:ext cx="316044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1" name="Group 22"/>
          <p:cNvGrpSpPr/>
          <p:nvPr/>
        </p:nvGrpSpPr>
        <p:grpSpPr>
          <a:xfrm>
            <a:off x="5292720" y="2349360"/>
            <a:ext cx="2087640" cy="1350720"/>
            <a:chOff x="5292720" y="2349360"/>
            <a:chExt cx="2087640" cy="1350720"/>
          </a:xfrm>
        </p:grpSpPr>
        <p:grpSp>
          <p:nvGrpSpPr>
            <p:cNvPr id="222" name="Rectangle 15"/>
            <p:cNvGrpSpPr/>
            <p:nvPr/>
          </p:nvGrpSpPr>
          <p:grpSpPr>
            <a:xfrm>
              <a:off x="5292720" y="2349360"/>
              <a:ext cx="2087640" cy="1303560"/>
              <a:chOff x="5292720" y="2349360"/>
              <a:chExt cx="2087640" cy="1303560"/>
            </a:xfrm>
          </p:grpSpPr>
          <p:pic>
            <p:nvPicPr>
              <p:cNvPr id="223" name="Rectangl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2349360"/>
                <a:ext cx="2087640" cy="13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5299920" y="2357640"/>
                <a:ext cx="2072520" cy="12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5" name="Object 16"/>
                <p:cNvSpPr txBox="1"/>
                <p:nvPr/>
              </p:nvSpPr>
              <p:spPr>
                <a:xfrm>
                  <a:off x="5451480" y="2364840"/>
                  <a:ext cx="1806840" cy="13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6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3"/>
          <p:cNvGrpSpPr/>
          <p:nvPr/>
        </p:nvGrpSpPr>
        <p:grpSpPr>
          <a:xfrm>
            <a:off x="5292720" y="3860640"/>
            <a:ext cx="2087640" cy="1297080"/>
            <a:chOff x="5292720" y="3860640"/>
            <a:chExt cx="2087640" cy="1297080"/>
          </a:xfrm>
        </p:grpSpPr>
        <p:grpSp>
          <p:nvGrpSpPr>
            <p:cNvPr id="229" name="Rectangle 24"/>
            <p:cNvGrpSpPr/>
            <p:nvPr/>
          </p:nvGrpSpPr>
          <p:grpSpPr>
            <a:xfrm>
              <a:off x="5292720" y="3860640"/>
              <a:ext cx="2087640" cy="1297080"/>
              <a:chOff x="5292720" y="3860640"/>
              <a:chExt cx="2087640" cy="1297080"/>
            </a:xfrm>
          </p:grpSpPr>
          <p:pic>
            <p:nvPicPr>
              <p:cNvPr id="230" name="Rectangle 2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386064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5299920" y="3868560"/>
                <a:ext cx="207252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2" name="Object 25"/>
                <p:cNvSpPr txBox="1"/>
                <p:nvPr/>
              </p:nvSpPr>
              <p:spPr>
                <a:xfrm>
                  <a:off x="5492520" y="4196160"/>
                  <a:ext cx="1723320" cy="68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29"/>
          <p:cNvGrpSpPr/>
          <p:nvPr/>
        </p:nvGrpSpPr>
        <p:grpSpPr>
          <a:xfrm>
            <a:off x="2556000" y="3860640"/>
            <a:ext cx="2087280" cy="1297080"/>
            <a:chOff x="2556000" y="3860640"/>
            <a:chExt cx="2087280" cy="1297080"/>
          </a:xfrm>
        </p:grpSpPr>
        <p:grpSp>
          <p:nvGrpSpPr>
            <p:cNvPr id="234" name="Rectangle 30"/>
            <p:cNvGrpSpPr/>
            <p:nvPr/>
          </p:nvGrpSpPr>
          <p:grpSpPr>
            <a:xfrm>
              <a:off x="2556000" y="3860640"/>
              <a:ext cx="2087280" cy="1297080"/>
              <a:chOff x="2556000" y="3860640"/>
              <a:chExt cx="2087280" cy="1297080"/>
            </a:xfrm>
          </p:grpSpPr>
          <p:pic>
            <p:nvPicPr>
              <p:cNvPr id="235" name="Rectangle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00" y="3860640"/>
                <a:ext cx="2087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563560" y="3868560"/>
                <a:ext cx="207216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7" name="Object 31"/>
                <p:cNvSpPr txBox="1"/>
                <p:nvPr/>
              </p:nvSpPr>
              <p:spPr>
                <a:xfrm>
                  <a:off x="2757240" y="4197960"/>
                  <a:ext cx="172152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8" name="Group 32"/>
          <p:cNvGrpSpPr/>
          <p:nvPr/>
        </p:nvGrpSpPr>
        <p:grpSpPr>
          <a:xfrm>
            <a:off x="2556000" y="2349360"/>
            <a:ext cx="2087280" cy="1350720"/>
            <a:chOff x="2556000" y="2349360"/>
            <a:chExt cx="2087280" cy="1350720"/>
          </a:xfrm>
        </p:grpSpPr>
        <p:grpSp>
          <p:nvGrpSpPr>
            <p:cNvPr id="239" name="Rectangle 33"/>
            <p:cNvGrpSpPr/>
            <p:nvPr/>
          </p:nvGrpSpPr>
          <p:grpSpPr>
            <a:xfrm>
              <a:off x="2556000" y="2349360"/>
              <a:ext cx="2087280" cy="1303560"/>
              <a:chOff x="2556000" y="2349360"/>
              <a:chExt cx="2087280" cy="1303560"/>
            </a:xfrm>
          </p:grpSpPr>
          <p:pic>
            <p:nvPicPr>
              <p:cNvPr id="240" name="Rectangle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6000" y="2349360"/>
                <a:ext cx="2087280" cy="13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563560" y="2357640"/>
                <a:ext cx="2072160" cy="12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2" name="Object 34"/>
                <p:cNvSpPr txBox="1"/>
                <p:nvPr/>
              </p:nvSpPr>
              <p:spPr>
                <a:xfrm>
                  <a:off x="2694600" y="2364840"/>
                  <a:ext cx="1847880" cy="13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3" name="Oval 35"/>
          <p:cNvSpPr/>
          <p:nvPr/>
        </p:nvSpPr>
        <p:spPr>
          <a:xfrm>
            <a:off x="6516720" y="620640"/>
            <a:ext cx="7207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23:25:24Z</dcterms:created>
  <dc:creator>Admin</dc:creator>
  <dc:description/>
  <dc:language>en-US</dc:language>
  <cp:lastModifiedBy>User</cp:lastModifiedBy>
  <dcterms:modified xsi:type="dcterms:W3CDTF">2018-11-09T09:16:36Z</dcterms:modified>
  <cp:revision>64</cp:revision>
  <dc:subject/>
  <dc:title>Слайд 1</dc:title>
</cp:coreProperties>
</file>