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6A1-136F-4367-9C37-E18C50E2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C4D-97D1-4B71-8306-5FD2E8E2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978-D2C5-4040-ACA7-446A4B44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BB1-743E-442A-A764-3232984B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4E60-236B-4D96-9C04-AE0D1BEE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7D00-4917-430D-968E-ED1771CC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F985-08A3-4B76-8134-2B5004DF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AAEF-2C30-46DC-A1CB-FEF0718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C933-BFF7-4A1F-BC50-2E8E17E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ACB-53C1-4CA0-9955-C9877F61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AF3B-279A-4E86-9335-1BE0DE0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3C4-FF3E-450A-A22F-584D423C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18DB-4BEA-46BC-9BD4-56A2275D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CDE5-BE06-40D7-BCC0-1482509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CF42-250B-4376-8646-13CC969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FD2-0FE2-4E7F-B69C-F977EA61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CB56-4496-46AF-BA9B-9A442CBD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0CA-ADC3-4F01-A576-8F8ACD6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9C6-3366-42BF-84C9-7290606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751-A907-4F82-A1E8-1CA2FD1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589-59AC-4757-8681-627F8D94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D4B-7E65-4034-A447-BD2E799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9DC-2F1B-4E68-AB4E-0BD4F4A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859-C0D0-474B-8761-8E85372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3A17-77E2-4BBF-BFEB-7213C7DF4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7587-C659-4B63-A99C-0444693B9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80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149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Урок № 2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Остатки прошлого – это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1. Остатки селения под слоем песка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2. Фундаменты строений под землей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3. Рукопись в древнем монастыре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4. Предметы прошлого на чердаке дома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5. Другое…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ИСТОРИЧЕСКИЕ ИСТОЧНИКИ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ещественные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исьменные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687240" y="2090880"/>
            <a:ext cx="432000" cy="2777760"/>
            <a:chOff x="687240" y="2090880"/>
            <a:chExt cx="432000" cy="2777760"/>
          </a:xfrm>
        </p:grpSpPr>
        <p:sp>
          <p:nvSpPr>
            <p:cNvPr id="107" name="Line 16"/>
            <p:cNvSpPr/>
            <p:nvPr/>
          </p:nvSpPr>
          <p:spPr>
            <a:xfrm>
              <a:off x="687240" y="2090880"/>
              <a:ext cx="0" cy="277776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687240" y="2555280"/>
              <a:ext cx="432000" cy="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687240" y="4868640"/>
              <a:ext cx="432000" cy="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0" name="Прямая со стрелкой 7"/>
          <p:cNvCxnSpPr/>
          <p:nvPr/>
        </p:nvCxnSpPr>
        <p:spPr>
          <a:xfrm>
            <a:off x="687240" y="3715920"/>
            <a:ext cx="457920" cy="108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11" name="TextBox 10"/>
          <p:cNvSpPr/>
          <p:nvPr/>
        </p:nvSpPr>
        <p:spPr>
          <a:xfrm>
            <a:off x="1095480" y="22017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учебник со стр. 13 и заполните таблицу (задание 4 в р/т)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429000"/>
          <a:ext cx="6769080" cy="140652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5796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с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ещ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исьм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2133720"/>
          <a:ext cx="6767640" cy="3322440"/>
        </p:xfrm>
        <a:graphic>
          <a:graphicData uri="http://schemas.openxmlformats.org/drawingml/2006/table">
            <a:tbl>
              <a:tblPr/>
              <a:tblGrid>
                <a:gridCol w="2256120"/>
                <a:gridCol w="2255760"/>
                <a:gridCol w="2255760"/>
              </a:tblGrid>
              <a:tr h="5792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с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ещ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исьм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каз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Бы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слов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говор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ес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оору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редметы бы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Оруж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краш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Записи на деревя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ых дощечках, бересте, папирусе, камне, гл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Памятники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Стр. 15-16 в учебнике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рхив</a:t>
            </a: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 (греч.) – «учреждение», место для хранения документов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узей</a:t>
            </a: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 (греч.) – «храм муз», </a:t>
            </a:r>
            <a:r>
              <a:rPr b="1" i="1" lang="ru-RU" sz="2800" spc="-1" strike="noStrike">
                <a:solidFill>
                  <a:srgbClr val="254061"/>
                </a:solidFill>
                <a:latin typeface="Arial"/>
              </a:rPr>
              <a:t>учреждение, которое собирает, хранит и выставляет на обозрение предметы искусства, памятники старины, научные коллекции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54061"/>
                </a:solidFill>
                <a:latin typeface="Arial"/>
              </a:rPr>
              <a:t>Учебник стр. 18-29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4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500040" y="3286080"/>
            <a:ext cx="1071720" cy="1378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187280" y="1533600"/>
            <a:ext cx="7129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иблиотека 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(греч.) – «книгохранилище»,   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учреждение, собирающее и хранящее книги для общественного 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Учебник стр. 31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Что изучает наука история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Из какого языка к нам пришло слово «история»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Что оно означает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Кого называют «отцом истории»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Объясните значение слова «факт»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На какие главные вопросы отвечают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историки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исьменное д/з –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 конце урока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Параграф 2, пункты 1-3 читать и пересказывать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Задания 6, 10 в р/т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6. Какие архивы, музеи, библиотеки есть в нашей области, городе?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10. Используя определения из параграфов 1,2, составьте кроссворд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(5-6 слов)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9528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первый абзац в параграфе 2 (стр. 8)  и ответьте на вопрос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к люди сохраняли и сохраняют сведения о прошлом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второй абзац в параграфе 2 (стр. 8), рассмотрите иллюстрации на с. 9-10 и ответьте на вопрос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является причиной гибели памятников прошлого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второй абзац в параграфе 2 (стр. 8), рассмотрите иллюстрации на с. 9-10 и выполните задание 1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дание 1 в р/т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76360" y="4437000"/>
          <a:ext cx="6480360" cy="889200"/>
        </p:xfrm>
        <a:graphic>
          <a:graphicData uri="http://schemas.openxmlformats.org/drawingml/2006/table">
            <a:tbl>
              <a:tblPr/>
              <a:tblGrid>
                <a:gridCol w="3240000"/>
                <a:gridCol w="324036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родные стих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люд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1397160"/>
          <a:ext cx="6842160" cy="3170160"/>
        </p:xfrm>
        <a:graphic>
          <a:graphicData uri="http://schemas.openxmlformats.org/drawingml/2006/table">
            <a:tbl>
              <a:tblPr/>
              <a:tblGrid>
                <a:gridCol w="3421080"/>
                <a:gridCol w="3421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родные стих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люд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5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ж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авод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раг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есчаные б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И д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дж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рча памят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ыбрасывание документов, старых фотографий и д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се, что когда-то было создано людьми, называют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сторическими источникам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528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тите пункт «Исторические источники» (стр.11) и выполните задание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Остатки прошлого – это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user</cp:lastModifiedBy>
  <dcterms:modified xsi:type="dcterms:W3CDTF">2013-09-07T09:17:05Z</dcterms:modified>
  <cp:revision>22</cp:revision>
  <dc:subject/>
  <dc:title>Слайд 1</dc:title>
</cp:coreProperties>
</file>