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88B-20A3-4A20-B028-D8830DE9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90B-A1CB-4968-9409-ABEBE37B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BB2-7DA3-4D1C-8431-8BABD1C2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ECE-9C40-4496-84D2-0B9D213D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6AAF-B810-4953-AE0E-F3B1E1D9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AE52-1C6F-4A80-AB6B-055000A6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C183-6A35-47E2-A13E-7E4328B4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DE0F-D40C-4DB0-A347-9F6923F2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B451-4487-4393-BE0B-D461B3DA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79F3-59D6-4356-8B0E-0FCD152B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3224-B337-4599-9619-A1126AFC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45E-4112-447D-9071-D3F4A0F1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5054-8CBA-4240-9B28-42B01F9B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4642-54AE-487F-BD8D-2855ADD2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0FBB-C434-4C3E-8BC6-104A7794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9740-9D9B-4889-B0C5-9AD21551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C99E-9F16-4A75-A970-2CC0E23D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553-4153-41DF-A92B-D82D0314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FCD-AF34-4205-8F15-EADD4414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108-FF91-4FD1-AC51-88A956AF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4B3-AD9B-4E3F-8288-E3C2517D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207-D4C5-4A47-BD28-339586E2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F1A-A5AD-47F9-A7DF-CF308832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C7A-E556-42AF-8430-E8574C10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5EB5-CE0D-430E-B0DA-54B38B9DB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8FF7-6040-425E-A3D1-638D8D659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2805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149720"/>
            <a:ext cx="6400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Урок № 2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история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Остатки прошлого – это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1. Остатки селения под слоем песка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2. Фундаменты строений под землей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3. Рукопись в древнем монастыре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4. Предметы прошлого на чердаке дома;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5. Другое…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ИСТОРИЧЕСКИЕ ИСТОЧНИКИ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ещественные</a:t>
            </a: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исьменные</a:t>
            </a: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687240" y="2090880"/>
            <a:ext cx="432000" cy="2777760"/>
            <a:chOff x="687240" y="2090880"/>
            <a:chExt cx="432000" cy="2777760"/>
          </a:xfrm>
        </p:grpSpPr>
        <p:sp>
          <p:nvSpPr>
            <p:cNvPr id="107" name="Line 16"/>
            <p:cNvSpPr/>
            <p:nvPr/>
          </p:nvSpPr>
          <p:spPr>
            <a:xfrm>
              <a:off x="687240" y="2090880"/>
              <a:ext cx="0" cy="2777760"/>
            </a:xfrm>
            <a:prstGeom prst="line">
              <a:avLst/>
            </a:prstGeom>
            <a:ln w="7632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687240" y="2555280"/>
              <a:ext cx="432000" cy="0"/>
            </a:xfrm>
            <a:prstGeom prst="line">
              <a:avLst/>
            </a:prstGeom>
            <a:ln w="76320">
              <a:solidFill>
                <a:srgbClr val="3760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687240" y="4868640"/>
              <a:ext cx="432000" cy="0"/>
            </a:xfrm>
            <a:prstGeom prst="line">
              <a:avLst/>
            </a:prstGeom>
            <a:ln w="76320">
              <a:solidFill>
                <a:srgbClr val="3760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0" name="Прямая со стрелкой 7"/>
          <p:cNvCxnSpPr/>
          <p:nvPr/>
        </p:nvCxnSpPr>
        <p:spPr>
          <a:xfrm>
            <a:off x="687240" y="3715920"/>
            <a:ext cx="457920" cy="1080"/>
          </a:xfrm>
          <a:prstGeom prst="straightConnector1">
            <a:avLst/>
          </a:prstGeom>
          <a:ln w="5724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111" name="TextBox 10"/>
          <p:cNvSpPr/>
          <p:nvPr/>
        </p:nvSpPr>
        <p:spPr>
          <a:xfrm>
            <a:off x="1095480" y="22017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с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читайте учебник со стр. 13 и заполните таблицу (задание 4 в р/т)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429000"/>
          <a:ext cx="6769080" cy="1406520"/>
        </p:xfrm>
        <a:graphic>
          <a:graphicData uri="http://schemas.openxmlformats.org/drawingml/2006/table">
            <a:tbl>
              <a:tblPr/>
              <a:tblGrid>
                <a:gridCol w="2255760"/>
                <a:gridCol w="2257560"/>
                <a:gridCol w="2255760"/>
              </a:tblGrid>
              <a:tr h="5796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рические источн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с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ещест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исьм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0000" y="2133720"/>
          <a:ext cx="6767640" cy="3322440"/>
        </p:xfrm>
        <a:graphic>
          <a:graphicData uri="http://schemas.openxmlformats.org/drawingml/2006/table">
            <a:tbl>
              <a:tblPr/>
              <a:tblGrid>
                <a:gridCol w="2256120"/>
                <a:gridCol w="2255760"/>
                <a:gridCol w="2255760"/>
              </a:tblGrid>
              <a:tr h="5792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рические источн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с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ещест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исьм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Сказ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Был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слов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говор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ес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Соору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редметы бы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Оруж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краш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Записи на деревя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ных дощечках, бересте, папирусе, камне, гл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Памятники</a:t>
            </a: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Стр. 15-16 в учебнике</a:t>
            </a:r>
            <a:endParaRPr b="0" lang="en-US" sz="36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5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рхив</a:t>
            </a: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 (греч.) – «учреждение», место для хранения документов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узей</a:t>
            </a: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 (греч.) – «храм муз», </a:t>
            </a:r>
            <a:r>
              <a:rPr b="1" i="1" lang="ru-RU" sz="2800" spc="-1" strike="noStrike">
                <a:solidFill>
                  <a:srgbClr val="254061"/>
                </a:solidFill>
                <a:latin typeface="Arial"/>
              </a:rPr>
              <a:t>учреждение, которое собирает, хранит и выставляет на обозрение предметы искусства, памятники старины, научные коллекции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54061"/>
                </a:solidFill>
                <a:latin typeface="Arial"/>
              </a:rPr>
              <a:t>Учебник стр. 18-29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24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500040" y="3286080"/>
            <a:ext cx="1071720" cy="1378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1187280" y="1533600"/>
            <a:ext cx="7129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иблиотека 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(греч.) – «книгохранилище»,    </a:t>
            </a: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учреждение, собирающее и хранящее книги для общественного поль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Учебник стр. 31-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9528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Что изучает наука история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Из какого языка к нам пришло слово «история»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Что оно означает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Кого называют «отцом истории»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Объясните значение слова «факт»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На какие главные вопросы отвечают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историки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исьменное д/з –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 конце урока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1847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490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Параграф 2, пункты 1-3 читать и пересказывать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Задания 6, 10 в р/т.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6. Какие архивы, музеи, библиотеки есть в нашей области, городе?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10. Используя определения из параграфов 1,2, составьте кроссворд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(5-6 слов)</a:t>
            </a:r>
            <a:endParaRPr b="0" lang="en-US" sz="28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9528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читайте первый абзац в параграфе 2 (стр. 8)  и ответьте на вопрос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ак люди сохраняли и сохраняют сведения о прошлом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читайте второй абзац в параграфе 2 (стр. 8), рассмотрите иллюстрации на с. 9-10 и ответьте на вопрос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Что является причиной гибели памятников прошлого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читайте второй абзац в параграфе 2 (стр. 8), рассмотрите иллюстрации на с. 9-10 и выполните задание 1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дание 1 в р/т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76360" y="4437000"/>
          <a:ext cx="6480360" cy="889200"/>
        </p:xfrm>
        <a:graphic>
          <a:graphicData uri="http://schemas.openxmlformats.org/drawingml/2006/table">
            <a:tbl>
              <a:tblPr/>
              <a:tblGrid>
                <a:gridCol w="3240000"/>
                <a:gridCol w="3240360"/>
              </a:tblGrid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родные стих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йствия люд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58920" y="1397160"/>
          <a:ext cx="6842160" cy="3170160"/>
        </p:xfrm>
        <a:graphic>
          <a:graphicData uri="http://schemas.openxmlformats.org/drawingml/2006/table">
            <a:tbl>
              <a:tblPr/>
              <a:tblGrid>
                <a:gridCol w="3421080"/>
                <a:gridCol w="3421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родные стих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йствия люд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5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жа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Навод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рага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есчаные б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И др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дж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рча памят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ой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ыбрасывание документов, старых фотографий и д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Все, что когда-то было создано людьми, называют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сторическими источниками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9528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Arial"/>
              </a:rPr>
              <a:t>Задание</a:t>
            </a: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Прочтите пункт «Исторические источники» (стр.11) и выполните задание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Остатки прошлого – это: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user</cp:lastModifiedBy>
  <dcterms:modified xsi:type="dcterms:W3CDTF">2013-09-07T09:17:05Z</dcterms:modified>
  <cp:revision>22</cp:revision>
  <dc:subject/>
  <dc:title>Слайд 1</dc:title>
</cp:coreProperties>
</file>