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EF7D-42C4-474D-8058-6397D3805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F27D-E93B-4264-AA81-EECF2FE9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B3C1-D2DA-4F84-846A-B5D79D9F7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816B-C899-475E-BF12-590870FB0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670D-5A78-4A95-932D-72E96766F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8C17-28D6-4227-BE86-21BA1250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7055-6B2D-43D5-BC57-4EAC1949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9296-2B59-46D6-A2EA-523C8F97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31BA-777C-4127-B5BE-297B480E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85880" y="274320"/>
            <a:ext cx="757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A26C-6CC3-4C5A-98AE-F9D0B25C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70AC-6CCA-4D15-8755-0FF5B1A3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5522-B73F-4868-8818-E1D365C7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34B5-F6B7-404A-A83D-FE31515C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3278-AB04-4796-A47D-999607F3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781F-631C-4085-8F98-679D454A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BB1B-811D-445B-A2B8-0FD8C7550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DF1D-0BB8-4ED1-9187-2D3BE0B9A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9AB7-3FC5-4FD1-B543-EEEAC024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745C-7EFE-4A4F-8C68-A8E48AD0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8747-9381-4760-B302-B3A7DBFD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85880" y="274320"/>
            <a:ext cx="757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3D38-7961-4BDB-8B9E-84593604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72AD-94D5-421A-96CA-31724F72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6C5E-884F-4AA9-B82E-91285336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9CDD-C0F3-45F1-8163-BE22C35F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D2BF-47CB-4D2A-827E-492742D20B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8136-696B-4767-BDC3-E2740D4580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609480" y="334800"/>
            <a:ext cx="7772400" cy="2805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00120" y="4149720"/>
            <a:ext cx="640080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Урок № 8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5 класс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история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1146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395280" y="1125360"/>
            <a:ext cx="8353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Что значит родословие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Из истории имени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Отчество – составная часть родового имени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История в фамилиях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514440" indent="-5144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Родословные – в конце урока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609480" y="334800"/>
            <a:ext cx="7772400" cy="28051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500120" y="3068280"/>
            <a:ext cx="6400800" cy="26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Параграф 8, читать и пересказывать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Задания 2,4,6 в р/т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609480" y="334800"/>
            <a:ext cx="7772400" cy="19209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55640" y="2276280"/>
            <a:ext cx="7145280" cy="34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ctr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Поиграем в «Города»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457200" indent="-457200" algn="ctr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А теперь назовите улицы нашего города, которые вы знаете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20840" y="334800"/>
            <a:ext cx="8156520" cy="1360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55640" y="1916280"/>
            <a:ext cx="7145280" cy="37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Географические названия: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Arial"/>
              </a:rPr>
              <a:t>Ориентир для человека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Arial"/>
              </a:rPr>
              <a:t>Они как памятники, напоминающие народу о его прошлом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Arial"/>
              </a:rPr>
              <a:t>Используются органами власти, которые обслуживают население.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20840" y="334800"/>
            <a:ext cx="8156520" cy="13608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55640" y="1916280"/>
            <a:ext cx="7145280" cy="37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Задание 1 в р/т.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Задание: </a:t>
            </a:r>
            <a:r>
              <a:rPr b="1" i="1" lang="ru-RU" sz="2800" spc="-1" strike="noStrike">
                <a:solidFill>
                  <a:srgbClr val="1f497d"/>
                </a:solidFill>
                <a:latin typeface="Arial"/>
              </a:rPr>
              <a:t>вспомните названия городов, которые были переименованы.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76280" y="334800"/>
            <a:ext cx="8039160" cy="13608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1452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Читаем п.2 </a:t>
            </a:r>
            <a:r>
              <a:rPr b="1" i="1" lang="ru-RU" sz="2800" spc="-1" strike="noStrike">
                <a:solidFill>
                  <a:srgbClr val="1f497d"/>
                </a:solidFill>
                <a:latin typeface="Arial"/>
              </a:rPr>
              <a:t>в учебнике (стр. 85) и отвечаем на вопросы: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Arial"/>
              </a:rPr>
              <a:t>Какие города названы по имени исторических деятелей?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Arial"/>
              </a:rPr>
              <a:t>Перечислите улицы, возникшие по профессии, ремеслу живших там людей.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609480" y="334800"/>
            <a:ext cx="7772400" cy="1444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1452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Читаем п.3 </a:t>
            </a:r>
            <a:r>
              <a:rPr b="1" i="1" lang="ru-RU" sz="2800" spc="-1" strike="noStrike">
                <a:solidFill>
                  <a:srgbClr val="1f497d"/>
                </a:solidFill>
                <a:latin typeface="Arial"/>
              </a:rPr>
              <a:t>в учебнике (стр. 88) 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Имя моей Родины – Россия.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Arial"/>
              </a:rPr>
              <a:t>Задания 3,5 в р/т.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1:42:07Z</dcterms:created>
  <dc:creator>Comp</dc:creator>
  <dc:description/>
  <dc:language>en-US</dc:language>
  <cp:lastModifiedBy>Пользователь</cp:lastModifiedBy>
  <dcterms:modified xsi:type="dcterms:W3CDTF">2018-09-28T09:47:11Z</dcterms:modified>
  <cp:revision>70</cp:revision>
  <dc:subject/>
  <dc:title>Слайд 1</dc:title>
</cp:coreProperties>
</file>