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253-3E37-4F53-8DCB-A8661F7F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1BA-AF37-4D2B-8A2D-259E2A2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CD9-9314-4E54-AC77-28DEED71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E25-6EBA-4D14-9C82-E30F70DA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FAFC-043D-4FF1-A731-004855CE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1321-A995-438E-AAA2-1B45084D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48BB-681D-4E73-8814-C560534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EF61-36F1-4869-A788-6AE792FD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B5F-465F-4BD3-93A2-207A95D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7232-68B1-4043-AD46-247F34AD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1EDB-CAEA-41DF-A744-2165ECCD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640-C5A6-4789-A900-6ADE1940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19DC-1930-4CE9-8CE0-07B237F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1F4-E485-4304-9C36-43E0A63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9AA9-23B4-448F-975C-69AAB992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09E9-DDE5-4E6A-8462-BFAEA700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7876-8479-4E3E-9CD8-8616F7F2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C5D-E31D-4671-8D15-ACD3CB96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08D-0468-45F5-AC6B-FEEC5EC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93B-EB6A-4E71-B842-29E29550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98E-95C0-404E-9EF5-424E4C02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9A9-E900-4F8B-A1D1-667660C9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77C-2A41-4283-95F1-55455F8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1AE-83F1-4CF8-85A9-B3D3546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D03C-FF0B-41DF-815B-2E3DA7A239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5DB8-B6C6-4B3B-8994-886341585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80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149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Урок № 8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Что значит родословие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Из истории имен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Отчество – составная часть родового имен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История в фамилиях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ословные – в конце урока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805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500120" y="3068280"/>
            <a:ext cx="64008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араграф 8, читать и пересказывать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адания 2,4,6 в р/т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1920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14528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оиграем в «Города»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457200" indent="-457200" algn="ctr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А теперь назовите улицы нашего города, которые вы знаете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0840" y="334800"/>
            <a:ext cx="8156520" cy="1360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14528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Географические названия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Ориентир для человек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Они как памятники, напоминающие народу о его прошлом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Используются органами власти, которые обслуживают население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0840" y="334800"/>
            <a:ext cx="8156520" cy="136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14528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ние 1 в р/т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ние: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вспомните названия городов, которые были переименованы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76280" y="334800"/>
            <a:ext cx="8039160" cy="1360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145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итаем п.2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в учебнике (стр. 85) и отвечаем на вопросы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Какие города названы по имени исторических деятелей?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Перечислите улицы, возникшие по профессии, ремеслу живших там людей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145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итаем п.3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в учебнике (стр. 88)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мя моей Родины – Россия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Задания 3,5 в р/т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Пользователь</cp:lastModifiedBy>
  <dcterms:modified xsi:type="dcterms:W3CDTF">2018-09-28T09:47:11Z</dcterms:modified>
  <cp:revision>70</cp:revision>
  <dc:subject/>
  <dc:title>Слайд 1</dc:title>
</cp:coreProperties>
</file>