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DB4-628E-4F0A-AEBB-9E3D9AFC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5C6-6848-4F46-ACDB-8DC9DBA2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EE9-F257-4E2B-9986-8CDA48AD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059-A45F-43AA-B07B-5AFD947E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D29-A71B-484E-A3B1-79D13B7D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F35-22BB-4314-89DD-FD109590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BCE-7A66-4574-84A1-2F21096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DD3-428F-41BE-9A24-CB2AF804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E0E-B0D9-4B36-9C93-3CB72A71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059-7E79-4C7E-9F94-2DD6D1D5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986-631A-4185-BE41-3792DB57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352-41F3-4A50-A2F7-76DDE6A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D3C3-2C82-4077-8F87-15EF7FFB088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449360"/>
            <a:ext cx="9144000" cy="17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исьмо заглавно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уквы Б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1280" y="3196800"/>
            <a:ext cx="594036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БОУ СОШ №4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рода Кропотк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сон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рина Анатол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http://bigslide.ru/images/47/46341/960/img4.jpg"/>
          <p:cNvPicPr/>
          <p:nvPr/>
        </p:nvPicPr>
        <p:blipFill>
          <a:blip r:embed="rId1"/>
          <a:stretch/>
        </p:blipFill>
        <p:spPr>
          <a:xfrm>
            <a:off x="1182600" y="174600"/>
            <a:ext cx="77454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http://2.bp.blogspot.com/-Yua-VyhQnLU/VQdASDFZHCI/AAAAAAAAAw0/OqGOj7Q98Yo/s1600/%D0%912.png"/>
          <p:cNvPicPr/>
          <p:nvPr/>
        </p:nvPicPr>
        <p:blipFill>
          <a:blip r:embed="rId1"/>
          <a:stretch/>
        </p:blipFill>
        <p:spPr>
          <a:xfrm>
            <a:off x="3362400" y="3267000"/>
            <a:ext cx="2689200" cy="3375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://www.proza.ru/pics/2016/07/04/662.jpg"/>
          <p:cNvPicPr/>
          <p:nvPr/>
        </p:nvPicPr>
        <p:blipFill>
          <a:blip r:embed="rId2"/>
          <a:stretch/>
        </p:blipFill>
        <p:spPr>
          <a:xfrm>
            <a:off x="1574640" y="201600"/>
            <a:ext cx="2768760" cy="3697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https://ds02.infourok.ru/uploads/ex/086b/00007d9a-7504058c/img7.jpg"/>
          <p:cNvPicPr/>
          <p:nvPr/>
        </p:nvPicPr>
        <p:blipFill>
          <a:blip r:embed="rId3"/>
          <a:stretch/>
        </p:blipFill>
        <p:spPr>
          <a:xfrm>
            <a:off x="5842080" y="0"/>
            <a:ext cx="31273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Marina\Documents\Звучочки\Б письменная.jpg"/>
          <p:cNvPicPr/>
          <p:nvPr/>
        </p:nvPicPr>
        <p:blipFill>
          <a:blip r:embed="rId1"/>
          <a:stretch/>
        </p:blipFill>
        <p:spPr>
          <a:xfrm>
            <a:off x="1533600" y="349200"/>
            <a:ext cx="761040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96640" y="365040"/>
            <a:ext cx="6418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203864"/>
                </a:solidFill>
                <a:latin typeface="Monotype Corsiva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11200" y="1506240"/>
            <a:ext cx="77328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Буратино потянул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Раз нагнулся, два нагнул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Руки в стороны развё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Ключик видно не нашё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Чтобы ключик нам дос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Надо на носочки вс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7840" y="239400"/>
            <a:ext cx="6897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гра «Третий лишний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87400" y="4684320"/>
            <a:ext cx="627372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843c0c"/>
                </a:solidFill>
                <a:latin typeface="Calibri"/>
              </a:rPr>
              <a:t>- бобры, барсук, Барс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913040" y="2841480"/>
            <a:ext cx="70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43c0c"/>
                </a:solidFill>
                <a:latin typeface="Calibri"/>
              </a:rPr>
              <a:t>- белка, бегемот, к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365120" y="1125360"/>
            <a:ext cx="890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43c0c"/>
                </a:solidFill>
                <a:latin typeface="Calibri"/>
              </a:rPr>
              <a:t>- бабочка, божья коровка, Бор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543560" y="1982880"/>
            <a:ext cx="16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Бор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713120" y="3614760"/>
            <a:ext cx="160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03864"/>
                </a:solidFill>
                <a:latin typeface="Calibri"/>
              </a:rPr>
              <a:t>к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305240" y="5529240"/>
            <a:ext cx="278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Барс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http://animalbox.ru/wp-content/uploads/2012/03/para_bobrov.jpg"/>
          <p:cNvPicPr/>
          <p:nvPr/>
        </p:nvPicPr>
        <p:blipFill>
          <a:blip r:embed="rId1"/>
          <a:stretch/>
        </p:blipFill>
        <p:spPr>
          <a:xfrm>
            <a:off x="1116000" y="279360"/>
            <a:ext cx="3281400" cy="302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fresher.ru/manager_content/images/interesnye-fakty-o-bobrax/big/2.jpg"/>
          <p:cNvPicPr/>
          <p:nvPr/>
        </p:nvPicPr>
        <p:blipFill>
          <a:blip r:embed="rId2"/>
          <a:stretch/>
        </p:blipFill>
        <p:spPr>
          <a:xfrm>
            <a:off x="4437000" y="244440"/>
            <a:ext cx="4489560" cy="3076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https://ds02.infourok.ru/uploads/ex/1104/000861eb-74756129/1/img4.jpg"/>
          <p:cNvPicPr/>
          <p:nvPr/>
        </p:nvPicPr>
        <p:blipFill>
          <a:blip r:embed="rId3"/>
          <a:stretch/>
        </p:blipFill>
        <p:spPr>
          <a:xfrm>
            <a:off x="1828800" y="3375000"/>
            <a:ext cx="65088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398600" y="336240"/>
            <a:ext cx="3765600" cy="63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Что за чуд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Вот так чуд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Сверху блюд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снизу блюд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Ходит чуд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по дорог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Голова торчи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385723"/>
                </a:solidFill>
                <a:latin typeface="Calibri"/>
              </a:rPr>
              <a:t>да ног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" descr="http://rdbrdb.ru/djyrnal/babko.gif"/>
          <p:cNvPicPr/>
          <p:nvPr/>
        </p:nvPicPr>
        <p:blipFill>
          <a:blip r:embed="rId1"/>
          <a:srcRect l="15836" t="0" r="15836" b="0"/>
          <a:stretch/>
        </p:blipFill>
        <p:spPr>
          <a:xfrm>
            <a:off x="5083200" y="484200"/>
            <a:ext cx="4060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http://www.playcast.ru/uploads/2010/01/23/1497948.jpg"/>
          <p:cNvPicPr/>
          <p:nvPr/>
        </p:nvPicPr>
        <p:blipFill>
          <a:blip r:embed="rId1"/>
          <a:stretch/>
        </p:blipFill>
        <p:spPr>
          <a:xfrm>
            <a:off x="1463760" y="417600"/>
            <a:ext cx="7680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3240"/>
            <a:ext cx="8515440" cy="63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У отца есть мальчик странный,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Необычный, деревянный,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На земле и под водой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Ищет ключик золотой,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Всюду нос суёт свой длинный…</a:t>
            </a:r>
            <a:br>
              <a:rPr sz="4400"/>
            </a:br>
            <a:r>
              <a:rPr b="1" i="1" lang="ru-RU" sz="4400" spc="-1" strike="noStrike">
                <a:solidFill>
                  <a:srgbClr val="843c0c"/>
                </a:solidFill>
                <a:latin typeface="Calibri"/>
              </a:rPr>
              <a:t>Кто же это?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https://prikolnye-kartinki.ru/img/picture/Nov/17/da458a76938c84686e2bfcd511aeda02/5.jpg"/>
          <p:cNvPicPr/>
          <p:nvPr/>
        </p:nvPicPr>
        <p:blipFill>
          <a:blip r:embed="rId1"/>
          <a:stretch/>
        </p:blipFill>
        <p:spPr>
          <a:xfrm>
            <a:off x="3011400" y="295200"/>
            <a:ext cx="4881600" cy="63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192400" y="739800"/>
            <a:ext cx="147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597"/>
                </a:solidFill>
                <a:latin typeface="Calibri Light"/>
                <a:ea typeface="바탕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http://tdpemko.ru/upload/iblock/887/88757440527151a7154a30cb824a0616.jpeg"/>
          <p:cNvPicPr/>
          <p:nvPr/>
        </p:nvPicPr>
        <p:blipFill>
          <a:blip r:embed="rId1"/>
          <a:stretch/>
        </p:blipFill>
        <p:spPr>
          <a:xfrm>
            <a:off x="1290600" y="430200"/>
            <a:ext cx="75312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00600" y="365040"/>
            <a:ext cx="3913200" cy="471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2f5597"/>
                </a:solidFill>
                <a:latin typeface="Calibri"/>
              </a:rPr>
              <a:t>Эта девочка дружила с самим Буратино,</a:t>
            </a:r>
            <a:br>
              <a:rPr sz="4000"/>
            </a:br>
            <a:r>
              <a:rPr b="1" i="1" lang="ru-RU" sz="4000" spc="-1" strike="noStrike">
                <a:solidFill>
                  <a:srgbClr val="2f5597"/>
                </a:solidFill>
                <a:latin typeface="Calibri"/>
              </a:rPr>
              <a:t>А зовут её просто, ребята, -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Содержимое 3" descr="http://mtdata.ru/u24/photo3720/20964472989-0/original.jpg"/>
          <p:cNvPicPr/>
          <p:nvPr/>
        </p:nvPicPr>
        <p:blipFill>
          <a:blip r:embed="rId1"/>
          <a:stretch/>
        </p:blipFill>
        <p:spPr>
          <a:xfrm>
            <a:off x="1747800" y="968400"/>
            <a:ext cx="31068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5701680" y="512280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03864"/>
                </a:solidFill>
                <a:latin typeface="Calibri"/>
              </a:rPr>
              <a:t>МАЛЬВ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0040" y="4154400"/>
            <a:ext cx="688500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843c0c"/>
                </a:solidFill>
                <a:latin typeface="Calibri"/>
              </a:rPr>
              <a:t>Кто по ёлкам ловко скач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843c0c"/>
                </a:solidFill>
                <a:latin typeface="Calibri"/>
              </a:rPr>
              <a:t>И взлетает на ду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843c0c"/>
                </a:solidFill>
                <a:latin typeface="Calibri"/>
              </a:rPr>
              <a:t>Кто в дупле орехи пряч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843c0c"/>
                </a:solidFill>
                <a:latin typeface="Calibri"/>
              </a:rPr>
              <a:t>Сушит на зиму гри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http://www.stihi.ru/pics/2016/08/29/8564.jpg"/>
          <p:cNvPicPr/>
          <p:nvPr/>
        </p:nvPicPr>
        <p:blipFill>
          <a:blip r:embed="rId1"/>
          <a:stretch/>
        </p:blipFill>
        <p:spPr>
          <a:xfrm>
            <a:off x="1655640" y="255600"/>
            <a:ext cx="70851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317240" y="3925440"/>
            <a:ext cx="4707000" cy="29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3857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385723"/>
                </a:solidFill>
                <a:latin typeface="Calibri"/>
              </a:rPr>
              <a:t>Стоят в поле  сестрицы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385723"/>
                </a:solidFill>
                <a:latin typeface="Calibri"/>
              </a:rPr>
              <a:t>Шапки зелёны, платья белё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http://www.playcast.ru/uploads/2017/03/19/22051213.png"/>
          <p:cNvPicPr/>
          <p:nvPr/>
        </p:nvPicPr>
        <p:blipFill>
          <a:blip r:embed="rId1"/>
          <a:stretch/>
        </p:blipFill>
        <p:spPr>
          <a:xfrm>
            <a:off x="3645000" y="0"/>
            <a:ext cx="5499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97000" y="240840"/>
            <a:ext cx="5378400" cy="24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"/>
              </a:rPr>
              <a:t>Ростом мал и пуза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"/>
              </a:rPr>
              <a:t>А заговорит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"/>
              </a:rPr>
              <a:t>Сто крикливых ребя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64160" indent="-1641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843c0c"/>
                </a:solidFill>
                <a:latin typeface="Calibri"/>
              </a:rPr>
              <a:t>Сразу заглуш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mywishlist.ru/pic/i/wish/orig/007/719/918.jpeg"/>
          <p:cNvPicPr/>
          <p:nvPr/>
        </p:nvPicPr>
        <p:blipFill>
          <a:blip r:embed="rId1"/>
          <a:stretch/>
        </p:blipFill>
        <p:spPr>
          <a:xfrm>
            <a:off x="4746600" y="2084400"/>
            <a:ext cx="39798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63240" y="228600"/>
            <a:ext cx="36846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203864"/>
                </a:solidFill>
                <a:latin typeface="Calibri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203864"/>
                </a:solidFill>
                <a:latin typeface="Calibri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203864"/>
                </a:solidFill>
                <a:latin typeface="Calibri"/>
              </a:rPr>
              <a:t>бараб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https://ds04.infourok.ru/uploads/ex/02d5/0001c40c-903cb27f/img3.jpg"/>
          <p:cNvPicPr/>
          <p:nvPr/>
        </p:nvPicPr>
        <p:blipFill>
          <a:blip r:embed="rId1"/>
          <a:stretch/>
        </p:blipFill>
        <p:spPr>
          <a:xfrm>
            <a:off x="2232000" y="2595600"/>
            <a:ext cx="55119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Учитель</cp:lastModifiedBy>
  <dcterms:modified xsi:type="dcterms:W3CDTF">2018-11-10T13:45:48Z</dcterms:modified>
  <cp:revision>37</cp:revision>
  <dc:subject/>
  <dc:title>Name of  presentation</dc:title>
</cp:coreProperties>
</file>