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9D1A-8990-4030-B826-CF4D1ACCB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73BF-22BC-4B5B-92A8-16D67D57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9C66-5EFA-40A7-87A4-DD3D2FA0A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5F72-C73D-412A-A55E-DAE2120DB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94A1-77EE-4D98-A79E-D36B2C495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D3D2-F357-4433-A8BD-67629989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9D68-9EBB-410F-BAC9-F8E5C03F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9C02-7EE7-478D-A22E-AF6CEDDF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0BFC-8729-4315-9231-463D40F8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FC03-0612-41D3-869E-CC96CEBB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5E76-ABBA-4047-9898-25AB951A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2D2F-39C7-43D4-966B-E21389E9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5904-D3DC-46AC-8A13-F8C910DD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AFB4-BC0E-4516-9C7F-29472E89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0851-E543-40B5-B5CF-858C6DB9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89B7-67BE-4A8D-B53F-9C8079D57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9BFB-F4C4-4BA0-88AB-B458805B3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D50E-6414-4B7E-BB9E-7C1E8EA8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4057-DA76-4B53-9CED-3334C6C9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DC59-0E93-4D09-9FF4-6B936D06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5FDB-41E0-406B-8D68-F4423054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7577-60B3-432A-8880-1B07139A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C924-B484-44F3-BA85-00BC6226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2CAD-D504-4DFD-B3BF-034552B6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D8D4-9EAF-4110-A793-D90FB98446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CBA8-DF04-4FFD-9BA6-92A3573BC09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324000" y="1129680"/>
            <a:ext cx="8496000" cy="46047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eec94"/>
                </a:solidFill>
                <a:latin typeface="Monotype Corsiva"/>
              </a:rPr>
              <a:t>Урок  литературного чтения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eec94"/>
                </a:solidFill>
                <a:latin typeface="Monotype Corsiva"/>
              </a:rPr>
              <a:t> </a:t>
            </a:r>
            <a:r>
              <a:rPr b="1" i="1" lang="ru-RU" sz="5400" spc="-1" strike="noStrike">
                <a:solidFill>
                  <a:srgbClr val="feec94"/>
                </a:solidFill>
                <a:latin typeface="Monotype Corsiva"/>
              </a:rPr>
              <a:t>ГКОУ СКОШИ № 31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eec94"/>
                </a:solidFill>
                <a:latin typeface="Monotype Corsiva"/>
              </a:rPr>
              <a:t>  </a:t>
            </a:r>
            <a:r>
              <a:rPr b="1" i="1" lang="ru-RU" sz="5400" spc="-1" strike="noStrike">
                <a:solidFill>
                  <a:srgbClr val="feec94"/>
                </a:solidFill>
                <a:latin typeface="Monotype Corsiva"/>
              </a:rPr>
              <a:t>4 «а» класс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ec94"/>
                </a:solidFill>
                <a:latin typeface="Monotype Corsiva"/>
              </a:rPr>
              <a:t>Учитель: Козлович С.А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oktyabrj.mp3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0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240039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8" descr="60725"/>
          <p:cNvPicPr/>
          <p:nvPr/>
        </p:nvPicPr>
        <p:blipFill>
          <a:blip r:embed="rId1"/>
          <a:stretch/>
        </p:blipFill>
        <p:spPr>
          <a:xfrm>
            <a:off x="4427640" y="404640"/>
            <a:ext cx="4211640" cy="3159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bob_rez_004"/>
          <p:cNvPicPr/>
          <p:nvPr/>
        </p:nvPicPr>
        <p:blipFill>
          <a:blip r:embed="rId2"/>
          <a:stretch/>
        </p:blipFill>
        <p:spPr>
          <a:xfrm>
            <a:off x="395280" y="404640"/>
            <a:ext cx="3672000" cy="31989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0"/>
          <p:cNvSpPr/>
          <p:nvPr/>
        </p:nvSpPr>
        <p:spPr>
          <a:xfrm>
            <a:off x="-965160" y="4797360"/>
            <a:ext cx="1144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Monotype Corsiva"/>
              </a:rPr>
              <a:t>Резьба – рисунок, вырезанный из дерева или кост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Monotype Corsiva"/>
              </a:rPr>
              <a:t>Лазурь – яркий светло-синий цве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9" descr="22151982_file1485"/>
          <p:cNvPicPr/>
          <p:nvPr/>
        </p:nvPicPr>
        <p:blipFill>
          <a:blip r:embed="rId1"/>
          <a:stretch/>
        </p:blipFill>
        <p:spPr>
          <a:xfrm>
            <a:off x="5076720" y="4437000"/>
            <a:ext cx="3816360" cy="2233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5902"/>
          <p:cNvPicPr/>
          <p:nvPr/>
        </p:nvPicPr>
        <p:blipFill>
          <a:blip r:embed="rId2"/>
          <a:stretch/>
        </p:blipFill>
        <p:spPr>
          <a:xfrm>
            <a:off x="2124000" y="260280"/>
            <a:ext cx="5184720" cy="3888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1190119717_e"/>
          <p:cNvPicPr/>
          <p:nvPr/>
        </p:nvPicPr>
        <p:blipFill>
          <a:blip r:embed="rId3"/>
          <a:stretch/>
        </p:blipFill>
        <p:spPr>
          <a:xfrm>
            <a:off x="684360" y="4365720"/>
            <a:ext cx="3382920" cy="2279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60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                         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Picture 20" descr="22151982_file1485"/>
          <p:cNvPicPr/>
          <p:nvPr/>
        </p:nvPicPr>
        <p:blipFill>
          <a:blip r:embed="rId1"/>
          <a:stretch/>
        </p:blipFill>
        <p:spPr>
          <a:xfrm>
            <a:off x="250920" y="189000"/>
            <a:ext cx="2952720" cy="2232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1"/>
          <p:cNvSpPr/>
          <p:nvPr/>
        </p:nvSpPr>
        <p:spPr>
          <a:xfrm>
            <a:off x="-912960" y="5315040"/>
            <a:ext cx="1053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Monotype Corsiva"/>
              </a:rPr>
              <a:t>Терем – в древности на Руси дом в виде башни. </a:t>
            </a:r>
            <a:br>
              <a:rPr sz="3200"/>
            </a:br>
            <a:r>
              <a:rPr b="1" lang="ru-RU" sz="3200" spc="-1" strike="noStrike">
                <a:solidFill>
                  <a:srgbClr val="9966ff"/>
                </a:solidFill>
                <a:latin typeface="Monotype Corsiva"/>
              </a:rPr>
              <a:t>Лиловый – светло-фиолетовый цвет.</a:t>
            </a:r>
            <a:br>
              <a:rPr sz="3200"/>
            </a:br>
            <a:r>
              <a:rPr b="1" lang="ru-RU" sz="3200" spc="-1" strike="noStrike">
                <a:solidFill>
                  <a:srgbClr val="a50021"/>
                </a:solidFill>
                <a:latin typeface="Monotype Corsiva"/>
              </a:rPr>
              <a:t>Багряный – красный густого, темного оттен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22" descr="5902"/>
          <p:cNvPicPr/>
          <p:nvPr/>
        </p:nvPicPr>
        <p:blipFill>
          <a:blip r:embed="rId2"/>
          <a:stretch/>
        </p:blipFill>
        <p:spPr>
          <a:xfrm>
            <a:off x="2124000" y="170028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3" descr="1190119717_e"/>
          <p:cNvPicPr/>
          <p:nvPr/>
        </p:nvPicPr>
        <p:blipFill>
          <a:blip r:embed="rId3"/>
          <a:stretch/>
        </p:blipFill>
        <p:spPr>
          <a:xfrm>
            <a:off x="5364000" y="2924280"/>
            <a:ext cx="3337200" cy="21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0" y="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Прямоугольник 1"/>
          <p:cNvSpPr/>
          <p:nvPr/>
        </p:nvSpPr>
        <p:spPr>
          <a:xfrm>
            <a:off x="971640" y="189000"/>
            <a:ext cx="7561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Times New Roman"/>
              </a:rPr>
              <a:t>Физкультминутка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етер тихо клен качает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право, влево наклоняет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з – накло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И два – наклон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Зашумел листвою клен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етер тихо клен качае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И листочки обрывает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Листья желтые летят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 нашем парке листопад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1000">
    <p:wedg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ловарь настроени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826920" y="907920"/>
          <a:ext cx="7715520" cy="5724720"/>
        </p:xfrm>
        <a:graphic>
          <a:graphicData uri="http://schemas.openxmlformats.org/drawingml/2006/table">
            <a:tbl>
              <a:tblPr/>
              <a:tblGrid>
                <a:gridCol w="3899160"/>
                <a:gridCol w="3816360"/>
              </a:tblGrid>
              <a:tr h="5762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r>
                        <a:rPr b="0" lang="lv-LV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жествен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lv-LV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торжен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0" lang="lv-LV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арован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r>
                        <a:rPr b="0" lang="lv-LV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дост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r>
                        <a:rPr b="0" lang="lv-LV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дуж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lv-LV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сел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lv-LV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хищен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lv-LV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торженно- радост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r>
                        <a:rPr b="0" lang="lv-LV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гк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0" lang="lv-LV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ив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в</a:t>
                      </a:r>
                      <a:r>
                        <a:rPr b="0" lang="lv-LV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тло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м</a:t>
                      </a:r>
                      <a:r>
                        <a:rPr b="0" lang="lv-LV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ротворен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r>
                        <a:rPr b="0" lang="lv-LV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пл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руст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чаль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рач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думчив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ягост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весел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рест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зволнован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корб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ревож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знадеж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учитель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6" name="Object 36"/>
          <p:cNvGraphicFramePr/>
          <p:nvPr/>
        </p:nvGraphicFramePr>
        <p:xfrm>
          <a:off x="7423200" y="819000"/>
          <a:ext cx="11412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23200" y="819000"/>
                    <a:ext cx="11412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ec94"/>
                </a:solidFill>
                <a:latin typeface="Monotype Corsiva"/>
              </a:rPr>
              <a:t>Домашнее задание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раницы учебника 152 – 153, выразительное чтение стихотвор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по желанию - наизусть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Monotype Corsiva"/>
              </a:rPr>
              <a:t>Спасибо за урок!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1" name="Picture 4" descr="autumn_13"/>
          <p:cNvPicPr/>
          <p:nvPr/>
        </p:nvPicPr>
        <p:blipFill>
          <a:blip r:embed="rId1"/>
          <a:stretch/>
        </p:blipFill>
        <p:spPr>
          <a:xfrm>
            <a:off x="1547640" y="1628640"/>
            <a:ext cx="5865840" cy="4400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79280" y="333360"/>
            <a:ext cx="43164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Дом со всех сторон открыт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Он резною крышей крыт. Заходи в зелёный дом –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Чудеса увидишь в нём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2" descr="C:\Users\User\Desktop\article77240.jpg"/>
          <p:cNvPicPr/>
          <p:nvPr/>
        </p:nvPicPr>
        <p:blipFill>
          <a:blip r:embed="rId1"/>
          <a:stretch/>
        </p:blipFill>
        <p:spPr>
          <a:xfrm>
            <a:off x="4643280" y="333360"/>
            <a:ext cx="4321440" cy="547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1476360" y="0"/>
            <a:ext cx="60483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eec94"/>
                </a:solidFill>
                <a:latin typeface="Monotype Corsiva"/>
              </a:rPr>
              <a:t>И. И. Левитан «Золотая осень»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8" descr="823226_golden_autumn"/>
          <p:cNvPicPr/>
          <p:nvPr/>
        </p:nvPicPr>
        <p:blipFill>
          <a:blip r:embed="rId1"/>
          <a:stretch/>
        </p:blipFill>
        <p:spPr>
          <a:xfrm>
            <a:off x="971640" y="1844640"/>
            <a:ext cx="7246800" cy="4830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9" name="Picture 2" descr="C:\Users\User\Desktop\Без названия.jpg"/>
          <p:cNvPicPr/>
          <p:nvPr/>
        </p:nvPicPr>
        <p:blipFill>
          <a:blip r:embed="rId1"/>
          <a:stretch/>
        </p:blipFill>
        <p:spPr>
          <a:xfrm>
            <a:off x="755640" y="620640"/>
            <a:ext cx="7704000" cy="5761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Picture 2" descr="C:\Users\User\Desktop\images.jpg"/>
          <p:cNvPicPr/>
          <p:nvPr/>
        </p:nvPicPr>
        <p:blipFill>
          <a:blip r:embed="rId1"/>
          <a:stretch/>
        </p:blipFill>
        <p:spPr>
          <a:xfrm>
            <a:off x="900000" y="907920"/>
            <a:ext cx="7272360" cy="5329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Picture 4" descr="PicsDesktop_net_53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37236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"/>
          <p:cNvSpPr/>
          <p:nvPr/>
        </p:nvSpPr>
        <p:spPr>
          <a:xfrm>
            <a:off x="4716360" y="404640"/>
            <a:ext cx="39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Музыка: Чайковский «Осенняя песня» из цикла «Времена года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Шопен «Ноктюрн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ec94"/>
                </a:solidFill>
                <a:latin typeface="Monotype Corsiva"/>
              </a:rPr>
              <a:t>Иван Алексеевич БУНИН</a:t>
            </a:r>
            <a:br>
              <a:rPr sz="6000"/>
            </a:b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6" name="Picture 14" descr="31-010"/>
          <p:cNvPicPr/>
          <p:nvPr/>
        </p:nvPicPr>
        <p:blipFill>
          <a:blip r:embed="rId1"/>
          <a:stretch/>
        </p:blipFill>
        <p:spPr>
          <a:xfrm>
            <a:off x="539640" y="1484280"/>
            <a:ext cx="3810240" cy="42418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6"/>
          <p:cNvSpPr/>
          <p:nvPr/>
        </p:nvSpPr>
        <p:spPr>
          <a:xfrm>
            <a:off x="4572000" y="4149720"/>
            <a:ext cx="417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Так знать и любить природу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к умеет Бунин – мало кто умее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лагодаря этой любви поэт смотри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алеко и зорко...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лександр Бло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6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1360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ec94"/>
                </a:solidFill>
                <a:latin typeface="Monotype Corsiva"/>
              </a:rPr>
              <a:t>И.А.Бунин «ЛИСТОПАД»</a:t>
            </a:r>
            <a:br>
              <a:rPr sz="4000"/>
            </a:b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Picture 13" descr="44"/>
          <p:cNvPicPr/>
          <p:nvPr/>
        </p:nvPicPr>
        <p:blipFill>
          <a:blip r:embed="rId1"/>
          <a:stretch/>
        </p:blipFill>
        <p:spPr>
          <a:xfrm>
            <a:off x="900000" y="1628640"/>
            <a:ext cx="7020000" cy="4569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eec94"/>
                </a:solidFill>
                <a:latin typeface="Times New Roman"/>
              </a:rPr>
              <a:t>Определите тему стихотворения «Листопад» ( о чем это стихотворение?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eec94"/>
                </a:solidFill>
                <a:latin typeface="Times New Roman"/>
              </a:rPr>
              <a:t>Определите главную мысль произведения (для чего И.А.Бунин написал это стихотворение?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02:28:03Z</dcterms:created>
  <dc:creator>PS</dc:creator>
  <dc:description/>
  <dc:language>en-US</dc:language>
  <cp:lastModifiedBy>RePack by Diakov</cp:lastModifiedBy>
  <dcterms:modified xsi:type="dcterms:W3CDTF">2017-11-16T15:25:57Z</dcterms:modified>
  <cp:revision>40</cp:revision>
  <dc:subject/>
  <dc:title>Slide 1</dc:title>
</cp:coreProperties>
</file>