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2B6-4C9C-4629-89F2-45BD0BC7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F276-51FD-4D49-A763-51B5C038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E011-A0E7-4634-9C9B-2159318E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899B-6FCA-4BF8-A1AA-EF609388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38FC-D6B0-4594-9BBF-0ABB8AEB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74F5-1725-4E0E-B988-4637EF03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6FBE-6ACB-4551-A124-2037512C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CD4D-5431-40B9-8C57-AC5D7683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D502-9FE8-470D-ABE4-A711DA3C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EA20-0485-42F3-972E-30A93906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F1C9-4837-4661-99DA-A4083D34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CBC6-6A71-4CA1-8AD0-A3265981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DF77-D921-44A7-A52C-7D77FA04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6C61-CA84-4FC6-A7B8-0AD318F0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4B3A-C206-40E7-B1C8-DBCA1404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026F-4ADA-4C4F-86C9-6658F24C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0AF0-2030-46B9-B9F7-260C0660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DED-4C73-4A6C-9105-5003F16F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760-0CA7-485F-831D-C40DBD3D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BE5-DEE5-44A6-A073-B59F4C88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4BA-8FD2-43B9-B075-D9A51F12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B43-8E46-419D-AEC3-DEB1915A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F4C-4BED-4914-9B7A-AA47B7DE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92A-FC3F-43F2-8653-7A6C809D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385E-5065-4C43-85E9-3DEEC49D3F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78C5-A3FD-43D6-9C59-BA45A23E9C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324000" y="1129680"/>
            <a:ext cx="8496000" cy="46047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eec94"/>
                </a:solidFill>
                <a:latin typeface="Monotype Corsiva"/>
              </a:rPr>
              <a:t>Урок  литературного чтени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eec94"/>
                </a:solidFill>
                <a:latin typeface="Monotype Corsiva"/>
              </a:rPr>
              <a:t> </a:t>
            </a:r>
            <a:r>
              <a:rPr b="1" i="1" lang="ru-RU" sz="5400" spc="-1" strike="noStrike">
                <a:solidFill>
                  <a:srgbClr val="feec94"/>
                </a:solidFill>
                <a:latin typeface="Monotype Corsiva"/>
              </a:rPr>
              <a:t>ГКОУ СКОШИ № 31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eec94"/>
                </a:solidFill>
                <a:latin typeface="Monotype Corsiva"/>
              </a:rPr>
              <a:t>  </a:t>
            </a:r>
            <a:r>
              <a:rPr b="1" i="1" lang="ru-RU" sz="5400" spc="-1" strike="noStrike">
                <a:solidFill>
                  <a:srgbClr val="feec94"/>
                </a:solidFill>
                <a:latin typeface="Monotype Corsiva"/>
              </a:rPr>
              <a:t>4 «а» клас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Monotype Corsiva"/>
              </a:rPr>
              <a:t>Учитель: Козлович С.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oktyabrj.mp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4003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60725"/>
          <p:cNvPicPr/>
          <p:nvPr/>
        </p:nvPicPr>
        <p:blipFill>
          <a:blip r:embed="rId1"/>
          <a:stretch/>
        </p:blipFill>
        <p:spPr>
          <a:xfrm>
            <a:off x="4427640" y="404640"/>
            <a:ext cx="4211640" cy="3159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bob_rez_004"/>
          <p:cNvPicPr/>
          <p:nvPr/>
        </p:nvPicPr>
        <p:blipFill>
          <a:blip r:embed="rId2"/>
          <a:stretch/>
        </p:blipFill>
        <p:spPr>
          <a:xfrm>
            <a:off x="395280" y="404640"/>
            <a:ext cx="3672000" cy="31989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-965160" y="4797360"/>
            <a:ext cx="1144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Monotype Corsiva"/>
              </a:rPr>
              <a:t>Резьба – рисунок, вырезанный из дерева или к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Monotype Corsiva"/>
              </a:rPr>
              <a:t>Лазурь – яркий светло-синий цве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22151982_file1485"/>
          <p:cNvPicPr/>
          <p:nvPr/>
        </p:nvPicPr>
        <p:blipFill>
          <a:blip r:embed="rId1"/>
          <a:stretch/>
        </p:blipFill>
        <p:spPr>
          <a:xfrm>
            <a:off x="5076720" y="4437000"/>
            <a:ext cx="3816360" cy="2233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5902"/>
          <p:cNvPicPr/>
          <p:nvPr/>
        </p:nvPicPr>
        <p:blipFill>
          <a:blip r:embed="rId2"/>
          <a:stretch/>
        </p:blipFill>
        <p:spPr>
          <a:xfrm>
            <a:off x="2124000" y="260280"/>
            <a:ext cx="5184720" cy="388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1190119717_e"/>
          <p:cNvPicPr/>
          <p:nvPr/>
        </p:nvPicPr>
        <p:blipFill>
          <a:blip r:embed="rId3"/>
          <a:stretch/>
        </p:blipFill>
        <p:spPr>
          <a:xfrm>
            <a:off x="684360" y="4365720"/>
            <a:ext cx="3382920" cy="2279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20" descr="22151982_file1485"/>
          <p:cNvPicPr/>
          <p:nvPr/>
        </p:nvPicPr>
        <p:blipFill>
          <a:blip r:embed="rId1"/>
          <a:stretch/>
        </p:blipFill>
        <p:spPr>
          <a:xfrm>
            <a:off x="250920" y="189000"/>
            <a:ext cx="2952720" cy="223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1"/>
          <p:cNvSpPr/>
          <p:nvPr/>
        </p:nvSpPr>
        <p:spPr>
          <a:xfrm>
            <a:off x="-912960" y="5315040"/>
            <a:ext cx="1053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Monotype Corsiva"/>
              </a:rPr>
              <a:t>Терем – в древности на Руси дом в виде башни. </a:t>
            </a:r>
            <a:br>
              <a:rPr sz="3200"/>
            </a:br>
            <a:r>
              <a:rPr b="1" lang="ru-RU" sz="3200" spc="-1" strike="noStrike">
                <a:solidFill>
                  <a:srgbClr val="9966ff"/>
                </a:solidFill>
                <a:latin typeface="Monotype Corsiva"/>
              </a:rPr>
              <a:t>Лиловый – светло-фиолетовый цвет.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Багряный – красный густого, темного оттен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22" descr="5902"/>
          <p:cNvPicPr/>
          <p:nvPr/>
        </p:nvPicPr>
        <p:blipFill>
          <a:blip r:embed="rId2"/>
          <a:stretch/>
        </p:blipFill>
        <p:spPr>
          <a:xfrm>
            <a:off x="2124000" y="170028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1190119717_e"/>
          <p:cNvPicPr/>
          <p:nvPr/>
        </p:nvPicPr>
        <p:blipFill>
          <a:blip r:embed="rId3"/>
          <a:stretch/>
        </p:blipFill>
        <p:spPr>
          <a:xfrm>
            <a:off x="5364000" y="2924280"/>
            <a:ext cx="3337200" cy="21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рямоугольник 1"/>
          <p:cNvSpPr/>
          <p:nvPr/>
        </p:nvSpPr>
        <p:spPr>
          <a:xfrm>
            <a:off x="971640" y="189000"/>
            <a:ext cx="7561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Times New Roman"/>
              </a:rPr>
              <a:t>Физкультминутк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етер тихо клен качает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право, влево наклоняет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з – накло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И два – наклон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шумел листвою клен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етер тихо клен качае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И листочки обрыва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истья желтые летят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 нашем парке листопад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1000"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ловарь настроен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26920" y="907920"/>
          <a:ext cx="7715520" cy="5724720"/>
        </p:xfrm>
        <a:graphic>
          <a:graphicData uri="http://schemas.openxmlformats.org/drawingml/2006/table">
            <a:tbl>
              <a:tblPr/>
              <a:tblGrid>
                <a:gridCol w="3899160"/>
                <a:gridCol w="3816360"/>
              </a:tblGrid>
              <a:tr h="576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жеств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торж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рова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ост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уж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ел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хищ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торженно- радост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г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ив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тло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ротвор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lv-LV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пл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руст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чаль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рач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думчив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ягост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весел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ест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зволнова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корб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евож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надеж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читель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Object 36"/>
          <p:cNvGraphicFramePr/>
          <p:nvPr/>
        </p:nvGraphicFramePr>
        <p:xfrm>
          <a:off x="7423200" y="819000"/>
          <a:ext cx="11412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23200" y="819000"/>
                    <a:ext cx="11412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Monotype Corsiva"/>
              </a:rPr>
              <a:t>Домашнее задание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аницы учебника 152 – 153, выразительное чтение стихотвор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по желанию - наизусть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Monotype Corsiva"/>
              </a:rPr>
              <a:t>Спасибо за урок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4" descr="autumn_13"/>
          <p:cNvPicPr/>
          <p:nvPr/>
        </p:nvPicPr>
        <p:blipFill>
          <a:blip r:embed="rId1"/>
          <a:stretch/>
        </p:blipFill>
        <p:spPr>
          <a:xfrm>
            <a:off x="1547640" y="1628640"/>
            <a:ext cx="5865840" cy="440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333360"/>
            <a:ext cx="4316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Дом со всех сторон откры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н резною крышей крыт. Заходи в зелёный дом 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Чудеса увидишь в нём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2" descr="C:\Users\User\Desktop\article77240.jpg"/>
          <p:cNvPicPr/>
          <p:nvPr/>
        </p:nvPicPr>
        <p:blipFill>
          <a:blip r:embed="rId1"/>
          <a:stretch/>
        </p:blipFill>
        <p:spPr>
          <a:xfrm>
            <a:off x="4643280" y="333360"/>
            <a:ext cx="4321440" cy="54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1476360" y="0"/>
            <a:ext cx="60483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eec94"/>
                </a:solidFill>
                <a:latin typeface="Monotype Corsiva"/>
              </a:rPr>
              <a:t>И. И. Левитан «Золотая осень»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8" descr="823226_golden_autumn"/>
          <p:cNvPicPr/>
          <p:nvPr/>
        </p:nvPicPr>
        <p:blipFill>
          <a:blip r:embed="rId1"/>
          <a:stretch/>
        </p:blipFill>
        <p:spPr>
          <a:xfrm>
            <a:off x="971640" y="1844640"/>
            <a:ext cx="7246800" cy="4830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Picture 2" descr="C:\Users\User\Desktop\Без названия.jpg"/>
          <p:cNvPicPr/>
          <p:nvPr/>
        </p:nvPicPr>
        <p:blipFill>
          <a:blip r:embed="rId1"/>
          <a:stretch/>
        </p:blipFill>
        <p:spPr>
          <a:xfrm>
            <a:off x="755640" y="620640"/>
            <a:ext cx="7704000" cy="576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2" descr="C:\Users\User\Desktop\images.jpg"/>
          <p:cNvPicPr/>
          <p:nvPr/>
        </p:nvPicPr>
        <p:blipFill>
          <a:blip r:embed="rId1"/>
          <a:stretch/>
        </p:blipFill>
        <p:spPr>
          <a:xfrm>
            <a:off x="900000" y="907920"/>
            <a:ext cx="7272360" cy="532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4" descr="PicsDesktop_net_53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"/>
          <p:cNvSpPr/>
          <p:nvPr/>
        </p:nvSpPr>
        <p:spPr>
          <a:xfrm>
            <a:off x="4716360" y="40464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Музыка: Чайковский «Осенняя песня» из цикла «Времена год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Шопен «Ноктюрн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Monotype Corsiva"/>
              </a:rPr>
              <a:t>Иван Алексеевич БУНИН</a:t>
            </a:r>
            <a:br>
              <a:rPr sz="6000"/>
            </a:b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14" descr="31-010"/>
          <p:cNvPicPr/>
          <p:nvPr/>
        </p:nvPicPr>
        <p:blipFill>
          <a:blip r:embed="rId1"/>
          <a:stretch/>
        </p:blipFill>
        <p:spPr>
          <a:xfrm>
            <a:off x="539640" y="1484280"/>
            <a:ext cx="3810240" cy="42418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6"/>
          <p:cNvSpPr/>
          <p:nvPr/>
        </p:nvSpPr>
        <p:spPr>
          <a:xfrm>
            <a:off x="4572000" y="4149720"/>
            <a:ext cx="41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Так знать и любить природу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 умеет Бунин – мало кто уме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лагодаря этой любви поэт смотри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леко и зорко...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лександр Бл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1360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Monotype Corsiva"/>
              </a:rPr>
              <a:t>И.А.Бунин «ЛИСТОПАД»</a:t>
            </a:r>
            <a:br>
              <a:rPr sz="4000"/>
            </a:b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13" descr="44"/>
          <p:cNvPicPr/>
          <p:nvPr/>
        </p:nvPicPr>
        <p:blipFill>
          <a:blip r:embed="rId1"/>
          <a:stretch/>
        </p:blipFill>
        <p:spPr>
          <a:xfrm>
            <a:off x="900000" y="1628640"/>
            <a:ext cx="7020000" cy="4569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eec94"/>
                </a:solidFill>
                <a:latin typeface="Times New Roman"/>
              </a:rPr>
              <a:t>Определите тему стихотворения «Листопад» ( о чем это стихотворение?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eec94"/>
                </a:solidFill>
                <a:latin typeface="Times New Roman"/>
              </a:rPr>
              <a:t>Определите главную мысль произведения (для чего И.А.Бунин написал это стихотворение?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2:28:03Z</dcterms:created>
  <dc:creator>PS</dc:creator>
  <dc:description/>
  <dc:language>en-US</dc:language>
  <cp:lastModifiedBy>RePack by Diakov</cp:lastModifiedBy>
  <dcterms:modified xsi:type="dcterms:W3CDTF">2017-11-16T15:25:57Z</dcterms:modified>
  <cp:revision>40</cp:revision>
  <dc:subject/>
  <dc:title>Slide 1</dc:title>
</cp:coreProperties>
</file>