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27E-847F-49AF-853F-BE6EB1B8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96E-7708-4AF8-B855-66AA6A5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D8B-D1A7-46BE-9DEB-1F168967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5B5-32FA-48AA-A7A8-BB8A8304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78C-E9CC-4ED4-8E82-31A8BAD4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FEF-97E7-4052-BCBA-D4FE4433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4F9-A096-4A47-A4BF-10AA4DBC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6D4-71A2-4968-96C3-5C0D36A1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DB7-181C-4203-9997-758C0149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0C4-0C8F-4EDF-882C-66241CC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999-3C44-4BC7-A574-DA65B96E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117-8799-4136-825B-BDDEA10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43A01-1350-45BB-84D3-2A506365732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рок технологи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 учитель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нахова Фироза Над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ЛИЦЕВАЯ ПЕТ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</a:rPr>
              <a:t>Правую спицу вводят в петлю спереди (нить остаётся за работой) и, захватив рабочую нить с указательного пальца, протягивают её в петлю и переводят новую петлю с левой спицы на пра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0" y="3213000"/>
            <a:ext cx="403848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УСЛОВНО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                </a:t>
            </a: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38292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dur="indefinite" fill="hold">
                      <p:stCondLst>
                        <p:cond delay="0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ИЗНАНОЧНАЯ ПЕТ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</a:rPr>
              <a:t>Правую спицу вводят в петлю справа налево (нить перед работой), обводят нитью против часовой стрелки и протягивают через петлю. Образовавшуюся петлю переводят на правую сп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3141720"/>
            <a:ext cx="403848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УСЛОВНО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                </a:t>
            </a: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–</a:t>
            </a: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374472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dur="indefinite" fill="hold">
                      <p:stCondLst>
                        <p:cond delay="0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dur="indefinite" fill="hold">
                            <p:stCondLst>
                              <p:cond delay="4800"/>
                            </p:stCondLst>
                            <p:childTnLst>
                              <p:par>
                                <p:cTn id="40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dur="indefinite" fill="hold">
                            <p:stCondLst>
                              <p:cond delay="9800"/>
                            </p:stCondLst>
                            <p:childTnLst>
                              <p:par>
                                <p:cTn id="41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dur="indefinite" fill="hold">
                            <p:stCondLst>
                              <p:cond delay="10800"/>
                            </p:stCondLst>
                            <p:childTnLst>
                              <p:par>
                                <p:cTn id="4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dur="indefinite" fill="hold">
                            <p:stCondLst>
                              <p:cond delay="11800"/>
                            </p:stCondLst>
                            <p:childTnLst>
                              <p:par>
                                <p:cTn id="42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12800"/>
                            </p:stCondLst>
                            <p:childTnLst>
                              <p:par>
                                <p:cTn id="4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dur="indefinite" fill="hold">
                            <p:stCondLst>
                              <p:cond delay="13800"/>
                            </p:stCondLst>
                            <p:childTnLst>
                              <p:par>
                                <p:cTn id="43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ПЛАТОЧНАЯ  ВЯ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</a:rPr>
              <a:t>Это один из самых распространённых видов вязки. Полотно выглядит одинаково с обеих сторон. В лицевых и изнаночных рядах все петли вяжут лицев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0" b="2109"/>
          <a:stretch/>
        </p:blipFill>
        <p:spPr>
          <a:xfrm>
            <a:off x="4788000" y="1700280"/>
            <a:ext cx="3671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0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45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КРОМОЧНЫЕ ПЕ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1e7ab8"/>
                </a:solidFill>
                <a:latin typeface="Arial"/>
              </a:rPr>
              <a:t>В ПЛОСКИХ ИЗДЕЛИЯХ, НЕЗАВИСИМО ОТ УЗОРА И КОЛИЧЕСТВА ПЕТЕЛЬ, ВСЕГДА НАБИРАЮТ ДВЕ ЛИШНИЕ – КРОМОЧНЫЕ – ПЕТЛ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1e7ab8"/>
                </a:solidFill>
                <a:latin typeface="Arial"/>
              </a:rPr>
              <a:t>В ЗАВИСИМОСТИ ОТ ТОГО, КАК ВЫПОЛНЕНЫ КРОМОЧНЫЕ ПЕТЛИ, КРАЙ ПОЛОТНА МОЖЕТ БЫТЬ РОВНЫМ И УЗЕЛКОВЫ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843280" y="3284280"/>
            <a:ext cx="32414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e7ab8"/>
                </a:solidFill>
                <a:latin typeface="Arial"/>
                <a:ea typeface="Microsoft YaHei"/>
              </a:rPr>
              <a:t>РОВ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e7ab8"/>
                </a:solidFill>
                <a:latin typeface="Arial"/>
                <a:ea typeface="Microsoft YaHei"/>
              </a:rPr>
              <a:t>УЗЕЛКОВ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519280" cy="2367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724360" y="3429000"/>
            <a:ext cx="3011760" cy="237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5084640"/>
            <a:ext cx="1296720" cy="21600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84040" y="4149720"/>
            <a:ext cx="1303560" cy="43164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0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4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5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640" y="274680"/>
            <a:ext cx="41767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99"/>
                </a:solidFill>
                <a:latin typeface="Arial"/>
              </a:rPr>
              <a:t>СПИЦАМИ МОЖНО СВЯЗАТЬ ЛЮБОЕ ИЗДЕЛ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4206600" cy="2620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860480" cy="295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2568600" cy="352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2665440" cy="200988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dur="indefinite" fill="hold">
                      <p:stCondLst>
                        <p:cond delay="0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51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51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51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КАК  КРАСИ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21000000">
            <a:off x="2914200" y="1198080"/>
            <a:ext cx="2048040" cy="29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rot="420000">
            <a:off x="4572000" y="3643200"/>
            <a:ext cx="20480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300000">
            <a:off x="6373440" y="1196640"/>
            <a:ext cx="2376360" cy="4319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21000000">
            <a:off x="536400" y="1558440"/>
            <a:ext cx="2292480" cy="484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dur="indefinite" fill="hold">
                      <p:stCondLst>
                        <p:cond delay="0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6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56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16000" y="476280"/>
            <a:ext cx="7272360" cy="18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МСЯ ВЯЗАТЬ СПИЦАМ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561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6699"/>
                </a:solidFill>
                <a:latin typeface="Arial"/>
              </a:rPr>
              <a:t>ЦЕЛИ   УР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ознакомить учащихся с новым видом рукоделия – вязанием спицами, инструментами и материалами, используемыми при вяз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одемонстрировать образцы готовых изде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Microsoft YaHei"/>
              </a:rPr>
              <a:t>Учить приёмам вязания спицами основных видов петель, читать схемы вяз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Microsoft YaHei"/>
              </a:rPr>
              <a:t>Развивать координацию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Microsoft YaHei"/>
              </a:rPr>
              <a:t>Содействовать воспитанию художественного в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fill="hold">
                            <p:stCondLst>
                              <p:cond delay="775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102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139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158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</a:rPr>
              <a:t>СПИЦЫ  БЫВА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1e7ab8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e7ab8"/>
                </a:solidFill>
                <a:latin typeface="Times New Roman"/>
              </a:rPr>
              <a:t>ПЛАСТМАССОВЫ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1e7ab8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e7ab8"/>
                </a:solidFill>
                <a:latin typeface="Times New Roman"/>
              </a:rPr>
              <a:t>МЕТАЛЛИЧЕСКИ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1e7ab8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e7ab8"/>
                </a:solidFill>
                <a:latin typeface="Times New Roman"/>
              </a:rPr>
              <a:t>КОСТЯНЫ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1e7ab8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e7ab8"/>
                </a:solidFill>
                <a:latin typeface="Times New Roman"/>
              </a:rPr>
              <a:t>ДЕРЕВЯН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6699"/>
                </a:solidFill>
                <a:latin typeface="Arial"/>
              </a:rPr>
              <a:t>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910" t="1441" r="-959" b="4408"/>
          <a:stretch/>
        </p:blipFill>
        <p:spPr>
          <a:xfrm>
            <a:off x="4572000" y="1700280"/>
            <a:ext cx="4032360" cy="3744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9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6699"/>
                </a:solidFill>
                <a:latin typeface="Arial"/>
              </a:rPr>
              <a:t>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</a:rPr>
              <a:t>Материалом для вязания служит пряжа. Самыми популярными сортами пряжи являются шерсть, полушерсть, хлопок, мохер, ангора и фасонная пря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3011" r="771" b="0"/>
          <a:stretch/>
        </p:blipFill>
        <p:spPr>
          <a:xfrm>
            <a:off x="4643280" y="1700280"/>
            <a:ext cx="4105440" cy="331308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0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144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14340"/>
                            </p:stCondLst>
                            <p:childTnLst>
                              <p:par>
                                <p:cTn id="13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ВИДЫ  ПРЯ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4494" b="3436"/>
          <a:stretch/>
        </p:blipFill>
        <p:spPr>
          <a:xfrm>
            <a:off x="826920" y="4653000"/>
            <a:ext cx="158292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4407" t="0" r="0" b="0"/>
          <a:stretch/>
        </p:blipFill>
        <p:spPr>
          <a:xfrm>
            <a:off x="826920" y="3068640"/>
            <a:ext cx="1584360" cy="134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5450" r="0" b="0"/>
          <a:stretch/>
        </p:blipFill>
        <p:spPr>
          <a:xfrm>
            <a:off x="6804000" y="1197000"/>
            <a:ext cx="1657440" cy="126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rcRect l="0" t="0" r="-4255" b="3302"/>
          <a:stretch/>
        </p:blipFill>
        <p:spPr>
          <a:xfrm>
            <a:off x="6804000" y="2924280"/>
            <a:ext cx="1728720" cy="129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0" r="87" b="8752"/>
          <a:stretch/>
        </p:blipFill>
        <p:spPr>
          <a:xfrm>
            <a:off x="6804000" y="465300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640" y="1413000"/>
            <a:ext cx="1657440" cy="134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ШЕР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МОХ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ПОЛУШЕР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АН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ХЛО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ФАСОННАЯ ПРЯ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408040" y="1841400"/>
            <a:ext cx="1230120" cy="7776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35640" y="1913040"/>
            <a:ext cx="1441440" cy="58248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08040" y="3141720"/>
            <a:ext cx="726840" cy="71892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435640" y="3641760"/>
            <a:ext cx="1368360" cy="7776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408400" y="4292640"/>
            <a:ext cx="1303200" cy="79200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4941720"/>
            <a:ext cx="1079640" cy="14292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0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dur="indefinite" fill="hold">
                            <p:stCondLst>
                              <p:cond delay="2338"/>
                            </p:stCondLst>
                            <p:childTnLst>
                              <p:par>
                                <p:cTn id="15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3338"/>
                            </p:stCondLst>
                            <p:childTnLst>
                              <p:par>
                                <p:cTn id="15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dur="indefinite" fill="hold">
                            <p:stCondLst>
                              <p:cond delay="4338"/>
                            </p:stCondLst>
                            <p:childTnLst>
                              <p:par>
                                <p:cTn id="16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5338"/>
                            </p:stCondLst>
                            <p:childTnLst>
                              <p:par>
                                <p:cTn id="17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fill="hold">
                            <p:stCondLst>
                              <p:cond delay="6338"/>
                            </p:stCondLst>
                            <p:childTnLst>
                              <p:par>
                                <p:cTn id="17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dur="indefinite" fill="hold">
                            <p:stCondLst>
                              <p:cond delay="7338"/>
                            </p:stCondLst>
                            <p:childTnLst>
                              <p:par>
                                <p:cTn id="18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8338"/>
                            </p:stCondLst>
                            <p:childTnLst>
                              <p:par>
                                <p:cTn id="1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dur="indefinite" fill="hold">
                            <p:stCondLst>
                              <p:cond delay="8838"/>
                            </p:stCondLst>
                            <p:childTnLst>
                              <p:par>
                                <p:cTn id="1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9338"/>
                            </p:stCondLst>
                            <p:childTnLst>
                              <p:par>
                                <p:cTn id="2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dur="indefinite" fill="hold">
                            <p:stCondLst>
                              <p:cond delay="9838"/>
                            </p:stCondLst>
                            <p:childTnLst>
                              <p:par>
                                <p:cTn id="2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fill="hold">
                            <p:stCondLst>
                              <p:cond delay="10338"/>
                            </p:stCondLst>
                            <p:childTnLst>
                              <p:par>
                                <p:cTn id="2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dur="indefinite" fill="hold">
                            <p:stCondLst>
                              <p:cond delay="10838"/>
                            </p:stCondLst>
                            <p:childTnLst>
                              <p:par>
                                <p:cTn id="2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dur="indefinite" fill="hold">
                            <p:stCondLst>
                              <p:cond delay="11338"/>
                            </p:stCondLst>
                            <p:childTnLst>
                              <p:par>
                                <p:cTn id="2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11838"/>
                            </p:stCondLst>
                            <p:childTnLst>
                              <p:par>
                                <p:cTn id="2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12338"/>
                            </p:stCondLst>
                            <p:childTnLst>
                              <p:par>
                                <p:cTn id="2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dur="indefinite" fill="hold">
                            <p:stCondLst>
                              <p:cond delay="12838"/>
                            </p:stCondLst>
                            <p:childTnLst>
                              <p:par>
                                <p:cTn id="2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fill="hold">
                            <p:stCondLst>
                              <p:cond delay="13338"/>
                            </p:stCondLst>
                            <p:childTnLst>
                              <p:par>
                                <p:cTn id="2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13838"/>
                            </p:stCondLst>
                            <p:childTnLst>
                              <p:par>
                                <p:cTn id="2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ПРОСТОЙ НАБОР ПЕ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187812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345" b="0"/>
          <a:stretch/>
        </p:blipFill>
        <p:spPr>
          <a:xfrm>
            <a:off x="2627280" y="3933720"/>
            <a:ext cx="187164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0" r="345" b="0"/>
          <a:stretch/>
        </p:blipFill>
        <p:spPr>
          <a:xfrm>
            <a:off x="6443640" y="1341360"/>
            <a:ext cx="1944720" cy="257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0" t="0" r="4142" b="0"/>
          <a:stretch/>
        </p:blipFill>
        <p:spPr>
          <a:xfrm>
            <a:off x="5219640" y="3933720"/>
            <a:ext cx="1800360" cy="2571840"/>
          </a:xfrm>
          <a:prstGeom prst="rect">
            <a:avLst/>
          </a:prstGeom>
          <a:ln w="0">
            <a:noFill/>
          </a:ln>
        </p:spPr>
      </p:pic>
    </p:spTree>
  </p:cSld>
  <p:transition advTm="9000">
    <p:push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0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Так выглядят петли при простом наб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</a:rPr>
              <a:t>Важное условие при этом наборе – нить нужно натягивать равномерно, чтобы край не оказался перекошенным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109" t="10243" r="0" b="0"/>
          <a:stretch/>
        </p:blipFill>
        <p:spPr>
          <a:xfrm>
            <a:off x="900000" y="1557360"/>
            <a:ext cx="33847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0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2460"/>
                            </p:stCondLst>
                            <p:childTnLst>
                              <p:par>
                                <p:cTn id="3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dur="indefinite" fill="hold">
                            <p:stCondLst>
                              <p:cond delay="2960"/>
                            </p:stCondLst>
                            <p:childTnLst>
                              <p:par>
                                <p:cTn id="30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ОСНОВНЫЕ ПЕ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920"/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</a:rPr>
              <a:t>Любой узор или ажурная вязка строится на сочетании лицевых и изнаночных петель. Эти петли и называются основ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2000" y="3933360"/>
            <a:ext cx="316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  <a:ea typeface="Microsoft YaHei"/>
              </a:rPr>
              <a:t>ЛИЦЕВАЯ ГЛ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  <a:ea typeface="Microsoft YaHei"/>
              </a:rPr>
              <a:t>ИЗНАНОЧНАЯ ГЛ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1878120" cy="196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1877760" cy="196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2623680" y="4149720"/>
            <a:ext cx="582840" cy="79200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0360" y="4362480"/>
            <a:ext cx="792360" cy="86976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0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34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3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4:40:24Z</dcterms:created>
  <dc:creator>гимназия</dc:creator>
  <dc:description/>
  <dc:language>en-US</dc:language>
  <cp:lastModifiedBy>Paradise</cp:lastModifiedBy>
  <dcterms:modified xsi:type="dcterms:W3CDTF">2012-12-07T15:57:58Z</dcterms:modified>
  <cp:revision>31</cp:revision>
  <dc:subject/>
  <dc:title>Слайд 1</dc:title>
</cp:coreProperties>
</file>