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D234-B389-4916-B067-3AD68478B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«Финикия» происходит, вероятно, от греч. φοινως — «пурпурный», возможно связано с производством пурпурной краски из особого вида моллюсков, обитавших у побережья Финикии, которое было одним из основных промыслов местных жителей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[1]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7A96-0EF6-4D3B-B38A-835E5D605B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85F-41C7-48C5-B16B-95B0F0EE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63A-10FF-4451-9199-74AF3B0E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E5C-F0C2-4299-A549-E9003B04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29C-95DE-49A1-B703-FE9F0AA5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60A-64CB-4C9E-ADCE-A445338B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636-1A74-4855-9596-0A419A2F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C98-9D08-4CDB-ABEE-78A2C25A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B40-4CD5-4619-8DCA-C98DB874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D26-AA50-4F46-A959-CFE809C0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C36-64CA-48EE-BD62-5B1E0667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58F-5132-4941-AFD8-AD644CE9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9BF-287A-4A44-95A9-9218F932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ff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329A-364F-4504-8035-70478639A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majda.us/images/Phoenician%20Boat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pedsovet.su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hyperlink" Target="http://stephane.forterre.free.fr/uploaded_images/00cheops1-726873.jpg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twcenter.net/forums/attachment.php?attachmentid=52213&amp;stc=1&amp;d=1250456190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museum.ru/imgB.asp?22080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school.edu.ru/projects/mhk/images/antique/28.jpg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www.latein-pagina.de/pics/studienfahrten/rom/lupa1.jpg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poster.4teachers.org/imgFileWizard/76989.jpg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www.knigaplus.ru/sale/bimages/12273/12273.jpg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lnaja-jenciklopedija.ru/images/stories/torgovlja%20finikijcev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42920" y="1773360"/>
            <a:ext cx="885816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ерка домашнего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42920" y="2571840"/>
            <a:ext cx="88581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авилону удалось стать главным городом Двуречь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вали самого могущественного правителя Вавило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ются правила, по которым разбирали все споры между людь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ли в Вавилонии были равны перед зако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Андрей\Desktop\voennyj%20korabl%20finikijcev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3668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Картинка 180 из 148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929040"/>
            <a:ext cx="8642160" cy="2739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иникийская торгов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32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финикийский порт"/>
          <p:cNvPicPr/>
          <p:nvPr/>
        </p:nvPicPr>
        <p:blipFill>
          <a:blip r:embed="rId1"/>
          <a:stretch/>
        </p:blipFill>
        <p:spPr>
          <a:xfrm>
            <a:off x="0" y="0"/>
            <a:ext cx="9144000" cy="5830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1692360" y="5715000"/>
            <a:ext cx="781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умайте, что могли покупать и продавать финикий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1619280" y="5950080"/>
            <a:ext cx="64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96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0" y="189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кийские купцы торговали по всему Средиземномор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ф"/>
          <p:cNvPicPr/>
          <p:nvPr/>
        </p:nvPicPr>
        <p:blipFill>
          <a:blip r:embed="rId1"/>
          <a:stretch/>
        </p:blipFill>
        <p:spPr>
          <a:xfrm>
            <a:off x="0" y="0"/>
            <a:ext cx="5364000" cy="414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292720" y="0"/>
            <a:ext cx="38512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Егип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Зерно, сладости, фрукты, папирус, сере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ави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Зерно, финики, глиняная по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Финик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Оливковое масло, вино стекло, пурпурные ткани, дерево, ра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Гр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Зерно, вино,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монета тира"/>
          <p:cNvPicPr/>
          <p:nvPr/>
        </p:nvPicPr>
        <p:blipFill>
          <a:blip r:embed="rId2"/>
          <a:stretch/>
        </p:blipFill>
        <p:spPr>
          <a:xfrm>
            <a:off x="1476360" y="4103640"/>
            <a:ext cx="3887640" cy="2754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0" y="47973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ета Т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071720"/>
          <a:ext cx="9144000" cy="5619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зили 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ик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зили в Финик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рпурные ткани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ванский кедр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ивковое масл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оградное вино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рн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тн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ирус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т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32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d9d9"/>
                </a:solidFill>
                <a:latin typeface="Arial"/>
              </a:rPr>
              <a:t>Финикийская торгов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14200" y="1773360"/>
            <a:ext cx="878688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занятия финикийц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68360" y="2924280"/>
            <a:ext cx="82072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еплавани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рговл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месл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468360" y="1773360"/>
            <a:ext cx="822960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0920" y="2637000"/>
            <a:ext cx="8642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Колония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– поселение, основанное в чужих земл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никийские колонии были образованы по побережью Средиземного моря – в Северной Африке, Испании, на о. Кипр, Сардиния, Сицил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81DD-E013-43C1-95F2-94C31492C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перечисленных ниже достижений народов Древнего мира выберите три, принадлежащих финикийц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пирамиды,                                                     б) пурпурная краска,                                  в) клинопись,                                               г) алфавит,                                                    д) изделия из драгоценных кам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803D-2464-4E01-9E3E-7ECFB7B5C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перечисленных ниже достижений народов Древнего мира выберите три, принадлежащих финикийц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) пирамиды,                                                     </a:t>
            </a: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б) пурпурная краска,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) клинопись,                                               </a:t>
            </a: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г) алфавит,                                                    д) изделия из драгоценных кам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986A-9AFF-4A28-946A-BD2062DA5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аполни пропус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точном побережье Средиземного моря находилась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кийцы сажали...  и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и крупными городами финикийцев были ..., ... и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кии изобрели..., ...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кийцы основывали..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верной Африке финикийцы основали город..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древний мир рисунк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0" y="213048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Финикийские мореплават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Древнего ми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Desktop\1201999_finikiicy-voin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468360" y="189000"/>
            <a:ext cx="8229600" cy="1152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иникийские мореплав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74ED-4C34-41DF-ACB0-C77260A01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аполни пропус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точном побережье Средиземного моря находилась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Финик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иникийцы сажал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виноград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оливковые деревь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и крупными городами финикийцев был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Библ, Сидон и Ти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Финикии изобрел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прозрачное стекло,  алфавит и пурпурную краск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кийцы основывал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колон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верной Африке финикийцы основали город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(Карфаге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539640" y="189000"/>
            <a:ext cx="8136000" cy="1008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5280" y="155736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§15; вопросы, задания в рабочей тетрад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8" descr=""/>
          <p:cNvPicPr/>
          <p:nvPr/>
        </p:nvPicPr>
        <p:blipFill>
          <a:blip r:embed="rId2"/>
          <a:stretch/>
        </p:blipFill>
        <p:spPr>
          <a:xfrm>
            <a:off x="3780000" y="2637000"/>
            <a:ext cx="1982520" cy="247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539640" y="189000"/>
            <a:ext cx="8136000" cy="266364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езентации: Молчанов Алексей Евгеньевич - учитель истории и обществознания МБОУ СОШ п. Соли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79280" y="2924280"/>
            <a:ext cx="8785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 шаблона: Зинина Светлана Александров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БОУ СОШ №43 г. Волго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edsovet.su/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древний мир рисунком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68360" y="1846440"/>
            <a:ext cx="8136000" cy="93492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 иллюстрац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tephane.forterre.free.fr/uploaded_images/00cheops1-72687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twcenter.net/forums/attachment.php?attachmentid=52213&amp;stc=1&amp;d=12504561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museum.ru/imgB.asp?220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school.edu.ru/projects/mhk/images/antique/2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latein-pagina.de/pics/studienfahrten/rom/lupa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poster.4teachers.org/imgFileWizard/7698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knigaplus.ru/sale/bimages/12273/1227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estival.1september.ru/files/articles/50/5060/506037/img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283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ap.fictionbook.ru/static/bookimages/00/12/85/00128552.bin.dir/h/i_032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68360" y="1773360"/>
            <a:ext cx="822960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68360" y="2924280"/>
            <a:ext cx="82072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а финикий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рговцы и морские разбой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икийские коло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евнейший алфав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68360" y="1773360"/>
            <a:ext cx="822960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блемно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68360" y="2924280"/>
            <a:ext cx="82072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еречислите условия, способствовавшие быстрому развитию торговли и ремёс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68360" y="1773360"/>
            <a:ext cx="8229600" cy="7920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68360" y="2924280"/>
            <a:ext cx="82072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Финикия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– государство, расположенное на восточном побережье Средиземного мо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D:\Documents\ИСТОРИЯ\Конспекты и презентации\5 класс\Презентации\02. Древний Восток\Западная Азия в древности\5_2_15_finikiya\005_map_finikiya.gif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7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2809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Картинка 192 из 148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готовление пурп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251560" cy="51670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5" descr=""/>
          <p:cNvPicPr/>
          <p:nvPr/>
        </p:nvPicPr>
        <p:blipFill>
          <a:blip r:embed="rId2"/>
          <a:stretch/>
        </p:blipFill>
        <p:spPr>
          <a:xfrm>
            <a:off x="1792440" y="5767560"/>
            <a:ext cx="6284880" cy="938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-214200"/>
            <a:ext cx="8229600" cy="16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шие мореплавател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орговцы древ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95280" y="642960"/>
            <a:ext cx="8353440" cy="5881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48:56Z</dcterms:created>
  <dc:creator>Оля</dc:creator>
  <dc:description/>
  <dc:language>en-US</dc:language>
  <cp:lastModifiedBy>ДОМ</cp:lastModifiedBy>
  <dcterms:modified xsi:type="dcterms:W3CDTF">2017-11-13T13:30:01Z</dcterms:modified>
  <cp:revision>25</cp:revision>
  <dc:subject/>
  <dc:title>Слайд 1</dc:title>
</cp:coreProperties>
</file>