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5B2-8A0A-4E00-9510-30D83F87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491-D3D4-49BE-AEAF-36137AC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441-5EE2-4B4D-840C-9DA338AB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420-6057-4B10-AABC-4B0A6745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272-39A7-45F7-88CB-0DBA952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DF2-0E96-4AF5-AF31-64578D6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A91-F8F6-4A0F-9498-C0A60A3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5BA-588C-4D1E-9634-57BFBB8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244-B3A1-41F6-8916-A273C456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277-A2C5-47FC-8818-FD36C8C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602-B0C3-4FE1-A6C3-7326C2B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240-3A22-41AD-B4E0-7A42EDD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6FC-3E84-4571-937A-7BC467EB9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3128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Итоги реализации проекта</a:t>
            </a:r>
            <a:br>
              <a:rPr sz="4000"/>
            </a:b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ru-RU" sz="3700" spc="-1" strike="noStrike">
                <a:solidFill>
                  <a:srgbClr val="008000"/>
                </a:solidFill>
                <a:latin typeface="Arial"/>
              </a:rPr>
              <a:t>РАЗВИТИЕ СИСТЕМЫ ПОДДЕРЖКИ ТАЛАНТЛИВЫХ ДЕТЕЙ»</a:t>
            </a:r>
            <a:br>
              <a:rPr sz="2600"/>
            </a:br>
            <a:br>
              <a:rPr sz="26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4 – 2015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призовых мест (биология, ОБЖ, математика, немецкий язык, 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 призёр регионального 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6 работ, 8 побе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призовых места на конкурсе «Интеллектуал -201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раевой конкурс «Озарение» - 1побе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15 победителей и призёров викторин и конкурсов по немец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призовых мест ребят начальной школы  в городских конкурсах и викторин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5 – 2016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1 призовых ме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иология, ОБЖ, география, химия, немецкий язык, обществозн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иряев 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 победитель муниципального этапа олимпиады по ОБЖ и региональной эколого-биологической олимпиады, участник региональных этапов этих олимпи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38 работ, из 13 работ – 8 призовых м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799333995"/>
          <p:cNvPicPr/>
          <p:nvPr/>
        </p:nvPicPr>
        <p:blipFill>
          <a:blip r:embed="rId1"/>
          <a:stretch/>
        </p:blipFill>
        <p:spPr>
          <a:xfrm>
            <a:off x="468360" y="279360"/>
            <a:ext cx="8207280" cy="615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konferencija_2016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16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конкурсе «Интеллектуал -201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«Будущее Алтая» - 3 участ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Зональный конкурс «Нам выбирать будущее» - 2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Ширяев Е., Ширяев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анционные конкурсы по географ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призё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Городские конкурсы по немец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                                  –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зёры и побе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glenceli-bilim"/>
          <p:cNvPicPr/>
          <p:nvPr/>
        </p:nvPicPr>
        <p:blipFill>
          <a:blip r:embed="rId1"/>
          <a:stretch/>
        </p:blipFill>
        <p:spPr>
          <a:xfrm>
            <a:off x="4500720" y="3357720"/>
            <a:ext cx="4032000" cy="2711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Положительн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535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стали активнее участвовать  в очных региональных кон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Материально-техническая база за время реализации проекта заметно улучш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роблемы, выявленные при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разным объективным причинам,  небольшая часть педагогов занимается проектной деятельностью с учащимися, а, следовательно отсутствует качественная подготовка к участию в предметных и межпредметных конкурсах, олимпиадах. Этим можно объяснить не слишком большое количество призеров и победителей на муниципальн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о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м  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сутствует система материального поощрения обучающихся, достигающих высоких результатов. Несовершенной остается и система морального поощре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здание системы выявления, поддержки и сопровождения талантливых школьников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ганизацион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й для занятия различ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ами творчества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одготовка педагогических кадро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аботы с одаренными учащими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вершенствование материа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их условий для занят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ми видами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4. Создание системы поощ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едагогов и учащихся заним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азличными видами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позволит создать условия в образовательном пространстве школы, которые станут максимально благоприятными для развития способностей, развития творческого потенциала одарённы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учное общество учащихся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СКРЫ ТАЛ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ть ученику возможность развить свой интеллект в самостоятельной творческой деятельности, с учетом индивидуальных способностей и скло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ФОРМЫ РАБОТЫ Н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в школьных кружках и группах по интер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ыполнение индивидуальных научно-исследовательских работ под руководством преподавател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предметных олимпиад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участие в ежегодной научной конференции школ Западного ок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городских, региональных и всероссийских конференциях и конкурсах научно-исследовательских  и творчески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541800" y="1844640"/>
            <a:ext cx="99378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Анализ работы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НОУ «Искры таланта»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за 2011 – 2016 г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1 – 2012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Муниципальный тур олимпиа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призовых мест (биология, география, ИЗО, чер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ов заочных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7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призовых мест на конкурсе «Интеллектуал -20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3 – 2014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призовых мест (биология, ОБЖ, математика, русский язык, немецкий язык, 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ов заочных конкурсо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 победителей и призёров на городском и региональном уров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8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призовых места на конкурсе «Интеллектуал -201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раевой конкурс «Озарение» - 2 побед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7T09:06:13Z</dcterms:created>
  <dc:creator>Елена</dc:creator>
  <dc:description/>
  <dc:language>en-US</dc:language>
  <cp:lastModifiedBy>User</cp:lastModifiedBy>
  <dcterms:modified xsi:type="dcterms:W3CDTF">2018-11-11T08:44:07Z</dcterms:modified>
  <cp:revision>13</cp:revision>
  <dc:subject/>
  <dc:title>Итоги реализации проекта «РАЗВИТИЕ СИСТЕМЫ ПОДДЕРЖКИ ТАЛАНТЛИВЫХ ДЕТЕЙ»  (2011 – 2015гг)</dc:title>
</cp:coreProperties>
</file>