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AB20-B986-4E26-9F2E-A0D09F6C5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D8AF-24C2-4BBE-82FB-3C4FC1E0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7FAB-E652-473F-936A-C22458CA9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69F8-FEA1-47C8-AFD0-3C3DF46E7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F4BA-921C-4FDB-A7A2-4730FDF81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473E-D93E-4C20-A949-4E7AAB80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982CF-0B1A-4F79-A07D-5D9490E2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A6F3-B955-4634-A1C0-BD6B473D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BD89-A2F4-4EBE-8832-E1F7CDE0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5FA1A-4B46-4847-9858-E1060EC8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85E9-9BCB-49A6-8990-EEC42D7B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67FD-C473-48F4-84B5-68824C6C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AFB3-2B1C-4E85-B8BC-C1674D50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D61E-5A03-4460-BFBE-B7D2DB27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237E-4886-45DD-B881-FF112DF1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C5F9-6BD4-47C5-8C95-8FBF34029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912B-3F8C-4CA7-BE9B-1799B0A69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22B1-BC35-46D0-8A91-BFFC4AA7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CA89-DDC8-4A28-B8C0-5EBC3D82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703E-43C6-41D1-94A0-136D75AB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D99A-0C8C-40AD-AAA2-9A6372C4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83CC-83EC-4851-BB22-8E518239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D250-A09F-42D7-8954-9A4C9E25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0DDE-A2E3-4DE4-800E-8CF164A6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942A-C744-43EB-BBA1-586D5934049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8FCB-C625-48CA-AF33-41321ED4012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1052640"/>
            <a:ext cx="80010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cc0000"/>
                </a:solidFill>
                <a:latin typeface="Verdana"/>
              </a:rPr>
              <a:t>Правовая викторина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Назовите основной закон государства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12720" y="1941120"/>
            <a:ext cx="392112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клара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вен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ститу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292720" y="1916280"/>
            <a:ext cx="2612880" cy="386856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dddddd">
                <a:alpha val="50000"/>
              </a:srgbClr>
            </a:outerShdw>
          </a:effectLst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Verdana"/>
              </a:rPr>
              <a:t>Какой  международный документ закрепляет права детей?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Конституция РФ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Устав школ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Конвенция о правах ребён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4643280" y="1773360"/>
            <a:ext cx="3924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653080" y="1844640"/>
            <a:ext cx="2519280" cy="35290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Verdana"/>
              </a:rPr>
              <a:t>В каком году была принята Конвенция  о правах ребёнка?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915920"/>
            <a:ext cx="3924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94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98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99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2920" y="1988640"/>
            <a:ext cx="392436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20 ноября 1989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года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ООН приняла особый документ под названием 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«Конвенция о правах ребенка»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Verdana"/>
              </a:rPr>
              <a:t>4. Что такое право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зако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совокупность норм и прави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обязан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2920" y="1844640"/>
            <a:ext cx="392436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c0000"/>
                </a:solidFill>
                <a:latin typeface="Verdana"/>
              </a:rPr>
              <a:t>    </a:t>
            </a:r>
            <a:r>
              <a:rPr b="1" i="1" lang="en-US" sz="2600" spc="-1" strike="noStrike">
                <a:solidFill>
                  <a:srgbClr val="cc0000"/>
                </a:solidFill>
                <a:latin typeface="Verdana"/>
              </a:rPr>
              <a:t>ПРАВО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 – есть 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совокупность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 установленных и охраняемых государственной властью 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норм и правил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, которые регулируют отношения между людьми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Verdana"/>
              </a:rPr>
              <a:t>5. Ребёнок – это человек…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который ходит в школ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который ходит в детский сад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которому не исполнилось 18 ле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87640" y="1752480"/>
            <a:ext cx="377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c0000"/>
                </a:solidFill>
                <a:latin typeface="Verdana"/>
              </a:rPr>
              <a:t>Статья 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Ребенком является каждое человеческое существо до                                                                                       достижения 18-летнего возраста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6. Какие дети имеют право на особый уход и защиту?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дети-инвалиды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дети в возрасте с 15 до 18 ле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все дети имеют такое пра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Verdana"/>
              </a:rPr>
              <a:t>7. Ребёнок имеет право: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на жизн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свободно выражать своё м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оба ответа верн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2920" y="1773360"/>
            <a:ext cx="3924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600" spc="-1" strike="noStrike">
                <a:solidFill>
                  <a:srgbClr val="cc0000"/>
                </a:solidFill>
                <a:latin typeface="Verdana"/>
              </a:rPr>
              <a:t>Статья 6</a:t>
            </a:r>
            <a:r>
              <a:rPr b="1" i="1" lang="en-US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Каждый ребенок имеет право на жизнь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c0000"/>
                </a:solidFill>
                <a:latin typeface="Verdana"/>
              </a:rPr>
              <a:t>Статья 13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Ребенок имеет право свободно выражать свое мнение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8. С какого возраста граждане начинают осуществлять свои права   полностью?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141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с 18 л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с 14 л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с 20 л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995640" y="1916280"/>
            <a:ext cx="45720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Статья 60 Конституции РФ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«Гражданин РФ может самостоятельно осуществлять в полном объеме свои права и обязанности с 18 лет»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18:09:10Z</dcterms:created>
  <dc:creator>User</dc:creator>
  <dc:description/>
  <dc:language>en-US</dc:language>
  <cp:lastModifiedBy>User</cp:lastModifiedBy>
  <dcterms:modified xsi:type="dcterms:W3CDTF">2012-01-16T18:27:39Z</dcterms:modified>
  <cp:revision>22</cp:revision>
  <dc:subject/>
  <dc:title> Назовите основной закон государства.</dc:title>
</cp:coreProperties>
</file>