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5A7-4786-4993-BAA4-98E4592E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9C8-9B69-441B-B15D-976B170D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076-01DB-4C67-B860-F03D53E3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3AD-4FCE-44C0-A8F2-15E523C4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21C2-F139-47C4-8281-252B78E3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967F-AD3D-474E-9A25-964FB2F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9E59-5A37-4455-B0EE-29E4D7C9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658-8E49-4166-B391-27DDE4A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3BD-023F-4A17-8282-B6C5CF8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ACA-A2AD-4567-A685-1150908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0EB-FA53-4367-BE5D-7988251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B90-894F-4E8D-AB34-59E6270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135-3810-4401-8F65-DB065BB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6D57-075E-4AEA-BEFE-F517B21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C80A-3A6B-4C72-BCAB-2307678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FCE9-78EC-450C-BAAE-B5BE5AF0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6A9-9D2D-4CC9-9595-45BFC717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F44-7378-4450-B3FA-D2D26231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289-292E-47AC-9065-5F06148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E5D-A978-43BF-AC79-9D49A6B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4D3-2646-46DF-B716-ADCA6F5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3CA-804D-492D-AD2A-019EE04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A6B-3F72-4FAB-A75E-FA5717B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577-A85E-4463-8EBB-3D34ED0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055-6FAF-40E2-A770-1C7167C892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FBAA-6AEA-4361-9498-81657C001D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1052640"/>
            <a:ext cx="8001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0000"/>
                </a:solidFill>
                <a:latin typeface="Verdana"/>
              </a:rPr>
              <a:t>Правовая викторин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Назовите основной закон государств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2720" y="1941120"/>
            <a:ext cx="39211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ститу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2612880" cy="3868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dddddd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Какой  международный документ закрепляет права детей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Устав шко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онвенция о правах ребён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1773360"/>
            <a:ext cx="3924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3080" y="1844640"/>
            <a:ext cx="2519280" cy="352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В каком году была принята Конвенция  о правах ребёнка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4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39243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20 ноября 1989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год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ОН приняла особый документ под названием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«Конвенция о правах ребенка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4. Что такое прав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овокупность норм и прави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бяз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924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ПРАВО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– есть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овокупность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установленных и охраняемых государственной властью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норм и правил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, которые регулируют отношения между людьми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5. Ребёнок – это человек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ый ходит в школ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ый ходит в детский с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торому не исполнилось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7640" y="1752480"/>
            <a:ext cx="377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Ребенком является каждое человеческое существо до                                                                                       достижения 18-летнего возраст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6. Какие дети имеют право на особый уход и защиту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ети-инвалид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ети в возрасте с 15 до 18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се дети имеют такое пра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7. Ребёнок имеет право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жиз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ободно выражать своё м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а ответа вер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392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6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ребенок имеет право на жизн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Verdana"/>
              </a:rPr>
              <a:t>Статья 13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ебенок имеет право свободно выражать свое мн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8. С какого возраста граждане начинают осуществлять свои права   полностью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14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18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14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 2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95640" y="1916280"/>
            <a:ext cx="4572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Статья 60 Конституции Р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«Гражданин РФ может самостоятельно осуществлять в полном объеме свои права и обязанности с 18 лет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8:09:10Z</dcterms:created>
  <dc:creator>User</dc:creator>
  <dc:description/>
  <dc:language>en-US</dc:language>
  <cp:lastModifiedBy>User</cp:lastModifiedBy>
  <dcterms:modified xsi:type="dcterms:W3CDTF">2012-01-16T18:27:39Z</dcterms:modified>
  <cp:revision>22</cp:revision>
  <dc:subject/>
  <dc:title> Назовите основной закон государства.</dc:title>
</cp:coreProperties>
</file>