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B83-1ACB-42C0-ABD1-89C30A62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3D7-D163-4074-A9B3-88FC341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B69-3D23-4F75-B1F4-4304478E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BC3-67D0-4406-B057-44BB0F47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AD7-6DFE-4C2E-824E-E80F4B3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244-1C65-4DD0-B7A4-BCDA7EF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B98-BFBB-4A6D-B4F1-0361AAF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28D-E3B4-4CD9-AB49-FA89908D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07E-8F03-47B8-BB23-7358F7E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EC7-B17C-4AA7-9ED7-5C9166D6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C9E-9316-438D-8051-890F2FA9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238-386C-4DEE-BF55-4A4F83AF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D9E-1432-4464-BBC2-627064799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хники и переход к капитализ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ануфак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различия между централизованной мануфактурой и рассеян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мануфактур было больше – рассеянных или централизован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феодальный и капиталистический уклады?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оформить в виде таблиц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2852640"/>
          <a:ext cx="8401320" cy="2987640"/>
        </p:xfrm>
        <a:graphic>
          <a:graphicData uri="http://schemas.openxmlformats.org/drawingml/2006/table">
            <a:tbl>
              <a:tblPr/>
              <a:tblGrid>
                <a:gridCol w="4200480"/>
                <a:gridCol w="420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одал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итализ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981000"/>
          <a:ext cx="8183520" cy="5672160"/>
        </p:xfrm>
        <a:graphic>
          <a:graphicData uri="http://schemas.openxmlformats.org/drawingml/2006/table">
            <a:tbl>
              <a:tblPr/>
              <a:tblGrid>
                <a:gridCol w="4092480"/>
                <a:gridCol w="4091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од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пит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ценность – 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ценность – промышленны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од принадлежит феодалу как условное земельное держание, верховным собственником земли является ко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находятся в частной собственности владель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сновных класса – феодалы и зависимые крестья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сновных класса – буржуазия и наемные раб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крестьян личная и позем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мный рабочий лично свободен, его зависимость 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стьянин имеет хозяйство, орудия труда, ск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емный рабочий лишен орудий труда и частной собств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ет 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ноч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84807"/>
                </a:solidFill>
                <a:uFillTx/>
                <a:latin typeface="Calibri"/>
              </a:rPr>
              <a:t>Задание: </a:t>
            </a:r>
            <a:r>
              <a:rPr b="1" i="1" lang="ru-RU" sz="4000" spc="-1" strike="noStrike" u="sng">
                <a:solidFill>
                  <a:srgbClr val="984807"/>
                </a:solidFill>
                <a:uFillTx/>
                <a:latin typeface="Calibri"/>
              </a:rPr>
              <a:t>выделите положения с которыми вы соглас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был заметен технический прогр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чником энергии служили текущая вода, горящие дрова, древесный и каменный уголь, труд человека и сила домашних живот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рном деле и металлургии применялось водяное колес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вропейский пейзаж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невозможно представить без ветряных мель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ыцарская конница оставалась главной силой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господствовало натуральное хозяй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сохранилась личная зависимость крестья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ьор сдавал в аренду богатым крестьянам земли своего дом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в Европе господствовало ремесленное производ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хи упорно противились развитию мануфакт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илось средневековое деление общества на три сосл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еволюция цен» привела к снижению доходов дворя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I-XVI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. дворянство в Европе уступило первенство в обществе купцам и финансис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.3 прочитать, ответить на вопросы стр.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по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(проблемный вопро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63640" y="2349360"/>
          <a:ext cx="6096240" cy="741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4" name="Прямоугольник 2"/>
          <p:cNvSpPr/>
          <p:nvPr/>
        </p:nvSpPr>
        <p:spPr>
          <a:xfrm>
            <a:off x="2700360" y="1341360"/>
            <a:ext cx="388764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771640" y="3429000"/>
            <a:ext cx="388800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зм это общественный строй, основанный на частной собственности, наёмном труде и расширенном вос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ис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апиталистического обществ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едпосылки возникновения мануфакту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городов, развитие морской торговли рост населения в колониях привели к расширению спроса на ремесленные издел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 колониальными товарами, финансовые операции и ростовщичество способствовали накоплению капиталов, которые можно было вкладывать в производст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рение крестьян привело к появлению свободной рабочей си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фактура – это предприятие, в котором используется наёмная рабочая сила, основанное на ручном труде и эффективном разделении тр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Чем мануфактура отличалась от ремесленной мастерс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ÐÐ°ÑÑÐ¸Ð½ÐºÐ¸ Ð¿Ð¾ Ð·Ð°Ð¿ÑÐ¾ÑÑ Ð¼Ð°Ð½ÑÑÐ°ÐºÑÑÑÐ°"/>
          <p:cNvPicPr/>
          <p:nvPr/>
        </p:nvPicPr>
        <p:blipFill>
          <a:blip r:embed="rId1"/>
          <a:stretch/>
        </p:blipFill>
        <p:spPr>
          <a:xfrm>
            <a:off x="179280" y="1557360"/>
            <a:ext cx="3810240" cy="318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067280" y="3570120"/>
            <a:ext cx="49226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125360"/>
          <a:ext cx="8640720" cy="5472360"/>
        </p:xfrm>
        <a:graphic>
          <a:graphicData uri="http://schemas.openxmlformats.org/drawingml/2006/table">
            <a:tbl>
              <a:tblPr/>
              <a:tblGrid>
                <a:gridCol w="2832120"/>
                <a:gridCol w="2903760"/>
                <a:gridCol w="29048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нуфа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работал на предпри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или машинны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ение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тельност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765000"/>
          <a:ext cx="8640720" cy="5718240"/>
        </p:xfrm>
        <a:graphic>
          <a:graphicData uri="http://schemas.openxmlformats.org/drawingml/2006/table">
            <a:tbl>
              <a:tblPr/>
              <a:tblGrid>
                <a:gridCol w="2832120"/>
                <a:gridCol w="2903400"/>
                <a:gridCol w="2905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 мас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нуфа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ры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ольшое пред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пное пред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работал на предприя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тер, подмастерья и уче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ёмные раб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или машинны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ение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месленник сам выполнял все основны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разделены между работниками разных специаль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тельность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ко увеличила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0T20:20:02Z</dcterms:created>
  <dc:creator>Даниил</dc:creator>
  <dc:description/>
  <dc:language>en-US</dc:language>
  <cp:lastModifiedBy>сощ 43</cp:lastModifiedBy>
  <dcterms:modified xsi:type="dcterms:W3CDTF">2018-09-11T09:13:37Z</dcterms:modified>
  <cp:revision>16</cp:revision>
  <dc:subject/>
  <dc:title>Развитие техники и переход к капитализму</dc:title>
</cp:coreProperties>
</file>