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12A-3206-46EC-A81D-54967164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63F-1FAC-4806-8FAD-0B811CB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2B8-BF14-4D28-94A7-B1ADF031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92C-30B6-42F7-A4AE-E3F13DE6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BEC-DEB4-48D4-AA19-945BE47D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E4A-85C3-46F1-9E90-17026A4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8AB-6C68-43C6-B447-978E6A1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CC5-2DB9-4759-A02D-16B519F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9C3-63A7-4108-B56C-D3042FC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D08-C47E-4075-9164-F4818755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37F-BC1B-47B3-8066-64E036BE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CB7-2F89-49EF-BF9A-94B9BE9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39D0-6A63-41A9-8F5C-E314EBF30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ехники и переход к капитализ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ануфак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различия между централизованной мануфактурой и рассеян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мануфактур было больше – рассеянных или централизован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феодальный и капиталистический уклады?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оформить в виде таблиц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2852640"/>
          <a:ext cx="8401320" cy="2987640"/>
        </p:xfrm>
        <a:graphic>
          <a:graphicData uri="http://schemas.openxmlformats.org/drawingml/2006/table">
            <a:tbl>
              <a:tblPr/>
              <a:tblGrid>
                <a:gridCol w="4200480"/>
                <a:gridCol w="420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одал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тал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8360" y="981000"/>
          <a:ext cx="8183520" cy="5672160"/>
        </p:xfrm>
        <a:graphic>
          <a:graphicData uri="http://schemas.openxmlformats.org/drawingml/2006/table">
            <a:tbl>
              <a:tblPr/>
              <a:tblGrid>
                <a:gridCol w="4092480"/>
                <a:gridCol w="4091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од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пит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ценность – 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ценность – промышленные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од принадлежит феодалу как условное земельное держание, верховным собственником земли является ко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находятся в частной собственности владель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основных класса – феодалы и зависимые крестья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основных класса – буржуазия и наемные раб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крестьян личная и позем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мный рабочий лично свободен, его зависимость 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стьянин имеет хозяйство, орудия труда, ск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мный рабочий лишен орудий труда и частной собств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ет 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ноч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84807"/>
                </a:solidFill>
                <a:uFillTx/>
                <a:latin typeface="Calibri"/>
              </a:rPr>
              <a:t>Задание: </a:t>
            </a:r>
            <a:r>
              <a:rPr b="1" i="1" lang="ru-RU" sz="4000" spc="-1" strike="noStrike" u="sng">
                <a:solidFill>
                  <a:srgbClr val="984807"/>
                </a:solidFill>
                <a:uFillTx/>
                <a:latin typeface="Calibri"/>
              </a:rPr>
              <a:t>выделите положения с которыми вы соглас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был заметен технический прогрес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чником энергии служили текущая вода, горящие дрова, древесный и каменный уголь, труд человека и сила домашних живот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рном деле и металлургии применялось водяное колес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ропейский пейзаж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невозможно представить без ветряных мельн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ыцарская конница оставалась главной силой ар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господствовало натуральное хозяй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сохранилась личная зависимость крестья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ньор сдавал в аренду богатым крестьянам земли своего дом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господствовало ремесленное производ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хи упорно противились развитию мануфакту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илось средневековое деление общества на три сосло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Революция цен» привела к снижению доходов дворян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дворянство в Европе уступило первенство в обществе купцам и финансис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.3 прочитать, ответить на вопросы стр.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ь по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(проблемный вопро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63640" y="2349360"/>
          <a:ext cx="6096240" cy="74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4" name="Прямоугольник 2"/>
          <p:cNvSpPr/>
          <p:nvPr/>
        </p:nvSpPr>
        <p:spPr>
          <a:xfrm>
            <a:off x="2700360" y="1341360"/>
            <a:ext cx="388764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771640" y="3429000"/>
            <a:ext cx="388800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изм это общественный строй, основанный на частной собственности, наёмном труде и расширенном вос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ис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апиталистического обществ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едпосылки возникновения мануфакту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городов, развитие морской торговли рост населения в колониях привели к расширению спроса на ремесленные издел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 колониальными товарами, финансовые операции и ростовщичество способствовали накоплению капиталов, которые можно было вкладывать в производст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рение крестьян привело к появлению свободной рабочей си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уфактура – это предприятие, в котором используется наёмная рабочая сила, основанное на ручном труде и эффективном разделении тр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Чем мануфактура отличалась от ремесленной мастерск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ÐÐ°ÑÑÐ¸Ð½ÐºÐ¸ Ð¿Ð¾ Ð·Ð°Ð¿ÑÐ¾ÑÑ Ð¼Ð°Ð½ÑÑÐ°ÐºÑÑÑÐ°"/>
          <p:cNvPicPr/>
          <p:nvPr/>
        </p:nvPicPr>
        <p:blipFill>
          <a:blip r:embed="rId1"/>
          <a:stretch/>
        </p:blipFill>
        <p:spPr>
          <a:xfrm>
            <a:off x="179280" y="1557360"/>
            <a:ext cx="3810240" cy="318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067280" y="3570120"/>
            <a:ext cx="49226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125360"/>
          <a:ext cx="8640720" cy="5472360"/>
        </p:xfrm>
        <a:graphic>
          <a:graphicData uri="http://schemas.openxmlformats.org/drawingml/2006/table">
            <a:tbl>
              <a:tblPr/>
              <a:tblGrid>
                <a:gridCol w="2832120"/>
                <a:gridCol w="2903760"/>
                <a:gridCol w="29048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месленная мас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нуфа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работал на предприя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или машинный 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ение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тельность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765000"/>
          <a:ext cx="8640720" cy="5718240"/>
        </p:xfrm>
        <a:graphic>
          <a:graphicData uri="http://schemas.openxmlformats.org/drawingml/2006/table">
            <a:tbl>
              <a:tblPr/>
              <a:tblGrid>
                <a:gridCol w="2832120"/>
                <a:gridCol w="2903400"/>
                <a:gridCol w="29052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месленная мас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нуфа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большое пред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пное пред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работал на предприя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тер, подмастерья и уче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ёмные раб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или машинный 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ение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месленник сам выполнял все основны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разделены между работниками разных специаль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тельность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ко увелич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0T20:20:02Z</dcterms:created>
  <dc:creator>Даниил</dc:creator>
  <dc:description/>
  <dc:language>en-US</dc:language>
  <cp:lastModifiedBy>сощ 43</cp:lastModifiedBy>
  <dcterms:modified xsi:type="dcterms:W3CDTF">2018-09-11T09:13:37Z</dcterms:modified>
  <cp:revision>16</cp:revision>
  <dc:subject/>
  <dc:title>Развитие техники и переход к капитализму</dc:title>
</cp:coreProperties>
</file>