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BC7-5A95-477D-A3A0-5FA40382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4C9-B598-4147-BFE8-BE7566B4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02E-23AE-470D-8445-EFACBF43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D2F-79CB-4FC4-AD3E-E49C849D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8D0-A9D6-43CE-91EB-02CA3C84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124-853A-49C3-9E60-0191C3AC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902-2E5C-428A-BA75-F970A8F2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730-DCDD-4BAB-A5A6-1A6200C7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602-3A42-4EE8-A0D8-EDA4B7C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2EC-0F53-4124-B92F-A693AC0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B88-D060-47EA-845D-EE4FACF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5AE-2975-4794-84E1-2ECE62D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5FD7-4E43-4778-9256-7891B24C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0" y="-25560"/>
            <a:ext cx="9158400" cy="6919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Toshiba L40-14F\Pictures\0020-023-.png"/>
          <p:cNvPicPr/>
          <p:nvPr/>
        </p:nvPicPr>
        <p:blipFill>
          <a:blip r:embed="rId3"/>
          <a:stretch/>
        </p:blipFill>
        <p:spPr>
          <a:xfrm>
            <a:off x="6400800" y="-42840"/>
            <a:ext cx="2971800" cy="600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C:\Users\Toshiba L40-14F\Pictures\9731101.png"/>
          <p:cNvPicPr/>
          <p:nvPr/>
        </p:nvPicPr>
        <p:blipFill>
          <a:blip r:embed="rId4"/>
          <a:stretch/>
        </p:blipFill>
        <p:spPr>
          <a:xfrm>
            <a:off x="1143000" y="452520"/>
            <a:ext cx="2327400" cy="3306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Toshiba L40-14F\Pictures\0020-023-.png"/>
          <p:cNvPicPr/>
          <p:nvPr/>
        </p:nvPicPr>
        <p:blipFill>
          <a:blip r:embed="rId5"/>
          <a:stretch/>
        </p:blipFill>
        <p:spPr>
          <a:xfrm>
            <a:off x="-130320" y="-88920"/>
            <a:ext cx="2449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Toshiba L40-14F\Pictures\0020-023-.png"/>
          <p:cNvPicPr/>
          <p:nvPr/>
        </p:nvPicPr>
        <p:blipFill>
          <a:blip r:embed="rId2"/>
          <a:stretch/>
        </p:blipFill>
        <p:spPr>
          <a:xfrm>
            <a:off x="6400800" y="-204840"/>
            <a:ext cx="2971800" cy="600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3886200" y="2590920"/>
            <a:ext cx="4419720" cy="349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Users\Toshiba L40-14F\Pictures\9731101.png"/>
          <p:cNvPicPr/>
          <p:nvPr/>
        </p:nvPicPr>
        <p:blipFill>
          <a:blip r:embed="rId4"/>
          <a:stretch/>
        </p:blipFill>
        <p:spPr>
          <a:xfrm>
            <a:off x="1004760" y="457200"/>
            <a:ext cx="2327400" cy="330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Toshiba L40-14F\Pictures\0020-023-.png"/>
          <p:cNvPicPr/>
          <p:nvPr/>
        </p:nvPicPr>
        <p:blipFill>
          <a:blip r:embed="rId5"/>
          <a:stretch/>
        </p:blipFill>
        <p:spPr>
          <a:xfrm>
            <a:off x="-193680" y="141120"/>
            <a:ext cx="236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Toshiba L40-14F\Pictures\0020-023-.png"/>
          <p:cNvPicPr/>
          <p:nvPr/>
        </p:nvPicPr>
        <p:blipFill>
          <a:blip r:embed="rId2"/>
          <a:stretch/>
        </p:blipFill>
        <p:spPr>
          <a:xfrm>
            <a:off x="6248520" y="-169920"/>
            <a:ext cx="2971800" cy="600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3886200" y="2590920"/>
            <a:ext cx="4419720" cy="3493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soc-deti"/>
          <p:cNvPicPr/>
          <p:nvPr/>
        </p:nvPicPr>
        <p:blipFill>
          <a:blip r:embed="rId4"/>
          <a:stretch/>
        </p:blipFill>
        <p:spPr>
          <a:xfrm>
            <a:off x="2286000" y="5108400"/>
            <a:ext cx="5448240" cy="19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C:\Users\Toshiba L40-14F\Pictures\9731101.png"/>
          <p:cNvPicPr/>
          <p:nvPr/>
        </p:nvPicPr>
        <p:blipFill>
          <a:blip r:embed="rId5"/>
          <a:stretch/>
        </p:blipFill>
        <p:spPr>
          <a:xfrm>
            <a:off x="1008000" y="457200"/>
            <a:ext cx="2327400" cy="330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Toshiba L40-14F\Pictures\0020-023-.png"/>
          <p:cNvPicPr/>
          <p:nvPr/>
        </p:nvPicPr>
        <p:blipFill>
          <a:blip r:embed="rId6"/>
          <a:stretch/>
        </p:blipFill>
        <p:spPr>
          <a:xfrm>
            <a:off x="-193680" y="141120"/>
            <a:ext cx="236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ÐÐ°ÑÑÐ¸Ð½ÐºÐ¸ Ð¿Ð¾ Ð·Ð°Ð¿ÑÐ¾ÑÑ Ð¾Ð³Ð¾ÑÐ¾Ð´ Ð² Ð´ÐµÑÐµÐ²Ð½Ðµ Ð¸Ð· Ð¼ÑÐ»ÑÑÑÐ¸Ð»ÑÐ¼Ð¾Ð²"/>
          <p:cNvPicPr/>
          <p:nvPr/>
        </p:nvPicPr>
        <p:blipFill>
          <a:blip r:embed="rId1"/>
          <a:stretch/>
        </p:blipFill>
        <p:spPr>
          <a:xfrm>
            <a:off x="-30492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1905120" y="1447920"/>
            <a:ext cx="5715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ÐÐ¾ÑÐ¾Ð¶ÐµÐµ Ð¸Ð·Ð¾Ð±ÑÐ°Ð¶ÐµÐ½Ð¸Ðµ"/>
          <p:cNvPicPr/>
          <p:nvPr/>
        </p:nvPicPr>
        <p:blipFill>
          <a:blip r:embed="rId1"/>
          <a:srcRect l="1973" t="0" r="915" b="737"/>
          <a:stretch/>
        </p:blipFill>
        <p:spPr>
          <a:xfrm>
            <a:off x="-14400" y="4680"/>
            <a:ext cx="9172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ÐÐ¾ÑÐ¾Ð¶ÐµÐµ Ð¸Ð·Ð¾Ð±ÑÐ°Ð¶ÐµÐ½Ð¸Ðµ"/>
          <p:cNvPicPr/>
          <p:nvPr/>
        </p:nvPicPr>
        <p:blipFill>
          <a:blip r:embed="rId1"/>
          <a:srcRect l="0" t="0" r="399" b="9417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ÐÐ°ÑÑÐ¸Ð½ÐºÐ¸ Ð¿Ð¾ Ð·Ð°Ð¿ÑÐ¾ÑÑ Ð¾ÑÐµÐ½Ð½Ð¸Ð¹ Ð»ÐµÑ Ð² Ð´ÐµÑÐµÐ²Ð½Ðµ Ð¸Ð· Ð¼ÑÐ»ÑÑÑÐ¸Ð»ÑÐ¼Ð¾Ð²"/>
          <p:cNvPicPr/>
          <p:nvPr/>
        </p:nvPicPr>
        <p:blipFill>
          <a:blip r:embed="rId2"/>
          <a:stretch/>
        </p:blipFill>
        <p:spPr>
          <a:xfrm>
            <a:off x="0" y="457200"/>
            <a:ext cx="929628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107070843040august"/>
          <p:cNvPicPr/>
          <p:nvPr/>
        </p:nvPicPr>
        <p:blipFill>
          <a:blip r:embed="rId1"/>
          <a:stretch/>
        </p:blipFill>
        <p:spPr>
          <a:xfrm>
            <a:off x="-27000" y="0"/>
            <a:ext cx="9226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-69840"/>
            <a:ext cx="9171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9:23:47Z</dcterms:created>
  <dc:creator>admin</dc:creator>
  <dc:description/>
  <dc:language>en-US</dc:language>
  <cp:lastModifiedBy>admin</cp:lastModifiedBy>
  <dcterms:modified xsi:type="dcterms:W3CDTF">2018-11-03T04:56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