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374-57F0-4DEC-A096-890CA98A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A1C-8690-4B9A-9D1C-512F9C59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C0F-AABE-4638-9438-6DD87E4C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9D9-DE0B-4315-97C2-038E28F2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FE3-1B5A-474B-8F72-B5782DE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606-9A44-415B-8D9D-D807882F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C88-C507-4629-81B0-26B2945D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E14-5DA0-47AA-8602-65BA9CF2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375-36BA-4735-A97A-CFB8630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075-BBAC-4787-935F-1C0BC104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3C1-4FF2-44FE-BA3E-2FF63B33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186-1BE7-4B08-8928-6EDE421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90A7-8887-475D-9E46-F10A4207E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47640" y="115920"/>
            <a:ext cx="7669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ять путей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к сердцу ребёнк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291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25720"/>
            <a:ext cx="5688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Georgia"/>
                <a:ea typeface="Arial"/>
              </a:rPr>
              <a:t>Есть 5 путей выражения любви детя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1) прикоснов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2) слова поощр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3) врем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4) подар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5)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895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8:51:41Z</dcterms:created>
  <dc:creator>Даша</dc:creator>
  <dc:description/>
  <dc:language>en-US</dc:language>
  <cp:lastModifiedBy>OlyaDasha</cp:lastModifiedBy>
  <dcterms:modified xsi:type="dcterms:W3CDTF">2013-11-24T16:44:16Z</dcterms:modified>
  <cp:revision>16</cp:revision>
  <dc:subject/>
  <dc:title>Презентация PowerPoint</dc:title>
</cp:coreProperties>
</file>