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081-7BFB-48F8-84E6-EEC52489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9BE-61B9-444B-99B0-DD9D3DE8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73A-EEC1-4FCD-A844-EE9BCC16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DEF-8B2D-46B3-AB35-7239D92A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A7B-3162-4885-8506-0D2D09D0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915-D4C9-4A0C-86DC-E321ABF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FEE-A459-4FEE-94B8-6818111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B6F-37A6-4420-9144-05F73068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0B9-15EA-4119-A029-E59C699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094-6D2F-437D-BA9F-2379846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511-596F-4E52-9EC9-0BB05629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D46-21D4-4EA9-ADDE-E315816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91B6-F7F4-4094-A2BA-0905CD879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47640" y="115920"/>
            <a:ext cx="7669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ять путей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к сердцу ребёнк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2637000"/>
            <a:ext cx="291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25720"/>
            <a:ext cx="5688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Georgia"/>
                <a:ea typeface="Arial"/>
              </a:rPr>
              <a:t>Есть 5 путей выражения любви детя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1) прикоснов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2) слова поощр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3) врем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4) подар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         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  <a:ea typeface="Arial"/>
              </a:rPr>
              <a:t>5) помощ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2895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8:51:41Z</dcterms:created>
  <dc:creator>Даша</dc:creator>
  <dc:description/>
  <dc:language>en-US</dc:language>
  <cp:lastModifiedBy>OlyaDasha</cp:lastModifiedBy>
  <dcterms:modified xsi:type="dcterms:W3CDTF">2013-11-24T16:44:16Z</dcterms:modified>
  <cp:revision>16</cp:revision>
  <dc:subject/>
  <dc:title>Презентация PowerPoint</dc:title>
</cp:coreProperties>
</file>