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16B-8765-4FBD-A59C-7BA2EEDE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F98-730A-486B-86C1-9A07CC2E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D0D-78CC-46E2-97EB-42D697DA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2E7-0066-4E53-BCA1-4605D9FD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8087-626B-457B-983B-76B5A905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39C5-05DA-4CF9-BE6E-FE90EAFE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EB3F-5E5E-4CF2-BA6A-01208928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84FD-3752-4A33-B3D6-86F11A80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0FF5-E28A-4D3C-A6BE-47D9F87D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FB86-8890-4EF4-ADD0-F812EEDD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B27B-A86D-4FC4-A401-E02A0341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6B6-FD89-4424-B662-61C9A9D3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F432-326E-4B80-8197-651E73EE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1241-16F7-474F-8415-706150C8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8A8B-1375-4967-8C08-5D68D3BA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69AC-22FD-45C5-BD2E-800D54D5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F487-0003-4E3C-9CC0-A35AD9EC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2747A-3CF6-4613-A6CD-4ED9F28E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B7DA-D7CE-45BF-B67B-905F00D7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32826-240F-464C-9DF9-9AD9445B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70445-526A-4FDE-BBF2-CEF50CE8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5EB02-876D-4918-8AD3-A34A6B71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111-FCC9-4F91-AFCF-5C7F87B7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9EA56-121F-420C-8D45-E1A4985B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DE098-24A6-4C0C-8C4C-4AF4B3F0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55BD7-6CA1-43E5-A1A1-FF727E03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F9E5D-57E4-43DC-938D-53111ADC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F944-1C37-4FF6-A811-8F28978B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F32F0-8305-44EA-AEEB-C99B748D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AFBA7-BF28-4E76-9581-5B5DEB95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781-B7DD-48E4-8800-06C74942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7BF-14B6-41E6-82DF-FC03CC22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3F8-6AF3-4B40-BE1D-98E73CE4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FFD-76F0-4CAF-ACAD-4509F917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F02-21B1-48A3-8666-F6C81AEE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13E-8BA3-4DAA-8FAC-3F85872D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344B-1470-4C8A-89D3-7DF1C2229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0D6B-7386-4FD5-B384-3CCAAD4C357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46D1-362D-4C20-ACDF-28829FF17B5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620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ема: Гражданская война в России 1918-1922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700280"/>
            <a:ext cx="835344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Акимова Елена Владимировна, г.Северобайкальск, учитель истории и обществознания МОУ Лицей №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дактическая направленность: объясн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ормат документа: презентация(*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аботе использованы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 Word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S Power Poin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dobe PhotoShop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net Explorer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сканированные рисунки, материалы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евая аудитория: учителя предметники, ученики 9,11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ъем работы: 11 слай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елё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1946160" cy="30974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59280" y="1268280"/>
            <a:ext cx="540036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АХНО Нестор Иванович (1888-1934), российский деятель анархо-крестьянского движения в 1918-21 на Южной Украине в Гражданскую войну. Возглавляемое Махно движение (общая численность непостоянна — от 500 человек до 35 тыс. человек) выступало под лозунгами «безвластного государства», «вольных советов», вело вооруженную борьбу против германского нашествия, белогвардейцев, а затем и против Советской власти. Движение ликвидировано Красной Армией. Махно в 1921 эмигриро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3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чины победы большевиков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в  гражданской войне: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отсутствие единства в рядах белого движения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создание большевиками мощного государственного аппарата, мобилизация населения, террор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агитационно-пропагандистская работа в массах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популистские лозунги и политика, поддержанная бедняцкой частью населения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отсутствие социальной связи белого движения с большинством населения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нахождение в руках большевиков промышленной базы страны и значительной части резервов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отсутствие единого командования между белыми армиями и войсками интерв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74080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1187280" y="4437000"/>
            <a:ext cx="6913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оссии 1918-1922г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333360"/>
            <a:ext cx="79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«Не дай Вам Бог увидеть русский бунт кровавый и беспощад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2133720"/>
            <a:ext cx="81360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лан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нятие «гражданская вой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ичины гражданской во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ериод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Белое дви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ра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ежду белыми и крас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чему победили большев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рмины:</a:t>
            </a:r>
            <a:br>
              <a:rPr sz="2400"/>
            </a:br>
            <a:br>
              <a:rPr sz="20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ражданская война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тервенция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рор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зурпация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квизиция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мпромисс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скалация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литар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2894040" cy="3152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443640" y="549360"/>
            <a:ext cx="2502000" cy="25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9640" y="765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Гражданская война – организованная вооруженная борьба за власть в стране между гражданами одной страны, их объединениями и группиро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2133720"/>
            <a:ext cx="8893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ичины вой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)Национализация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)Ликвидация сельских советов, замена на комб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)Разгон Учредительного соб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)Унизительный Брестск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)Отсутствие опыта политического компром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)Вмешательство других госуд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530532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Интервенция - (от лат. вмешательство) насильственное вмешательство одного или нескольких государств во внутренние дела другого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сновные этапы гражданской войны в России 1917-1922гг.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476280"/>
          <a:ext cx="4176720" cy="5584680"/>
        </p:xfrm>
        <a:graphic>
          <a:graphicData uri="http://schemas.openxmlformats.org/drawingml/2006/table">
            <a:tbl>
              <a:tblPr/>
              <a:tblGrid>
                <a:gridCol w="1073160"/>
                <a:gridCol w="3103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10.1917г.- 05.1918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 вооруженного гражданского противостояния. «Ограниченная война» - выступление Краснова под Петроградом, Каледина на Дону, Дутова на Ур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-11.1918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 полномасштабной гражданской войны: выступление Чехословацкого корпуса, Добровольческой и Донской армий. Десанты Антанты: Англия в Мурманске, Архангельске, Баку, Мерве; Турция – в Карсе и Батуме; Франция – в Одессе и Севастопо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918г.-весна 19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иление военного противостояния красных и белых. Военные операции войск Колчака, Деникина, Краснова, Юденича, Семенова. Численность армейских частей Антанты в России достигает 200 тыс.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на- конец 1919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ром основных сил белых(Колчак, Деникин, Юденич).Эвакуация основных сил иностранных вой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на- осень 192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йна с Польшей. Разгром армии Вранг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-1922г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а красных в Средней Азии, Закавказье, на Дальнем Востоке, Завершение гражданской вой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643280" y="476280"/>
          <a:ext cx="4249800" cy="5616360"/>
        </p:xfrm>
        <a:graphic>
          <a:graphicData uri="http://schemas.openxmlformats.org/drawingml/2006/table">
            <a:tbl>
              <a:tblPr/>
              <a:tblGrid>
                <a:gridCol w="916200"/>
                <a:gridCol w="3333600"/>
              </a:tblGrid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-03.1917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жение самодержавия, раскол об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.-10.1917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стрение противостояния в обществе, усиление психологии гражданской вой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917г.-03.1918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жение временного правительства, установление советской власти, распространение вооруженной борь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.-07.1918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калация насилия, террор с обеих сторон, формирование белых и красных вооруженных с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 1918г.- конец 1920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есточенные сражения между регулярными войсками, в том числе иностранными, милитаризация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1-1922г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ухание боевых действий, их локализация и полное прекращ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1015920" y="623736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 по А.А.Данилов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03240" y="623736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 по Ю.А.Поляков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03280" y="115920"/>
            <a:ext cx="6000840" cy="2771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27120" y="609480"/>
            <a:ext cx="183960" cy="22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7120" y="609480"/>
            <a:ext cx="183960" cy="18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5120" y="754200"/>
            <a:ext cx="184320" cy="235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197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2924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ражданск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328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698560" y="3284640"/>
            <a:ext cx="165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98920" y="3284640"/>
            <a:ext cx="187344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47640" y="436572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е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8000" y="465300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ра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08720" y="436572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ежду белыми и крас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деры белого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700360" y="141300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020000" y="1413000"/>
            <a:ext cx="1800000" cy="1944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4859280" y="1413000"/>
            <a:ext cx="1871640" cy="1942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093080" y="3429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. М. Кале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59280" y="342900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И. Дени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00360" y="3429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.В.Алекс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3429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. В. Колч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2500"/>
            </a:gs>
            <a:gs pos="50000">
              <a:srgbClr val="ff7c80"/>
            </a:gs>
            <a:gs pos="100000">
              <a:srgbClr val="c42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деры красного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276720" y="1484280"/>
            <a:ext cx="2808000" cy="2592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3851280" y="4508640"/>
            <a:ext cx="1800360" cy="2232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564000" y="112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 И. Чап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112536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. Н Тухач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0000" y="4149720"/>
            <a:ext cx="19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. М Будё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112536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. Е Вороши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1:29:28Z</dcterms:created>
  <dc:creator>INF6</dc:creator>
  <dc:description/>
  <dc:language>en-US</dc:language>
  <cp:lastModifiedBy>777</cp:lastModifiedBy>
  <dcterms:modified xsi:type="dcterms:W3CDTF">2008-01-16T15:00:16Z</dcterms:modified>
  <cp:revision>11</cp:revision>
  <dc:subject/>
  <dc:title>Слайд 1</dc:title>
</cp:coreProperties>
</file>