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810-A00C-43E0-A003-FB823587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E49-D515-4E7E-9937-860868E1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F26-0807-4FB1-82EB-9575C5DD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354-4999-4C13-893A-6F826F10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BD90-0F9B-4B3F-AE59-8756DCA4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C963-E2F7-4B5A-94F8-58904E2E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087A-161A-4F93-A8AE-AD0EA68F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CFB5-078D-430C-823F-1EDCA41B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B236-1CEA-4B5B-AB79-83D00634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BFE1-5B38-413F-8209-77EFD9FF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31E7-5F41-40AE-8A0C-BE04E1F2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E667-2516-49BF-8714-557671F4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B51A-0911-4CE0-8F2E-7CCFBD84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C94E-24C0-44BB-A96B-447166C4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72D5-579B-4D6B-B4D9-97BA273B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CE75-2510-4BA0-9F9A-61977733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4F6A-01E4-4C26-B35E-5C50845A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7BAE3-A552-447A-88EE-79D5E070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294E5-BA75-491A-85A8-D1C8737D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37AF-4C19-4196-B183-A52B3361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D1DC3-EF75-4817-A99F-458BB3BA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899C2-80FA-41E8-A4BE-0C567151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43D-3FC3-4478-8477-808BC235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560E5-A60C-475D-9BDD-2E9E950D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00A5-9CE1-44CB-9618-71CA2721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647F-D1EF-44E7-A50E-CB4E7701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83E67-4BFB-44FF-8E99-71590F43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12A2-8961-4763-97F4-318ED71F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82F4-8B92-4CC0-923F-3A5E3FF7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46DF9-5408-4D16-AD90-14089DA3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6AF-FBE8-4889-A3A7-7D728537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82F-5A36-441D-9D7C-EF99D058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12F-B6C7-4094-9041-A02E3632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171-BCF8-4F1A-834B-71933E65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050-E647-4A33-948F-06416BF4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28E-B68B-49B7-B5C2-8BE8562B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5B59-0C1A-4C18-8805-964F244DF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9235-A9DE-43CA-9CE7-251EC0C4FD6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25F0-4239-4DBE-8C4A-5D35FDDE559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620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ема: Гражданская война в России 1918-1922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700280"/>
            <a:ext cx="835344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Акимова Елена Владимировна, г.Северобайкальск, учитель истории и обществознания МОУ Лицей №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дактическая направленность: объясн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ормат документа: презентация(*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аботе использованы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 Word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S Power Poin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dobe PhotoShop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net Explore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сканированные рисунки, материалы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евая аудитория: учителя предметники, ученики 9,11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ъем работы: 11 слай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елё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1946160" cy="30974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59280" y="1268280"/>
            <a:ext cx="540036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АХНО Нестор Иванович (1888-1934), российский деятель анархо-крестьянского движения в 1918-21 на Южной Украине в Гражданскую войну. Возглавляемое Махно движение (общая численность непостоянна — от 500 человек до 35 тыс. человек) выступало под лозунгами «безвластного государства», «вольных советов», вело вооруженную борьбу против германского нашествия, белогвардейцев, а затем и против Советской власти. Движение ликвидировано Красной Армией. Махно в 1921 эмигриро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3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чины победы большевиков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в  гражданской войне: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отсутствие единства в рядах белого движения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создание большевиками мощного государственного аппарата, мобилизация населения, террор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агитационно-пропагандистская работа в массах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популистские лозунги и политика, поддержанная бедняцкой частью населения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отсутствие социальной связи белого движения с большинством населения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нахождение в руках большевиков промышленной базы страны и значительной части резервов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отсутствие единого командования между белыми армиями и войсками интерв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74080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1187280" y="4437000"/>
            <a:ext cx="6913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оссии 1918-1922г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333360"/>
            <a:ext cx="79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«Не дай Вам Бог увидеть русский бунт кровавый и беспощад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2133720"/>
            <a:ext cx="81360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лан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нятие «гражданская вой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ичины гражданской во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ериод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Белое дви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ра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ежду белыми и крас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чему победили большев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рмины:</a:t>
            </a:r>
            <a:br>
              <a:rPr sz="2400"/>
            </a:br>
            <a:br>
              <a:rPr sz="20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ражданская война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тервенция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рор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зурпация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квизиция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мпромисс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скалация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литар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2894040" cy="3152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443640" y="549360"/>
            <a:ext cx="2502000" cy="25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9640" y="765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Гражданская война – организованная вооруженная борьба за власть в стране между гражданами одной страны, их объединениями и группиро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2133720"/>
            <a:ext cx="8893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ичины вой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)Национализация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)Ликвидация сельских советов, замена на комб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)Разгон Учредительного соб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)Унизительный Брестск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)Отсутствие опыта политического компром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)Вмешательство других госуд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530532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Интервенция - (от лат. вмешательство) насильственное вмешательство одного или нескольких государств во внутренние дела другого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сновные этапы гражданской войны в России 1917-1922гг.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476280"/>
          <a:ext cx="4176720" cy="5584680"/>
        </p:xfrm>
        <a:graphic>
          <a:graphicData uri="http://schemas.openxmlformats.org/drawingml/2006/table">
            <a:tbl>
              <a:tblPr/>
              <a:tblGrid>
                <a:gridCol w="1073160"/>
                <a:gridCol w="3103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10.1917г.- 05.1918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 вооруженного гражданского противостояния. «Ограниченная война» - выступление Краснова под Петроградом, Каледина на Дону, Дутова на Ур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-11.1918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 полномасштабной гражданской войны: выступление Чехословацкого корпуса, Добровольческой и Донской армий. Десанты Антанты: Англия в Мурманске, Архангельске, Баку, Мерве; Турция – в Карсе и Батуме; Франция – в Одессе и Севастопо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918г.-весна 19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иление военного противостояния красных и белых. Военные операции войск Колчака, Деникина, Краснова, Юденича, Семенова. Численность армейских частей Антанты в России достигает 200 тыс.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на- конец 1919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ром основных сил белых(Колчак, Деникин, Юденич).Эвакуация основных сил иностранных вой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на- осень 192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йна с Польшей. Разгром армии Вранг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-1922г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красных в Средней Азии, Закавказье, на Дальнем Востоке, Завершение гражданской вой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643280" y="476280"/>
          <a:ext cx="4249800" cy="5616360"/>
        </p:xfrm>
        <a:graphic>
          <a:graphicData uri="http://schemas.openxmlformats.org/drawingml/2006/table">
            <a:tbl>
              <a:tblPr/>
              <a:tblGrid>
                <a:gridCol w="916200"/>
                <a:gridCol w="3333600"/>
              </a:tblGrid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-03.1917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жение самодержавия, раскол об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.-10.1917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стрение противостояния в обществе, усиление психологии гражданской вой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917г.-03.1918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жение временного правительства, установление советской власти, распространение вооруженной борь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.-07.1918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калация насилия, террор с обеих сторон, формирование белых и красных вооруженных с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 1918г.- конец 192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есточенные сражения между регулярными войсками, в том числе иностранными, милитаризация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1-1922г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ухание боевых действий, их локализация и полное прекращ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1015920" y="623736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 по А.А.Данилов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03240" y="623736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 по Ю.А.Поляков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03280" y="115920"/>
            <a:ext cx="6000840" cy="2771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27120" y="609480"/>
            <a:ext cx="183960" cy="22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7120" y="609480"/>
            <a:ext cx="183960" cy="18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5120" y="754200"/>
            <a:ext cx="184320" cy="235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197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2924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ражданск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328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698560" y="3284640"/>
            <a:ext cx="165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98920" y="3284640"/>
            <a:ext cx="187344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47640" y="436572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е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8000" y="465300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ра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08720" y="436572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ежду белыми и крас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деры белого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700360" y="141300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020000" y="1413000"/>
            <a:ext cx="1800000" cy="1944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4859280" y="1413000"/>
            <a:ext cx="1871640" cy="1942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093080" y="3429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. М. Кале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59280" y="342900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И. Дени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00360" y="3429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.В.Алекс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3429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В. Колч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2500"/>
            </a:gs>
            <a:gs pos="50000">
              <a:srgbClr val="ff7c80"/>
            </a:gs>
            <a:gs pos="100000">
              <a:srgbClr val="c42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деры красного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276720" y="1484280"/>
            <a:ext cx="2808000" cy="2592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3851280" y="4508640"/>
            <a:ext cx="1800360" cy="2232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564000" y="112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И. Чап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112536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. Н Тухач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0000" y="4149720"/>
            <a:ext cx="19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. М Будё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112536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. Е Вороши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1:29:28Z</dcterms:created>
  <dc:creator>INF6</dc:creator>
  <dc:description/>
  <dc:language>en-US</dc:language>
  <cp:lastModifiedBy>777</cp:lastModifiedBy>
  <dcterms:modified xsi:type="dcterms:W3CDTF">2008-01-16T15:00:16Z</dcterms:modified>
  <cp:revision>11</cp:revision>
  <dc:subject/>
  <dc:title>Слайд 1</dc:title>
</cp:coreProperties>
</file>