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5B5-DB84-4144-A5A5-14A2D419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BE7-7F01-4CBF-94D9-32DE12A6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88E-0848-4118-9229-BC56E50F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5BE-87F3-4D2C-9AF1-80AFB891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8B9-9247-4B8E-ACE0-E03D9A64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F36-4449-4290-9698-9BF152B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320-F839-443C-9B87-BF39F8D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C5B-A509-44BF-87AB-4CB441A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20D-1C10-4E99-8AD3-0547DDB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387-FF05-4467-8D8A-45C99DD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D25-1FA0-4A3C-8BEC-012070A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A19-874C-4A67-B2F1-F68A9C5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62F2-E80E-4C1A-9C59-34CE66C73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2920" y="10778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43c0c"/>
                </a:solidFill>
                <a:latin typeface="Calibri Light"/>
              </a:rPr>
              <a:t>Архитектур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2800" y="174240"/>
            <a:ext cx="4133880" cy="66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В I веке до Рождества Христова в Риме жил замечательный ученый, архитектор и механик по имени Витрувий. Он придумал необычную формулу – три понятия, которые должны лежать в основе любого архитектурного сооружения. </a:t>
            </a:r>
            <a:br>
              <a:rPr sz="2400"/>
            </a:b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Найдите в таблице и выпишите понятия, которые по мнению Витрувия позволяют архитектурному сооружению стать произведением искусства. Обратите внимание: слова могут быть написаны в разных направлениях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76880" y="743040"/>
          <a:ext cx="6015240" cy="5099040"/>
        </p:xfrm>
        <a:graphic>
          <a:graphicData uri="http://schemas.openxmlformats.org/drawingml/2006/table">
            <a:tbl>
              <a:tblPr/>
              <a:tblGrid>
                <a:gridCol w="752400"/>
                <a:gridCol w="750960"/>
                <a:gridCol w="752400"/>
                <a:gridCol w="752760"/>
                <a:gridCol w="750600"/>
                <a:gridCol w="752760"/>
                <a:gridCol w="750600"/>
                <a:gridCol w="75276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2800" y="174240"/>
            <a:ext cx="4133880" cy="66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В I веке до Рождества Христова в Риме жил замечательный ученый, архитектор и механик по имени Витрувий. Он придумал необычную формулу – три понятия, которые должны лежать в основе любого архитектурного сооружения. </a:t>
            </a:r>
            <a:br>
              <a:rPr sz="2400"/>
            </a:b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Найдите в таблице и выпишите понятия, которые по мнению Витрувия позволяют архитектурному сооружению стать произведением искусства. Обратите внимание: слова могут быть написаны в разных направлениях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76880" y="743040"/>
          <a:ext cx="6015240" cy="5099040"/>
        </p:xfrm>
        <a:graphic>
          <a:graphicData uri="http://schemas.openxmlformats.org/drawingml/2006/table">
            <a:tbl>
              <a:tblPr/>
              <a:tblGrid>
                <a:gridCol w="752400"/>
                <a:gridCol w="750960"/>
                <a:gridCol w="752400"/>
                <a:gridCol w="752760"/>
                <a:gridCol w="750600"/>
                <a:gridCol w="752760"/>
                <a:gridCol w="750600"/>
                <a:gridCol w="75276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09520" y="0"/>
            <a:ext cx="99550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Calibri Light"/>
              </a:rPr>
              <a:t>Согласны ли вы с утверждением, что все эти три понятия Витрувия (прочность, польза, красота) воплощены в православном храме?</a:t>
            </a:r>
            <a:br>
              <a:rPr sz="2800"/>
            </a:br>
            <a:r>
              <a:rPr b="1" lang="ru-RU" sz="2800" spc="-1" strike="noStrike">
                <a:solidFill>
                  <a:srgbClr val="1f4e79"/>
                </a:solidFill>
                <a:latin typeface="Calibri Light"/>
              </a:rPr>
              <a:t>Обоснуйте свое мнение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3344760" y="1690560"/>
            <a:ext cx="77360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50:39Z</dcterms:created>
  <dc:creator>Пользователь Windows</dc:creator>
  <dc:description/>
  <dc:language>en-US</dc:language>
  <cp:lastModifiedBy>Пользователь Windows</cp:lastModifiedBy>
  <dcterms:modified xsi:type="dcterms:W3CDTF">2018-09-29T12:57:34Z</dcterms:modified>
  <cp:revision>2</cp:revision>
  <dc:subject/>
  <dc:title>Архитектура</dc:title>
</cp:coreProperties>
</file>