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363-1991-4E12-9F0C-45C971F1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958-F43B-42B9-9C09-E88658CF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FE9-7A83-4C53-B16A-977AF590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E27-951D-4D53-8DE7-9758C773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BE8-2103-4B5F-B310-07733D19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142-B752-402A-80E9-47094DC4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68B-546E-4E11-B325-C78467B1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585-D7D5-4A9B-B577-37B9D858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369-AA1D-46AA-B2B3-D5CA3347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3D2-CF17-46AB-98E8-0C7228E2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29F-E229-4917-96BB-666B616B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F27-5EF6-4F91-861E-9AE7223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8539-1276-4217-AAE3-7D85378CD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2920" y="10778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43c0c"/>
                </a:solidFill>
                <a:latin typeface="Calibri Light"/>
              </a:rPr>
              <a:t>Архитектур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2800" y="174240"/>
            <a:ext cx="4133880" cy="66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Calibri Light"/>
              </a:rPr>
              <a:t>В I веке до Рождества Христова в Риме жил замечательный ученый, архитектор и механик по имени Витрувий. Он придумал необычную формулу – три понятия, которые должны лежать в основе любого архитектурного сооружения. </a:t>
            </a:r>
            <a:br>
              <a:rPr sz="2400"/>
            </a:br>
            <a:r>
              <a:rPr b="1" lang="ru-RU" sz="2400" spc="-1" strike="noStrike">
                <a:solidFill>
                  <a:srgbClr val="1f4e79"/>
                </a:solidFill>
                <a:latin typeface="Calibri Light"/>
              </a:rPr>
              <a:t>Найдите в таблице и выпишите понятия, которые по мнению Витрувия позволяют архитектурному сооружению стать произведением искусства. Обратите внимание: слова могут быть написаны в разных направлениях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176880" y="743040"/>
          <a:ext cx="6015240" cy="5099040"/>
        </p:xfrm>
        <a:graphic>
          <a:graphicData uri="http://schemas.openxmlformats.org/drawingml/2006/table">
            <a:tbl>
              <a:tblPr/>
              <a:tblGrid>
                <a:gridCol w="752400"/>
                <a:gridCol w="750960"/>
                <a:gridCol w="752400"/>
                <a:gridCol w="752760"/>
                <a:gridCol w="750600"/>
                <a:gridCol w="752760"/>
                <a:gridCol w="750600"/>
                <a:gridCol w="752760"/>
              </a:tblGrid>
              <a:tr h="80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5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щ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2800" y="174240"/>
            <a:ext cx="4133880" cy="66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Calibri Light"/>
              </a:rPr>
              <a:t>В I веке до Рождества Христова в Риме жил замечательный ученый, архитектор и механик по имени Витрувий. Он придумал необычную формулу – три понятия, которые должны лежать в основе любого архитектурного сооружения. </a:t>
            </a:r>
            <a:br>
              <a:rPr sz="2400"/>
            </a:br>
            <a:r>
              <a:rPr b="1" lang="ru-RU" sz="2400" spc="-1" strike="noStrike">
                <a:solidFill>
                  <a:srgbClr val="1f4e79"/>
                </a:solidFill>
                <a:latin typeface="Calibri Light"/>
              </a:rPr>
              <a:t>Найдите в таблице и выпишите понятия, которые по мнению Витрувия позволяют архитектурному сооружению стать произведением искусства. Обратите внимание: слова могут быть написаны в разных направлениях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176880" y="743040"/>
          <a:ext cx="6015240" cy="5099040"/>
        </p:xfrm>
        <a:graphic>
          <a:graphicData uri="http://schemas.openxmlformats.org/drawingml/2006/table">
            <a:tbl>
              <a:tblPr/>
              <a:tblGrid>
                <a:gridCol w="752400"/>
                <a:gridCol w="750960"/>
                <a:gridCol w="752400"/>
                <a:gridCol w="752760"/>
                <a:gridCol w="750600"/>
                <a:gridCol w="752760"/>
                <a:gridCol w="750600"/>
                <a:gridCol w="752760"/>
              </a:tblGrid>
              <a:tr h="80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5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5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щ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09520" y="0"/>
            <a:ext cx="9955080" cy="16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Calibri Light"/>
              </a:rPr>
              <a:t>Согласны ли вы с утверждением, что все эти три понятия Витрувия (прочность, польза, красота) воплощены в православном храме?</a:t>
            </a:r>
            <a:br>
              <a:rPr sz="2800"/>
            </a:br>
            <a:r>
              <a:rPr b="1" lang="ru-RU" sz="2800" spc="-1" strike="noStrike">
                <a:solidFill>
                  <a:srgbClr val="1f4e79"/>
                </a:solidFill>
                <a:latin typeface="Calibri Light"/>
              </a:rPr>
              <a:t>Обоснуйте свое мнение.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3344760" y="1690560"/>
            <a:ext cx="773604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2:50:39Z</dcterms:created>
  <dc:creator>Пользователь Windows</dc:creator>
  <dc:description/>
  <dc:language>en-US</dc:language>
  <cp:lastModifiedBy>Пользователь Windows</cp:lastModifiedBy>
  <dcterms:modified xsi:type="dcterms:W3CDTF">2018-09-29T12:57:34Z</dcterms:modified>
  <cp:revision>2</cp:revision>
  <dc:subject/>
  <dc:title>Архитектура</dc:title>
</cp:coreProperties>
</file>