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68E0-64B4-4FB1-8655-2B6792BFB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080C-6DC7-430A-B06D-15C441E5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06AD-407B-4124-86B0-6F9CDFCB5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F682-6025-42B6-9808-076F3A2E7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A89D-7EAC-417D-A7C2-8D7C7A5D2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E6E3-D39E-45B5-BCA9-FB660E60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2E71-8DF9-4859-A4B7-23850D56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B0CA-C039-41C3-B11D-07765286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8335-BD5A-48D1-9195-E0246EDB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7AA6-0008-462E-8E85-F84348E9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6F91-C7C6-4FEB-A3FC-9D3DABF3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DF8E-8EAE-41A3-9516-CD413F45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E0F1-6234-409B-905B-4872A1FB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46926-305B-41C6-AB91-3CD8A5B5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97A4-57AD-447F-B615-BA17BAE3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EE037-F8AC-4D53-965D-DCD854691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590D2-6427-4822-97B5-687F59679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AB99-6C69-42D6-94D2-1B343D74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5FFA-286C-4FAE-8D02-C59F48DB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6CB9-9602-4737-96CD-8A9357D8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E90F-6FDD-4C68-A404-00A95D3E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6997-8C2D-49D1-928D-E5916228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E827-9E92-4FD1-A275-B78AA7B2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4BC6-CAFA-4DA7-866A-B2BF25E4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BE34-46F6-43EE-A21D-40E30DE119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0C7A-5174-4F3B-B779-2F23796DA35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8/bojkovilya.0/0_2bdd_400a29ec_XL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hyperlink" Target="http://fotki.yandex.ru/users/bojkovilya/view/11229/" TargetMode="External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cololife.ru/study-585-22.html" TargetMode="External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1093;&#1086;&#1083;&#1086;&#1076;&#1085;&#1099;&#1081;%20&#1092;&#1088;&#1086;&#1085;&#1090;.swf" TargetMode="External"/><Relationship Id="rId2" Type="http://schemas.openxmlformats.org/officeDocument/2006/relationships/hyperlink" Target="file:///&#1090;&#1077;&#1087;&#1083;&#1099;&#1081;%20&#1092;&#1088;&#1086;&#1085;&#1090;.swf" TargetMode="Externa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1294920"/>
            <a:ext cx="8915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8"/>
          <p:cNvSpPr txBox="1"/>
          <p:nvPr/>
        </p:nvSpPr>
        <p:spPr>
          <a:xfrm>
            <a:off x="1219320" y="838080"/>
            <a:ext cx="678168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тмосферные  фронты.  </a:t>
            </a:r>
            <a:endParaRPr b="1" i="1" lang="en-US" sz="4000" spc="1" strike="noStrike">
              <a:ln w="0">
                <a:noFill/>
              </a:ln>
              <a:gradFill rotWithShape="0">
                <a:gsLst>
                  <a:gs pos="0">
                    <a:srgbClr val="ff8200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иклоны  и  антициклоны</a:t>
            </a:r>
            <a:endParaRPr b="1" i="1" lang="en-US" sz="4000" spc="1" strike="noStrike">
              <a:ln w="0">
                <a:noFill/>
              </a:ln>
              <a:gradFill rotWithShape="0">
                <a:gsLst>
                  <a:gs pos="0">
                    <a:srgbClr val="ff8200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4724280" y="5410080"/>
            <a:ext cx="37339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http://cor.edu.27.ru/dlrstore/e2916062-43dc-212a-08ab-f20875c8865e/6872_006.gif"/>
          <p:cNvPicPr/>
          <p:nvPr/>
        </p:nvPicPr>
        <p:blipFill>
          <a:blip r:embed="rId1"/>
          <a:stretch/>
        </p:blipFill>
        <p:spPr>
          <a:xfrm>
            <a:off x="228600" y="533520"/>
            <a:ext cx="8534520" cy="50734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4114800" y="594360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dic.academic.ru/dic.nsf/enc_colier/105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395280" y="1125360"/>
          <a:ext cx="7848720" cy="523404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95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Цикло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Антицикло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Атмосферный  вихрь  с  низким  давлением  в  цент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Атмосферный  вихрь  с высоким давлением  в  цент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Движение  воздуха  от  окраин  к  центру  против  часовой  стрел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Движение  воздуха  от центра  к окраинам  по  часовой  стрел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В  центре—восходящее  движение  возду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В  центре—нисходящее  движение  возду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Погода  изменчивая,  ветреная,  облачная,  с  осадкам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Погода  устойчивая,  безветрен- ная,  безоблачная,  без осадков.  Летом -тёплая, зимой - морозна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7" descr=""/>
          <p:cNvPicPr/>
          <p:nvPr/>
        </p:nvPicPr>
        <p:blipFill>
          <a:blip r:embed="rId1"/>
          <a:stretch/>
        </p:blipFill>
        <p:spPr>
          <a:xfrm>
            <a:off x="196920" y="152280"/>
            <a:ext cx="8796240" cy="61722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380880" y="0"/>
            <a:ext cx="8226720" cy="6556320"/>
          </a:xfrm>
          <a:prstGeom prst="rect">
            <a:avLst/>
          </a:prstGeom>
          <a:ln w="0">
            <a:noFill/>
          </a:ln>
        </p:spPr>
      </p:pic>
      <p:sp>
        <p:nvSpPr>
          <p:cNvPr id="106" name="Стрелка вправо 3"/>
          <p:cNvSpPr/>
          <p:nvPr/>
        </p:nvSpPr>
        <p:spPr>
          <a:xfrm rot="10800000">
            <a:off x="228600" y="6095880"/>
            <a:ext cx="533520" cy="45720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7f4d00"/>
                </a:solidFill>
                <a:latin typeface="Times New Roman"/>
              </a:rPr>
              <a:t>Используемые ресурсы: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7f4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4d00"/>
                </a:solidFill>
                <a:latin typeface="Times New Roman"/>
              </a:rPr>
              <a:t>И.И.Баринова. География. Природа России. 8 класс – М.: Дрофа, 2009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7f4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4d00"/>
                </a:solidFill>
                <a:latin typeface="Times New Roman"/>
              </a:rPr>
              <a:t>В.И.Сиротин. География. Рабочая тетрадь с комплектом контурных кар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7f4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4d00"/>
                </a:solidFill>
                <a:latin typeface="Times New Roman"/>
              </a:rPr>
              <a:t>Электронный учебник «Кирилл и Мефодий» – флеш-ролики «Циклон» и «Антициклон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ttp://dic.academic.ru/dic.nsf/enc_colier/1052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ttp://www.ecololife.ru/study-585-22.html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ttp://www.ecololife.ru/study-585-22.html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7f4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Цели  и  задачи  урока: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2331720"/>
            <a:ext cx="77724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Дать  представление  об  атмосферных  фронтах,  циклонах,  антициклонах  и  их  влиянии  на  погоду  и  климат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родолжить  формирование  знаний  о  главных  чертах  климата  Росс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ознакомить  с  синоптической  кар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imes New Roman"/>
              </a:rPr>
              <a:t>Почему  погода  может резко  измениться в  течение  одного дня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imes New Roman"/>
              </a:rPr>
              <a:t>Почему  в  Сибири  очень  холодная  зима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imes New Roman"/>
              </a:rPr>
              <a:t>Как  можно  предсказать  погоду,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80808"/>
                </a:solidFill>
                <a:latin typeface="Times New Roman"/>
              </a:rPr>
              <a:t>если  вы  увидели  на  небе  перистые  облака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Проблемный  вопро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8000"/>
                            </p:stCondLst>
                            <p:childTnLst>
                              <p:par>
                                <p:cTn id="4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859960" cy="5778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239760" y="533520"/>
            <a:ext cx="8664480" cy="5790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Картинка 5 из 44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609480"/>
            <a:ext cx="8282160" cy="55627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Атмосферный фрон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>
            <a:off x="6172200" y="62485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fotki.yandex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Содержимое 3" descr="img074.jpg"/>
          <p:cNvPicPr/>
          <p:nvPr/>
        </p:nvPicPr>
        <p:blipFill>
          <a:blip r:embed="rId1"/>
          <a:stretch/>
        </p:blipFill>
        <p:spPr>
          <a:xfrm>
            <a:off x="380880" y="0"/>
            <a:ext cx="8436240" cy="583236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4114800" y="59436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www.ecololife.ru/study-585-22.htm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rcRect l="9334" t="0" r="8969" b="0"/>
          <a:stretch/>
        </p:blipFill>
        <p:spPr>
          <a:xfrm>
            <a:off x="990720" y="304920"/>
            <a:ext cx="7086600" cy="617220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</p:spTree>
  </p:cSld>
  <p:transition spd="med">
    <p:dissolv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250920" y="1268280"/>
          <a:ext cx="8569080" cy="5416560"/>
        </p:xfrm>
        <a:graphic>
          <a:graphicData uri="http://schemas.openxmlformats.org/drawingml/2006/table">
            <a:tbl>
              <a:tblPr/>
              <a:tblGrid>
                <a:gridCol w="4286160"/>
                <a:gridCol w="4282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Times New Roman"/>
                          <a:hlinkClick r:id="rId1"/>
                        </a:rPr>
                        <a:t>Холодный фро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Times New Roman"/>
                          <a:hlinkClick r:id="rId2"/>
                        </a:rPr>
                        <a:t>Тёплый  фрон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. Образуется  при  вторжен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холодного  воздуха  в  область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занятую  тёплы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. Проникает  клином,  выталкивая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ТВ  вверх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.  Погода  меняется  быстро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Ливень,  гроза,  шквалистый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вете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4. </a:t>
                      </a: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После  прохождения   фронта</a:t>
                      </a: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похолодани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660033"/>
                        </a:buClr>
                        <a:buFont typeface="Arial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660033"/>
                        </a:buClr>
                        <a:buFont typeface="Arial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Образуется  при  вторжении  тёплого  воздуха  в  область,  занятую  холодны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2.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Поднимается  плавно  над  ХВ,  оттесняя  ег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3.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Погода  меняется  постепенно, идут затяжные  дожд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4.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После  прохождения  фронта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 --  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 медленное  потепление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80808"/>
                </a:solidFill>
                <a:uFillTx/>
                <a:latin typeface="Times New Roman"/>
              </a:rPr>
              <a:t>Атмосферный  фронт </a:t>
            </a:r>
            <a:r>
              <a:rPr b="0" lang="ru-RU" sz="2400" spc="-1" strike="noStrike">
                <a:solidFill>
                  <a:srgbClr val="080808"/>
                </a:solidFill>
                <a:latin typeface="Times New Roman"/>
              </a:rPr>
              <a:t>—это  полоса,  разделяющая  разные  по  своим  свойствам  воздушные  массы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ексей</dc:creator>
  <dc:description/>
  <dc:language>en-US</dc:language>
  <cp:lastModifiedBy>Алексей</cp:lastModifiedBy>
  <dcterms:modified xsi:type="dcterms:W3CDTF">2012-01-28T10:56:07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