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9B9D-8BA5-4E2D-BE58-8D0F1C66F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4BDA-AF18-4AFA-95C9-C1D7FCF9B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5CC7-2313-41F8-94A0-01EB0CC6D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8ACE-73C3-40CE-992B-C0F51D41A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20931-D2F4-4432-9308-DC2A47300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09335-1A3B-4927-AE6F-1B36C1E9C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7D302-97F5-40B0-AA87-3FC76FA7D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21698-A766-4A19-A0A9-A2CC89EDF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7452E-AA01-426D-973F-397F967F7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91FCC-8544-495B-929C-3F50322FD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79273-E615-4167-A5E1-65D363C5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25DE-D5BE-4C6F-ADA6-7DB407474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E2AEC-4471-4E2D-AFE5-E60D3EC7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F0BDD-8C02-4A6B-B0F4-9EC1681C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40F4D-B769-4F1F-A0B6-49B9FDDD0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AF993-F641-4B4F-82BC-5ECEF2E33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3C18B-2B97-4365-9811-E3735CD9E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4BB4-73D2-4862-B18E-BDE9735F6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88EF-5EBE-4678-9280-C25D25A2B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9CF0-35EF-4FE0-BB42-DCB5A9C12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5712-1CB6-47A6-8779-7B9AB1A80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2681-F6C4-4DB4-8DBB-45F12B71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49D5-FD10-4F59-9DE1-051C01D8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AB52-B641-4369-901F-A1E04AA4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9A07B-9DC7-4CF6-85CA-2B29D65BF6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356EF-AF73-49F4-BEE6-8D576A9E229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8/bojkovilya.0/0_2bdd_400a29ec_XL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hyperlink" Target="http://fotki.yandex.ru/users/bojkovilya/view/11229/" TargetMode="External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cololife.ru/study-585-22.html" TargetMode="External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&#1093;&#1086;&#1083;&#1086;&#1076;&#1085;&#1099;&#1081;%20&#1092;&#1088;&#1086;&#1085;&#1090;.swf" TargetMode="External"/><Relationship Id="rId2" Type="http://schemas.openxmlformats.org/officeDocument/2006/relationships/hyperlink" Target="file:///&#1090;&#1077;&#1087;&#1083;&#1099;&#1081;%20&#1092;&#1088;&#1086;&#1085;&#1090;.swf" TargetMode="External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1294920"/>
            <a:ext cx="8915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8"/>
          <p:cNvSpPr txBox="1"/>
          <p:nvPr/>
        </p:nvSpPr>
        <p:spPr>
          <a:xfrm>
            <a:off x="1219320" y="838080"/>
            <a:ext cx="6781680" cy="403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тмосферные  фронты.  </a:t>
            </a:r>
            <a:endParaRPr b="1" i="1" lang="en-US" sz="4000" spc="1" strike="noStrike">
              <a:ln w="0">
                <a:noFill/>
              </a:ln>
              <a:gradFill rotWithShape="0">
                <a:gsLst>
                  <a:gs pos="0">
                    <a:srgbClr val="ff8200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Циклоны  и  антициклоны</a:t>
            </a:r>
            <a:endParaRPr b="1" i="1" lang="en-US" sz="4000" spc="1" strike="noStrike">
              <a:ln w="0">
                <a:noFill/>
              </a:ln>
              <a:gradFill rotWithShape="0">
                <a:gsLst>
                  <a:gs pos="0">
                    <a:srgbClr val="ff8200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4724280" y="5410080"/>
            <a:ext cx="37339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http://cor.edu.27.ru/dlrstore/e2916062-43dc-212a-08ab-f20875c8865e/6872_006.gif"/>
          <p:cNvPicPr/>
          <p:nvPr/>
        </p:nvPicPr>
        <p:blipFill>
          <a:blip r:embed="rId1"/>
          <a:stretch/>
        </p:blipFill>
        <p:spPr>
          <a:xfrm>
            <a:off x="228600" y="533520"/>
            <a:ext cx="8534520" cy="50734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3"/>
          <p:cNvSpPr/>
          <p:nvPr/>
        </p:nvSpPr>
        <p:spPr>
          <a:xfrm>
            <a:off x="4114800" y="594360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dic.academic.ru/dic.nsf/enc_colier/105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395280" y="1125360"/>
          <a:ext cx="7848720" cy="523404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95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80808"/>
                          </a:solidFill>
                          <a:latin typeface="Arial"/>
                          <a:ea typeface="Times New Roman"/>
                        </a:rPr>
                        <a:t>Цикло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80808"/>
                          </a:solidFill>
                          <a:latin typeface="Arial"/>
                          <a:ea typeface="Times New Roman"/>
                        </a:rPr>
                        <a:t>Антицикло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53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80808"/>
                          </a:solidFill>
                          <a:latin typeface="Arial"/>
                          <a:ea typeface="Times New Roman"/>
                        </a:rPr>
                        <a:t>Атмосферный  вихрь  с  низким  давлением  в  центр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53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80808"/>
                          </a:solidFill>
                          <a:latin typeface="Arial"/>
                          <a:ea typeface="Times New Roman"/>
                        </a:rPr>
                        <a:t>Атмосферный  вихрь  с высоким давлением  в  центр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53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80808"/>
                          </a:solidFill>
                          <a:latin typeface="Arial"/>
                          <a:ea typeface="Times New Roman"/>
                        </a:rPr>
                        <a:t>Движение  воздуха  от  окраин  к  центру  против  часовой  стрел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53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80808"/>
                          </a:solidFill>
                          <a:latin typeface="Arial"/>
                          <a:ea typeface="Times New Roman"/>
                        </a:rPr>
                        <a:t>Движение  воздуха  от центра  к окраинам  по  часовой  стрелк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53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80808"/>
                          </a:solidFill>
                          <a:latin typeface="Arial"/>
                          <a:ea typeface="Times New Roman"/>
                        </a:rPr>
                        <a:t>В  центре—восходящее  движение  воздух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53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80808"/>
                          </a:solidFill>
                          <a:latin typeface="Arial"/>
                          <a:ea typeface="Times New Roman"/>
                        </a:rPr>
                        <a:t>В  центре—нисходящее  движение  воздух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53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80808"/>
                          </a:solidFill>
                          <a:latin typeface="Arial"/>
                          <a:ea typeface="Times New Roman"/>
                        </a:rPr>
                        <a:t>Погода  изменчивая,  ветреная,  облачная,  с  осадкам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53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80808"/>
                          </a:solidFill>
                          <a:latin typeface="Arial"/>
                          <a:ea typeface="Times New Roman"/>
                        </a:rPr>
                        <a:t>Погода  устойчивая,  безветрен- ная,  безоблачная,  без осадков.  Летом -тёплая, зимой - морозна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17" descr=""/>
          <p:cNvPicPr/>
          <p:nvPr/>
        </p:nvPicPr>
        <p:blipFill>
          <a:blip r:embed="rId1"/>
          <a:stretch/>
        </p:blipFill>
        <p:spPr>
          <a:xfrm>
            <a:off x="196920" y="152280"/>
            <a:ext cx="8796240" cy="61722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380880" y="0"/>
            <a:ext cx="8226720" cy="6556320"/>
          </a:xfrm>
          <a:prstGeom prst="rect">
            <a:avLst/>
          </a:prstGeom>
          <a:ln w="0">
            <a:noFill/>
          </a:ln>
        </p:spPr>
      </p:pic>
      <p:sp>
        <p:nvSpPr>
          <p:cNvPr id="106" name="Стрелка вправо 3"/>
          <p:cNvSpPr/>
          <p:nvPr/>
        </p:nvSpPr>
        <p:spPr>
          <a:xfrm rot="10800000">
            <a:off x="228600" y="6095880"/>
            <a:ext cx="533520" cy="45720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7f4d00"/>
                </a:solidFill>
                <a:latin typeface="Times New Roman"/>
              </a:rPr>
              <a:t>Используемые ресурсы:</a:t>
            </a: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7f4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4d00"/>
                </a:solidFill>
                <a:latin typeface="Times New Roman"/>
              </a:rPr>
              <a:t>И.И.Баринова. География. Природа России. 8 класс – М.: Дрофа, 2009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7f4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4d00"/>
                </a:solidFill>
                <a:latin typeface="Times New Roman"/>
              </a:rPr>
              <a:t>В.И.Сиротин. География. Рабочая тетрадь с комплектом контурных кар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7f4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4d00"/>
                </a:solidFill>
                <a:latin typeface="Times New Roman"/>
              </a:rPr>
              <a:t>Электронный учебник «Кирилл и Мефодий» – флеш-ролики «Циклон» и «Антициклон»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http://dic.academic.ru/dic.nsf/enc_colier/1052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http://www.ecololife.ru/study-585-22.html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http://www.ecololife.ru/study-585-22.html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7f4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Цели  и  задачи  урока: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2331720"/>
            <a:ext cx="777240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Дать  представление  об  атмосферных  фронтах,  циклонах,  антициклонах  и  их  влиянии  на  погоду  и  климат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Продолжить  формирование  знаний  о  главных  чертах  климата  Росс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Познакомить  с  синоптической  карт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Times New Roman"/>
              </a:rPr>
              <a:t>Почему  погода  может резко  измениться в  течение  одного дня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Times New Roman"/>
              </a:rPr>
              <a:t>Почему  в  Сибири  очень  холодная  зима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Times New Roman"/>
              </a:rPr>
              <a:t>Как  можно  предсказать  погоду,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80808"/>
                </a:solidFill>
                <a:latin typeface="Times New Roman"/>
              </a:rPr>
              <a:t>если  вы  увидели  на  небе  перистые  облака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Проблемный  вопрос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6000"/>
                            </p:stCondLst>
                            <p:childTnLst>
                              <p:par>
                                <p:cTn id="4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8000"/>
                            </p:stCondLst>
                            <p:childTnLst>
                              <p:par>
                                <p:cTn id="4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" dur="2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8859960" cy="5778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239760" y="533520"/>
            <a:ext cx="8664480" cy="57909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Картинка 5 из 44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609480"/>
            <a:ext cx="8282160" cy="55627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Атмосферный фрон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94" name="TextBox 5"/>
          <p:cNvSpPr/>
          <p:nvPr/>
        </p:nvSpPr>
        <p:spPr>
          <a:xfrm>
            <a:off x="6172200" y="62485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4"/>
              </a:rPr>
              <a:t>fotki.yandex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Содержимое 3" descr="img074.jpg"/>
          <p:cNvPicPr/>
          <p:nvPr/>
        </p:nvPicPr>
        <p:blipFill>
          <a:blip r:embed="rId1"/>
          <a:stretch/>
        </p:blipFill>
        <p:spPr>
          <a:xfrm>
            <a:off x="380880" y="0"/>
            <a:ext cx="8436240" cy="5832360"/>
          </a:xfrm>
          <a:prstGeom prst="rect">
            <a:avLst/>
          </a:prstGeom>
          <a:ln w="0">
            <a:noFill/>
          </a:ln>
        </p:spPr>
      </p:pic>
      <p:sp>
        <p:nvSpPr>
          <p:cNvPr id="96" name="TextBox 2"/>
          <p:cNvSpPr/>
          <p:nvPr/>
        </p:nvSpPr>
        <p:spPr>
          <a:xfrm>
            <a:off x="4114800" y="594360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www.ecololife.ru/study-585-22.htm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rcRect l="9334" t="0" r="8969" b="0"/>
          <a:stretch/>
        </p:blipFill>
        <p:spPr>
          <a:xfrm>
            <a:off x="990720" y="304920"/>
            <a:ext cx="7086600" cy="617220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</p:spTree>
  </p:cSld>
  <p:transition spd="med">
    <p:dissolv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250920" y="1268280"/>
          <a:ext cx="8569080" cy="5416560"/>
        </p:xfrm>
        <a:graphic>
          <a:graphicData uri="http://schemas.openxmlformats.org/drawingml/2006/table">
            <a:tbl>
              <a:tblPr/>
              <a:tblGrid>
                <a:gridCol w="4286160"/>
                <a:gridCol w="42829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Times New Roman"/>
                          <a:hlinkClick r:id="rId1"/>
                        </a:rPr>
                        <a:t>Холодный фро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Times New Roman"/>
                          <a:hlinkClick r:id="rId2"/>
                        </a:rPr>
                        <a:t>Тёплый  фрон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tabLst>
                          <a:tab algn="l" pos="0"/>
                          <a:tab algn="l" pos="247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tabLst>
                          <a:tab algn="l" pos="0"/>
                          <a:tab algn="l" pos="247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. Образуется  при  вторжен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tabLst>
                          <a:tab algn="l" pos="0"/>
                          <a:tab algn="l" pos="247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холодного  воздуха  в  область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tabLst>
                          <a:tab algn="l" pos="0"/>
                          <a:tab algn="l" pos="247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занятую  тёплы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tabLst>
                          <a:tab algn="l" pos="0"/>
                          <a:tab algn="l" pos="247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tabLst>
                          <a:tab algn="l" pos="0"/>
                          <a:tab algn="l" pos="247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. Проникает  клином,  выталкивая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tabLst>
                          <a:tab algn="l" pos="0"/>
                          <a:tab algn="l" pos="247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ТВ  вверх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tabLst>
                          <a:tab algn="l" pos="0"/>
                          <a:tab algn="l" pos="247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tabLst>
                          <a:tab algn="l" pos="0"/>
                          <a:tab algn="l" pos="247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3.  Погода  меняется  быстро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tabLst>
                          <a:tab algn="l" pos="0"/>
                          <a:tab algn="l" pos="247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Ливень,  гроза,  шквалистый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tabLst>
                          <a:tab algn="l" pos="0"/>
                          <a:tab algn="l" pos="247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вете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247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tabLst>
                          <a:tab algn="l" pos="0"/>
                          <a:tab algn="l" pos="247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4. </a:t>
                      </a: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После  прохождения   фронта</a:t>
                      </a: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tabLst>
                          <a:tab algn="l" pos="0"/>
                          <a:tab algn="l" pos="247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похолодани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660033"/>
                        </a:buClr>
                        <a:buFont typeface="Arial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660033"/>
                        </a:buClr>
                        <a:buFont typeface="Arial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Образуется  при  вторжении  тёплого  воздуха  в  область,  занятую  холодны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2. </a:t>
                      </a: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Поднимается  плавно  над  ХВ,  оттесняя  ег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3. </a:t>
                      </a: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Погода  меняется  постепенно, идут затяжные  дожд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4. </a:t>
                      </a: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После  прохождения  фронта</a:t>
                      </a: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 --   </a:t>
                      </a: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 медленное  потепление</a:t>
                      </a: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80808"/>
                </a:solidFill>
                <a:uFillTx/>
                <a:latin typeface="Times New Roman"/>
              </a:rPr>
              <a:t>Атмосферный  фронт </a:t>
            </a:r>
            <a:r>
              <a:rPr b="0" lang="ru-RU" sz="2400" spc="-1" strike="noStrike">
                <a:solidFill>
                  <a:srgbClr val="080808"/>
                </a:solidFill>
                <a:latin typeface="Times New Roman"/>
              </a:rPr>
              <a:t>—это  полоса,  разделяющая  разные  по  своим  свойствам  воздушные  массы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ексей</dc:creator>
  <dc:description/>
  <dc:language>en-US</dc:language>
  <cp:lastModifiedBy>Алексей</cp:lastModifiedBy>
  <dcterms:modified xsi:type="dcterms:W3CDTF">2012-01-28T10:56:07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