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74B-51E5-48AD-92BF-11462CF0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0BCB-A230-4F1D-B87A-A1B4BF82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CAB-8D33-4608-B3A4-E3331E95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B91-960F-4F06-82C8-CAE03F6B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8A32-40B8-4C4C-834A-4D027445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148-7C86-41E0-84E4-B89809C4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126-CB96-41F9-85C2-F6806F65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FBD-CA4E-47BC-86B4-062DD117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03B-7823-4E52-BCCF-85AD615B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D0D-2B96-474A-8423-E2161DE2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0AB-A071-423E-A166-18F3E4E1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95C-C728-4338-A900-2A29BCEC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ac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689B-6A85-41A2-B670-64660D2A34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fac9"/>
                </a:solidFill>
                <a:latin typeface="Arial"/>
              </a:rPr>
              <a:t>Декоративно – прикладное искусство</a:t>
            </a: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умел шить золотом, так бей молото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месло пить, есть не просит, а само корм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143080" y="5429160"/>
            <a:ext cx="6400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итель технологии МБОУ СОШ села Ильин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.Ф.Печур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&amp;Kcy;&amp;acy;&amp;rcy;&amp;tcy;&amp;icy;&amp;ncy;&amp;kcy;&amp;icy; &amp;pcy;&amp;ocy; &amp;zcy;&amp;acy;&amp;pcy;&amp;rcy;&amp;ocy;&amp;scy;&amp;ucy; &amp;lcy;&amp;ocy;&amp;scy;&amp;kcy;&amp;ucy;&amp;tcy;&amp;ncy;&amp;ocy;&amp;iecy; &amp;shcy;&amp;icy;&amp;tcy;&amp;softcy;&amp;iecy;"/>
          <p:cNvPicPr/>
          <p:nvPr/>
        </p:nvPicPr>
        <p:blipFill>
          <a:blip r:embed="rId1"/>
          <a:stretch/>
        </p:blipFill>
        <p:spPr>
          <a:xfrm>
            <a:off x="5848200" y="1484280"/>
            <a:ext cx="2900520" cy="237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643280" y="2428920"/>
            <a:ext cx="2113200" cy="2151000"/>
          </a:xfrm>
          <a:prstGeom prst="rect">
            <a:avLst/>
          </a:prstGeom>
          <a:ln w="0">
            <a:noFill/>
          </a:ln>
        </p:spPr>
      </p:pic>
      <p:pic>
        <p:nvPicPr>
          <p:cNvPr id="46" name="Заголовок 1" descr=""/>
          <p:cNvPicPr/>
          <p:nvPr/>
        </p:nvPicPr>
        <p:blipFill>
          <a:blip r:embed="rId3"/>
          <a:stretch/>
        </p:blipFill>
        <p:spPr>
          <a:xfrm>
            <a:off x="450720" y="0"/>
            <a:ext cx="832176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создание художественных изделий, имеющих практическое назначение в общественном и частном быту, и художественная обработка утилитарных предметов (утварь, мебель, ткани, орудия труда, средства передвижения, одежда, украшения, игрушки и т. д.). При обработке материалов (металл, дерево, керамика, стекло, текстиль и др.) в декоративно-прикладном искусстве используются литье, ковка, чеканка, гравирование, резьба, роспись, инкрустация, вышивка, набойка и т. 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483920"/>
            <a:ext cx="40384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6215040" y="3929040"/>
            <a:ext cx="25718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6" descr="&amp;Kcy;&amp;acy;&amp;rcy;&amp;tcy;&amp;icy;&amp;ncy;&amp;kcy;&amp;icy; &amp;pcy;&amp;ocy; &amp;zcy;&amp;acy;&amp;pcy;&amp;rcy;&amp;ocy;&amp;scy;&amp;ucy; &amp;dcy;&amp;iecy;&amp;rcy;&amp;iecy;&amp;vcy;&amp;yacy;&amp;ncy;&amp;ncy;&amp;ycy;&amp;iecy; &amp;scy;&amp;vcy;&amp;icy;&amp;scy;&amp;tcy;&amp;ucy;&amp;lcy;&amp;softcy;&amp;kcy;&amp;icy;"/>
          <p:cNvPicPr/>
          <p:nvPr/>
        </p:nvPicPr>
        <p:blipFill>
          <a:blip r:embed="rId1"/>
          <a:stretch/>
        </p:blipFill>
        <p:spPr>
          <a:xfrm rot="1558800">
            <a:off x="831600" y="894960"/>
            <a:ext cx="2965320" cy="219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&amp;Kcy;&amp;acy;&amp;rcy;&amp;tcy;&amp;icy;&amp;ncy;&amp;kcy;&amp;icy; &amp;pcy;&amp;ocy; &amp;zcy;&amp;acy;&amp;pcy;&amp;rcy;&amp;ocy;&amp;scy;&amp;ucy; &amp;gcy;&amp;lcy;&amp;icy;&amp;ncy;&amp;yacy;&amp;ncy;&amp;acy;&amp;yacy; &amp;pcy;&amp;ocy;&amp;scy;&amp;ucy;&amp;dcy;&amp;acy;"/>
          <p:cNvPicPr/>
          <p:nvPr/>
        </p:nvPicPr>
        <p:blipFill>
          <a:blip r:embed="rId2"/>
          <a:stretch/>
        </p:blipFill>
        <p:spPr>
          <a:xfrm rot="19618200">
            <a:off x="4876920" y="876240"/>
            <a:ext cx="3024000" cy="2016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411280" y="3860280"/>
            <a:ext cx="2084400" cy="2265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648320" y="2571480"/>
            <a:ext cx="4038480" cy="35542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"/>
          <p:cNvSpPr/>
          <p:nvPr/>
        </p:nvSpPr>
        <p:spPr>
          <a:xfrm>
            <a:off x="155520" y="-2422440"/>
            <a:ext cx="538164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155520" y="-1143000"/>
            <a:ext cx="333396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8" descr="http://portamur.ru/upload/iblock/27e/sfobqo.jpg"/>
          <p:cNvPicPr/>
          <p:nvPr/>
        </p:nvPicPr>
        <p:blipFill>
          <a:blip r:embed="rId5"/>
          <a:stretch/>
        </p:blipFill>
        <p:spPr>
          <a:xfrm>
            <a:off x="5143680" y="3571920"/>
            <a:ext cx="3555720" cy="253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&amp;Kcy;&amp;acy;&amp;rcy;&amp;tcy;&amp;icy;&amp;ncy;&amp;kcy;&amp;icy; &amp;pcy;&amp;ocy; &amp;zcy;&amp;acy;&amp;pcy;&amp;rcy;&amp;ocy;&amp;scy;&amp;ucy; &amp;icy;&amp;zcy;&amp;dcy;&amp;iecy;&amp;lcy;&amp;icy;&amp;yacy; &amp;icy;&amp;zcy; &amp;bcy;&amp;iecy;&amp;rcy;&amp;iecy;&amp;scy;&amp;tcy;&amp;ycy;"/>
          <p:cNvPicPr/>
          <p:nvPr/>
        </p:nvPicPr>
        <p:blipFill>
          <a:blip r:embed="rId6"/>
          <a:stretch/>
        </p:blipFill>
        <p:spPr>
          <a:xfrm>
            <a:off x="428760" y="3643200"/>
            <a:ext cx="33130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https://i.mycdn.me/image?t=3&amp;bid=805521520083&amp;id=805521520083&amp;plc=WEB&amp;tkn=*27PbKkKiCfzthWuUvr0uoWcDRbU"/>
          <p:cNvPicPr/>
          <p:nvPr/>
        </p:nvPicPr>
        <p:blipFill>
          <a:blip r:embed="rId1"/>
          <a:srcRect l="12879" t="0" r="25000" b="0"/>
          <a:stretch/>
        </p:blipFill>
        <p:spPr>
          <a:xfrm>
            <a:off x="2627280" y="2997360"/>
            <a:ext cx="2952720" cy="3168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1363680" cy="2409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395280" y="1557360"/>
            <a:ext cx="2305080" cy="462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s://i.mycdn.me/image?t=3&amp;bid=666409403859&amp;id=666409403859&amp;plc=WEB&amp;tkn=*tDJFrjKu3wXKo_gpddHVSlNOkQs"/>
          <p:cNvPicPr/>
          <p:nvPr/>
        </p:nvPicPr>
        <p:blipFill>
          <a:blip r:embed="rId5"/>
          <a:stretch/>
        </p:blipFill>
        <p:spPr>
          <a:xfrm>
            <a:off x="5435640" y="260280"/>
            <a:ext cx="3300480" cy="346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s://i.mycdn.me/image?t=3&amp;bid=551947659475&amp;id=551947659475&amp;plc=WEB&amp;tkn=*aqgXItC3XrOfPH-v9ys-5uy5lhE"/>
          <p:cNvPicPr/>
          <p:nvPr/>
        </p:nvPicPr>
        <p:blipFill>
          <a:blip r:embed="rId6"/>
          <a:stretch/>
        </p:blipFill>
        <p:spPr>
          <a:xfrm>
            <a:off x="5435640" y="3429000"/>
            <a:ext cx="3267000" cy="2739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s://i.mycdn.me/image?t=3&amp;bid=850544874451&amp;id=850544874451&amp;plc=WEB&amp;tkn=*tTZJquwLn4B5tcW8rxBAGwrEUWs"/>
          <p:cNvPicPr/>
          <p:nvPr/>
        </p:nvPicPr>
        <p:blipFill>
          <a:blip r:embed="rId7"/>
          <a:srcRect l="28313" t="0" r="17578" b="0"/>
          <a:stretch/>
        </p:blipFill>
        <p:spPr>
          <a:xfrm>
            <a:off x="2700360" y="260280"/>
            <a:ext cx="273528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Юлия Дмитриевна Самар </a:t>
            </a: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лия Дмитриевна Самар родилась 16 декабря 1938 года в селе Бичи, основанное горинскими нанайцам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шивать она любила всегда, но вышивать именно традиционный орнамент родного народа. Он завораживал ее красотой и текучестью форм, напоминая Амур, величаво огибающий прибрежные сопки, прихотливое переплетение таежных растений, грацию лесных животных, игру ры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90 году хобби победило и Ю.Д.Самар ушла на пенсию, чтобы заняться любимым дел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1418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4:01:20Z</dcterms:created>
  <dc:creator>Колпаков Роман Геннадьевич</dc:creator>
  <dc:description/>
  <dc:language>en-US</dc:language>
  <cp:lastModifiedBy>ZZZ</cp:lastModifiedBy>
  <dcterms:modified xsi:type="dcterms:W3CDTF">2018-11-12T10:54:01Z</dcterms:modified>
  <cp:revision>31</cp:revision>
  <dc:subject/>
  <dc:title>Декоративно – прикладное искусство</dc:title>
</cp:coreProperties>
</file>