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53E-E0BB-41DF-AF01-2BBEBC3D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551-DD94-4709-9449-A7839894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1DD-0BEF-427D-AB98-75A7FB8B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B70-1811-4724-92C5-A30074B0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22A-1A50-411A-A9BA-9D5C7230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B72-F8A4-4050-9471-83E6023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91F-DFB9-46D1-8258-14D1931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BD1-1A1C-482F-A1EA-B7588F2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D84-64BB-4B63-8493-798D6E2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2DA-827A-43E0-9C00-33126F5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1F1-BC15-4D5B-9943-D00AE188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7C0-3540-4450-A57A-13C5F0E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B34-1E43-4C31-A5D6-EA14859576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Работы Самар Юлии Дмитриевны</a:t>
            </a:r>
            <a:endParaRPr b="0" lang="en-US" sz="32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60020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едения автора находятся в собраниях Хабаровского краевого музея им. Н. И. Гродекова, Комсомольского-на-Амуре музея изобразительных искусств, Российского этнографического музея (Санкт-Петербург), Корякского окружного краеведческого музея (Анадырь), Национального музея этнологии (Осака, Япония), Музея этнологии в Вене (Австрия), в музеях Канады, в Центре северных народов (Манндаллен, Норвег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05 году получила звание «Лучший мастер народного художественного промысла и декоративно-прикладного искусства коренных малочисленных народов Севера Хабаровского края». В 2010 году стала лауреатом премии Правительства Российской Федерации «Душа Росс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Юлия Дмитриевна Самар 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10 году ей была присуждена премия Правительства Российской Федерации «Душа России» за вклад в развитие народного творч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лия Самар - член Союза художников России, лучшие ее работы  - национальная одежда, вышивка с использованием рыбьей кожи  - вошли в отечественные и зарубежные музеи, в альбомы и кни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98772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&amp;Pcy;&amp;lcy;&amp;acy;&amp;scy;&amp;tcy;&amp;icy;&amp;ncy;&amp;acy; &amp;Zcy;. &amp;Acy;. &amp;pcy;&amp;ocy;&amp;kcy;&amp;acy;&amp;zcy;&amp;ycy;&amp;vcy;&amp;acy;&amp;iecy;&amp;tcy;, &amp;kcy;&amp;acy;&amp;kcy; &amp;scy;&amp;ncy;&amp;icy;&amp;mcy;&amp;acy;&amp;tcy;&amp;softcy; &amp;chcy;&amp;iecy;&amp;shcy;&amp;ucy;&amp;yucy; &amp;scy; &amp;kcy;&amp;ocy;&amp;zhcy;&amp;icy; &amp;rcy;&amp;ycy;&amp;bcy;&amp;ycy;. &amp;scy;. &amp;Bcy;&amp;ucy;&amp;lcy;&amp;acy;&amp;vcy;&amp;acy;, &amp;Ucy;&amp;lcy;&amp;softcy;&amp;chcy;&amp;scy;&amp;kcy;&amp;icy;&amp;jcy; &amp;rcy;&amp;acy;&amp;jcy;&amp;ocy;&amp;ncy;, 1992. &amp;Fcy;&amp;ocy;&amp;tcy;&amp;ocy; &amp;Vcy;. &amp;Scy;&amp;pcy;&amp;icy;&amp;dcy;&amp;lcy;&amp;iecy;&amp;ncy;&amp;acy;"/>
          <p:cNvPicPr/>
          <p:nvPr/>
        </p:nvPicPr>
        <p:blipFill>
          <a:blip r:embed="rId1"/>
          <a:srcRect l="0" t="6299" r="5554" b="14324"/>
          <a:stretch/>
        </p:blipFill>
        <p:spPr>
          <a:xfrm>
            <a:off x="5003640" y="1557360"/>
            <a:ext cx="3672000" cy="453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462480" cy="288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solidFill>
            <a:srgbClr val="7067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Arial"/>
              </a:rPr>
              <a:t>Зоя Александровна Пластина </a:t>
            </a:r>
            <a:r>
              <a:rPr b="0" lang="ru-RU" sz="2000" spc="-1" strike="noStrike">
                <a:solidFill>
                  <a:srgbClr val="fefac9"/>
                </a:solidFill>
                <a:latin typeface="Arial"/>
              </a:rPr>
              <a:t>1911 – 1992гг</a:t>
            </a:r>
            <a:endParaRPr b="0" lang="en-US" sz="20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57000"/>
            <a:ext cx="43923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вестный на Нижнем Амуре мастер, в совершенстве владевший ремеслом обработки рыбьей кожи, техникой плетения традиционных ульчских поясов, техникой плетения из лозы ивы и тальни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5643720"/>
            <a:ext cx="403848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67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Зоя Александровна Пластина </a:t>
            </a:r>
            <a:r>
              <a:rPr b="0" lang="ru-RU" sz="3200" spc="-1" strike="noStrike">
                <a:solidFill>
                  <a:srgbClr val="fefac9"/>
                </a:solidFill>
                <a:latin typeface="Arial"/>
              </a:rPr>
              <a:t>1911 – 1992гг</a:t>
            </a:r>
            <a:endParaRPr b="0" lang="en-US" sz="32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едения З. А. Пластиной (традиционная одежда, обувь, сумочки для рукоделия, пояса, изделия из лозы) находятся во многих музейных собраниях России, в Краевом музее имени Н. И. Гродекова, городском краеведческом музее Комсомольска-на-Аму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этнографическом музее детской школы искусств села Булава хранится мужской рыбацкий костюм рыбака (короткий халат, юбка, ноговицы) из кожи сома, осеней кеты и щук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лась З. А. Пластина в низовьях Амура на острове Сучу, жила в селении Новая Ферма. После замужества переехала в Булаву, где и прожила всю жиз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16096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&amp;Kcy;&amp;acy;&amp;rcy;&amp;tcy;&amp;icy;&amp;ncy;&amp;kcy;&amp;icy; &amp;pcy;&amp;ocy; &amp;zcy;&amp;acy;&amp;pcy;&amp;rcy;&amp;ocy;&amp;scy;&amp;ucy; &amp;rcy;&amp;ucy;&amp;scy;&amp;scy;&amp;kcy;&amp;icy;&amp;jcy; &amp;kcy;&amp;ocy;&amp;scy;&amp;tcy;&amp;yucy;&amp;mcy; &amp;vcy; &amp;kcy;&amp;acy;&amp;rcy;&amp;tcy;&amp;icy;&amp;ncy;&amp;kcy;&amp;acy;&amp;khcy;"/>
          <p:cNvPicPr/>
          <p:nvPr/>
        </p:nvPicPr>
        <p:blipFill>
          <a:blip r:embed="rId1"/>
          <a:srcRect l="0" t="0" r="5842" b="0"/>
          <a:stretch/>
        </p:blipFill>
        <p:spPr>
          <a:xfrm>
            <a:off x="324000" y="1413000"/>
            <a:ext cx="2735280" cy="453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Татьяна\Desktop\110046196____________12A.png"/>
          <p:cNvPicPr/>
          <p:nvPr/>
        </p:nvPicPr>
        <p:blipFill>
          <a:blip r:embed="rId2"/>
          <a:stretch/>
        </p:blipFill>
        <p:spPr>
          <a:xfrm>
            <a:off x="6192720" y="2492280"/>
            <a:ext cx="2832120" cy="3811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5328000" cy="1143000"/>
          </a:xfrm>
          <a:prstGeom prst="rect">
            <a:avLst/>
          </a:prstGeom>
          <a:solidFill>
            <a:srgbClr val="7067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Русский костюм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2920" y="1413000"/>
            <a:ext cx="4105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родный костюм – бесценное достояние культу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ий народный костюм, являясь объектом материальной культуры, является и богатейшим творческим источником. Неуёмная тяга к красоте, живущая в душе человека, воплощает его мечту о прекрасном не только в большом искусстве, но и в предметах быта, и особенно в создании внешнего облика люд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пристальнее изучаешь русский народный костюм как произведение искусства, тем больше находишь в нём ценностей, и он становится образной летописью жизни наших предков, которая языком цвета, формы, орнамента раскрывает нам многие сокровенные тайны и законы красоты народного искусства. Поэтому и не умирает народный костю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4" descr="&amp;Kcy;&amp;acy;&amp;rcy;&amp;tcy;&amp;icy;&amp;ncy;&amp;kcy;&amp;icy; &amp;pcy;&amp;ocy; &amp;zcy;&amp;acy;&amp;pcy;&amp;rcy;&amp;ocy;&amp;scy;&amp;ucy; &amp;rcy;&amp;ucy;&amp;scy;&amp;scy;&amp;kcy;&amp;icy;&amp;jcy; &amp;kcy;&amp;ocy;&amp;scy;&amp;tcy;&amp;yucy;&amp;mcy; &amp;vcy; &amp;kcy;&amp;acy;&amp;rcy;&amp;tcy;&amp;icy;&amp;ncy;&amp;kcy;&amp;acy;&amp;khcy;"/>
          <p:cNvPicPr/>
          <p:nvPr/>
        </p:nvPicPr>
        <p:blipFill>
          <a:blip r:embed="rId3"/>
          <a:stretch/>
        </p:blipFill>
        <p:spPr>
          <a:xfrm>
            <a:off x="7380360" y="260280"/>
            <a:ext cx="143964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Татьяна\Desktop\russian-1.png"/>
          <p:cNvPicPr/>
          <p:nvPr/>
        </p:nvPicPr>
        <p:blipFill>
          <a:blip r:embed="rId4"/>
          <a:stretch/>
        </p:blipFill>
        <p:spPr>
          <a:xfrm>
            <a:off x="395280" y="189000"/>
            <a:ext cx="11523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Arial"/>
              </a:rPr>
              <a:t>Ссылки на использованные сайты </a:t>
            </a:r>
            <a:endParaRPr b="0" lang="en-US" sz="28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etnoart.slovoart.ru/?q=node/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s://geographyofrussia.com/russkij-nacionalnyj-kostyu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etnoart.slovoart.ru/?q=node/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4:01:20Z</dcterms:created>
  <dc:creator>Колпаков Роман Геннадьевич</dc:creator>
  <dc:description/>
  <dc:language>en-US</dc:language>
  <cp:lastModifiedBy>ZZZ</cp:lastModifiedBy>
  <dcterms:modified xsi:type="dcterms:W3CDTF">2018-11-12T10:38:58Z</dcterms:modified>
  <cp:revision>30</cp:revision>
  <dc:subject/>
  <dc:title>Декоративно – прикладное искусство</dc:title>
</cp:coreProperties>
</file>