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D03-A949-461E-B096-1358741C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A7B-A307-4A32-9AAB-4FF30B7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7E6-ABCE-43EB-B67A-C73B9AF8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2F7-2A1F-40D3-BF1A-B41F1BE8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0D04-CDF0-4BD9-91EB-64A71E27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D17-DECE-4AEE-BEE2-FD6C1AD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62D3-FB32-4D23-BDF4-98028B79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AAB5-41D0-482D-82EE-FC35669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6C33-057A-427E-841F-D468CE5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CBD-E8AA-47D3-A66A-2075913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886-32CC-4CF6-9665-7D6CDE3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568-CC3E-4906-9AD6-66766BE0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194-2AAB-400C-BE3F-97EA4C0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3D6-CC49-4513-8869-28012437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DA4-B867-4470-9576-A2854A1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470-DA5D-46BE-8903-029F0BCD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6BC-2D13-40D5-A82D-354B0AF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F0A0-444A-4883-B990-BAD3C95F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A179-8FBF-494C-B267-2D6AA29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B911-CF51-4699-9FDD-BA08B50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B4EF-2C2F-4BC4-9894-5E9B180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0395-89D0-41E4-89B4-F1AD3DF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989-6235-4B0F-846C-97DD34D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937A-BC83-4EE5-9FF6-4B5F3207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98A6-6764-40EC-8CC6-785F77E4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056E-9CDB-461B-9446-44742A8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B8B5-BA19-4228-AA83-66A672F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943C-9B90-44F1-B7E5-940EC97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62F5-8CC7-499B-82FE-0C0AAD77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16C6-5719-4B53-8DCE-C41BD1B5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D57C-130F-49A2-A1B6-AA4EC968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9F7B-F979-4C93-A693-3F875B34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7636-804B-44D6-B16E-68F1F9F9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551-2CE2-41B6-8283-8E8E9B71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3CB0-A42E-4852-804F-A5933C3E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4D37-8DBB-4548-AE52-11BE9FE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1D41-FDCC-46E2-A310-6F5DFA5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FB59-A8B9-4C73-AB04-0662026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8207-40EF-416F-A988-4BB749E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1AE2-175E-4F84-B80B-144E00E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D805-D8D4-4926-8EBA-5993CF1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6329-919B-44A0-B1A4-AADF767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F536-3BB5-4A81-B809-1EEBAEDD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0932-92D2-41A0-9916-AAC5A44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9A-6113-4C7A-99AC-F2A9E32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0E66-6B75-4F2F-9212-DDF96454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0AD2-EE99-4CAB-A9DE-C75EEE3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E2FE-11CF-4B55-9579-5170D2E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D840-79DF-4EB8-8DE6-31615C84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4C34-F39C-407C-867C-0BC0920F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9EE2-C18C-4A6E-AC14-370BCE7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E06C-CEF6-49D2-B638-DAD0296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5FB9B-5ADD-4C02-B6F6-B8BB272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A825-62F8-45E5-9AB4-A920653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3083-FC8C-4386-99B3-132F075C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568-6DA7-4C1A-A63D-54984A7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E691-3E0F-4129-A8A9-C0C55162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44E7-F9FD-407F-AA7C-5077422A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CB8A5-4170-464D-92B8-D0BE01B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194C-609D-4E8C-BE09-8070768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7D4B-4F76-408E-BB0A-AB7E2ADC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B292-6807-4DE8-8F9F-58E7314A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B181-01A9-4768-B9EC-6C0E4A17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D828-962E-4798-AEB2-97F7578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3D9E-5CAC-46CD-BF92-F3F358D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B0D6-10F8-42BA-9B54-08445EE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6E1-FB60-439A-9468-5A68D81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5C65-632B-453C-8B41-CA5522DE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1AD6-C6D0-4D83-A564-BF2A68FE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961B6-466B-4EED-848A-F609300F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D395F-8EF1-4066-BCCA-C589D424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BD35-5337-450F-AF0E-36E141B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6EA7-E435-46EA-BFA6-864AF77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81C0-794E-404E-B07C-19DCF776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DDCD-1E91-4B3C-A5D2-EF3D67A6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E40C-1E9F-4701-ADCB-53FE4EF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C023-F398-4A69-A571-F6D453E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7EB-A7A9-4BB1-B5B6-8A458CC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AF6E9-2AC1-442A-BE1B-050B0BF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7A94-7DA3-4880-957D-F61C6D2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EE25-5B9A-49FD-8696-1093E89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32D0-374B-4173-A53E-7CEA891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DBCE5-E001-449A-B349-F9922542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971-5BEB-4B1F-8DA9-79AD12B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CAC-3C70-4C7D-80FB-0967141E5E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8C02-8782-4CE7-B0CF-6E787524F8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D2C-B33B-4702-B951-3BC16CF128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A0D9-AE88-4D9C-80CC-5E77D75315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227-9073-43AB-A9FF-257FD6B309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EFA-2947-4307-8710-EC80A34545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22A-817E-412C-9FE6-03DB05EECF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Игра: </a:t>
            </a:r>
            <a:br>
              <a:rPr sz="8800"/>
            </a:b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«1 – 2 – 5»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Содержимое 3" descr="IMG_1083.jpg"/>
          <p:cNvPicPr/>
          <p:nvPr/>
        </p:nvPicPr>
        <p:blipFill>
          <a:blip r:embed="rId1"/>
          <a:stretch/>
        </p:blipFill>
        <p:spPr>
          <a:xfrm>
            <a:off x="2786040" y="1042920"/>
            <a:ext cx="4159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3" descr="IMG_1083.jpg"/>
          <p:cNvPicPr/>
          <p:nvPr/>
        </p:nvPicPr>
        <p:blipFill>
          <a:blip r:embed="rId1"/>
          <a:stretch/>
        </p:blipFill>
        <p:spPr>
          <a:xfrm>
            <a:off x="5229360" y="2143080"/>
            <a:ext cx="3348000" cy="400068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IMG_1083.jpg"/>
          <p:cNvPicPr/>
          <p:nvPr/>
        </p:nvPicPr>
        <p:blipFill>
          <a:blip r:embed="rId2"/>
          <a:stretch/>
        </p:blipFill>
        <p:spPr>
          <a:xfrm>
            <a:off x="1428840" y="357120"/>
            <a:ext cx="33019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Содержимое 3" descr="IMG_1083.jpg"/>
          <p:cNvPicPr/>
          <p:nvPr/>
        </p:nvPicPr>
        <p:blipFill>
          <a:blip r:embed="rId1"/>
          <a:stretch/>
        </p:blipFill>
        <p:spPr>
          <a:xfrm>
            <a:off x="1571760" y="285840"/>
            <a:ext cx="2263680" cy="2705040"/>
          </a:xfrm>
          <a:prstGeom prst="rect">
            <a:avLst/>
          </a:prstGeom>
          <a:ln w="0">
            <a:noFill/>
          </a:ln>
        </p:spPr>
      </p:pic>
      <p:pic>
        <p:nvPicPr>
          <p:cNvPr id="323" name="Содержимое 3" descr="IMG_1083.jpg"/>
          <p:cNvPicPr/>
          <p:nvPr/>
        </p:nvPicPr>
        <p:blipFill>
          <a:blip r:embed="rId2"/>
          <a:stretch/>
        </p:blipFill>
        <p:spPr>
          <a:xfrm>
            <a:off x="6643800" y="214200"/>
            <a:ext cx="2301840" cy="2751120"/>
          </a:xfrm>
          <a:prstGeom prst="rect">
            <a:avLst/>
          </a:prstGeom>
          <a:ln w="0">
            <a:noFill/>
          </a:ln>
        </p:spPr>
      </p:pic>
      <p:pic>
        <p:nvPicPr>
          <p:cNvPr id="324" name="Содержимое 3" descr="IMG_1083.jpg"/>
          <p:cNvPicPr/>
          <p:nvPr/>
        </p:nvPicPr>
        <p:blipFill>
          <a:blip r:embed="rId3"/>
          <a:stretch/>
        </p:blipFill>
        <p:spPr>
          <a:xfrm>
            <a:off x="1285920" y="3500280"/>
            <a:ext cx="2563920" cy="306396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3" descr="IMG_1083.jpg"/>
          <p:cNvPicPr/>
          <p:nvPr/>
        </p:nvPicPr>
        <p:blipFill>
          <a:blip r:embed="rId4"/>
          <a:stretch/>
        </p:blipFill>
        <p:spPr>
          <a:xfrm>
            <a:off x="6502320" y="3700440"/>
            <a:ext cx="2641680" cy="315756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IMG_1083.jpg"/>
          <p:cNvPicPr/>
          <p:nvPr/>
        </p:nvPicPr>
        <p:blipFill>
          <a:blip r:embed="rId5"/>
          <a:stretch/>
        </p:blipFill>
        <p:spPr>
          <a:xfrm>
            <a:off x="3929040" y="1928880"/>
            <a:ext cx="26589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3" descr="IMG_1420.jpg"/>
          <p:cNvPicPr/>
          <p:nvPr/>
        </p:nvPicPr>
        <p:blipFill>
          <a:blip r:embed="rId1"/>
          <a:stretch/>
        </p:blipFill>
        <p:spPr>
          <a:xfrm>
            <a:off x="2695680" y="1447920"/>
            <a:ext cx="497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Содержимое 3" descr="IMG_1420.jpg"/>
          <p:cNvPicPr/>
          <p:nvPr/>
        </p:nvPicPr>
        <p:blipFill>
          <a:blip r:embed="rId1"/>
          <a:stretch/>
        </p:blipFill>
        <p:spPr>
          <a:xfrm>
            <a:off x="5286240" y="3071880"/>
            <a:ext cx="3443400" cy="33195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IMG_1420.jpg"/>
          <p:cNvPicPr/>
          <p:nvPr/>
        </p:nvPicPr>
        <p:blipFill>
          <a:blip r:embed="rId2"/>
          <a:stretch/>
        </p:blipFill>
        <p:spPr>
          <a:xfrm>
            <a:off x="1500120" y="285840"/>
            <a:ext cx="340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Содержимое 3" descr="IMG_1420.jpg"/>
          <p:cNvPicPr/>
          <p:nvPr/>
        </p:nvPicPr>
        <p:blipFill>
          <a:blip r:embed="rId1"/>
          <a:stretch/>
        </p:blipFill>
        <p:spPr>
          <a:xfrm>
            <a:off x="3786120" y="207648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IMG_1420.jpg"/>
          <p:cNvPicPr/>
          <p:nvPr/>
        </p:nvPicPr>
        <p:blipFill>
          <a:blip r:embed="rId2"/>
          <a:stretch/>
        </p:blipFill>
        <p:spPr>
          <a:xfrm>
            <a:off x="6348240" y="4162320"/>
            <a:ext cx="2795760" cy="269568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3" descr="IMG_1420.jpg"/>
          <p:cNvPicPr/>
          <p:nvPr/>
        </p:nvPicPr>
        <p:blipFill>
          <a:blip r:embed="rId3"/>
          <a:stretch/>
        </p:blipFill>
        <p:spPr>
          <a:xfrm>
            <a:off x="6286680" y="214200"/>
            <a:ext cx="2400120" cy="231480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IMG_1420.jpg"/>
          <p:cNvPicPr/>
          <p:nvPr/>
        </p:nvPicPr>
        <p:blipFill>
          <a:blip r:embed="rId4"/>
          <a:stretch/>
        </p:blipFill>
        <p:spPr>
          <a:xfrm>
            <a:off x="1143000" y="4111560"/>
            <a:ext cx="2847960" cy="27464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IMG_1420.jpg"/>
          <p:cNvPicPr/>
          <p:nvPr/>
        </p:nvPicPr>
        <p:blipFill>
          <a:blip r:embed="rId5"/>
          <a:stretch/>
        </p:blipFill>
        <p:spPr>
          <a:xfrm>
            <a:off x="1143000" y="357120"/>
            <a:ext cx="2666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5:37:36Z</dcterms:created>
  <dc:creator>Paradise</dc:creator>
  <dc:description/>
  <dc:language>en-US</dc:language>
  <cp:lastModifiedBy>Евгения Паранина</cp:lastModifiedBy>
  <dcterms:modified xsi:type="dcterms:W3CDTF">2018-11-12T08:10:01Z</dcterms:modified>
  <cp:revision>7</cp:revision>
  <dc:subject/>
  <dc:title>Игра:  «1 – 2 – 5»</dc:title>
</cp:coreProperties>
</file>