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2FD6-79EF-4F4A-ACC7-404B7AA1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FE7-47C0-414B-A28D-2D0C69B8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26AC-601F-4853-A0B6-ED50511F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340-77D5-4824-88E2-6AAF396A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453D-8FC2-418E-9DE0-FE8B4FF5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11BA-E8D7-4F47-B374-84FBEDCB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28F9-8832-450F-A0BD-0C3E3F52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E387-1DB6-4427-A098-01D24BA9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86E1-3D12-4BEF-9262-8F0EF2CA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D09C-9B61-4C80-A9EB-13567861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FED3-024E-402C-BE19-62258ECA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27CA-1773-4A50-A0D1-2D7F0252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8AA2-A8D3-4DAE-9B7D-EDF8D75F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864B-3F3C-4BBA-8432-C51F8171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74B5-876F-4972-8CD0-C3534DDC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A50F-AF2F-4D89-924B-4420BA94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521A-B093-4386-9669-34623FCA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07247-C525-4A02-A37C-6C00F254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31655-263A-458F-BA28-5CDDCBE4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2C265-AE59-4FD9-A4AF-83A32BAE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4E051-F76B-4E05-8A8B-E69E6DDF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BBFD2-C825-4376-992B-AE0FA646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BA5-17FA-4643-A11F-63F537DB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7FFC7-D2A6-45F1-8A1A-3B3F7B09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DFD9E-1855-4D90-892B-38A62076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87700-C711-4B0B-AA13-1BC44D80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59F67-6EDF-4740-9936-981C1B47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B6E3E-AD4A-4175-9299-27DF76F6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8D88A-2FCC-4EF5-B4EA-F02BAB4A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18D4B-629A-44A4-ABD6-90200C99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BF2D9-EE74-4F4F-BE0C-92CD254C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08B47-2B48-4590-97C8-D3CE2591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44DAE-7370-44DD-ADD4-5077913B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8E9F-2A31-4328-B04C-5F95CF2E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9846D-D394-45C5-AF90-A30B7D81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E6413-3B00-4D25-9103-934AC029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4F2B1-64EF-4CFF-BF7C-6FE152C4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8A981-15DE-4292-BE02-8D03BBCC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40ED1-22B2-407E-8DA9-CBEDB200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9D7F2-3EEC-4BC0-B69C-7C39DCDE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97DBA-B1F9-406A-8F64-4BFAFB01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FEC53-943B-42FC-AB04-E7C895FD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9A1B5-6126-454C-9809-D03F5ECF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639D4-4DAA-4D90-86BA-587951F2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A44-8127-4B91-B34B-0AF16C6E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9F4E9-08EE-4023-AE00-1A43C4B3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5B0B2-BBA6-4272-80C7-FF0A1456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F2D30-AC93-496F-A4F4-DBDB4A9B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4C947-39C3-4DBC-BBAF-91FA100F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BE288-4381-48CB-B038-4673E2D5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5FC15-7D0F-4C48-9F2A-65880B4F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29013-1772-447C-9437-66A16860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1A7AB-DDFE-4242-93DE-470E2C27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001DD-7198-4846-88F5-AAA20323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1833D-A32D-43C3-B2E5-C99EC565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7DB6-9527-4202-BC03-5ABF2A53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E6BB0-6A9D-4217-8F37-9D6D8903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BF0F5-DF9D-44F7-BF34-B547D7B7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78CA1-AB30-4EA3-AB04-E8C50AFD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5C9ED-3E18-4CCC-9F46-F59D9C4B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DE296-011A-45DD-9F0C-65D61314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C398C-94BE-4580-BEB9-03134A5D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6C899-8604-4B21-B909-6E79AE44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2FC85-7D96-4D43-AA6B-A29C7293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4476A-6DAB-4AD2-9DEB-09DC4DC7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ACF8D-0168-441B-B4AD-8A3FF45C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8F9E-DDA0-4713-A58D-8F4D3880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154E3-847B-423E-B8AB-B7AE8257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6402D-403E-4674-BCE2-9818584B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20217-BD93-43D0-B511-B53CF1FD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562CC-517A-4152-9E40-28B11A3E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6FC8A-FDE5-4961-8D30-7E580448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409C5-319E-4358-9A9E-CF7668C2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AD921-AC8F-4417-BDE0-DBA7A13D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9742F-BCD3-436C-88E8-202FEC35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3F53F-3979-4B25-A7B0-C9D264B0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21ACA-4EF9-424C-A4CF-20AD6AA5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692E-7C7B-4BC5-9E8D-752391B5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90969-A605-477E-A0AC-3F19E13C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D2C51-CF83-4966-B718-D32F4510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8BCF7-92FA-40D5-A760-8C1DFBC5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A0859-6F7F-405A-8116-9B6FB354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61243-0629-477D-841E-797E46CF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D9A2-6E1B-490C-9F5A-D84FDE36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F183-2E67-4B4C-8DA2-1E1114EFD5E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9E52-E19F-4DE3-A4E9-F0CB2FE5B12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8271-B8D5-4047-9C9C-03487E239BB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6C76-541B-45EE-A653-AC8E36EFE0D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2169-752A-4DF8-B707-B7BF430FCC3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3664-83B2-4904-A01A-6896B7690E5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4C61-81BE-48B3-B349-4072E812B4D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0008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572314"/>
                </a:solidFill>
                <a:latin typeface="Corbel"/>
              </a:rPr>
              <a:t>Игра: </a:t>
            </a:r>
            <a:br>
              <a:rPr sz="8800"/>
            </a:br>
            <a:r>
              <a:rPr b="1" lang="ru-RU" sz="8800" spc="-1" strike="noStrike">
                <a:solidFill>
                  <a:srgbClr val="572314"/>
                </a:solidFill>
                <a:latin typeface="Corbel"/>
              </a:rPr>
              <a:t>«1 – 2 – 5»</a:t>
            </a:r>
            <a:endParaRPr b="0" lang="en-US" sz="8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Содержимое 3" descr="IMG_1083.jpg"/>
          <p:cNvPicPr/>
          <p:nvPr/>
        </p:nvPicPr>
        <p:blipFill>
          <a:blip r:embed="rId1"/>
          <a:stretch/>
        </p:blipFill>
        <p:spPr>
          <a:xfrm>
            <a:off x="2786040" y="1042920"/>
            <a:ext cx="41594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Содержимое 3" descr="IMG_1083.jpg"/>
          <p:cNvPicPr/>
          <p:nvPr/>
        </p:nvPicPr>
        <p:blipFill>
          <a:blip r:embed="rId1"/>
          <a:stretch/>
        </p:blipFill>
        <p:spPr>
          <a:xfrm>
            <a:off x="5229360" y="2143080"/>
            <a:ext cx="3348000" cy="4000680"/>
          </a:xfrm>
          <a:prstGeom prst="rect">
            <a:avLst/>
          </a:prstGeom>
          <a:ln w="0">
            <a:noFill/>
          </a:ln>
        </p:spPr>
      </p:pic>
      <p:pic>
        <p:nvPicPr>
          <p:cNvPr id="321" name="Содержимое 3" descr="IMG_1083.jpg"/>
          <p:cNvPicPr/>
          <p:nvPr/>
        </p:nvPicPr>
        <p:blipFill>
          <a:blip r:embed="rId2"/>
          <a:stretch/>
        </p:blipFill>
        <p:spPr>
          <a:xfrm>
            <a:off x="1428840" y="357120"/>
            <a:ext cx="330192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Содержимое 3" descr="IMG_1083.jpg"/>
          <p:cNvPicPr/>
          <p:nvPr/>
        </p:nvPicPr>
        <p:blipFill>
          <a:blip r:embed="rId1"/>
          <a:stretch/>
        </p:blipFill>
        <p:spPr>
          <a:xfrm>
            <a:off x="1571760" y="285840"/>
            <a:ext cx="2263680" cy="2705040"/>
          </a:xfrm>
          <a:prstGeom prst="rect">
            <a:avLst/>
          </a:prstGeom>
          <a:ln w="0">
            <a:noFill/>
          </a:ln>
        </p:spPr>
      </p:pic>
      <p:pic>
        <p:nvPicPr>
          <p:cNvPr id="323" name="Содержимое 3" descr="IMG_1083.jpg"/>
          <p:cNvPicPr/>
          <p:nvPr/>
        </p:nvPicPr>
        <p:blipFill>
          <a:blip r:embed="rId2"/>
          <a:stretch/>
        </p:blipFill>
        <p:spPr>
          <a:xfrm>
            <a:off x="6643800" y="214200"/>
            <a:ext cx="2301840" cy="2751120"/>
          </a:xfrm>
          <a:prstGeom prst="rect">
            <a:avLst/>
          </a:prstGeom>
          <a:ln w="0">
            <a:noFill/>
          </a:ln>
        </p:spPr>
      </p:pic>
      <p:pic>
        <p:nvPicPr>
          <p:cNvPr id="324" name="Содержимое 3" descr="IMG_1083.jpg"/>
          <p:cNvPicPr/>
          <p:nvPr/>
        </p:nvPicPr>
        <p:blipFill>
          <a:blip r:embed="rId3"/>
          <a:stretch/>
        </p:blipFill>
        <p:spPr>
          <a:xfrm>
            <a:off x="1285920" y="3500280"/>
            <a:ext cx="2563920" cy="3063960"/>
          </a:xfrm>
          <a:prstGeom prst="rect">
            <a:avLst/>
          </a:prstGeom>
          <a:ln w="0">
            <a:noFill/>
          </a:ln>
        </p:spPr>
      </p:pic>
      <p:pic>
        <p:nvPicPr>
          <p:cNvPr id="325" name="Содержимое 3" descr="IMG_1083.jpg"/>
          <p:cNvPicPr/>
          <p:nvPr/>
        </p:nvPicPr>
        <p:blipFill>
          <a:blip r:embed="rId4"/>
          <a:stretch/>
        </p:blipFill>
        <p:spPr>
          <a:xfrm>
            <a:off x="6502320" y="3700440"/>
            <a:ext cx="2641680" cy="3157560"/>
          </a:xfrm>
          <a:prstGeom prst="rect">
            <a:avLst/>
          </a:prstGeom>
          <a:ln w="0">
            <a:noFill/>
          </a:ln>
        </p:spPr>
      </p:pic>
      <p:pic>
        <p:nvPicPr>
          <p:cNvPr id="326" name="Содержимое 3" descr="IMG_1083.jpg"/>
          <p:cNvPicPr/>
          <p:nvPr/>
        </p:nvPicPr>
        <p:blipFill>
          <a:blip r:embed="rId5"/>
          <a:stretch/>
        </p:blipFill>
        <p:spPr>
          <a:xfrm>
            <a:off x="3929040" y="1928880"/>
            <a:ext cx="265896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Содержимое 3" descr="IMG_1420.jpg"/>
          <p:cNvPicPr/>
          <p:nvPr/>
        </p:nvPicPr>
        <p:blipFill>
          <a:blip r:embed="rId1"/>
          <a:stretch/>
        </p:blipFill>
        <p:spPr>
          <a:xfrm>
            <a:off x="2695680" y="1447920"/>
            <a:ext cx="4978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Содержимое 3" descr="IMG_1420.jpg"/>
          <p:cNvPicPr/>
          <p:nvPr/>
        </p:nvPicPr>
        <p:blipFill>
          <a:blip r:embed="rId1"/>
          <a:stretch/>
        </p:blipFill>
        <p:spPr>
          <a:xfrm>
            <a:off x="5286240" y="3071880"/>
            <a:ext cx="3443400" cy="3319560"/>
          </a:xfrm>
          <a:prstGeom prst="rect">
            <a:avLst/>
          </a:prstGeom>
          <a:ln w="0">
            <a:noFill/>
          </a:ln>
        </p:spPr>
      </p:pic>
      <p:pic>
        <p:nvPicPr>
          <p:cNvPr id="329" name="Содержимое 3" descr="IMG_1420.jpg"/>
          <p:cNvPicPr/>
          <p:nvPr/>
        </p:nvPicPr>
        <p:blipFill>
          <a:blip r:embed="rId2"/>
          <a:stretch/>
        </p:blipFill>
        <p:spPr>
          <a:xfrm>
            <a:off x="1500120" y="285840"/>
            <a:ext cx="34084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Содержимое 3" descr="IMG_1420.jpg"/>
          <p:cNvPicPr/>
          <p:nvPr/>
        </p:nvPicPr>
        <p:blipFill>
          <a:blip r:embed="rId1"/>
          <a:stretch/>
        </p:blipFill>
        <p:spPr>
          <a:xfrm>
            <a:off x="3786120" y="2076480"/>
            <a:ext cx="2662200" cy="2566800"/>
          </a:xfrm>
          <a:prstGeom prst="rect">
            <a:avLst/>
          </a:prstGeom>
          <a:ln w="0">
            <a:noFill/>
          </a:ln>
        </p:spPr>
      </p:pic>
      <p:pic>
        <p:nvPicPr>
          <p:cNvPr id="331" name="Содержимое 3" descr="IMG_1420.jpg"/>
          <p:cNvPicPr/>
          <p:nvPr/>
        </p:nvPicPr>
        <p:blipFill>
          <a:blip r:embed="rId2"/>
          <a:stretch/>
        </p:blipFill>
        <p:spPr>
          <a:xfrm>
            <a:off x="6348240" y="4162320"/>
            <a:ext cx="2795760" cy="2695680"/>
          </a:xfrm>
          <a:prstGeom prst="rect">
            <a:avLst/>
          </a:prstGeom>
          <a:ln w="0">
            <a:noFill/>
          </a:ln>
        </p:spPr>
      </p:pic>
      <p:pic>
        <p:nvPicPr>
          <p:cNvPr id="332" name="Содержимое 3" descr="IMG_1420.jpg"/>
          <p:cNvPicPr/>
          <p:nvPr/>
        </p:nvPicPr>
        <p:blipFill>
          <a:blip r:embed="rId3"/>
          <a:stretch/>
        </p:blipFill>
        <p:spPr>
          <a:xfrm>
            <a:off x="6286680" y="214200"/>
            <a:ext cx="2400120" cy="2314800"/>
          </a:xfrm>
          <a:prstGeom prst="rect">
            <a:avLst/>
          </a:prstGeom>
          <a:ln w="0">
            <a:noFill/>
          </a:ln>
        </p:spPr>
      </p:pic>
      <p:pic>
        <p:nvPicPr>
          <p:cNvPr id="333" name="Содержимое 3" descr="IMG_1420.jpg"/>
          <p:cNvPicPr/>
          <p:nvPr/>
        </p:nvPicPr>
        <p:blipFill>
          <a:blip r:embed="rId4"/>
          <a:stretch/>
        </p:blipFill>
        <p:spPr>
          <a:xfrm>
            <a:off x="1143000" y="4111560"/>
            <a:ext cx="2847960" cy="2746440"/>
          </a:xfrm>
          <a:prstGeom prst="rect">
            <a:avLst/>
          </a:prstGeom>
          <a:ln w="0">
            <a:noFill/>
          </a:ln>
        </p:spPr>
      </p:pic>
      <p:pic>
        <p:nvPicPr>
          <p:cNvPr id="334" name="Содержимое 3" descr="IMG_1420.jpg"/>
          <p:cNvPicPr/>
          <p:nvPr/>
        </p:nvPicPr>
        <p:blipFill>
          <a:blip r:embed="rId5"/>
          <a:stretch/>
        </p:blipFill>
        <p:spPr>
          <a:xfrm>
            <a:off x="1143000" y="357120"/>
            <a:ext cx="2666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5:37:36Z</dcterms:created>
  <dc:creator>Paradise</dc:creator>
  <dc:description/>
  <dc:language>en-US</dc:language>
  <cp:lastModifiedBy>Евгения Паранина</cp:lastModifiedBy>
  <dcterms:modified xsi:type="dcterms:W3CDTF">2018-11-12T08:10:01Z</dcterms:modified>
  <cp:revision>7</cp:revision>
  <dc:subject/>
  <dc:title>Игра:  «1 – 2 – 5»</dc:title>
</cp:coreProperties>
</file>