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34B-FCC1-4758-AD66-01D3743F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B63-0FAC-4683-8391-06E737DA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710-4BD2-4BE4-A3F7-E4D509F3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DE0-BA19-4743-943E-2A2BB68B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0E8-5FD1-4E59-962A-433676A8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665-812E-4D4D-B96F-6C955C5D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583-9879-49F0-83AB-21EBF901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561-72C8-4B1C-95BC-378F2148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114-3E35-43EE-B041-FA9956C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321-3F7C-4971-A8E5-C932B3CE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DF6-314B-4127-B6D2-26BC6BC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266-D0C4-447B-BEA3-5D720FF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873B-81A3-418C-8AB8-0A3B6DA81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distant-lessons.ru/organy-chuvstv-cheloveka-stroenie-glaza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51040"/>
            <a:ext cx="6095880" cy="42069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0" y="160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РАЗОВАТЕЛЬНОЕ УЧРЕЖДЕНИЕ ГОРОДА МОСКВ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спорта и образования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ано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партамента физической культуры и спорта города Москв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БОУ Центр спорта и  образовани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ано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скомспорт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2"/>
          <p:cNvSpPr/>
          <p:nvPr/>
        </p:nvSpPr>
        <p:spPr>
          <a:xfrm>
            <a:off x="1258920" y="1413000"/>
            <a:ext cx="60498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г –свернулся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тал - встрепенул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/>
          <p:cNvSpPr/>
          <p:nvPr/>
        </p:nvSpPr>
        <p:spPr>
          <a:xfrm>
            <a:off x="5183280" y="5229360"/>
            <a:ext cx="3960720" cy="129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у выполнили – Бояринцева Анна, Белоусова Ольга.  Научный руководитель – Крутинина Е.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im1-tub-ru.yandex.net/i?id=6e4d95713d48b7b24ccfdf469fc30d4e&amp;n=33&amp;h=215&amp;w=323"/>
          <p:cNvPicPr/>
          <p:nvPr/>
        </p:nvPicPr>
        <p:blipFill>
          <a:blip r:embed="rId1"/>
          <a:stretch/>
        </p:blipFill>
        <p:spPr>
          <a:xfrm>
            <a:off x="3824280" y="3433680"/>
            <a:ext cx="5140440" cy="34210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-181080" y="26028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7477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нашего века заключается в том, что люди постоянно не высыпаются. Ученые объясняют, что многие люди сейчас недосыпают потому, что разменивают время для сна на просмотр  телепередач, “сидение” в интернете… Кроме того, учеными было выявлено, что 37% людей, которых они опрашивали в ходе исследований, страдают от бессонницы, а 24% имели другие проблемы со с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&amp;Pcy;&amp;ocy;&amp;tcy;&amp;rcy;&amp;iecy;&amp;bcy;&amp;ncy;&amp;ocy;&amp;scy;&amp;tcy;&amp;softcy; &amp;scy;&amp;ucy;&amp;tcy;&amp;ocy;&amp;chcy;&amp;ncy;&amp;ocy;&amp;gcy;&amp;ocy; &amp;scy;&amp;ncy;&amp;acy; &amp;ucy; &amp;rcy;&amp;acy;&amp;zcy;&amp;ncy;&amp;ycy;&amp;khcy; &#13;&#10;&amp;vcy;&amp;ocy;&amp;zcy;&amp;rcy;&amp;acy;&amp;scy;&amp;tcy;&amp;ncy;&amp;ycy;&amp;khcy; &amp;gcy;&amp;rcy;&amp;ucy;&amp;pcy;&amp;pcy; &#13;&#10;&amp;Ucy;&amp;chcy;&amp;iecy;&amp;ncy;&amp;ycy;&amp;iecy; &amp;scy;&amp;chcy;&amp;icy;&amp;tcy;&amp;acy;&amp;yucy;&amp;tcy;, &amp;chcy;&amp;tcy;&amp;ocy; &amp;dcy;&amp;lcy;&amp;icy;&amp;tcy;&amp;iecy;&amp;lcy;&amp;softcy;&amp;ncy;&amp;ocy;&amp;scy;&amp;tcy;&amp;softcy; &amp;scy;&amp;ncy;&amp;acy; &amp;zcy;&amp;acy;&amp;vcy;&amp;icy;&amp;scy;&amp;icy;&amp;tcy; &amp;ocy;&amp;tcy; &#13;&#10;&amp;vcy;&amp;ocy;&amp;zcy;&amp;rcy;&amp;acy;&amp;scy;&amp;tcy;&amp;acy;, &amp;tcy;&amp;icy;&amp;pcy;&amp;acy; &amp;lcy;&amp;yucy;&amp;dcy;&amp;iecy;..."/>
          <p:cNvPicPr/>
          <p:nvPr/>
        </p:nvPicPr>
        <p:blipFill>
          <a:blip r:embed="rId1"/>
          <a:stretch/>
        </p:blipFill>
        <p:spPr>
          <a:xfrm>
            <a:off x="3067200" y="344520"/>
            <a:ext cx="6076800" cy="34192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0" y="333360"/>
            <a:ext cx="34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 с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и в работе иммунной системы умственному переутомлен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способности   к   адекватному   восприятию   действи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3276720" y="4076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ое пересып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ые бо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лишнего в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спин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250920" y="189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олжны спать дети школьного воз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8 лет: 11 – 10.5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1 лет: 10.25 – 9.75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14 лет: 9.5 – 9.25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284720" y="429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олжны спать подрос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-16 лет: 8.5 – 9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лет и старше: 8.5 ча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g.relax.ru/112125/9507809824151030_f9e22888.jpeg"/>
          <p:cNvPicPr/>
          <p:nvPr/>
        </p:nvPicPr>
        <p:blipFill>
          <a:blip r:embed="rId1"/>
          <a:stretch/>
        </p:blipFill>
        <p:spPr>
          <a:xfrm>
            <a:off x="4824360" y="404640"/>
            <a:ext cx="4056120" cy="270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s://im1-tub-ru.yandex.net/i?id=69cf4f0e0c1b2f813c61db76245a971c&amp;n=33&amp;h=215&amp;w=323"/>
          <p:cNvPicPr/>
          <p:nvPr/>
        </p:nvPicPr>
        <p:blipFill>
          <a:blip r:embed="rId2"/>
          <a:stretch/>
        </p:blipFill>
        <p:spPr>
          <a:xfrm>
            <a:off x="395280" y="4292640"/>
            <a:ext cx="3456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95280" y="404640"/>
            <a:ext cx="64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ющиеся умы и 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1. Гай Юлий Цезарь (100-44 гг. до н.э.)"/>
          <p:cNvPicPr/>
          <p:nvPr/>
        </p:nvPicPr>
        <p:blipFill>
          <a:blip r:embed="rId1"/>
          <a:stretch/>
        </p:blipFill>
        <p:spPr>
          <a:xfrm>
            <a:off x="250920" y="1125360"/>
            <a:ext cx="2000160" cy="26575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411280" y="1484280"/>
            <a:ext cx="653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й Юлий Цезарь (100-44 гг. до н.э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ский политик и полководец Гай Юлий Цезарь заложил великую Римскую империю и навсегда изменил культуру будущей Европы. Чтобы добиться всего этого, по воспоминаниям современников, Цезарь спал около 3 часов в сутки. При этом он не делал себе привилегий – во время военных походов Юлий Цезарь спал вместе со своими солдатами, прямо на земле под открытым неб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2. Леонардо да Винчи (1452-1519 гг.)"/>
          <p:cNvPicPr/>
          <p:nvPr/>
        </p:nvPicPr>
        <p:blipFill>
          <a:blip r:embed="rId1"/>
          <a:stretch/>
        </p:blipFill>
        <p:spPr>
          <a:xfrm>
            <a:off x="4680" y="4680"/>
            <a:ext cx="2982960" cy="4008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627280" y="3281400"/>
            <a:ext cx="637704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ардо да Винчи (1452-1519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альный художник и изобретатель спал по 15-20 минут в день каждые 4 часа (всего около 2 часов). Остальные 22 часа Леонардо работал. Сегодня такая система сна называется «многофазный сон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8" descr="4. Наполеон I Бонапарт (1769-1821 гг.)"/>
          <p:cNvPicPr/>
          <p:nvPr/>
        </p:nvPicPr>
        <p:blipFill>
          <a:blip r:embed="rId1"/>
          <a:stretch/>
        </p:blipFill>
        <p:spPr>
          <a:xfrm>
            <a:off x="4680" y="4680"/>
            <a:ext cx="2335320" cy="35146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2843280" y="1773360"/>
            <a:ext cx="6462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леон I Бонапарт (1769-1821 г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слышали такой афоризм Бонапарта: «Наполеон спит 4 часа, старики – 5, солдаты – 6, женщины – 7, мужчины – 8, а 9 спят только больные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http://healthbps.ru/wp-content/uploads/2011/12/Fazyi-sna-600.jpg"/>
          <p:cNvPicPr/>
          <p:nvPr/>
        </p:nvPicPr>
        <p:blipFill>
          <a:blip r:embed="rId1"/>
          <a:stretch/>
        </p:blipFill>
        <p:spPr>
          <a:xfrm>
            <a:off x="4680" y="4680"/>
            <a:ext cx="8798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39640" y="404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й сон  должно быть с 10 часов вечера до полуночи. Максимальная концентрация мелатонина в крови наблюдается с 12 часов ночи до 4 у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talkyland.com/media/CACHE/images/posts/2015/3/13/8f23e4fd2c1949ecb0ae5aabe7d00bcb/4e5b58da41d0f33f3f87c7d115308059.jpg"/>
          <p:cNvPicPr/>
          <p:nvPr/>
        </p:nvPicPr>
        <p:blipFill>
          <a:blip r:embed="rId1"/>
          <a:stretch/>
        </p:blipFill>
        <p:spPr>
          <a:xfrm>
            <a:off x="179280" y="3162240"/>
            <a:ext cx="7620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70520" y="27792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вы ложитесь сп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981000"/>
          <a:ext cx="6077160" cy="3840120"/>
        </p:xfrm>
        <a:graphic>
          <a:graphicData uri="http://schemas.openxmlformats.org/drawingml/2006/table">
            <a:tbl>
              <a:tblPr/>
              <a:tblGrid>
                <a:gridCol w="2319480"/>
                <a:gridCol w="1800360"/>
                <a:gridCol w="1957320"/>
              </a:tblGrid>
              <a:tr h="1646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 отхода ко с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учащихся (чел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 ч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.30-2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2"/>
          <p:cNvSpPr/>
          <p:nvPr/>
        </p:nvSpPr>
        <p:spPr>
          <a:xfrm>
            <a:off x="5508720" y="49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Объект 4"/>
          <p:cNvGraphicFramePr/>
          <p:nvPr/>
        </p:nvGraphicFramePr>
        <p:xfrm>
          <a:off x="4643280" y="3700440"/>
          <a:ext cx="478476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3700440"/>
                    <a:ext cx="478476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16280" y="33480"/>
            <a:ext cx="48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52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чувствуете себя после с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6440" y="907920"/>
          <a:ext cx="4795920" cy="3292560"/>
        </p:xfrm>
        <a:graphic>
          <a:graphicData uri="http://schemas.openxmlformats.org/drawingml/2006/table">
            <a:tbl>
              <a:tblPr/>
              <a:tblGrid>
                <a:gridCol w="2308320"/>
                <a:gridCol w="1792440"/>
                <a:gridCol w="6951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учащихся (чел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рош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рма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2" name="Rectangle 2"/>
          <p:cNvSpPr/>
          <p:nvPr/>
        </p:nvSpPr>
        <p:spPr>
          <a:xfrm flipV="1">
            <a:off x="125280" y="5425560"/>
            <a:ext cx="1647036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Объект 4"/>
          <p:cNvGraphicFramePr/>
          <p:nvPr/>
        </p:nvGraphicFramePr>
        <p:xfrm>
          <a:off x="4788000" y="33480"/>
          <a:ext cx="452736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3480"/>
                    <a:ext cx="45273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Прямоугольник 5"/>
          <p:cNvSpPr/>
          <p:nvPr/>
        </p:nvSpPr>
        <p:spPr>
          <a:xfrm>
            <a:off x="361800" y="4495680"/>
            <a:ext cx="867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just">
              <a:lnSpc>
                <a:spcPct val="150000"/>
              </a:lnSpc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равнив время отхода ко сну и самочувствие детей после пробуждения, мы  наблюдали зависимость между качеством сна и временем засыпания учеников. Чем позже засыпает человек, тем хуже он себя чувствует, т.к. он не высыпается. 24 % учеников ложатся спать поздно, поэтому 18 % - не высыпаю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ghannet.moyblog.net/files/2012/01/1295291130_1.jpg"/>
          <p:cNvPicPr/>
          <p:nvPr/>
        </p:nvPicPr>
        <p:blipFill>
          <a:blip r:embed="rId1"/>
          <a:stretch/>
        </p:blipFill>
        <p:spPr>
          <a:xfrm>
            <a:off x="324000" y="2133720"/>
            <a:ext cx="3549600" cy="33242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4572000" y="260280"/>
            <a:ext cx="4572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и, младенец мой прекрасны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юшки-баю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хо смотрит месяц ясны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лыбель твою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ну сказывать я сказк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сенку спою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ы ж дремли, закрывши глазк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юшки-ба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6800" y="18900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занимаешься учащиеся перед сн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760" y="801720"/>
          <a:ext cx="6553080" cy="3251160"/>
        </p:xfrm>
        <a:graphic>
          <a:graphicData uri="http://schemas.openxmlformats.org/drawingml/2006/table">
            <a:tbl>
              <a:tblPr/>
              <a:tblGrid>
                <a:gridCol w="2790720"/>
                <a:gridCol w="1578240"/>
                <a:gridCol w="2184120"/>
              </a:tblGrid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м ты занимаешься перед сн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ч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Сидят» в соц. сет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отрят  телевиз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лают у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тают, кушают, игр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2"/>
          <p:cNvSpPr/>
          <p:nvPr/>
        </p:nvSpPr>
        <p:spPr>
          <a:xfrm>
            <a:off x="3708360" y="43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Объект 4"/>
          <p:cNvGraphicFramePr/>
          <p:nvPr/>
        </p:nvGraphicFramePr>
        <p:xfrm>
          <a:off x="4175280" y="3716280"/>
          <a:ext cx="496872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3716280"/>
                    <a:ext cx="496872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5120" y="189000"/>
            <a:ext cx="43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3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чаще всего  видишь во с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728640"/>
          <a:ext cx="5214960" cy="4114800"/>
        </p:xfrm>
        <a:graphic>
          <a:graphicData uri="http://schemas.openxmlformats.org/drawingml/2006/table">
            <a:tbl>
              <a:tblPr/>
              <a:tblGrid>
                <a:gridCol w="2220840"/>
                <a:gridCol w="1255680"/>
                <a:gridCol w="1738440"/>
              </a:tblGrid>
              <a:tr h="914760">
                <a:tc>
                  <a:txBody>
                    <a:bodyPr lIns="68400" rIns="68400" tIns="0" bIns="0" anchor="t">
                      <a:noAutofit/>
                    </a:bodyPr>
                    <a:p>
                      <a:pPr marL="633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чаще всего  видишь во сн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ч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ж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еш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мью, школу, дру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–то, но не помн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2"/>
          <p:cNvSpPr/>
          <p:nvPr/>
        </p:nvSpPr>
        <p:spPr>
          <a:xfrm>
            <a:off x="550872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Объект 4"/>
          <p:cNvGraphicFramePr/>
          <p:nvPr/>
        </p:nvGraphicFramePr>
        <p:xfrm>
          <a:off x="5003640" y="768240"/>
          <a:ext cx="45370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768240"/>
                    <a:ext cx="45370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Прямоугольник 5"/>
          <p:cNvSpPr/>
          <p:nvPr/>
        </p:nvSpPr>
        <p:spPr>
          <a:xfrm>
            <a:off x="439560" y="4834080"/>
            <a:ext cx="870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существует прямая зависимость между вредными привычками (еда, просмотр телевизора перед сном и т.д.)- %76 и качеством сном - 31% (сняться ужас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17720" y="1890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 правила здорового сн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8520" y="1052640"/>
          <a:ext cx="4210200" cy="2307960"/>
        </p:xfrm>
        <a:graphic>
          <a:graphicData uri="http://schemas.openxmlformats.org/drawingml/2006/table">
            <a:tbl>
              <a:tblPr/>
              <a:tblGrid>
                <a:gridCol w="1779480"/>
                <a:gridCol w="1656000"/>
                <a:gridCol w="774720"/>
              </a:tblGrid>
              <a:tr h="93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вер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2"/>
          <p:cNvSpPr/>
          <p:nvPr/>
        </p:nvSpPr>
        <p:spPr>
          <a:xfrm>
            <a:off x="4211640" y="450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Объект 4"/>
          <p:cNvGraphicFramePr/>
          <p:nvPr/>
        </p:nvGraphicFramePr>
        <p:xfrm>
          <a:off x="3892680" y="3500280"/>
          <a:ext cx="4890960" cy="32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2680" y="3500280"/>
                    <a:ext cx="489096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24000" y="112860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ожитесь спать, только когда вы хотите сп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уйте постель только для сна: не читайте в постели, не смотрите телевизор, не ешьте в постели и не болейте в посте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вы понимаете, что вы не в состоянии заснуть, встаньте и выйдите в другую комнату. Постойте там сколько вам захочется, а затем вернитесь в спальню для того, чтобы усну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1978920" y="62064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 здорового с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cdn1.tnwcdn.com/wp-content/blogs.dir/1/files/2012/12/106346192.jpg"/>
          <p:cNvPicPr/>
          <p:nvPr/>
        </p:nvPicPr>
        <p:blipFill>
          <a:blip r:embed="rId1"/>
          <a:stretch/>
        </p:blipFill>
        <p:spPr>
          <a:xfrm>
            <a:off x="1332000" y="1490760"/>
            <a:ext cx="7694640" cy="51228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539640" y="58680"/>
            <a:ext cx="63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ьте будильник на одно и то же время утром, независимо от того, сколько вы проспали ночью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спите днём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может не давать вам усну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f4.mylove.ru/k_Oy1LOehul4OVGU.jpg"/>
          <p:cNvPicPr/>
          <p:nvPr/>
        </p:nvPicPr>
        <p:blipFill>
          <a:blip r:embed="rId1"/>
          <a:stretch/>
        </p:blipFill>
        <p:spPr>
          <a:xfrm>
            <a:off x="3476520" y="1152360"/>
            <a:ext cx="5667480" cy="57056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250920" y="404640"/>
            <a:ext cx="828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трите телевизор перед сном. Не играйте в компьютерные игры и не используйте компьютер за час до сна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омогает успокоить мысли и сосредоточиться только на одной ве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межутке времени между тем как ваша голова коснулась подушки и засыпанием, придумайте осознанный сон, представьте себе что-то прият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79280" y="-14940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buClr>
                <a:srgbClr val="000000"/>
              </a:buClr>
              <a:buSzPct val="5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совершенно необходим для здоровья человека. Для нормального функционирования человеку ежедневно нужен продолжительный и качественный с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buClr>
                <a:srgbClr val="000000"/>
              </a:buClr>
              <a:buSzPct val="5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ыпание негативно сказывается как на физическом, так и на психическом состоянии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buClr>
                <a:srgbClr val="000000"/>
              </a:buClr>
              <a:buSzPct val="5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человека при пробуждении зависит от нескольких факторов сна: от продолжительности сна и от качества с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buClr>
                <a:srgbClr val="000000"/>
              </a:buClr>
              <a:buSzPct val="5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орошего самочувствия необходимо соблюдать гигиену с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: гипотезы подтверди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900000" y="0"/>
            <a:ext cx="685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РАЗОВАТЕЛЬНОЕ УЧРЕЖДЕНИЕ ГОРОДА МОСКВ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спорта и образования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ано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партамента физической культуры и спорта города Москв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БОУ Центр спорта и  образовани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аново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скомспорт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с двумя усеченными противолежащими углами 2"/>
          <p:cNvSpPr/>
          <p:nvPr/>
        </p:nvSpPr>
        <p:spPr>
          <a:xfrm>
            <a:off x="1692360" y="1916280"/>
            <a:ext cx="6840360" cy="25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г –свернулся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тал – встрепенул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авила здорового с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3059280" y="6021360"/>
            <a:ext cx="46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http://dashkindom.ru/wp-content/uploads/2014/03/119.jpg"/>
          <p:cNvPicPr/>
          <p:nvPr/>
        </p:nvPicPr>
        <p:blipFill>
          <a:blip r:embed="rId1"/>
          <a:stretch/>
        </p:blipFill>
        <p:spPr>
          <a:xfrm>
            <a:off x="900000" y="1700280"/>
            <a:ext cx="6191280" cy="367668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1"/>
          <p:cNvSpPr/>
          <p:nvPr/>
        </p:nvSpPr>
        <p:spPr>
          <a:xfrm>
            <a:off x="684360" y="0"/>
            <a:ext cx="6983280" cy="1844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 от параметров сна зависит его качество, которое влияет на состояние здоровья и  учебную дея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Прямоугольник 3"/>
          <p:cNvGrpSpPr/>
          <p:nvPr/>
        </p:nvGrpSpPr>
        <p:grpSpPr>
          <a:xfrm>
            <a:off x="1914480" y="5059440"/>
            <a:ext cx="7259760" cy="1493640"/>
            <a:chOff x="1914480" y="5059440"/>
            <a:chExt cx="7259760" cy="1493640"/>
          </a:xfrm>
        </p:grpSpPr>
        <p:pic>
          <p:nvPicPr>
            <p:cNvPr id="5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14480" y="5059440"/>
              <a:ext cx="725976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943280" y="5084640"/>
              <a:ext cx="7200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ь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- установить зависимость между продолжительностью, качеством сна и работоспособность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www.takepart.com/sites/default/files/styles/tp_gallery_slide/public/103462131.jpg?itok=B7MUekea"/>
          <p:cNvPicPr/>
          <p:nvPr/>
        </p:nvPicPr>
        <p:blipFill>
          <a:blip r:embed="rId1"/>
          <a:stretch/>
        </p:blipFill>
        <p:spPr>
          <a:xfrm>
            <a:off x="4427640" y="3789360"/>
            <a:ext cx="4600440" cy="3068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395280" y="-939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почему сон необходим для здоровья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зависит качество с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сходит во время сна с челове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исследование , для того чтобы узнать сколько времени учащиеся отдают сну  и как это влияет на их работоспособ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s://im1-tub-ru.yandex.net/i?id=7e928e5ebe1e531a0aaf64374dbef3de&amp;n=33&amp;h=215&amp;w=215"/>
          <p:cNvPicPr/>
          <p:nvPr/>
        </p:nvPicPr>
        <p:blipFill>
          <a:blip r:embed="rId1"/>
          <a:stretch/>
        </p:blipFill>
        <p:spPr>
          <a:xfrm>
            <a:off x="250920" y="40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684360" y="692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Жизнь коротка и не до сна"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0" y="5373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а Эйнштейна: "Я провожу во сне треть жизни, и не самую худшую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s://im1-tub-ru.yandex.net/i?id=cfc54c897f3c4efe05881b540baff3a3&amp;n=33&amp;h=215&amp;w=291"/>
          <p:cNvPicPr/>
          <p:nvPr/>
        </p:nvPicPr>
        <p:blipFill>
          <a:blip r:embed="rId2"/>
          <a:stretch/>
        </p:blipFill>
        <p:spPr>
          <a:xfrm>
            <a:off x="4932360" y="2487600"/>
            <a:ext cx="38512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1332000" y="1685880"/>
            <a:ext cx="7619760" cy="5172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539640" y="62064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 —  естественный  физиологический  процесс  пребывания  в состоянии с минимальным уровнем мозговой деятельности и пониженной реакцией на окружающий мир, присущий млекопитающим, птицам, рыб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g.wieszjak.pl/p/_wspolne/pliki_infornext/149000/149596.jpg"/>
          <p:cNvPicPr/>
          <p:nvPr/>
        </p:nvPicPr>
        <p:blipFill>
          <a:blip r:embed="rId1"/>
          <a:stretch/>
        </p:blipFill>
        <p:spPr>
          <a:xfrm>
            <a:off x="3665520" y="1770120"/>
            <a:ext cx="5478480" cy="508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544680" y="-17640"/>
            <a:ext cx="779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с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нерге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о время сна организм восстанавливает потраченную за время бодрствования энергию и накапливает ее для будущей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формационная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с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меньшается, ограничивается восприятие информаци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рганами чувст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сихическая функция с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  существует два типа бодрствования: спокойное и напряженное. Напряженное бодрствование необходимо для целенаправленных и координированных реа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9640" y="404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– это период наиболее интенсивной гормональной активности, от 80-90% гормона роста и других важнейших гормонов, включая андрогенные, выделяются во время сна. В связи с этим во время сна происходит синтез протеина и построение мышечной ткани и тканей органов, обновляются клетки.  Во время сна активируются Т-лимфоциты, солдаты нашей иммун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https://im2-tub-ru.yandex.net/i?id=13c51bb52e0ff1ac2eec903154a85868&amp;n=33&amp;h=215&amp;w=411"/>
          <p:cNvPicPr/>
          <p:nvPr/>
        </p:nvPicPr>
        <p:blipFill>
          <a:blip r:embed="rId1"/>
          <a:stretch/>
        </p:blipFill>
        <p:spPr>
          <a:xfrm>
            <a:off x="5197320" y="4809960"/>
            <a:ext cx="3915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apikabu.ru/img_n/2011-07_1/d80e29.jpg"/>
          <p:cNvPicPr/>
          <p:nvPr/>
        </p:nvPicPr>
        <p:blipFill>
          <a:blip r:embed="rId1"/>
          <a:stretch/>
        </p:blipFill>
        <p:spPr>
          <a:xfrm>
            <a:off x="3998880" y="3657600"/>
            <a:ext cx="496584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179280" y="14400"/>
            <a:ext cx="8785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ваются процессы регенерации клеток. Только во время сна объем восстановления может быть полноцен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дает возможность организму упорядочить архив воспоминаний и впечатлений, которые он получил в течение д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 является способом отдыха нейр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15:31:39Z</dcterms:created>
  <dc:creator>Лена</dc:creator>
  <dc:description/>
  <dc:language>en-US</dc:language>
  <cp:lastModifiedBy>елена крутинина</cp:lastModifiedBy>
  <dcterms:modified xsi:type="dcterms:W3CDTF">2018-11-12T17:12:11Z</dcterms:modified>
  <cp:revision>43</cp:revision>
  <dc:subject/>
  <dc:title>Слайд 1</dc:title>
</cp:coreProperties>
</file>