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AF8-BB76-4493-8CAF-63DFF3FF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421-3884-404B-9AF4-71D91C65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81F-0A95-4EC2-B77F-DFBEB4D9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096-58A7-4672-836A-91D78170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7AB4-2B63-41F0-BEAB-E7C815BC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7AEB-E701-4095-9F47-67FD1980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2158-8015-47EB-82F3-BEC41ABA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1E62-FDAB-46E3-840D-D04AF3B7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8EAF-E373-4125-972D-AE3D462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1E18-A641-4233-BFBF-030D3780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F6CE-1E53-40F1-8BB4-6C9368B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0BA-FCAA-4692-8012-EC5A4674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A8F4-3182-4704-BB51-01BA86DF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D51-031C-4D0D-8961-2C3F552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B010-45AB-40D6-BF3E-E1C7D46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10DC-3580-4C01-AB7D-DF0473C4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FA0E-9BC5-4CEC-8F4F-A63579A0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E66-DD03-4353-A284-6A1BD9C0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AC0-1832-4158-8AA1-B5A4ABC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C65-03F3-43BC-915B-ADD2132B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5A2-2A26-4D7B-AA4B-148ED52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FBF-27A7-4A69-9C73-8338ABEA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F1B-AAD8-463D-A848-EB9BCCF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9F9-8AC0-479B-82F3-ABBB3CE1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2A11-BDAB-49CE-AB6C-DC2A513B2F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F36D-867B-4A74-AACC-F456F35DEF9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Хәйерле көн теләп, ҡояш ҡалҡа,</a:t>
            </a:r>
            <a:br>
              <a:rPr sz="5400"/>
            </a:b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Уяналар ауыл, ҡалалар.</a:t>
            </a:r>
            <a:br>
              <a:rPr sz="5400"/>
            </a:b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Үҙ телемдә һеҙҙе  сәләмләйем:</a:t>
            </a:r>
            <a:br>
              <a:rPr sz="5400"/>
            </a:br>
            <a:r>
              <a:rPr b="1" lang="be-BY" sz="5400" spc="-1" strike="noStrike">
                <a:solidFill>
                  <a:srgbClr val="3333ff"/>
                </a:solidFill>
                <a:latin typeface="a_Helver Bashkir"/>
              </a:rPr>
              <a:t>Хәйерле көн һеҙгә, балалар</a:t>
            </a:r>
            <a:r>
              <a:rPr b="1" lang="ru-RU" sz="5400" spc="-1" strike="noStrike">
                <a:solidFill>
                  <a:srgbClr val="3333ff"/>
                </a:solidFill>
                <a:latin typeface="a_Helver Bashkir"/>
              </a:rPr>
              <a:t>!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j0423483"/>
          <p:cNvPicPr/>
          <p:nvPr/>
        </p:nvPicPr>
        <p:blipFill>
          <a:blip r:embed="rId1"/>
          <a:stretch/>
        </p:blipFill>
        <p:spPr>
          <a:xfrm>
            <a:off x="7750080" y="5445000"/>
            <a:ext cx="1393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3333ff"/>
                </a:solidFill>
                <a:latin typeface="Verdana"/>
              </a:rPr>
              <a:t>Ял итәйек</a:t>
            </a:r>
            <a:r>
              <a:rPr b="0" lang="ru-RU" sz="4400" spc="-1" strike="noStrike">
                <a:solidFill>
                  <a:srgbClr val="3333ff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кар яуа9005e83.mp3" descr=""/>
          <p:cNvPicPr/>
          <p:nvPr/>
        </p:nvPicPr>
        <p:blipFill>
          <a:blip r:embed="rId1"/>
          <a:stretch/>
        </p:blipFill>
        <p:spPr>
          <a:xfrm>
            <a:off x="4267080" y="35226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47789363_42350289_25437700_getimage"/>
          <p:cNvPicPr/>
          <p:nvPr/>
        </p:nvPicPr>
        <p:blipFill>
          <a:blip r:embed="rId2"/>
          <a:stretch/>
        </p:blipFill>
        <p:spPr>
          <a:xfrm>
            <a:off x="1044720" y="4005360"/>
            <a:ext cx="2216160" cy="2528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53"/>
          <p:cNvPicPr/>
          <p:nvPr/>
        </p:nvPicPr>
        <p:blipFill>
          <a:blip r:embed="rId3"/>
          <a:stretch/>
        </p:blipFill>
        <p:spPr>
          <a:xfrm>
            <a:off x="6156360" y="3716280"/>
            <a:ext cx="2722680" cy="2643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http://nvl22.ru/sochi2014/zayka.jpg"/>
          <p:cNvPicPr/>
          <p:nvPr/>
        </p:nvPicPr>
        <p:blipFill>
          <a:blip r:embed="rId4"/>
          <a:stretch/>
        </p:blipFill>
        <p:spPr>
          <a:xfrm>
            <a:off x="3492360" y="1484280"/>
            <a:ext cx="197352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8" descr="http://www.schoolearlystudy.ru/wp-content/uploads/2013/07/DbBqV8y1eSg.jpg"/>
          <p:cNvPicPr/>
          <p:nvPr/>
        </p:nvPicPr>
        <p:blipFill>
          <a:blip r:embed="rId5"/>
          <a:stretch/>
        </p:blipFill>
        <p:spPr>
          <a:xfrm>
            <a:off x="395280" y="712800"/>
            <a:ext cx="2232000" cy="30034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http://old.vmnews.ru/wp-content/gallery/talisman/06.jpg"/>
          <p:cNvPicPr/>
          <p:nvPr/>
        </p:nvPicPr>
        <p:blipFill>
          <a:blip r:embed="rId6"/>
          <a:stretch/>
        </p:blipFill>
        <p:spPr>
          <a:xfrm>
            <a:off x="6516720" y="712800"/>
            <a:ext cx="2222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219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2349360"/>
            <a:ext cx="8244000" cy="28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Йәмле, ҡышҡы, сибәр, оялсан, бала-сағалы, күҙ асҡыһыҙ, яҙғы, зәңгәр, аҡлы-ҡаралы, бәләкәй, эшсән, тырыш, ата-әсәле, хәйләкәр, сос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40428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Бирелгән сифаттарҙы яһалышы буйынса өс төркөмгә бүлеп яҙығыҙ. Һәр төркөмгә берәр миҫал өҫтәп яҙығыҙ.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Рисунок 3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7093080" y="4437000"/>
            <a:ext cx="1655640" cy="2305080"/>
          </a:xfrm>
          <a:prstGeom prst="rect">
            <a:avLst/>
          </a:prstGeom>
          <a:ln w="0">
            <a:noFill/>
          </a:ln>
        </p:spPr>
      </p:pic>
      <p:pic>
        <p:nvPicPr>
          <p:cNvPr id="205" name="09_Azat_biksurin_Kanaferpar.mp3" descr=""/>
          <p:cNvPicPr/>
          <p:nvPr/>
        </p:nvPicPr>
        <p:blipFill>
          <a:blip r:embed="rId2"/>
          <a:stretch/>
        </p:blipFill>
        <p:spPr>
          <a:xfrm>
            <a:off x="3987720" y="5157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6920" y="1125360"/>
          <a:ext cx="7848720" cy="504036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амыр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Яһалм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Ҡушм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ибә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йәмл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ала-сағал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зәңгә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ҡышҡ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күҙ асҡыһыҙ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бәләкәй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оялса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аҡлы-ҡарал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тырыш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яҙғ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ата-әсәл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со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эшсә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хәйләкә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964640" cy="506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Өй эше</a:t>
            </a:r>
            <a:br>
              <a:rPr sz="4400"/>
            </a:br>
            <a:br>
              <a:rPr sz="2800"/>
            </a:br>
            <a:r>
              <a:rPr b="1" i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5” билдәһе алыр өсөн: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Яһалышы яғынан төрлө сифаттар ҡулланып,</a:t>
            </a:r>
            <a:r>
              <a:rPr b="1" i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 “Минең яратҡан спорт уйыным” темаһына инша яҙырға. </a:t>
            </a:r>
            <a:br>
              <a:rPr sz="2800"/>
            </a:br>
            <a:r>
              <a:rPr b="1" i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4” билдәһе алыр өсөн: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177-се бит 70-се, 71-се күнегеүҙәр.</a:t>
            </a:r>
            <a:br>
              <a:rPr sz="2800"/>
            </a:b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3” билдәһе алыр өсөн: </a:t>
            </a:r>
            <a:r>
              <a:rPr b="1" lang="be-BY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177-се бит 71-се </a:t>
            </a:r>
            <a:r>
              <a:rPr b="1" lang="ba-RU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күнегеү.</a:t>
            </a:r>
            <a:br>
              <a:rPr sz="2800"/>
            </a:br>
            <a:r>
              <a:rPr b="1" lang="ba-RU" sz="2800" spc="-1" strike="noStrike">
                <a:solidFill>
                  <a:srgbClr val="3333ff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848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Рисунок 3" descr="http://nvl22.ru/sochi2014/zayka.jpg"/>
          <p:cNvPicPr/>
          <p:nvPr/>
        </p:nvPicPr>
        <p:blipFill>
          <a:blip r:embed="rId1"/>
          <a:stretch/>
        </p:blipFill>
        <p:spPr>
          <a:xfrm>
            <a:off x="255600" y="260280"/>
            <a:ext cx="1973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539640" y="1052640"/>
            <a:ext cx="8280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флекс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Ошо һөйләмдәрҙе тултыры</a:t>
            </a:r>
            <a:r>
              <a:rPr b="1" lang="ba-RU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ғыҙ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: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Бөгөн мин ..... белдем.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 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ҡыҙыҡлы бул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… 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ауыр бул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. булдыра ала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Мин ……. өйрәнде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Эшләп ҡарайым ……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Миндә ….... теләк тыуҙ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……</a:t>
            </a: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.. уртаҡлашҡым килә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6699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Рисунок 2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6588000" y="2637000"/>
            <a:ext cx="22320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539640" y="836640"/>
            <a:ext cx="8064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әрестәге эшмәкәрлегеңде баһал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Бөтә эштәрҙе лә дөрөҫ эшләне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3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Таҡтаға сығып эшләне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Урындан дөрөҫ яуап бирҙе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3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Һорауға яуап бирергә тырышты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Яҙма эште тулыһынса башҡарҙы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Уҡытыусыны бөтә дәрес барышында  иғтибар менән тыңланым – </a:t>
            </a: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 бал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1-3 балл –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3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3-6 балл –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4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Times New Roman"/>
                <a:ea typeface="Calibri"/>
              </a:rPr>
              <a:t>6-нан күберәк –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“5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Рисунок 2" descr="http://old.vmnews.ru/wp-content/gallery/talisman/06.jpg"/>
          <p:cNvPicPr/>
          <p:nvPr/>
        </p:nvPicPr>
        <p:blipFill>
          <a:blip r:embed="rId1"/>
          <a:stretch/>
        </p:blipFill>
        <p:spPr>
          <a:xfrm>
            <a:off x="6948360" y="4292640"/>
            <a:ext cx="165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3333ff"/>
                </a:solidFill>
                <a:latin typeface="Verdana"/>
              </a:rPr>
              <a:t>Тырышлығығыҙ өсөн ҙур рәхмәт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3300"/>
                </a:solidFill>
                <a:latin typeface="Verdana"/>
              </a:rPr>
              <a:t>У</a:t>
            </a:r>
            <a:r>
              <a:rPr b="0" lang="ru-RU" sz="6000" spc="-1" strike="noStrike">
                <a:solidFill>
                  <a:srgbClr val="ff3300"/>
                </a:solidFill>
                <a:latin typeface="Arial"/>
                <a:ea typeface="Arial"/>
              </a:rPr>
              <a:t>ңыштар һеҙгә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Рисунок 4" descr="http://www.schoolearlystudy.ru/wp-content/uploads/2013/07/DbBqV8y1eSg.jpg"/>
          <p:cNvPicPr/>
          <p:nvPr/>
        </p:nvPicPr>
        <p:blipFill>
          <a:blip r:embed="rId1"/>
          <a:stretch/>
        </p:blipFill>
        <p:spPr>
          <a:xfrm>
            <a:off x="755640" y="3500280"/>
            <a:ext cx="2232000" cy="3005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http://nvl22.ru/sochi2014/zayka.jpg"/>
          <p:cNvPicPr/>
          <p:nvPr/>
        </p:nvPicPr>
        <p:blipFill>
          <a:blip r:embed="rId2"/>
          <a:stretch/>
        </p:blipFill>
        <p:spPr>
          <a:xfrm>
            <a:off x="3348000" y="3995640"/>
            <a:ext cx="1973160" cy="20163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http://old.vmnews.ru/wp-content/gallery/talisman/06.jpg"/>
          <p:cNvPicPr/>
          <p:nvPr/>
        </p:nvPicPr>
        <p:blipFill>
          <a:blip r:embed="rId3"/>
          <a:stretch/>
        </p:blipFill>
        <p:spPr>
          <a:xfrm>
            <a:off x="6372360" y="3736800"/>
            <a:ext cx="2222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Һаумы, ҡояш, һаумы, дуҫым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Һаумыһығыҙ, уҡытыусым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Ҡояш, һауа, тыуған ер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Йән тыныслығын бир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Мин сәләмәт, мин матур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Салауат кеүек батыр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Яйлап ултырам хәҙер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ff"/>
                </a:solidFill>
                <a:latin typeface="a_Helver Bashkir"/>
              </a:rPr>
              <a:t>Дәрес тыңларға әҙер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4" descr="j0436867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солнце.gif"/>
          <p:cNvPicPr/>
          <p:nvPr/>
        </p:nvPicPr>
        <p:blipFill>
          <a:blip r:embed="rId2"/>
          <a:stretch/>
        </p:blipFill>
        <p:spPr>
          <a:xfrm flipH="1">
            <a:off x="3347640" y="1890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Картинка 21 из 7108"/>
          <p:cNvPicPr/>
          <p:nvPr/>
        </p:nvPicPr>
        <p:blipFill>
          <a:blip r:embed="rId3"/>
          <a:srcRect l="1814" t="0" r="6822" b="35512"/>
          <a:stretch/>
        </p:blipFill>
        <p:spPr>
          <a:xfrm>
            <a:off x="1379520" y="279360"/>
            <a:ext cx="128592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Picture 4" descr="Картинка 21 из 7108"/>
          <p:cNvPicPr/>
          <p:nvPr/>
        </p:nvPicPr>
        <p:blipFill>
          <a:blip r:embed="rId4"/>
          <a:srcRect l="1831" t="0" r="6822" b="35529"/>
          <a:stretch/>
        </p:blipFill>
        <p:spPr>
          <a:xfrm flipH="1" rot="565200">
            <a:off x="5569200" y="195120"/>
            <a:ext cx="1405080" cy="85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://im2-tub-ru.yandex.net/i?id=610370070-66-72&amp;n=21"/>
          <p:cNvPicPr/>
          <p:nvPr/>
        </p:nvPicPr>
        <p:blipFill>
          <a:blip r:embed="rId1"/>
          <a:stretch/>
        </p:blipFill>
        <p:spPr>
          <a:xfrm>
            <a:off x="260280" y="557280"/>
            <a:ext cx="86328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6666ff"/>
                </a:solidFill>
                <a:latin typeface="a_Helver Bashkir"/>
              </a:rPr>
              <a:t>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Рисунок 4" descr="http://old.vmnews.ru/wp-content/gallery/talisman/06.jpg"/>
          <p:cNvPicPr/>
          <p:nvPr/>
        </p:nvPicPr>
        <p:blipFill>
          <a:blip r:embed="rId1"/>
          <a:stretch/>
        </p:blipFill>
        <p:spPr>
          <a:xfrm>
            <a:off x="6237360" y="692280"/>
            <a:ext cx="2879640" cy="5040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http://www.schoolearlystudy.ru/wp-content/uploads/2013/07/DbBqV8y1eSg.jpg"/>
          <p:cNvPicPr/>
          <p:nvPr/>
        </p:nvPicPr>
        <p:blipFill>
          <a:blip r:embed="rId2"/>
          <a:stretch/>
        </p:blipFill>
        <p:spPr>
          <a:xfrm>
            <a:off x="3203640" y="639720"/>
            <a:ext cx="3168720" cy="5381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http://nvl22.ru/sochi2014/zayka.jpg"/>
          <p:cNvPicPr/>
          <p:nvPr/>
        </p:nvPicPr>
        <p:blipFill>
          <a:blip r:embed="rId3"/>
          <a:stretch/>
        </p:blipFill>
        <p:spPr>
          <a:xfrm>
            <a:off x="179280" y="692280"/>
            <a:ext cx="288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76360" y="852120"/>
            <a:ext cx="809928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мта –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лса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ышҡы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Уйын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ян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Айыу –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Леопард –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Рисунок 4" descr="http://nvl22.ru/sochi2014/zayka.jpg"/>
          <p:cNvPicPr/>
          <p:nvPr/>
        </p:nvPicPr>
        <p:blipFill>
          <a:blip r:embed="rId1"/>
          <a:stretch/>
        </p:blipFill>
        <p:spPr>
          <a:xfrm>
            <a:off x="5435640" y="907920"/>
            <a:ext cx="324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4365720"/>
            <a:ext cx="4500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1187280" y="115920"/>
            <a:ext cx="604872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мта - </a:t>
            </a:r>
            <a:r>
              <a:rPr b="1" lang="ba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шкатулк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лса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ольц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ышҡы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им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Уйын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гр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Ҡуян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яц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Айыу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медвед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Леопард – 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опард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Рисунок 7" descr="http://nvl22.ru/sochi2014/zayka.jpg"/>
          <p:cNvPicPr/>
          <p:nvPr/>
        </p:nvPicPr>
        <p:blipFill>
          <a:blip r:embed="rId1"/>
          <a:stretch/>
        </p:blipFill>
        <p:spPr>
          <a:xfrm>
            <a:off x="5724360" y="3141720"/>
            <a:ext cx="3240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179280" y="65880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Етеҙ           Көс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ө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Иҫ киткес ҙур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атыр       Ҡыш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ҡы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Аҡлы-ҡыҙыллы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лтын       Кис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е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Матур-матур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Бәләкәй     Сер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Салт аяҙ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Аҡ               Сәм</a:t>
            </a:r>
            <a:r>
              <a:rPr b="1" lang="tt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</a:t>
            </a:r>
            <a:r>
              <a:rPr b="1" lang="tt-RU" sz="4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Асыҡ йөҙлө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76280" y="907920"/>
            <a:ext cx="720072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indent="0" algn="ctr">
              <a:lnSpc>
                <a:spcPct val="115000"/>
              </a:lnSpc>
              <a:spcBef>
                <a:spcPts val="1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И</a:t>
            </a:r>
            <a:r>
              <a:rPr b="1" lang="ba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ҫеңдә тот</a:t>
            </a:r>
            <a:r>
              <a:rPr b="1" lang="tt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Сифаттар яһалышы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яғынан, исемдәр кеүе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үк,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тамыр, яһалм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ҡушма</a:t>
            </a:r>
            <a:r>
              <a:rPr b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була.  Яһалма сифаттар ялғауҙар ярҙамында, ҡушма сифаттар ике һүҙҙе ҡушыу юлы менән яһал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Рисунок 11" descr="http://old.vmnews.ru/wp-content/gallery/talisman/06.jpg"/>
          <p:cNvPicPr/>
          <p:nvPr/>
        </p:nvPicPr>
        <p:blipFill>
          <a:blip r:embed="rId1"/>
          <a:stretch/>
        </p:blipFill>
        <p:spPr>
          <a:xfrm>
            <a:off x="6804000" y="19080"/>
            <a:ext cx="2151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7" name="Прямая со стрелкой 4"/>
          <p:cNvCxnSpPr/>
          <p:nvPr/>
        </p:nvCxnSpPr>
        <p:spPr>
          <a:xfrm>
            <a:off x="4389120" y="7853400"/>
            <a:ext cx="1678680" cy="8071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cxnSp>
        <p:nvCxnSpPr>
          <p:cNvPr id="188" name="Прямая со стрелкой 5"/>
          <p:cNvCxnSpPr/>
          <p:nvPr/>
        </p:nvCxnSpPr>
        <p:spPr>
          <a:xfrm>
            <a:off x="3936600" y="7853400"/>
            <a:ext cx="10440" cy="8071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cxnSp>
        <p:nvCxnSpPr>
          <p:cNvPr id="189" name="Прямая со стрелкой 6"/>
          <p:cNvCxnSpPr/>
          <p:nvPr/>
        </p:nvCxnSpPr>
        <p:spPr>
          <a:xfrm flipH="1">
            <a:off x="1956600" y="7853400"/>
            <a:ext cx="1399320" cy="75312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sp>
        <p:nvSpPr>
          <p:cNvPr id="19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170000" y="-684720"/>
            <a:ext cx="680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фаттар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тамыр   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  </a:t>
            </a:r>
            <a:r>
              <a:rPr b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яһалма    ҡушм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06699"/>
                </a:solidFill>
                <a:latin typeface="Times New Roman"/>
                <a:ea typeface="Calibri"/>
              </a:rPr>
              <a:t>батыр      көслө     иҫ киткес етеҙ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92" name="Прямая со стрелкой 9"/>
          <p:cNvCxnSpPr/>
          <p:nvPr/>
        </p:nvCxnSpPr>
        <p:spPr>
          <a:xfrm flipH="1">
            <a:off x="1891440" y="2491920"/>
            <a:ext cx="1872360" cy="121356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93" name="Прямая со стрелкой 12"/>
          <p:cNvCxnSpPr/>
          <p:nvPr/>
        </p:nvCxnSpPr>
        <p:spPr>
          <a:xfrm>
            <a:off x="4571640" y="2514240"/>
            <a:ext cx="1080" cy="11912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94" name="Прямая со стрелкой 15"/>
          <p:cNvCxnSpPr/>
          <p:nvPr/>
        </p:nvCxnSpPr>
        <p:spPr>
          <a:xfrm>
            <a:off x="5219640" y="2492280"/>
            <a:ext cx="1224720" cy="112176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35:21Z</dcterms:created>
  <dc:creator>Султанова</dc:creator>
  <dc:description/>
  <dc:language>en-US</dc:language>
  <cp:lastModifiedBy>Султанова</cp:lastModifiedBy>
  <dcterms:modified xsi:type="dcterms:W3CDTF">2014-02-17T21:38:13Z</dcterms:modified>
  <cp:revision>11</cp:revision>
  <dc:subject/>
  <dc:title>Хәйерле көн теләп, ҡояш ҡалҡа, Уяналар ауыл, ҡалалар. Үҙ телемдә һеҙҙе  сәләмләйем: Хәйерле көн һеҙгә, балалар!</dc:title>
</cp:coreProperties>
</file>