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gif" ContentType="image/gif"/>
  <Override PartName="/ppt/media/image24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6.wmf" ContentType="image/x-wmf"/>
  <Override PartName="/ppt/media/image2.jpeg" ContentType="image/jpeg"/>
  <Override PartName="/ppt/media/image25.jpeg" ContentType="image/jpeg"/>
  <Override PartName="/ppt/media/image22.gif" ContentType="image/gif"/>
  <Override PartName="/ppt/media/image23.gif" ContentType="image/gif"/>
  <Override PartName="/ppt/media/image3.png" ContentType="image/png"/>
  <Override PartName="/ppt/media/image17.jpeg" ContentType="image/jpe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6E0-3CB6-4D44-880A-24ECDA95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4E9-C723-48E5-866C-8CFAC84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644A-A027-4635-9B94-2AADF6F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B6486-C324-461A-9589-DCFBC68C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39123-FF51-4E20-B9E4-FCAFBF3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981BD-E712-49B2-8890-BB4DBEB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CA3C-CD10-4F29-8136-F9BFA92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B08EB-7373-43E0-85F1-A85A844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F4DB3-CB09-47B3-9A42-EDF478C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4B58C-785E-47BB-A890-E5711DB2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2274-7313-4E86-86C5-8397A9DE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FB045-E4B5-46D3-9A0D-A18C47D5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3A9-1F5E-4554-B882-33AF12AE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D067-E22C-4DF6-AE2A-B7AF71E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13788-9112-4901-ABBC-5C278B2C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C7820-2A00-4808-99F3-87331070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8B189-E052-405B-88B6-F92F6A9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52C4E-790B-4129-9B51-83DE6D4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8AFD6-7123-443E-9E67-8C881C9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D068E-3397-4FB2-9E7D-8D908A8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448AB-AF51-4567-BB02-7702FAE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7016-45DC-40DD-B235-D013030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7FE5-C711-4B85-9D68-A0F73D05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930-1378-423A-B402-2140F737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5BD3B-B760-463C-B68B-CC0FF350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845A-F503-4218-A3DD-EFAC5DDD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DFC6B-313D-4A92-8EEC-649D455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40525-0B93-4713-B79E-55FB6E0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B907-165A-4C02-9657-673787B0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A64F9-3D1B-4CFE-B34C-2183C7B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E19E-6CFA-465C-A0D4-3D413C6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E336-7D51-489B-BD79-6614B9A4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F9558-9A79-4310-9577-6F13820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226F-7B55-46AF-831E-7A1DE06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A092-03D7-4503-A894-126FC54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E402-8536-4ECA-B440-B951781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6FC10-7A83-4663-8D0B-FDD5AFE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CECBE-95EA-467D-94B3-7695CA03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34D00-5BEB-43F7-A496-F57F28F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11DAB-2022-4F89-A8A5-6606AC2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2F7CF-B735-405D-B82B-8F97DF1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4A5A5-8AC4-4BC1-B2BA-041B763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6C32-729A-4B64-BD04-F73F4C6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8006B-8640-4185-828C-A72095C5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0903D-2985-4241-87E0-08794F6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C331-5DFA-43E5-8247-4396BA5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7B526-A087-4B66-8932-AF37883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90BCF-0E47-4E46-9F8A-7B8818C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B6C4C-A67B-4C1C-B691-A87C690F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3247E-2BF2-4754-92F7-C4DA042C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F68DA-2A98-46B4-9FDB-2932DEF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0B257-DBC9-4565-B851-57E76CB3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0B413-92CC-45EB-A362-B7AFBFCE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A301C-CF12-4822-B617-5129A67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9B3C5-1B09-48C1-9AA2-E108119C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E6169-6EF2-40B2-B339-6CD1DA1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E73-78C9-4F19-843D-242505F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FA191-68DB-4F02-B427-FE9BA48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1BB41-2BFA-4348-8D60-3B42381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EA1C2-C320-4F10-B39A-B251249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A1E77-11CE-4968-961B-7936E49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65B0B-8B6D-4F77-B0EF-764439B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06BF9-A314-424F-807C-0B9D498E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E6AB2-138D-4624-B449-976E556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9956-6BCE-4BF5-AB5C-688BAA8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C9DE-41DC-4148-B92B-CE2BF96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BED-A221-4197-9301-CEC1116F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308C-268E-4264-AC11-A729399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4CF-FF82-4618-9678-B9E25A6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82CA-A81A-42F8-A5A9-4C67861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33C2-C694-43C8-B4CF-E01F69E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874C-D182-46DA-B41A-AFCD160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DBE8-0747-4E19-8EBD-B3312BEA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152-F442-4C67-BB4F-783577F1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0F5F-7DD3-4AA4-81C7-AA22A695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3C43-6C12-4AA7-8CAE-73BC0B36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6500-1048-44A2-B3D3-C6AB784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3F4C-3831-46A6-AA2D-EB185CD2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9F73-8AB0-4423-BAED-AB9584DE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793-3039-4AC6-B085-A704609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2813-8C6C-48EE-B869-6779B00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8382-A688-4109-9FDC-6DD93D1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5D6E-9821-449E-B708-7FB5D54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57CF-3B40-456A-9F48-5C2B3E9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30FD-3BCE-49E2-A1F9-FC3197D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CFFE-D5C6-4AF5-99F9-1195C2D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4EDA-25F2-4CCB-BD10-1AA22F12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C4A1-732B-4B22-B345-F048E2C5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F777-E499-4FA0-B7BF-3C8E0439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B632-6A0D-4891-8BEC-E825CC6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DCF-D00D-4358-B996-806F61B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BF32-9797-44FF-AD5E-FE0A5C06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CC53-3BA3-49A1-96B9-46CD047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B0F0-0B03-4EA9-9044-7A8453D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67A6-DAD8-4C7E-BA1A-805D98F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2156-CB6F-4717-BA40-D240DB6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6074-8B25-4AB6-911F-EAA32AD1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BDF2-3D5B-43F6-B0DD-510AC44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5BD1-E4D4-4768-9E32-0058D8AB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B219-7E26-4055-8326-9D19BF73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5FBD-2D82-4811-87EB-5A1C557B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D8D-FD64-4047-980B-1F69D69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47CB-B93E-43BF-86AB-D74E56C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2B68-A2FA-487A-BE8C-82F5197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DD96-FA51-490D-B358-F2F42E6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629F8-8D03-4ACC-B377-1FAEDEE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AC64-CEB7-4AB5-865E-26D8AFB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9415-2340-4C32-B745-854AA74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3C65-27B2-4163-BE9F-15AD4892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8B22-EA53-46F5-B84F-DA73C1D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B126-4FF0-4057-BA27-4B746C9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2516-D192-4D1D-B555-3774F4C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183-FB45-4310-8733-1AED4E6C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13B4-CBA0-4F45-86DC-B7F4D5F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541D-E882-4D4A-819A-FAA5EB92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A57E-2757-4BE9-A940-86DBF4A4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2425-84BF-4AB0-9544-98B73E1C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2AA2-C3A0-4A30-9308-14BA387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8F20-7B5E-4766-8A29-21CB94E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6BCB-D848-4221-A36F-6449F321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AA22-422E-48F6-BE78-415D4F2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5AB7-B939-4C6C-9531-61EF679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46CE7-D2A3-4A32-9D2B-8C3F033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8D0-8E33-4F77-83D9-3034324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6D88-DB54-437C-957E-BFE9C1F8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813A-D9AB-4EDB-9485-4F2289EE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A94E-72F9-4FCF-9552-7B3B5B2D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AEBD2-BFC6-45F9-8642-BBD7B007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FE2B-8EF7-47C3-85F4-4E63CC7F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7888-5F19-430E-B195-1319E8D8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DD3D-C464-4361-A050-F4A26397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CF76-F5F2-4653-8A62-FD2B51F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3451E-418F-43CA-A65D-00B4F46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AC2D-0201-460D-A45D-9613CA7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2A9-F0D9-4F1B-9B3C-2044678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535D2-DC94-4418-B41E-12D875C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D9A87-40CE-4A51-A365-09D1335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65E8-C2DE-45B6-B3B2-B21FAD9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DB3D-353A-4556-A572-7DD3269D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F668F-B82B-4A02-B950-BB1FE26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F826-4F14-45AC-8B94-D29775F0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5B16F-7366-4A4C-B67A-4EDEE8C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14D33-C33B-4439-BFF2-D45F3DC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C1EE5-FDDC-49AF-967B-C305E911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43A1-0115-488C-85AE-B95DDA1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479-E342-4E1C-B076-C7A5C0D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865D-128B-456A-A66F-BD36F83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9C29-C338-455B-BE90-6C0538A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F97B9-D1BF-44D2-BBB9-F32F9F9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8F3D-A778-4617-852A-190CF95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FC43-625B-4794-943A-D65E014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EA294-6C0D-4FB6-9879-E8D5864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32B0-DFDF-4912-8DC8-7775A317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5FF39-8353-4A90-82D2-276817DF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BCA63-FB12-4C2B-A1BE-7F3CEBC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217DE-F343-457B-927D-06E8230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B03C-E84C-472A-A426-81AF9A7B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0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8B5-847F-4A7D-8698-858A925C2C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997-78CF-4853-BF54-729CA7068A6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B29-AF6A-4816-93BE-1FC1022605B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1A3F-C06C-4652-8141-5AB58471EAA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1DF-2B1B-4323-81BE-C92C02BC11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C67-3904-433C-B508-45EBE386CDC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3FC8-C887-4448-BB77-56B70EA579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A89C-F4C1-43A3-8AAC-D2700024BC8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83C-99C5-4E00-A4A6-CD5D5C166E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BA78-7A55-4A8F-8909-C9B5339A0E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98DD-C346-4DDC-A828-D59939E6B5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9497-9BAF-4B9A-A8A9-1D758095822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ям…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Измени свое мнение о вещах, которые тебя огорчают, и ты будешь в полной безопасности от них 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Глобус"/>
          <p:cNvPicPr/>
          <p:nvPr/>
        </p:nvPicPr>
        <p:blipFill>
          <a:blip r:embed="rId1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Карандаш"/>
          <p:cNvPicPr/>
          <p:nvPr/>
        </p:nvPicPr>
        <p:blipFill>
          <a:blip r:embed="rId2"/>
          <a:stretch/>
        </p:blipFill>
        <p:spPr>
          <a:xfrm>
            <a:off x="7257960" y="4419720"/>
            <a:ext cx="2237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638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645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653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667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672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Оксана Гуркина</cp:lastModifiedBy>
  <dcterms:modified xsi:type="dcterms:W3CDTF">2018-11-12T15:18:13Z</dcterms:modified>
  <cp:revision>91</cp:revision>
  <dc:subject/>
  <dc:title>PowerPoint Template</dc:title>
</cp:coreProperties>
</file>