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gif" ContentType="image/gif"/>
  <Override PartName="/ppt/media/image24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26.wmf" ContentType="image/x-wmf"/>
  <Override PartName="/ppt/media/image2.jpeg" ContentType="image/jpeg"/>
  <Override PartName="/ppt/media/image25.jpeg" ContentType="image/jpeg"/>
  <Override PartName="/ppt/media/image22.gif" ContentType="image/gif"/>
  <Override PartName="/ppt/media/image23.gif" ContentType="image/gif"/>
  <Override PartName="/ppt/media/image3.png" ContentType="image/png"/>
  <Override PartName="/ppt/media/image17.jpeg" ContentType="image/jpeg"/>
  <Override PartName="/ppt/media/image15.gif" ContentType="image/gif"/>
  <Override PartName="/ppt/media/image19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21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A79-4479-4E37-B75C-5E53E1F5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E35-B2DA-48A3-A0E3-55960E41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16D3C-017A-4B4E-A62C-C15C6640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7EFDC-4444-44AA-A97C-AE2D270D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691AA-512C-41AB-99C1-4045866C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AF801-08A0-4BB6-804A-FA00754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497DE-B3AA-4CEF-9221-7CFCF3F7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CF216-1440-4200-9D72-A142A2B4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52571-B715-4A25-A7DB-AC356F03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716A1-9B9E-4A6E-8210-2F3548E6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DCDFE-059B-4097-A2FD-36D5999C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B497C-5BC0-469A-801B-D224DC57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B6D-3DC1-4344-9E6C-DCE8AF4E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CF253-FEBF-4BCF-847E-A8112564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9D699-F5B7-4332-BB2E-4EED1271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37903-06AB-4C34-B6B2-60FD28F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2AC15-5B3C-47AC-B9A2-AA18A201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35F32-31AB-498C-898F-E16A9623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B2EFB-C043-4B71-8333-CB0D501D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3A165-7BBC-4646-BF8C-9675FE3C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CB55C-BE9B-4E54-849A-F94989E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A63C3-BAD1-4693-B8D2-40822D92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8D8D7-3190-4CCF-92DE-E3206182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43B-812F-40B8-8951-B2AA57B9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C22D9-FA1E-415A-AA02-56B0F3C7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64867-D079-4451-8940-F05EA92C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5FF7C-E27E-4999-B563-C8152D95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01FA2-2E3A-4D4D-AD86-1879015E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0005F-5198-4DBF-BB1D-81F7D5DC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109EF-BE69-4F01-B580-49019374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9480A-40AA-4AC9-9E6D-8DFDDBD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B8180-A3C2-4835-9EFC-8B537102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05FB8-658B-4A6C-8788-193FC1B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8DB82-4465-497B-A768-7BB66752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E3A9-9C43-4CFE-A954-65F37BD1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CE11A-5CAE-4D9D-A41F-2FA611D8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0EAC6-DC04-478D-8FA5-5E128392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60317-3A08-4C5E-9CEC-FE4DD18E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7DEAE-90EC-4DEE-9E8A-A3469263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24A87-FFFE-4252-BCB4-1335D2E3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BFB64-B3D2-493B-BF4C-F0C10903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FFAB0-A453-48B4-8C39-756D947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F27D6-928D-45FB-8DEB-4CA37562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0287D-AF7C-4D23-A444-18E470E6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CBACE-EEE2-4B7E-9C2F-40092CD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353E-D765-4A2E-8B1D-A0416086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0EB4D-4E5E-4106-BE26-4146A4B7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C32BD-02F3-42FC-8289-5EB89B0E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56211-33A4-4DA9-9413-2FE6F2E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9C80A-0E90-4502-ACF6-5674B42F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806D5-9EDA-4819-925D-D30545B4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DF940-2E4D-4256-AD16-621A4FD9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718B7-D9BB-4272-8615-2AE39390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0A63E-BB17-48A5-8DC9-F15F8DDD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14939-43CC-4FC2-B793-AA2B7858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8663A-14D2-4A48-B19C-3CF3A8BF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DDCC-8D6C-4EF6-AC70-DBD718A7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D7A80-EE31-423C-B4F4-3C5F7CC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F23F6-F9C4-4F00-BE7A-8E02B39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0082D-E592-41C9-A131-989174DB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99579-A6D2-4901-9667-566774C8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0D93D-3EBC-47C2-9692-78C5FF1A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0DB8B-30CB-43C9-B0FC-638FB034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F5B4D-0EC8-44C5-B115-5A01479D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92CA-7469-419F-87DC-5F432020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AFF4-57E2-45BF-B61C-C04B4C03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D74C-1466-461B-A339-4B7B5B56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9680-B5FC-47EB-8D2F-77A77453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CE3-C329-4983-8547-2D12C0C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3FC7-DF5E-4E78-9402-C62E0D7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AF23-FCFC-4CB8-86C0-8C1F866C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F129-E4FC-48C0-B888-622B9170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2942-3A19-493C-B0E4-594BC1B9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27F7-7DAB-4224-924B-08BDD944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97F4-339E-419E-BDE3-5B013183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622D1-DB07-4A2E-9BE0-FF4F61F9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30DE-5461-4EB2-8CCF-7F93CD16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1257-87B5-492D-ADD1-B3C6CAE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7C06-6673-4543-8D66-29322EC5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21C-508D-45AF-BF8E-31E13F99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24CD-6115-4A87-BA7F-18F9ACD4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A427-E083-4164-B1DF-82B7208E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B3785-5B1E-48DC-B0A3-6424856A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BF93-C2EB-4D14-8F57-73657DAD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99960-B28F-4B5C-98CD-69EFC8BD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DE47-BA1C-42A0-921D-C6A4016C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4744-F2E5-4F69-AC64-D515FD13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D815-4C24-4817-9AEE-167BB149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70D1-F559-4DDE-BA36-E664D0D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A22B1-8651-4D5C-B362-9E832F7E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9AF-D8CD-4A3A-AEAA-F28C2B5F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F824-AE5C-42DD-B70E-8ADA158F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81B1-543B-4F73-9D91-B6760217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9D61C-516A-489A-A5B4-FD79EA37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0F98-0D23-4B64-AF76-EB3DE22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29C4-C8AB-4511-BB45-E808253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49DBC-BE82-4D6B-BC28-8230C2A8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F02C3-42EB-4B9B-B046-9CB3CAF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C83E-3CE0-4B2C-881A-2054D719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9C949-8695-454A-B951-20097D42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C0C7-74BA-4029-8E22-BAF1C0B1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881-B55B-4BE3-93F9-5F281A1B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ECD3-0252-4442-B3AF-4E183EBC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A4AE0-A8FB-47F4-9BFC-A41C14AF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10A08-B3DA-4C4E-B43E-1FBF9BB3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74805-8B11-42C4-8BE0-2219DCFC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C519E-7067-4A55-9208-FDF171F2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203AB-1D15-4E3B-ACC8-17DFF8F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F261F-C2BB-4A87-A90D-5B673D47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EA10-9F53-4776-B5ED-E368AF0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0F11F-067A-4FA9-8348-514F34C7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28194-FCF0-4224-BC59-E32B65E6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380-CF19-4761-9448-55E0E11A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ABEF4-BF9A-4CC8-BD1A-2D83FBE0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077B5-B70F-42CB-A142-166D63E9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C7B6B-1F8B-4DFC-974D-706152E3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65AE6-6085-4B00-8E87-632B4AB3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817C-17CF-4141-8ED9-AB49EF57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8FD3-42BF-4DE8-A584-AACF7E1D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C9BE3-2469-4119-81A6-53E235D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0ADFA-B466-42A7-BAC6-28FE8547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C5305-AA92-491F-9AAA-E89F9C58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DF3F8-30E6-4F91-AE38-C98C4E76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9EC-1185-4126-89FB-BE03FA93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1D580-BDAC-4B71-B623-BE3EDA32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B3CBA-4722-4328-BFEA-A24D98C8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7DBF2-1D6A-4BF8-9911-8704BB76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007B-6BD3-45E0-B9A3-5B9A73A0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747D9-5A41-4772-936B-F33165B8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B89F-3A7A-4E7A-8ED1-A10D3068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0F944-26E2-4B3F-A09F-F147EA93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BEF25-961B-4F25-A7EE-27501D9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F5C45-8455-4E9B-AA5A-D07959A9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93F82-48C6-4AC0-AAF9-1FB6BB63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E72-ABCA-4C24-A525-539CFE8E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8DB1C-19FC-4F9A-94FF-A776688E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E4206-3C0A-4954-B2E2-7893382B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85BD3-2E8C-479B-9FBF-759032A4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3C836-B177-4C20-9641-6FADBF1D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B5ADC-9F12-4653-8B52-0285F11F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30CDA-B3EB-4239-8C03-5A6240CA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0952-706D-46C7-8DDE-DC1D17A1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6AE1D-998B-420B-BAED-455C69F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DBAEA-7617-4382-8C5F-CD22B4DC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BE09D-E242-4F25-AF0B-BCFB108C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D93-FEE9-4B44-8C59-8BB97B2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C9956-0E7D-47BE-9A08-066CD43B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5E554-BA18-48AD-B8A4-81FB8B0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8BAE1-18B2-4A21-9A50-C7D685E5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BD1EC-4E36-4BC4-BD7D-5B360051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97664-DE26-4CAB-AFFE-FC103A6B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A013C-537B-4345-B7D9-4BD118D7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3F6B4-2A09-49EC-AFEB-4D6B1726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E5BD3-70C4-4284-A5A0-4A435582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01067-3E3C-4DD7-987D-7401EE16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2B246-6A44-4573-921B-4F8D7ED4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18A6-CE18-449D-9424-9780E218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0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EDA6-4C04-4605-84F7-0D22527FD09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4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382C-EA88-4037-8874-6907DE1A14F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CE06-E3E2-442C-A951-93F60852B7C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9C1-B36A-4929-909A-5BD626F1FCD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4A1F-A590-4D47-B4E0-071F49DBA2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016C-247E-4B2F-858C-FA9A4BD4949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6679-9BAE-4EE1-8DEF-037B3A5577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2843-9DCB-4EDC-9A73-824F51BE37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945B-19FA-4E2A-99CE-B80569E1568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464E-0331-4617-81A8-4E82F3AB505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68C3-99A5-48D1-8C3A-7934F9D441E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420D-9376-4269-B574-5A09781BB8C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ям…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2895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ок во 2 классе. Первая оценка и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66cc"/>
                </a:solidFill>
                <a:latin typeface="Arial"/>
              </a:rPr>
              <a:t>Измени свое мнение о вещах, которые тебя огорчают, и ты будешь в полной безопасности от них 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Глобус"/>
          <p:cNvPicPr/>
          <p:nvPr/>
        </p:nvPicPr>
        <p:blipFill>
          <a:blip r:embed="rId1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Карандаш"/>
          <p:cNvPicPr/>
          <p:nvPr/>
        </p:nvPicPr>
        <p:blipFill>
          <a:blip r:embed="rId2"/>
          <a:stretch/>
        </p:blipFill>
        <p:spPr>
          <a:xfrm>
            <a:off x="7257960" y="4419720"/>
            <a:ext cx="2237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638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645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653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667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672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9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Оксана Гуркина</cp:lastModifiedBy>
  <dcterms:modified xsi:type="dcterms:W3CDTF">2018-11-12T15:18:13Z</dcterms:modified>
  <cp:revision>91</cp:revision>
  <dc:subject/>
  <dc:title>PowerPoint Template</dc:title>
</cp:coreProperties>
</file>