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gif" ContentType="image/gif"/>
  <Override PartName="/ppt/media/image24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6.wmf" ContentType="image/x-wmf"/>
  <Override PartName="/ppt/media/image2.jpeg" ContentType="image/jpeg"/>
  <Override PartName="/ppt/media/image25.jpeg" ContentType="image/jpeg"/>
  <Override PartName="/ppt/media/image22.gif" ContentType="image/gif"/>
  <Override PartName="/ppt/media/image23.gif" ContentType="image/gif"/>
  <Override PartName="/ppt/media/image3.png" ContentType="image/png"/>
  <Override PartName="/ppt/media/image17.jpeg" ContentType="image/jpeg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1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AFB-A964-4013-AE75-5B2A5193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114-2179-428D-B1B3-D874306F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667B6-C65A-4922-965F-5BCE9A4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B7084-1242-48AC-B7D9-01A4762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C0068-CDB1-4A9A-87F9-19AD5054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5F83D-CD19-4350-A6BB-2D76260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E123E-A41F-4463-800F-19C4E288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D019E-D355-4620-B68C-EBD672C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3A902-3FC5-4E1B-AC24-5C37420A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3A34B-AE3C-4ABA-A79F-392CBF0F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C52CA-F648-4E58-AFC2-A4675A29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EB353-E3CB-4E42-B564-9D96097F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98E-0AC4-48D8-844F-15E27834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6FDCA-BA45-4B69-85BB-4F32FACB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1E4AD-7961-4342-AE83-4D8E70E5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8F6EB-8556-4B71-BB2B-73ABF86D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9D020-CA9C-45B8-AD25-A6AC69B1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248F7-8A56-4A1B-AC23-6789660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E092-F047-4E64-B4A6-80D6680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24C8D-8D28-4ADD-8DCE-344F601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3E45F-BD40-4994-A691-7829886C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6E803-90FC-4B60-B6E5-FF5BAD98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67263-A80E-4863-A902-EA343F75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486-431F-4670-A594-115EEBDA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88022-5518-4579-BAB1-3CF6DA02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EEBAF-8975-44FB-82CC-1FB9469C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93EB5-A978-45D1-9A23-142DBF8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FE155-5148-410C-88BD-FAF178C7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CFCC3-87CE-498C-8E60-9455645B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39D50-D76A-4E1A-90F9-E2794A2F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8E087-9BDA-4074-92C5-F805C408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60B0C-BCF8-4314-B6B6-FFABDFCE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833E4-5DD0-4DE4-8E1B-BE8E66EA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4429B-8B1F-431F-8C0B-EAF3DDA8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A619-99F6-46B1-8111-6E3AF021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9124C-589F-48CB-B44B-DCB6681F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E2E3-7292-4D1A-960C-B19C7672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4FF3-FA42-4620-A268-90522DD8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C2883-19B4-4CCC-B56D-F51AADD3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0A6DF-B850-42FA-BEA4-8508F12F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60071-6BC1-44E9-B852-B5E18432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FFD7E-70D6-4B74-A48D-CAF2FAB1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3948B-2357-4D48-A29F-EC199B89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17114-7FA5-4633-8BA4-169C7DF9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D2BF5-1745-4875-A640-66EE5EE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5B3C-D190-4B55-8DEA-6AD32E1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FC3B7-C4F8-4C69-A0BA-062C6EAA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BC00E-163B-4D45-A878-D8C1CBA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8D0C2-8736-4633-B958-C1A2D470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8954D-44FB-431F-96A9-099485F4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D9A18-AA25-4AA4-9AEB-E095FF87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D7AC5-A924-4060-BF4F-700C5D47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6A28F-F6A0-4573-BEA9-7F40D573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B7276-9147-4CB8-B605-B47D40CD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6A173-2B1A-4A32-AB24-684DB0B3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925FE-E413-4444-80AB-84D631FD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E53-1D74-4ECE-B4A3-B65D0A69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65B80-1413-43AE-9C7D-E5A8D686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CB2BB-FC4C-41CE-8A09-AB2E419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F7C36-145A-4E43-B6CD-5E549D2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EC0C5-6910-410F-959A-088560BF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546AA-F5DE-4962-A5F4-82251AAE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7A9C0-12BC-41E7-8CFC-1FD9693E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1C3F1-4582-41F2-8F44-3E7E3EFB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7274-2F0F-49A6-876C-A14C8338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3DB1-5D08-4D6F-A6CC-2C37AB2A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65EB-638B-4887-BB35-E92564EB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5E3E-B03E-4489-A617-21B1D35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6BC-3907-441A-81B6-489EBB95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0CDA-5BC0-4191-86BF-C45DA68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C0CD-3275-45BC-9F8C-3B6AB627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AA5-BAAA-42D0-A5E7-E10D20A4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A4A8-5F7A-4F82-874C-6EF065B0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411F-6280-4DCF-A7CA-5732A32A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C7B6-EB78-4A91-9C03-8A24FE47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B5CA-074E-406E-9FB1-76E614A9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4EC3-ECA5-4614-8814-0495BD59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7365-E6E0-4934-9690-A83E2DE1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3EA0-04F2-4C75-BA8B-A2BF4976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E24-E431-4CD0-9DE2-21FFE8DC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5EBD-1F74-449D-92DE-1E63047B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7F8B-EF5C-4C08-8A46-1976070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1707-9AB0-42A2-B25F-3B778EED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59C6-3491-49EB-B5BF-2C8EE2F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B649-FF84-4251-A91C-31BF1E8E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383F-1027-4EF3-A542-BA39CAE7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29DF-1AF8-4859-B2CE-08483016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103CB-6CE5-4E60-A01A-0175F594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088D-E9A2-4612-B09E-36152EB0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71AC-DF07-4AF1-91CC-6CED3E11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1DC-EFAA-4F3F-9CBE-A53B3044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38387-9C2B-428A-B3E7-0F8B13F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B1939-BDB2-4BF6-8B43-3C6CF40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AB06-2E4E-4983-9C0E-EB3D9D7D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A7EF-2899-4844-8454-04BC756F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E830-EC0C-4F96-B532-CCA48270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EDA0-4D71-4DC1-8BA4-1CBE246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0FEB-1A53-4A54-8480-7C2A5A4E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FEA1-A06A-4A0D-98EA-FA08B31A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F17C-D146-42E7-8D88-B919055E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7223A-DB2E-439F-A892-BF1F28EE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FE6-9646-4102-9FB0-10605663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8A94B-0D01-493B-B2BD-484AF1B3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0681-5C34-44AE-9DF4-04054729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181F-1A8F-4FC7-A10F-86FD33C5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5EA0-9967-4715-A366-992815B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326B2-7121-48D9-B063-6FC8B5E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31BD-4BE7-4F75-8116-77EBA0D4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3AE9E-7BFC-412E-A033-D1791B9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BADC-0410-4043-8CA0-3C5F9CA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A0C93-8E67-4858-B80D-F600DCC0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C4590-EE84-42CD-B964-8E9B9D3A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495-14DE-4268-B368-C56186B5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4C44-31A3-4F70-BF69-98319CCF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36B2-00FB-4207-9A8D-346164B9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5AB3-3C11-4BD2-A152-E2C88716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F61B6-AE70-4602-80B6-0F36DD4C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4553-9F65-4529-909F-842D01C1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3413-535C-4440-9EA9-B283E03F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BDA7E-FC6A-474D-9DB5-83242F13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2256B-7901-4977-B78B-76B5339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7A77A-0F29-4EB0-9DC3-58B0E43A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1261B-DF75-4571-A3A1-B75F4197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850-ED0C-4EC8-932E-3C8C1BBB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9348-979C-46CA-9BCE-0BA77195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1426-5230-4B18-94F6-CA23DE40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E47A-6B50-4427-A948-F1FB455F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E8E0A-A540-4B49-8190-D1FFBE04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44D9-8FB4-4F34-ACE7-D0AB3FB4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4DAB1-9D32-4618-9F85-E3F0896A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B9575-C0B1-4551-915C-75CA40B1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D67FC-2CEF-4EB2-B556-853A5D1C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26FA1-CE74-4DC4-BF8B-98FEB0DA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A5204-DA77-4273-BEE4-14D71500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A95-01C3-4A99-BAB9-8CD37129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407C0-2FB8-4D87-BF6A-4D3BB14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A8F73-419F-4BF9-85A9-E1163793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FC540-132A-47F0-B10F-F4BCDAE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488FD-8D91-4B2B-9426-E18BF2F4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65DD-A4B2-415A-9BD8-5789EA9C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F78E7-14ED-4ABC-B0FE-73828503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2B802-1A57-4EC6-9CEC-1FA16E0A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5CC1C-CBC4-4875-BB8C-5B97C7A2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7140D-9067-4EAC-BA0F-947D894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3B86-0096-45CB-8CCB-46E78B61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D26-6071-4DDF-BDC3-FF99CE1A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B50E-332A-49E7-B588-10AD0056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B70A1-E894-4975-93DF-0DFBD33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470D8-B6A1-4FB7-940B-01896B0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9BC53-99DB-4BBB-A71D-CFF694D4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78C44-C201-42A9-948A-50640D1F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36D04-FA25-4529-9394-EDD827E8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3C51B-6A15-479D-A370-83AF8040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E1D1D-9DC4-4CF4-B5DE-A3276093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C11EA-1265-40E9-B8AB-294EAC24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95C64-CA7D-4471-AA93-46694F51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E8C8-B1A9-4DA5-83D2-D8128062E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0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CB6-376E-4F4D-B91F-32CA2C0FC2B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4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C211-00C6-47BD-B76C-7FC9A395885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241-98BC-45F6-9AED-3478E7817CF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D717-97A4-4C4E-A933-9583B237942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E098-7751-4AE2-AFD6-7372EF7349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4076-EAEB-49D4-A440-D85F702F4C4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00B-4BAE-46D6-9615-5C0ED49FD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C4EF-7C0E-4DCB-8786-425E5E0769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B93-4244-4599-81F9-2FE8410D6C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3A9-CC3B-479D-A382-E4AEC19988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0EE2-C4C3-40CC-9DFC-9B254E7AFE7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6295-5963-473E-A67F-64FCD268F9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ям…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. Первая оценка и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66cc"/>
                </a:solidFill>
                <a:latin typeface="Arial"/>
              </a:rPr>
              <a:t>Измени свое мнение о вещах, которые тебя огорчают, и ты будешь в полной безопасности от них 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Глобус"/>
          <p:cNvPicPr/>
          <p:nvPr/>
        </p:nvPicPr>
        <p:blipFill>
          <a:blip r:embed="rId1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Карандаш"/>
          <p:cNvPicPr/>
          <p:nvPr/>
        </p:nvPicPr>
        <p:blipFill>
          <a:blip r:embed="rId2"/>
          <a:stretch/>
        </p:blipFill>
        <p:spPr>
          <a:xfrm>
            <a:off x="7257960" y="4419720"/>
            <a:ext cx="2237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638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645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653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667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672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9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Оксана Гуркина</cp:lastModifiedBy>
  <dcterms:modified xsi:type="dcterms:W3CDTF">2018-11-12T15:18:13Z</dcterms:modified>
  <cp:revision>91</cp:revision>
  <dc:subject/>
  <dc:title>PowerPoint Template</dc:title>
</cp:coreProperties>
</file>