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3DA-D123-437A-AFD9-4C87A220B3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ленное сдобное тесто раскатывают в виде продолговатой лепешки и нарезают на узкие полоски с одной стороны. Смазывают растопленным сливочным маслом, посыпают сахаром и корицей. Каждую полоску тестовой заготовки винтообразно скручивают и одной рукой приподнимают за край, из которого начинаются полоски. Второй рукой берут концы полосок и завязывают в уз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975B-DD25-46DD-9BA3-F08299722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FE3-0009-406B-A5F2-3B3FD4D4DB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171-ED38-4BAE-B646-D6D639BA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376-B681-4097-BF52-369AFD78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8B430-BE70-4905-A37D-7D3F305A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62097-352D-4AEF-A458-EF728BD0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6E066-B53D-43D0-B9B6-476A5FC8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56BA2-772E-4202-881D-0B00CD3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7043A-666A-4B65-BC11-7B703B2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84AFF-4DE0-400F-9322-97E064D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EAB81-70A6-453A-AD35-19B23BFA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0B84E-4F0F-41C7-A720-19E2E637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74952-D360-48FB-8D96-9E777A02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1B4-E017-4433-897A-0DDF84C1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171-593C-47BE-9AD9-266DC3F4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2DE-F0BD-42AA-B7E3-8EE76DD1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A02-A7DE-47BA-94BD-BBA6C19A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515A-C8A9-4061-A528-F5DEBD8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AE7B-9F5A-455E-8496-5A071A20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D3B9-1C97-4D88-A601-89BFC7C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80F-0957-41C0-A960-FF39D18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D90D-26E5-4578-8533-8C1FB2C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5AB-90ED-4131-89AC-CAE84408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60C8-7F83-4568-97DD-ABD95DD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D34-AC75-4523-A5F4-4D5CDD8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9A5A-6530-4C34-A5C8-537FC1B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61E6-2273-4F49-8F1E-F821112E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EB33-7EA5-4A50-8382-7F84C261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1E03-8416-4DCD-9F5F-A30BB8B2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B897-DEED-4868-9128-7CDB012D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D4B8-66A8-4567-8735-5165DC21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2D37-74CC-475D-AF92-D760EBCB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C8D4-0311-4051-9ACE-A81B9BD7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58D-9586-4915-914E-3134DB5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AC00-ADEE-4DE3-ABDD-8D9D2C7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6071-EF6A-48A6-9B6B-285A121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3C8B-D597-4D77-88BF-F916C49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3E1B-CCE6-4B5D-A193-3C1A902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E041-5609-4FAE-8661-F7595E0A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568F-5232-4E05-A727-4A87FDE1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F721-B140-43BD-9881-AC93A886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9CE7-5464-40F3-9A6A-96F14FB6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8E03-CE28-4F20-89D7-5DAA7EE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5860-7789-4112-9CBC-1B354EA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0FE-6206-4803-84C6-65162D04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2402-1EFF-4696-A2A9-49B273D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23B4-CF1B-4067-8175-ED17BF5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C70E-9E7C-46C9-981C-51100AB3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2FB3-228E-49E8-8033-899F8BE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151D-E38D-4087-A6AC-33CB513A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165E-9C2B-4DF4-A516-4DDCA4B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063A-A16A-4E44-9701-8EA52079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2089-322F-422E-A540-8116BA8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D789-F3A5-4260-ACBC-5EE9EF06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3E8E-720C-4115-92DF-624728DF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99C-1C20-425D-B48B-69CC7244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3FA1-0782-40B7-A529-573FE69B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1667-51AA-4507-8212-3B3406F7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F732-3F4E-452E-8B98-470C1A80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7377-0066-47D9-AC16-523E1E1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9C28-CB4F-461E-AFD9-AB496FDA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0D60-149D-4740-B741-6A133F6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2BC7-9F01-444F-BE90-C39A8A2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2458-748D-4CA4-90EF-7276C00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B411-D233-46C2-8B44-5795C034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0F12-1CD0-42E4-AB1B-9FF46262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A48-5233-4EAE-A654-7B05D2CD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6C97-218F-46BF-ACE3-8D67BFBB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12F7-B9F1-480A-AA33-5A3BD6A5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C8CB-5448-4691-AF75-253AE7FF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B765B-CFB2-4A09-86E5-61505704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1AC6-8997-4C27-AE10-6C3E5344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E706-E761-4777-BF9F-A2309A9A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F6F56-021B-4907-8A9D-D08D2A5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0D50-A0D5-4AB8-9765-F7E9506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7FF0C-E111-456D-BBF7-AD01DBE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4D1A4-15BE-4FBA-892D-B73967D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AB8-E936-498A-B00A-0119D6F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0071-04FA-439D-BA47-482985C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CA3F-E0AD-42E7-814E-CCDE45B8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5A71-7E66-4D28-B204-6F8C7387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B114-88F4-4506-B9BC-78ADD728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7E01-A540-487E-B704-7361E9A4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79611-D02B-45DB-9697-8FE4F6F9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FB9A-354E-4161-BC4B-0652C76A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7672-AC05-4009-B123-222A0907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5B3D-5D2E-498F-BA77-C7BF8AFA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AD215-67F0-4FAA-9924-ABC15FE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96F-9452-44AC-94D4-24145D9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9C8C-6BB5-4CAA-8BE7-DC80ED2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5A32-A370-4046-8D25-48AB394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AB22-C2A5-49DE-9633-5F3230C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7821-F6BB-4754-B6DE-98F67E51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14920-82D0-4672-8F1E-8E346031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3015E-54A5-45A9-A421-D6FD6FDC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65C1A-D040-4984-AF7C-78420DF0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FE979-3814-4B83-B190-A020177A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BCA9-DB92-487A-BC5F-345E426C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DAE4-8947-4E16-A4DF-077E99A2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854-881E-4ADB-B5B0-ACA7A52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6373-9281-412B-A3E4-4E8B8911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6935-29ED-4648-93C2-AC3E118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056E-D81A-405D-847D-6F16F56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D4F4-4ABA-4351-9BF6-3A6DD96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1D8A-D5B1-463A-A805-1009A92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6038-E22E-4540-856A-CD0CB49F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6390-5FE4-450D-9940-CAE11D30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9CF00-B6AF-44A9-966E-4DED7D17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8FDF-0E9B-4E6B-8CFA-DCDB9A7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6CCDA-B891-49F0-A372-CF5F81BC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CF8-DA57-4FA0-8FAE-74764D5249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F76-6B1F-4578-A7CC-9E8D5ED7A6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E0F6-CBF6-4EA9-9482-DE6A1AC059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E91-2712-487C-AE44-BF2B6AA3AF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9B91-1C6E-4F19-82C5-0C9DA5ACC8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3911-8BEA-41B8-9EAF-0FFF22DDB5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D4AF-508B-431A-A98E-E3B69EBBBB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6DE9-18C2-4ADB-9E0E-4AEF7BFE7F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88A-9ADE-48D6-B7F3-4E5D1AF331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85720" y="2414520"/>
            <a:ext cx="773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3" descr="булочка с корицей и сахаром.jpg"/>
          <p:cNvPicPr/>
          <p:nvPr/>
        </p:nvPicPr>
        <p:blipFill>
          <a:blip r:embed="rId2"/>
          <a:stretch/>
        </p:blipFill>
        <p:spPr>
          <a:xfrm>
            <a:off x="3276720" y="1554120"/>
            <a:ext cx="274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18172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дготовленное сдобное тесто раскатывают в виде продолговатой лепешки и нарезают на узкие полоски с одной стороны. Смазывают растопленным сливочным маслом, посыпают сахаром и корицей. Каждую полоску тестовой заготовки винтообразно скручивают и одной рукой приподнимают за край, из которого начинаются полоски. Второй рукой берут концы полосок и завязывают в узе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3" descr="булочка с вареньем.jpg"/>
          <p:cNvPicPr/>
          <p:nvPr/>
        </p:nvPicPr>
        <p:blipFill>
          <a:blip r:embed="rId2"/>
          <a:stretch/>
        </p:blipFill>
        <p:spPr>
          <a:xfrm>
            <a:off x="2090880" y="1628640"/>
            <a:ext cx="49622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добное тесто раскатывают в пласт округло-овальной формы и по бокам, с трех сторон, делают надрезы, образуя в середине треугольник. Каждую полоску перекручивают и укладывают вдоль края треугольника, образуя треугольную тестовую заготовку. После расстойки в середину выкладывают густое варен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3" descr="булочка с джемом.jpg"/>
          <p:cNvPicPr/>
          <p:nvPr/>
        </p:nvPicPr>
        <p:blipFill>
          <a:blip r:embed="rId2"/>
          <a:stretch/>
        </p:blipFill>
        <p:spPr>
          <a:xfrm>
            <a:off x="1790640" y="19130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добное тесто раскатывают в пласт округло-овальной формы и вырезают середину. Разъединяют две детали и тестовое кольцо сворачивают в виде восьмерк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ерхнюю часть восьмерки приподнимают и укладывают на нижнюю часть таким образом, чтобы получилось спиралеобразное кольцо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вернутое кольцо из восьмерки помещают на ранее вырезанный тестовый кружок. После расстойки и подготовки к выпечки середину заполняют джемом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3" descr="булочка с сахаром.jpg"/>
          <p:cNvPicPr/>
          <p:nvPr/>
        </p:nvPicPr>
        <p:blipFill>
          <a:blip r:embed="rId2"/>
          <a:stretch/>
        </p:blipFill>
        <p:spPr>
          <a:xfrm>
            <a:off x="1763640" y="1413000"/>
            <a:ext cx="55134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добное тесто раскатывают в пласт округло-овальной формы, смазывают растопленным сливочным (или растительным) маслом, посыпают сахарным песком, а затем свертывают в рулет таким образом, чтобы край рулета остался сверху. Края соединяют в середине и перевертывают швом вниз. С двух сторон по месту сгиба делают ножом разрезы почти до середины свернутого рулета. Расправляют спиралью вверх в разные стороны – получается «бабочка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5:33:59Z</dcterms:created>
  <dc:creator>User</dc:creator>
  <dc:description/>
  <dc:language>en-US</dc:language>
  <cp:lastModifiedBy>Office</cp:lastModifiedBy>
  <dcterms:modified xsi:type="dcterms:W3CDTF">2018-11-09T12:07:33Z</dcterms:modified>
  <cp:revision>10</cp:revision>
  <dc:subject/>
  <dc:title>Ассортимент булочек</dc:title>
</cp:coreProperties>
</file>