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jpeg" ContentType="image/jpeg"/>
  <Override PartName="/ppt/media/image5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4F7C7-3EE4-4A19-967F-DF6DFC2BACD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ленное сдобное тесто раскатывают в виде продолговатой лепешки и нарезают на узкие полоски с одной стороны. Смазывают растопленным сливочным маслом, посыпают сахаром и корицей. Каждую полоску тестовой заготовки винтообразно скручивают и одной рукой приподнимают за край, из которого начинаются полоски. Второй рукой берут концы полосок и завязывают в узе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48C1F-E885-4F82-9179-264F0770605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DE439-2B65-4E3D-A2ED-546CCDC359D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B0EE-45E3-4218-99D6-2B78DD424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701A-8A61-4DB5-B476-29E62E8D4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80FD42-53EA-42E7-814E-4D12E46A6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26FD09-60AC-4E86-B1A4-0BD674AE7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CBC9B7-5CB7-418C-9FD9-C33903286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3D0F62-6F5F-42E7-B1D2-F07194FF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F07D0D-DA16-428C-828C-440705723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648AEB-AEF4-4DAB-BE8F-9A8E75EC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691DFA-96B7-4F3D-A9D3-2B7F48B05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C0AAB2-A41A-4728-A040-FA060031D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5A0526-CCF9-4E15-9E1C-0BC1FCC41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E27B-C182-4086-9F78-0B0683AA8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5AB9-50E0-47D0-B412-BD86058CE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21A28-EF1E-4455-B261-8650DD570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90C16-044F-48B0-887C-526629331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C19C0-09F9-4543-A001-09E347287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3346D-A83D-44E0-883D-A37813F98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790B0-72A6-4A04-90E9-47BE0D179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DFE3D-B6DA-453D-985A-D41164A39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2416E-89F5-4F7E-A23C-705D1236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4040-D143-4612-AD4C-7C1BC7EDC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F8011-1010-44A9-903E-1D6780C3C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AB4F6-44CD-4CF2-A07C-418D09165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8DBA7-1043-4272-AEE5-C92FA5602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C44C0-C897-4C8A-9047-FAE2738C5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19076-4E2F-4220-B2CE-44E1EE6B3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4FECE-AE99-47A4-967D-FA3C60955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B2887-D815-4D11-9902-ECFA3C741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EB28E-C8E7-4AB7-BAC5-7E1071388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79A97-7E42-4255-95B6-2BDC604BA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C5E2A-58FA-4F54-A36D-793888B01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568F-5063-43A8-9835-FCF3DBBEA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E8964-C7D1-4051-B888-BC801112A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CF01E-F175-49E5-8160-E1E60697D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73845-3460-4B3E-B239-916D344F7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884F9-F265-447E-9CCB-4D7AB708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EDD8D-D869-4972-8544-0A582A308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DD64C-0EC2-4C54-849E-245EB7BFE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2D504-FA5A-48DE-B4D2-B93CCD9C5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A0E5F-420A-4E4B-BC00-39DA2EB00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B3D33-E8C6-464A-B5CA-B5185900E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D9338-76B2-474E-8C5A-1347CEC99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7954-7B55-47D5-B595-B8D6644FA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13ECE-7582-41A9-9EA1-AD932E955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4ADDF-385B-4489-896C-3A8B9233C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94098-C31D-4B4D-9AB3-0107ECA18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44F94-6E68-4DEA-84E4-6DB3314D9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FEC9B-E6C2-4F18-97CF-A9480AD7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A3090-3FFA-4D4D-8D12-30D5E8EDE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CF8BD-3730-44DE-B8C2-7020A09CE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A4D71-C42A-4C8F-A2A2-F9A43D6BA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D812C-6B9C-436C-B0C8-26BBC7175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10D941-7159-4526-9785-63E38E129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3B2B-DFD5-4504-927A-0097B8D25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14D61A-4F80-46F9-9083-A3B2F630C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BC3D1D-A5BB-4CC8-AE82-3366FF6BC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4D8F2-8737-4861-92D2-0526904EC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9F973-BA75-493A-B5BE-15118D1F8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C05773-E8C9-4CD1-876F-BF050C24B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DBAD9-DC47-4697-BFC4-1A1A469D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EFA260-60E0-43FF-B7FB-FA73A9DE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FD39D1-6811-4143-B7F3-B76E0847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FFD990-D722-4755-9EF5-3C6CC7A7F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F9896-6778-434C-9787-5E8ACEC6A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FAEA-424C-4497-A1A3-8D316FF25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D03C0-066A-475E-AF83-4E7955CCB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93BEFE-2781-4EA7-A75D-0C1B3E5E6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7A75E8-3528-4BE6-9467-B8F4334FB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C261DB-8D01-49B2-9814-D4629F15A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DE1E3B-73DF-4485-81C4-6B7774278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C954ED-1152-43F4-BED1-23ADBE907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563B5E-8012-4340-8FB4-06165F688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519951-FA20-472A-B704-8B47F868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45EC07-5A8F-42F0-B9B1-090182DD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CA3827-440F-41AB-A714-E033ABE07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E2D9-45EE-4CEE-8221-A667171D1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402BF1-F209-4AA2-908D-F699AC050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9486D4-889D-4411-A484-8E3D0C3E4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EE4310-6C60-44D0-8683-466AC63D6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CAE4A7-59C5-4D0F-AF2F-DC0197059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B3FDBC-1D12-412B-960D-45AD31856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9C089D-3B05-47BF-9CBD-36290E493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321DED-9953-4250-AD96-E31B49694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3D16B0-B798-4583-8AEE-21B25828A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C3D1FC-5482-454D-819A-BF06C7CD5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5A03F9-2EFF-4732-B279-A075763DD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06A4-4148-42ED-B436-F5B852372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D4CDF2-0BFC-4716-8CB7-F37ACB96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D40585-05A1-4C47-8046-85368E5EE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BC03DB-E24E-41B4-B03B-8CFD4AF68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C38E04-CF3F-4FB1-B1D5-89E8AFBF0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FE508F-6EB6-47F1-9FF4-5252ED63F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E749F9-4432-4A2B-A67B-7034E3FFB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3944F4-8403-4FC7-AF1D-2B80BA069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44F39A-A1DA-4D26-811B-9E0934159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6ED6EE-5450-43EE-989A-AE24457F3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2E591E-BEA4-49B5-AB89-BCED33063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C9B0-EEEE-438D-B87A-70DCB32A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3F4917-24AF-4F09-859A-9B8FF03E9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7B2AD3-2AB9-4C60-81E2-BA4E70C2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FF2C43-8298-4784-BC3A-82A53A49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5426FB-D2CD-40F9-8488-29F1FBED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104776-D983-486E-938E-6368F2CCA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3522E5-272B-47B0-833C-B21D774FB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8FB88F-8400-4286-9209-E0B344A15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34460A-EF69-4403-8CB9-58A954B50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8A2E82-6529-4088-9A71-7FBDE0D7B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215DC0-3A42-429C-8F28-3C99F2727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02B2C-FD2B-47E7-8D62-2BAE1454809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34C85-4A4E-4080-A41D-78BFFE3643D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8B47C-786A-4997-9EEF-3613506FEEA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90C45-0C70-48D0-8C64-E468CF30BF5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0E3A1-A0DF-4895-ABF9-D2F86D29A55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D5268-7445-4DDB-8699-2F272C48264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2483D-7405-4E4B-98EB-6143E2FA8A6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E55A0-BB5A-47E1-B32F-128C034FC26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08D5B-3F06-49FF-B686-34B8F73D71F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585720" y="2414520"/>
            <a:ext cx="7736040" cy="13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08" name="Содержимое 3" descr="булочка с корицей и сахаром.jpg"/>
          <p:cNvPicPr/>
          <p:nvPr/>
        </p:nvPicPr>
        <p:blipFill>
          <a:blip r:embed="rId2"/>
          <a:stretch/>
        </p:blipFill>
        <p:spPr>
          <a:xfrm>
            <a:off x="3276720" y="1554120"/>
            <a:ext cx="2743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285840" y="152280"/>
            <a:ext cx="8181720" cy="10000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Подготовленное сдобное тесто раскатывают в виде продолговатой лепешки и нарезают на узкие полоски с одной стороны. Смазывают растопленным сливочным маслом, посыпают сахаром и корицей. Каждую полоску тестовой заготовки винтообразно скручивают и одной рукой приподнимают за край, из которого начинаются полоски. Второй рукой берут концы полосок и завязывают в узел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12" name="Содержимое 3" descr="булочка с вареньем.jpg"/>
          <p:cNvPicPr/>
          <p:nvPr/>
        </p:nvPicPr>
        <p:blipFill>
          <a:blip r:embed="rId2"/>
          <a:stretch/>
        </p:blipFill>
        <p:spPr>
          <a:xfrm>
            <a:off x="2090880" y="1628640"/>
            <a:ext cx="496224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добное тесто раскатывают в пласт округло-овальной формы и по бокам, с трех сторон, делают надрезы, образуя в середине треугольник. Каждую полоску перекручивают и укладывают вдоль края треугольника, образуя треугольную тестовую заготовку. После расстойки в середину выкладывают густое варенье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16" name="Содержимое 3" descr="булочка с джемом.jpg"/>
          <p:cNvPicPr/>
          <p:nvPr/>
        </p:nvPicPr>
        <p:blipFill>
          <a:blip r:embed="rId2"/>
          <a:stretch/>
        </p:blipFill>
        <p:spPr>
          <a:xfrm>
            <a:off x="1790640" y="1913040"/>
            <a:ext cx="5715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Сдобное тесто раскатывают в пласт округло-овальной формы и вырезают середину. Разъединяют две детали и тестовое кольцо сворачивают в виде восьмерки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Верхнюю часть восьмерки приподнимают и укладывают на нижнюю часть таким образом, чтобы получилось спиралеобразное кольцо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Свернутое кольцо из восьмерки помещают на ранее вырезанный тестовый кружок. После расстойки и подготовки к выпечки середину заполняют джемом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20" name="Содержимое 3" descr="булочка с сахаром.jpg"/>
          <p:cNvPicPr/>
          <p:nvPr/>
        </p:nvPicPr>
        <p:blipFill>
          <a:blip r:embed="rId2"/>
          <a:stretch/>
        </p:blipFill>
        <p:spPr>
          <a:xfrm>
            <a:off x="1763640" y="1413000"/>
            <a:ext cx="5513400" cy="45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Сдобное тесто раскатывают в пласт округло-овальной формы, смазывают растопленным сливочным (или растительным) маслом, посыпают сахарным песком, а затем свертывают в рулет таким образом, чтобы край рулета остался сверху. Края соединяют в середине и перевертывают швом вниз. С двух сторон по месту сгиба делают ножом разрезы почти до середины свернутого рулета. Расправляют спиралью вверх в разные стороны – получается «бабочка»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26T15:33:59Z</dcterms:created>
  <dc:creator>User</dc:creator>
  <dc:description/>
  <dc:language>en-US</dc:language>
  <cp:lastModifiedBy>Office</cp:lastModifiedBy>
  <dcterms:modified xsi:type="dcterms:W3CDTF">2018-11-09T12:07:33Z</dcterms:modified>
  <cp:revision>10</cp:revision>
  <dc:subject/>
  <dc:title>Ассортимент булочек</dc:title>
</cp:coreProperties>
</file>