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E04-99EF-46C4-98A8-EFB365DC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604-0D66-4293-80C8-78C831D0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2F9-BFC3-471C-8721-D37A6F6C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A7C-7E1A-43FB-8174-119A081E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2B85-0541-4DF0-B767-1FDE420D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518B-5DC2-4216-A969-9AC9A3B1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6FA3-FA22-4861-A07F-C9C418F2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B06C-821C-4A9A-B19E-2381B858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E0B6-EB12-4849-A7EF-EFB0694F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EBCB-4B99-4DB2-8585-A69135C5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B970-AC80-4EC0-95B9-65847BAB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D6D-B1D8-433E-BEF6-27ADA50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0B28-1BC6-4D90-8BB0-ED78DD6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EA13-5306-48E9-9BD5-D1457FC0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EB22-E296-4333-9C59-8E594F2E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EE10-8400-428C-856B-7199E047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04A4-1FE7-48B5-8E3E-214A0D73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09BB-C0C2-42D9-9ED2-214B22BF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E7CC9-61B2-409C-9944-ECE7795E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412B-3AE8-4813-A6CC-E2BDA8ED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CEA6-7B1C-43D4-AE04-3955C0BF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BFBC5-211D-43C1-BF78-D679309E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195-4730-470A-995E-6B876443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A3603-214D-4A76-893C-26C58E38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C620-BF77-4E73-85B4-A3535017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93C7-4EF7-4623-858C-D1923FDF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4F96-54CD-442A-A66E-D59EE4A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5290-44F9-453E-9D03-DF3EA472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81A0-8C8F-4EFE-A649-0CD55D2A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9E865-B5C2-455F-B45F-B3608B2C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770F7-F8F5-4219-B3A2-F89003A9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B5A18-EC80-47E0-9DA0-3202F073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6B66B-68FF-47BB-9D7F-2E0FDF3D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FA5-DC4C-45C5-BC5C-B47BF6BC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2427-BDEC-47C2-B668-59085D8E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A3C7C-EEE2-46B9-9FCA-466D0244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8FE7F-512E-45FC-BD60-BD4B5B6E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2310E-AB28-4086-BD49-56E878ED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C58F9-FECA-4494-AF99-687AB48D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D5799-B34D-4EFC-959B-E2751F83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726C-03A5-4873-AF69-EFA2B6D6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5D675-2711-4609-ACD7-8A6361A4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4B946-3B66-4AD2-9F81-BA62E691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9E41A-C09C-4F12-A833-DDD4ECF9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0E4-D119-4251-9070-094E522B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AC360-7518-49AD-8723-14A0E505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79A2-DE57-4ED4-AAE8-A31B8CD0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6762B-B32B-4E83-9731-66136462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2A5BE-55BC-4E6D-A537-7AB76E34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5DD66-9E36-4BAF-AAFD-90C0714C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05613-883A-4DFB-89B8-653F696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0ED3A-A340-42FA-8531-6FB27189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4AE0F-4B94-4C7C-B653-4FC06D64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427B4-B204-4284-A3DE-8A1AD7FE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B810-50EE-4FD8-837D-A263C461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1D9-BB7A-4185-B813-D57E3895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D5FEC-6EB4-4706-B34B-1BF1C4EF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9D1BA-5C9A-47EA-A1B3-AFC63F9E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AFF4F-F6A0-4617-BC8E-8D0F41F0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78767-1910-4120-9CDC-A6E558C4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2688C-300B-40C0-9931-70A83576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B760B-4A64-4269-8080-A5895B66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57411-C104-4587-B7B1-D056FDCF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E844C-B633-4309-8877-658FB3CA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42A72-A320-4AB2-876B-36C55E46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7567E-175F-4FB0-B250-F07B1B4A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E48-B144-44C4-9DA4-264E257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66CE0-84C8-4134-811B-7DDF44D0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8E419-95F5-4992-AEC1-DCFA41AE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2DB2C-C0C2-4AE4-B642-13C3B1E0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2524E-0193-448C-83DE-0A43CC61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C5639-5CFB-4846-BF8C-AD2EDFBE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036BA-E4F6-4B45-8578-07BA9628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6F019-3F14-40A6-8050-7F3E2315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44971-3849-4202-A7A6-39DA1160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94B67-C288-48B4-8F24-B7BCBDD5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4B0B7-9764-4955-A0AE-27FF8463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030-35CF-43E8-87EE-0618A8D8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E959F-710A-4E92-8873-4297A66D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47642-BC37-4D84-BB81-517E90C6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9FB05-9ADB-4549-8EAA-F20DC45F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A38C5-259E-4910-99A0-02B48317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F0EE1-8386-4F83-9ABA-94DE8534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3A9-A623-47AE-B3B8-02C0CF1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0ff"/>
            </a:gs>
            <a:gs pos="100000">
              <a:srgbClr val="007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00">
                  <a:alpha val="1176"/>
                </a:srgbClr>
              </a:gs>
              <a:gs pos="100000">
                <a:srgbClr val="ffff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7c1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a2c7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A3F6-13F6-43E6-BE5A-82922FA84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0ff"/>
            </a:gs>
            <a:gs pos="100000">
              <a:srgbClr val="007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00">
                  <a:alpha val="1176"/>
                </a:srgbClr>
              </a:gs>
              <a:gs pos="100000">
                <a:srgbClr val="ffff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7c1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a2c7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d79a1"/>
              </a:gs>
              <a:gs pos="100000">
                <a:srgbClr val="b9de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4259-2ED4-406F-843E-33F12822E9A0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0ff"/>
            </a:gs>
            <a:gs pos="100000">
              <a:srgbClr val="007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00">
                  <a:alpha val="1176"/>
                </a:srgbClr>
              </a:gs>
              <a:gs pos="100000">
                <a:srgbClr val="ffff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7c1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a2c7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A743-6106-44C7-B0FB-8C178A5AF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93db"/>
            </a:gs>
            <a:gs pos="100000">
              <a:srgbClr val="6c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00">
                  <a:alpha val="1176"/>
                </a:srgbClr>
              </a:gs>
              <a:gs pos="100000">
                <a:srgbClr val="ffff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d79a1"/>
              </a:gs>
              <a:gs pos="100000">
                <a:srgbClr val="b9de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a2c7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97c1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E31B-A9DF-4D92-9AEF-7B999D995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0ff"/>
            </a:gs>
            <a:gs pos="100000">
              <a:srgbClr val="007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1ECC-400C-42B0-B994-412E3A3C4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0ff"/>
            </a:gs>
            <a:gs pos="100000">
              <a:srgbClr val="007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4D74-7132-4ED4-A97C-E8C1304B847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93db"/>
            </a:gs>
            <a:gs pos="100000">
              <a:srgbClr val="6cc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d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7da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7d5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b7d5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b7d5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ce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4b98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b98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4b98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b98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27AB-7288-40F4-9AB9-A0750A1639E9}" type="slidenum">
              <a:rPr b="0" lang="ru-RU" sz="900" spc="-1" strike="noStrike">
                <a:solidFill>
                  <a:srgbClr val="4b98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4"/>
          <p:cNvSpPr/>
          <p:nvPr/>
        </p:nvSpPr>
        <p:spPr>
          <a:xfrm>
            <a:off x="684360" y="765000"/>
            <a:ext cx="82087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иснейленд в Париже состоит из пяти частей, так называемых «стран»:</a:t>
            </a:r>
            <a:endParaRPr b="0" lang="en-US" sz="32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Main Street U.S.A.(Главная улица США)</a:t>
            </a:r>
            <a:endParaRPr b="0" lang="en-US" sz="32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Frontierland(Приграничная страна)</a:t>
            </a:r>
            <a:endParaRPr b="0" lang="en-US" sz="32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Adventureland(Страна открыиий</a:t>
            </a:r>
            <a:endParaRPr b="0" lang="en-US" sz="32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Fantasyland (Страна фантазий)</a:t>
            </a:r>
            <a:endParaRPr b="0" lang="en-US" sz="32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Discoveryland(Страна открытий)</a:t>
            </a:r>
            <a:endParaRPr b="0" lang="en-US" sz="3200" spc="-1" strike="noStrike">
              <a:solidFill>
                <a:srgbClr val="4b98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"/>
          <p:cNvSpPr/>
          <p:nvPr/>
        </p:nvSpPr>
        <p:spPr>
          <a:xfrm>
            <a:off x="785880" y="35712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4b98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0" y="1500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.На сколько частей делится Диснейленд?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2428920" y="20718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2d050"/>
                </a:solidFill>
                <a:uFillTx/>
                <a:latin typeface="Arial"/>
              </a:rPr>
              <a:t>На 5 частей.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0" y="28576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.В каком стиле исполнена приграничная страна?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30" name="TextBox 6"/>
          <p:cNvSpPr/>
          <p:nvPr/>
        </p:nvSpPr>
        <p:spPr>
          <a:xfrm>
            <a:off x="3286080" y="35719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2d050"/>
                </a:solidFill>
                <a:uFillTx/>
                <a:latin typeface="Arial"/>
              </a:rPr>
              <a:t>В стиле дикого запада</a:t>
            </a:r>
            <a:r>
              <a:rPr b="0" lang="ru-RU" sz="1800" spc="-1" strike="noStrike">
                <a:solidFill>
                  <a:srgbClr val="4b98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0" y="4071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3.По мотивам какого аттракциона сняли известный фильм про пиратов?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4714920" y="52862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2d050"/>
                </a:solidFill>
                <a:uFillTx/>
                <a:latin typeface="Arial"/>
              </a:rPr>
              <a:t>Пираты Карибского моря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0" y="35712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.Какая часть парка рассчитана на самых маленьких посетителей?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34" name="TextBox 2"/>
          <p:cNvSpPr/>
          <p:nvPr/>
        </p:nvSpPr>
        <p:spPr>
          <a:xfrm>
            <a:off x="3000240" y="12859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2d050"/>
                </a:solidFill>
                <a:uFillTx/>
                <a:latin typeface="Arial"/>
              </a:rPr>
              <a:t>Страна Фантазий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0" y="22147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5.Какая часть Диснейленда была создана в стиле будущего с точки зрения фантастов XIX века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5072040" y="3286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2d050"/>
                </a:solidFill>
                <a:uFillTx/>
                <a:latin typeface="Arial"/>
              </a:rPr>
              <a:t>Страна открытий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Eurodisneyland_old_vehicle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8"/>
          <p:cNvSpPr/>
          <p:nvPr/>
        </p:nvSpPr>
        <p:spPr>
          <a:xfrm>
            <a:off x="324000" y="40464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0" y="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ткрывает это великолепное созвездие «Главная улица  США» - выполненная в стиле американской улочки из небольшого городка начала двадцатого века. Здесь вы увидите огромное количество магазинчиков с сувенирами ко всем возможным проектам Диснея, несколько небольших фаст-фуд закусочных, пара ресторанов и кафе, даже можете посетить парикмахерскую, исполненную в стиле Америки того времени.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42920" y="160200"/>
            <a:ext cx="39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На Главной улице парка Диснейленд в Париже каждый день ровно в полдень и каждый вечер в десять проходят живописнейшие парады героев Диснея. По мостовой шествуют герои известных мультфильмов под самые известные саундтреки.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pic>
        <p:nvPicPr>
          <p:cNvPr id="306" name="Picture 6" descr="disney-37"/>
          <p:cNvPicPr/>
          <p:nvPr/>
        </p:nvPicPr>
        <p:blipFill>
          <a:blip r:embed="rId1"/>
          <a:stretch/>
        </p:blipFill>
        <p:spPr>
          <a:xfrm>
            <a:off x="429264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95280" y="54936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0" y="487440"/>
            <a:ext cx="442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Приграничная страна» исполнена в стиле Дикого запада и передает всем своим естеством его атмосферу. Основным аттракционом в этой части парка являются американские горки, которые выполнены в стиле большой горы, по который вы катитесь на маленькой машинке золотоискателей По озеру плавает теплоход в стиле «вестерн».Вторым самым известным аттракционом Дикого запада является «Дом с призраками». 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pic>
        <p:nvPicPr>
          <p:cNvPr id="309" name="Picture 4" descr="Thunder_wdw"/>
          <p:cNvPicPr/>
          <p:nvPr/>
        </p:nvPicPr>
        <p:blipFill>
          <a:blip r:embed="rId1"/>
          <a:stretch/>
        </p:blipFill>
        <p:spPr>
          <a:xfrm>
            <a:off x="4572000" y="3321000"/>
            <a:ext cx="4403880" cy="3297240"/>
          </a:xfrm>
          <a:prstGeom prst="rect">
            <a:avLst/>
          </a:prstGeom>
          <a:ln w="0">
            <a:noFill/>
          </a:ln>
        </p:spPr>
      </p:pic>
      <p:pic>
        <p:nvPicPr>
          <p:cNvPr id="310" name="topimg100_0" descr="disneyland-adventureland-1"/>
          <p:cNvPicPr/>
          <p:nvPr/>
        </p:nvPicPr>
        <p:blipFill>
          <a:blip r:embed="rId2"/>
          <a:stretch/>
        </p:blipFill>
        <p:spPr>
          <a:xfrm>
            <a:off x="4643280" y="0"/>
            <a:ext cx="437688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250920" y="142920"/>
            <a:ext cx="324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сновная тематика Страны приключений –пираты, но при этом сюда же попадают Индиана Джонс и Робинзон Крузо. Последний представляется в виде высокого дерева, на ветвях которого расположено его жилище. 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pic>
        <p:nvPicPr>
          <p:cNvPr id="312" name="Picture 6" descr="H:\информатика\Новая папка\Новая папка (2)\адвентур\disneyland_adventureland_10.jpg"/>
          <p:cNvPicPr/>
          <p:nvPr/>
        </p:nvPicPr>
        <p:blipFill>
          <a:blip r:embed="rId1"/>
          <a:stretch/>
        </p:blipFill>
        <p:spPr>
          <a:xfrm>
            <a:off x="4429080" y="3321000"/>
            <a:ext cx="4714920" cy="3537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H:\информатика\Новая папка\Новая папка (2)\адвентур\582270.jpg"/>
          <p:cNvPicPr/>
          <p:nvPr/>
        </p:nvPicPr>
        <p:blipFill>
          <a:blip r:embed="rId2"/>
          <a:stretch/>
        </p:blipFill>
        <p:spPr>
          <a:xfrm>
            <a:off x="4408560" y="142920"/>
            <a:ext cx="47354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7"/>
          <p:cNvSpPr/>
          <p:nvPr/>
        </p:nvSpPr>
        <p:spPr>
          <a:xfrm>
            <a:off x="5357880" y="571680"/>
            <a:ext cx="3571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иболее популярный аттракцион Страны приключений: « Пираты Карибского моря» . Этот аттракцион побудил медиаконцерн Walt Disney Studios к созданию известной кинотрилогии «Пираты Карибского моря»; некоторые сюжеты были позаимствованы у аттракциона. 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pic>
        <p:nvPicPr>
          <p:cNvPr id="315" name="Picture 8" descr="H:\информатика\Новая папка\Новая папка (2)\адвентур\0-0-disneyland_adventureland_05_resize.jpg"/>
          <p:cNvPicPr/>
          <p:nvPr/>
        </p:nvPicPr>
        <p:blipFill>
          <a:blip r:embed="rId1"/>
          <a:stretch/>
        </p:blipFill>
        <p:spPr>
          <a:xfrm>
            <a:off x="142920" y="857160"/>
            <a:ext cx="4643280" cy="4442040"/>
          </a:xfrm>
          <a:prstGeom prst="rect">
            <a:avLst/>
          </a:prstGeom>
          <a:ln w="0">
            <a:noFill/>
          </a:ln>
        </p:spPr>
      </p:pic>
      <p:sp>
        <p:nvSpPr>
          <p:cNvPr id="316" name="7-конечная звезда 10"/>
          <p:cNvSpPr/>
          <p:nvPr/>
        </p:nvSpPr>
        <p:spPr>
          <a:xfrm>
            <a:off x="8072280" y="5857920"/>
            <a:ext cx="785880" cy="714240"/>
          </a:xfrm>
          <a:custGeom>
            <a:avLst/>
            <a:gdLst/>
            <a:ahLst/>
            <a:rect l="l" t="t" r="r" b="b"/>
            <a:pathLst>
              <a:path w="785812" h="714375">
                <a:moveTo>
                  <a:pt x="-2" y="459419"/>
                </a:moveTo>
                <a:lnTo>
                  <a:pt x="121006" y="317929"/>
                </a:lnTo>
                <a:lnTo>
                  <a:pt x="77819" y="141491"/>
                </a:lnTo>
                <a:lnTo>
                  <a:pt x="271900" y="141492"/>
                </a:lnTo>
                <a:lnTo>
                  <a:pt x="392906" y="0"/>
                </a:lnTo>
                <a:lnTo>
                  <a:pt x="513912" y="141492"/>
                </a:lnTo>
                <a:lnTo>
                  <a:pt x="707993" y="141491"/>
                </a:lnTo>
                <a:lnTo>
                  <a:pt x="664806" y="317929"/>
                </a:lnTo>
                <a:lnTo>
                  <a:pt x="785814" y="459419"/>
                </a:lnTo>
                <a:lnTo>
                  <a:pt x="610952" y="537941"/>
                </a:lnTo>
                <a:lnTo>
                  <a:pt x="567765" y="714379"/>
                </a:lnTo>
                <a:lnTo>
                  <a:pt x="392906" y="635856"/>
                </a:lnTo>
                <a:lnTo>
                  <a:pt x="218047" y="714379"/>
                </a:lnTo>
                <a:lnTo>
                  <a:pt x="174860" y="537941"/>
                </a:lnTo>
                <a:lnTo>
                  <a:pt x="-2" y="459419"/>
                </a:lnTo>
                <a:close/>
              </a:path>
            </a:pathLst>
          </a:custGeom>
          <a:solidFill>
            <a:srgbClr val="b7d5ff"/>
          </a:solidFill>
          <a:ln w="25560">
            <a:solidFill>
              <a:srgbClr val="869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42148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рана фантазий рассчитана прежде всего на юных посетителей. Аттракционы представляют собой адаптированные сюжеты популярных сказок. Наиболее известен замок Спящей красавицы в центре парка. Под замком находится пещера дракона.</a:t>
            </a: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8ff"/>
              </a:solidFill>
              <a:latin typeface="Arial"/>
            </a:endParaRPr>
          </a:p>
        </p:txBody>
      </p:sp>
      <p:pic>
        <p:nvPicPr>
          <p:cNvPr id="318" name="Picture 5" descr="Labyrinthalice1"/>
          <p:cNvPicPr/>
          <p:nvPr/>
        </p:nvPicPr>
        <p:blipFill>
          <a:blip r:embed="rId1"/>
          <a:stretch/>
        </p:blipFill>
        <p:spPr>
          <a:xfrm>
            <a:off x="4570560" y="0"/>
            <a:ext cx="4363920" cy="3286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disneyland_fantasyland_18"/>
          <p:cNvPicPr/>
          <p:nvPr/>
        </p:nvPicPr>
        <p:blipFill>
          <a:blip r:embed="rId2"/>
          <a:stretch/>
        </p:blipFill>
        <p:spPr>
          <a:xfrm>
            <a:off x="4476600" y="3357720"/>
            <a:ext cx="466740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50920" y="404640"/>
            <a:ext cx="374976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 Стране открытий посетители имеют возможность увидеть выдуманное будущее Жюля Верна. Эта часть Диснейленда была создана в стиле будущего с точки зрения фантастов XIX века. В центре Страны открытий расположены американские горки Space Mountain. Напротив аттракциона существует шоу Легенда Короля-льва.</a:t>
            </a:r>
            <a:endParaRPr b="0" lang="en-US" sz="20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ругие аттракционы в Стране открытий: Симулятор полётов, карусель с ракетами и картинговая трасса с бензиновыми транспортными средствами.</a:t>
            </a:r>
            <a:endParaRPr b="0" lang="en-US" sz="2000" spc="-1" strike="noStrike">
              <a:solidFill>
                <a:srgbClr val="4b98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98ff"/>
              </a:solidFill>
              <a:latin typeface="Arial"/>
            </a:endParaRPr>
          </a:p>
        </p:txBody>
      </p:sp>
      <p:pic>
        <p:nvPicPr>
          <p:cNvPr id="321" name="Picture 5" descr="H:\информатика\Новая папка\Новая папка (2)\дис\imgе.php.jpeg"/>
          <p:cNvPicPr/>
          <p:nvPr/>
        </p:nvPicPr>
        <p:blipFill>
          <a:blip r:embed="rId1"/>
          <a:stretch/>
        </p:blipFill>
        <p:spPr>
          <a:xfrm>
            <a:off x="4286160" y="0"/>
            <a:ext cx="4857840" cy="3537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H:\информатика\Новая папка\Новая папка (2)\дис\3808456.jpg"/>
          <p:cNvPicPr/>
          <p:nvPr/>
        </p:nvPicPr>
        <p:blipFill>
          <a:blip r:embed="rId2"/>
          <a:stretch/>
        </p:blipFill>
        <p:spPr>
          <a:xfrm>
            <a:off x="4286160" y="3357720"/>
            <a:ext cx="485784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H:\информатика\Новая папка\Новая папка (2)\дис\DisneylandParis_photo.jpg"/>
          <p:cNvPicPr/>
          <p:nvPr/>
        </p:nvPicPr>
        <p:blipFill>
          <a:blip r:embed="rId1"/>
          <a:stretch/>
        </p:blipFill>
        <p:spPr>
          <a:xfrm>
            <a:off x="-142920" y="142920"/>
            <a:ext cx="8955000" cy="6715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H:\информатика\Новая папка\Новая папка (2)\дис\img.php.jpeg"/>
          <p:cNvPicPr/>
          <p:nvPr/>
        </p:nvPicPr>
        <p:blipFill>
          <a:blip r:embed="rId2"/>
          <a:stretch/>
        </p:blipFill>
        <p:spPr>
          <a:xfrm>
            <a:off x="-351000" y="0"/>
            <a:ext cx="9495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7-конечная звезда 5"/>
          <p:cNvSpPr/>
          <p:nvPr/>
        </p:nvSpPr>
        <p:spPr>
          <a:xfrm>
            <a:off x="8072280" y="5857920"/>
            <a:ext cx="785880" cy="714240"/>
          </a:xfrm>
          <a:custGeom>
            <a:avLst/>
            <a:gdLst/>
            <a:ahLst/>
            <a:rect l="l" t="t" r="r" b="b"/>
            <a:pathLst>
              <a:path w="785812" h="714375">
                <a:moveTo>
                  <a:pt x="-2" y="459419"/>
                </a:moveTo>
                <a:lnTo>
                  <a:pt x="121006" y="317929"/>
                </a:lnTo>
                <a:lnTo>
                  <a:pt x="77819" y="141491"/>
                </a:lnTo>
                <a:lnTo>
                  <a:pt x="271900" y="141492"/>
                </a:lnTo>
                <a:lnTo>
                  <a:pt x="392906" y="0"/>
                </a:lnTo>
                <a:lnTo>
                  <a:pt x="513912" y="141492"/>
                </a:lnTo>
                <a:lnTo>
                  <a:pt x="707993" y="141491"/>
                </a:lnTo>
                <a:lnTo>
                  <a:pt x="664806" y="317929"/>
                </a:lnTo>
                <a:lnTo>
                  <a:pt x="785814" y="459419"/>
                </a:lnTo>
                <a:lnTo>
                  <a:pt x="610952" y="537941"/>
                </a:lnTo>
                <a:lnTo>
                  <a:pt x="567765" y="714379"/>
                </a:lnTo>
                <a:lnTo>
                  <a:pt x="392906" y="635856"/>
                </a:lnTo>
                <a:lnTo>
                  <a:pt x="218047" y="714379"/>
                </a:lnTo>
                <a:lnTo>
                  <a:pt x="174860" y="537941"/>
                </a:lnTo>
                <a:lnTo>
                  <a:pt x="-2" y="459419"/>
                </a:lnTo>
                <a:close/>
              </a:path>
            </a:pathLst>
          </a:custGeom>
          <a:solidFill>
            <a:srgbClr val="b7d5ff"/>
          </a:solidFill>
          <a:ln w="25560">
            <a:solidFill>
              <a:srgbClr val="869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b98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4:34:40Z</dcterms:created>
  <dc:creator>Ученик</dc:creator>
  <dc:description/>
  <dc:language>en-US</dc:language>
  <cp:lastModifiedBy>Ayaz</cp:lastModifiedBy>
  <dcterms:modified xsi:type="dcterms:W3CDTF">2018-11-13T19:23:55Z</dcterms:modified>
  <cp:revision>34</cp:revision>
  <dc:subject/>
  <dc:title>Слайд 1</dc:title>
</cp:coreProperties>
</file>