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D40-6F22-4BE8-B8B4-3FE70CF9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810-A962-4EF4-A076-F78F6D5F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958-24C2-4138-BADD-8F95F76A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63E-AC44-4029-8D6B-97BC659C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F4E1-EF6B-410C-841C-9CD52540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186E-2DF5-4815-898A-A11DA3A5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2E71-2D79-4F25-B063-414F200E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8C33-E712-4C2F-8546-81982353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AA6F-C550-4E02-8959-8C949B81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0E00-9F17-49CA-8B2A-F462CF95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7C5B-B828-4FBD-8A89-78DF8D32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79D-1762-4BBD-BEE7-61D94A48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9875-2173-4433-94E3-0EA5676E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289D-63B2-45B8-BBFE-9E278F75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C7F4-278C-46AD-A8BE-A31A9978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BF8B-F57F-43D8-AF21-00F3A0A4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358E-3BCD-42E0-9029-3F7FF310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72907-1907-4988-950A-1A163CAE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BFB8F-F5C5-4137-9C46-FCFCB7AD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3D5A9-32ED-4724-B9AD-22AC1595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5606F-92D1-4A14-9799-2A068512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8DDC3-3345-4776-93D1-560FC2BE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4D1-26DE-4DA2-BD6D-A1ADD697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92D6C-A7C8-444C-A5BE-E2FA54A2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06B9C-45C6-4DFB-A36B-2CCE59A9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E48A-BFC6-4ED4-8035-4FA00DC5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7482C-87C9-4FDB-818A-E5ADCAB8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50515-A6C5-4080-8949-3B61B0AA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3E63-EE86-4B4A-9606-21F895A6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83717-5DDD-495C-B425-ABFF8E32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9DB69-C647-4DBA-977D-7D993A0E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A09F6-AC1F-4C47-BE67-A72ABDB0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A8068-BEDA-4DB4-BC47-B5DE672D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8BC-072E-43D8-A38A-86FFE240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1774E-A79B-4598-A758-59D0E57F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1FE0E-7C24-42CD-BCB6-F0E08A61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4DFEF-D0CA-4F56-BD2E-E60105B4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47DBB-A14D-46E9-82F5-76F8C1EC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24E6D-F890-40A9-94DD-85B8120B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6F9AD-D52C-48B8-A853-E38BC41A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EB8B6-C342-441A-8DBD-FE5DEA7D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95F3-4324-45C7-9296-07F24839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9F44F-D90F-47A0-991E-DEBD6DCC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B3741-9AAE-44B6-A13B-815C987D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A60-BB06-4957-98DF-7F3652E8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1453F-76FE-4DE1-8CA6-67F464EC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08CEC-F4B9-48B2-990A-B0E969AD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BFDF0-5D04-4776-A815-DE211F80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AE909-994B-4F53-90A3-BAF968D1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71ABE-2711-49DE-9F97-0A93A31D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53837-7C23-48C9-8FF3-D19210A6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92313-3231-4368-9F0A-382BF5AB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03812-D076-4226-9539-D0374519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395A3-9AD5-41AE-A9F5-AD4ED0A1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B4991-94C3-42E1-9A92-A6B65B5F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F79-DAB3-4415-92FE-9B27B49B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CF633-4A8F-4087-ACC7-A144C2C9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B4CDB-FF82-4BE5-8484-2A4B5A6B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2D75C-C34B-4442-8651-4DC6302C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CFEE9-0D34-46C0-8604-94F6C6BC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E607F-7E3B-49D5-BB07-55893417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B33AE-57D4-4372-AD74-A9DDCB92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CE3C3-54C3-4473-939E-F80D9BAE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3C211-AB86-4AEB-AD4F-83478EEC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C9BE0-0F29-49DF-BEE2-DF386E60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FD25D-30B7-46CD-AFAA-742990FD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D8E-BC02-4ADC-9D27-B50A470E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EA5D1-E56E-47EE-B511-DFA0552A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BBDBA-7D39-4CBB-9AF0-1331B721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DF1DB-3928-4C5E-8BA6-6B150218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689D6-854C-49B5-9030-65332019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1B243-614C-4655-AC68-31037D25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40E98-3687-4498-A5BF-E35CBCE8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0BA23-F256-4991-A708-EE0AB11D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3B52B-EE64-462A-8421-6985DD1F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97081-5294-4329-B77D-EC84B355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3F372-22D6-45E4-ADA3-6A297897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D0F-EAD9-4439-BE59-9434C52C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ACB3D-7CF2-46D1-AB6D-0E87B3CB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E16C9-A55C-4D4D-9AD8-E87838EC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A3CCC-E615-4556-8E93-B6AB967F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FA50B-84CB-4D74-851A-EAF41EE4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CDA65-7E13-49EB-8E84-BCC7C4C5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E07-E946-4D01-B2EC-A809FA90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0ff"/>
            </a:gs>
            <a:gs pos="100000">
              <a:srgbClr val="007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00">
                  <a:alpha val="1176"/>
                </a:srgbClr>
              </a:gs>
              <a:gs pos="100000">
                <a:srgbClr val="ffff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7c1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a2c7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d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7d5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b7d5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ce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DDA8-74F2-4BDE-AD58-D41BD5AF7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0ff"/>
            </a:gs>
            <a:gs pos="100000">
              <a:srgbClr val="007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00">
                  <a:alpha val="1176"/>
                </a:srgbClr>
              </a:gs>
              <a:gs pos="100000">
                <a:srgbClr val="ffff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7c1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a2c7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d79a1"/>
              </a:gs>
              <a:gs pos="100000">
                <a:srgbClr val="b9de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d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7d5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b7d5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ce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0C43-7B74-4697-8527-5A0C29A4EE0A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0ff"/>
            </a:gs>
            <a:gs pos="100000">
              <a:srgbClr val="007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00">
                  <a:alpha val="1176"/>
                </a:srgbClr>
              </a:gs>
              <a:gs pos="100000">
                <a:srgbClr val="ffff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7c1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a2c7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d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7d5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b7d5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ce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C579-DC84-4B48-A60F-DEF30F6D51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93db"/>
            </a:gs>
            <a:gs pos="100000">
              <a:srgbClr val="6c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00">
                  <a:alpha val="1176"/>
                </a:srgbClr>
              </a:gs>
              <a:gs pos="100000">
                <a:srgbClr val="ffff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d79a1"/>
              </a:gs>
              <a:gs pos="100000">
                <a:srgbClr val="b9de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a2c7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7c1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d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7d5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b7d5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ce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16D2-BBAA-4C28-B915-64D969FEF7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0ff"/>
            </a:gs>
            <a:gs pos="100000">
              <a:srgbClr val="007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d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7d5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b7d5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ce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F4B5-B8ED-4F9C-BF6F-86C0064AFE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0ff"/>
            </a:gs>
            <a:gs pos="100000">
              <a:srgbClr val="007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d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7d5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b7d5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ce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4267-F5BB-4AEB-947A-83B995D95120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93db"/>
            </a:gs>
            <a:gs pos="100000">
              <a:srgbClr val="6c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d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7d5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b7d5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ce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b98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2198-45DB-43EE-AF9C-83B5389AA4A9}" type="slidenum">
              <a:rPr b="0" lang="ru-RU" sz="900" spc="-1" strike="noStrike">
                <a:solidFill>
                  <a:srgbClr val="4b98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4"/>
          <p:cNvSpPr/>
          <p:nvPr/>
        </p:nvSpPr>
        <p:spPr>
          <a:xfrm>
            <a:off x="684360" y="765000"/>
            <a:ext cx="82087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иснейленд в Париже состоит из пяти частей, так называемых «стран»:</a:t>
            </a:r>
            <a:endParaRPr b="0" lang="en-US" sz="3200" spc="-1" strike="noStrike">
              <a:solidFill>
                <a:srgbClr val="4b98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Main Street U.S.A.(Главная улица США)</a:t>
            </a:r>
            <a:endParaRPr b="0" lang="en-US" sz="3200" spc="-1" strike="noStrike">
              <a:solidFill>
                <a:srgbClr val="4b98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Frontierland(Приграничная страна)</a:t>
            </a:r>
            <a:endParaRPr b="0" lang="en-US" sz="3200" spc="-1" strike="noStrike">
              <a:solidFill>
                <a:srgbClr val="4b98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Adventureland(Страна открыиий</a:t>
            </a:r>
            <a:endParaRPr b="0" lang="en-US" sz="3200" spc="-1" strike="noStrike">
              <a:solidFill>
                <a:srgbClr val="4b98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Fantasyland (Страна фантазий)</a:t>
            </a:r>
            <a:endParaRPr b="0" lang="en-US" sz="3200" spc="-1" strike="noStrike">
              <a:solidFill>
                <a:srgbClr val="4b98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Discoveryland(Страна открытий)</a:t>
            </a:r>
            <a:endParaRPr b="0" lang="en-US" sz="3200" spc="-1" strike="noStrike">
              <a:solidFill>
                <a:srgbClr val="4b98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1"/>
          <p:cNvSpPr/>
          <p:nvPr/>
        </p:nvSpPr>
        <p:spPr>
          <a:xfrm>
            <a:off x="785880" y="35712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опросы:</a:t>
            </a:r>
            <a:endParaRPr b="0" lang="en-US" sz="3600" spc="-1" strike="noStrike">
              <a:solidFill>
                <a:srgbClr val="4b98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27" name="TextBox 2"/>
          <p:cNvSpPr/>
          <p:nvPr/>
        </p:nvSpPr>
        <p:spPr>
          <a:xfrm>
            <a:off x="0" y="15001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.На сколько частей делится Диснейленд?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2428920" y="207180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2d050"/>
                </a:solidFill>
                <a:uFillTx/>
                <a:latin typeface="Arial"/>
              </a:rPr>
              <a:t>На 5 частей.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0" y="28576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2.В каком стиле исполнена приграничная страна?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30" name="TextBox 6"/>
          <p:cNvSpPr/>
          <p:nvPr/>
        </p:nvSpPr>
        <p:spPr>
          <a:xfrm>
            <a:off x="3286080" y="35719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2d050"/>
                </a:solidFill>
                <a:uFillTx/>
                <a:latin typeface="Arial"/>
              </a:rPr>
              <a:t>В стиле дикого запада</a:t>
            </a:r>
            <a:r>
              <a:rPr b="0" lang="ru-RU" sz="1800" spc="-1" strike="noStrike">
                <a:solidFill>
                  <a:srgbClr val="4b98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0" y="4071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3.По мотивам какого аттракциона сняли известный фильм про пиратов?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4714920" y="52862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2d050"/>
                </a:solidFill>
                <a:uFillTx/>
                <a:latin typeface="Arial"/>
              </a:rPr>
              <a:t>Пираты Карибского моря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1"/>
          <p:cNvSpPr/>
          <p:nvPr/>
        </p:nvSpPr>
        <p:spPr>
          <a:xfrm>
            <a:off x="0" y="35712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4.Какая часть парка рассчитана на самых маленьких посетителей?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34" name="TextBox 2"/>
          <p:cNvSpPr/>
          <p:nvPr/>
        </p:nvSpPr>
        <p:spPr>
          <a:xfrm>
            <a:off x="3000240" y="12859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2d050"/>
                </a:solidFill>
                <a:uFillTx/>
                <a:latin typeface="Arial"/>
              </a:rPr>
              <a:t>Страна Фантазий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0" y="22147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5.Какая часть Диснейленда была создана в стиле будущего с точки зрения фантастов XIX века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36" name="TextBox 5"/>
          <p:cNvSpPr/>
          <p:nvPr/>
        </p:nvSpPr>
        <p:spPr>
          <a:xfrm>
            <a:off x="5072040" y="3286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2d050"/>
                </a:solidFill>
                <a:uFillTx/>
                <a:latin typeface="Arial"/>
              </a:rPr>
              <a:t>Страна открытий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Eurodisneyland_old_vehicle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8"/>
          <p:cNvSpPr/>
          <p:nvPr/>
        </p:nvSpPr>
        <p:spPr>
          <a:xfrm>
            <a:off x="324000" y="40464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0" y="0"/>
            <a:ext cx="45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ткрывает это великолепное созвездие «Главная улица  США» - выполненная в стиле американской улочки из небольшого городка начала двадцатого века. Здесь вы увидите огромное количество магазинчиков с сувенирами ко всем возможным проектам Диснея, несколько небольших фаст-фуд закусочных, пара ресторанов и кафе, даже можете посетить парикмахерскую, исполненную в стиле Америки того времени.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42920" y="160200"/>
            <a:ext cx="39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На Главной улице парка Диснейленд в Париже каждый день ровно в полдень и каждый вечер в десять проходят живописнейшие парады героев Диснея. По мостовой шествуют герои известных мультфильмов под самые известные саундтреки.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pic>
        <p:nvPicPr>
          <p:cNvPr id="306" name="Picture 6" descr="disney-37"/>
          <p:cNvPicPr/>
          <p:nvPr/>
        </p:nvPicPr>
        <p:blipFill>
          <a:blip r:embed="rId1"/>
          <a:stretch/>
        </p:blipFill>
        <p:spPr>
          <a:xfrm>
            <a:off x="4292640" y="0"/>
            <a:ext cx="4851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395280" y="54936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0" y="487440"/>
            <a:ext cx="442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Приграничная страна» исполнена в стиле Дикого запада и передает всем своим естеством его атмосферу. Основным аттракционом в этой части парка являются американские горки, которые выполнены в стиле большой горы, по который вы катитесь на маленькой машинке золотоискателей По озеру плавает теплоход в стиле «вестерн».Вторым самым известным аттракционом Дикого запада является «Дом с призраками». 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pic>
        <p:nvPicPr>
          <p:cNvPr id="309" name="Picture 4" descr="Thunder_wdw"/>
          <p:cNvPicPr/>
          <p:nvPr/>
        </p:nvPicPr>
        <p:blipFill>
          <a:blip r:embed="rId1"/>
          <a:stretch/>
        </p:blipFill>
        <p:spPr>
          <a:xfrm>
            <a:off x="4572000" y="3321000"/>
            <a:ext cx="4403880" cy="3297240"/>
          </a:xfrm>
          <a:prstGeom prst="rect">
            <a:avLst/>
          </a:prstGeom>
          <a:ln w="0">
            <a:noFill/>
          </a:ln>
        </p:spPr>
      </p:pic>
      <p:pic>
        <p:nvPicPr>
          <p:cNvPr id="310" name="topimg100_0" descr="disneyland-adventureland-1"/>
          <p:cNvPicPr/>
          <p:nvPr/>
        </p:nvPicPr>
        <p:blipFill>
          <a:blip r:embed="rId2"/>
          <a:stretch/>
        </p:blipFill>
        <p:spPr>
          <a:xfrm>
            <a:off x="4643280" y="0"/>
            <a:ext cx="4376880" cy="3162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250920" y="142920"/>
            <a:ext cx="3249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сновная тематика Страны приключений –пираты, но при этом сюда же попадают Индиана Джонс и Робинзон Крузо. Последний представляется в виде высокого дерева, на ветвях которого расположено его жилище. 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pic>
        <p:nvPicPr>
          <p:cNvPr id="312" name="Picture 6" descr="H:\информатика\Новая папка\Новая папка (2)\адвентур\disneyland_adventureland_10.jpg"/>
          <p:cNvPicPr/>
          <p:nvPr/>
        </p:nvPicPr>
        <p:blipFill>
          <a:blip r:embed="rId1"/>
          <a:stretch/>
        </p:blipFill>
        <p:spPr>
          <a:xfrm>
            <a:off x="4429080" y="3321000"/>
            <a:ext cx="4714920" cy="3537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H:\информатика\Новая папка\Новая папка (2)\адвентур\582270.jpg"/>
          <p:cNvPicPr/>
          <p:nvPr/>
        </p:nvPicPr>
        <p:blipFill>
          <a:blip r:embed="rId2"/>
          <a:stretch/>
        </p:blipFill>
        <p:spPr>
          <a:xfrm>
            <a:off x="4408560" y="142920"/>
            <a:ext cx="47354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7"/>
          <p:cNvSpPr/>
          <p:nvPr/>
        </p:nvSpPr>
        <p:spPr>
          <a:xfrm>
            <a:off x="5357880" y="571680"/>
            <a:ext cx="3571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иболее популярный аттракцион Страны приключений: « Пираты Карибского моря» . Этот аттракцион побудил медиаконцерн Walt Disney Studios к созданию известной кинотрилогии «Пираты Карибского моря»; некоторые сюжеты были позаимствованы у аттракциона. 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pic>
        <p:nvPicPr>
          <p:cNvPr id="315" name="Picture 8" descr="H:\информатика\Новая папка\Новая папка (2)\адвентур\0-0-disneyland_adventureland_05_resize.jpg"/>
          <p:cNvPicPr/>
          <p:nvPr/>
        </p:nvPicPr>
        <p:blipFill>
          <a:blip r:embed="rId1"/>
          <a:stretch/>
        </p:blipFill>
        <p:spPr>
          <a:xfrm>
            <a:off x="142920" y="857160"/>
            <a:ext cx="4643280" cy="4442040"/>
          </a:xfrm>
          <a:prstGeom prst="rect">
            <a:avLst/>
          </a:prstGeom>
          <a:ln w="0">
            <a:noFill/>
          </a:ln>
        </p:spPr>
      </p:pic>
      <p:sp>
        <p:nvSpPr>
          <p:cNvPr id="316" name="7-конечная звезда 10"/>
          <p:cNvSpPr/>
          <p:nvPr/>
        </p:nvSpPr>
        <p:spPr>
          <a:xfrm>
            <a:off x="8072280" y="5857920"/>
            <a:ext cx="785880" cy="714240"/>
          </a:xfrm>
          <a:custGeom>
            <a:avLst/>
            <a:gdLst/>
            <a:ahLst/>
            <a:rect l="l" t="t" r="r" b="b"/>
            <a:pathLst>
              <a:path w="785812" h="714375">
                <a:moveTo>
                  <a:pt x="-2" y="459419"/>
                </a:moveTo>
                <a:lnTo>
                  <a:pt x="121006" y="317929"/>
                </a:lnTo>
                <a:lnTo>
                  <a:pt x="77819" y="141491"/>
                </a:lnTo>
                <a:lnTo>
                  <a:pt x="271900" y="141492"/>
                </a:lnTo>
                <a:lnTo>
                  <a:pt x="392906" y="0"/>
                </a:lnTo>
                <a:lnTo>
                  <a:pt x="513912" y="141492"/>
                </a:lnTo>
                <a:lnTo>
                  <a:pt x="707993" y="141491"/>
                </a:lnTo>
                <a:lnTo>
                  <a:pt x="664806" y="317929"/>
                </a:lnTo>
                <a:lnTo>
                  <a:pt x="785814" y="459419"/>
                </a:lnTo>
                <a:lnTo>
                  <a:pt x="610952" y="537941"/>
                </a:lnTo>
                <a:lnTo>
                  <a:pt x="567765" y="714379"/>
                </a:lnTo>
                <a:lnTo>
                  <a:pt x="392906" y="635856"/>
                </a:lnTo>
                <a:lnTo>
                  <a:pt x="218047" y="714379"/>
                </a:lnTo>
                <a:lnTo>
                  <a:pt x="174860" y="537941"/>
                </a:lnTo>
                <a:lnTo>
                  <a:pt x="-2" y="459419"/>
                </a:lnTo>
                <a:close/>
              </a:path>
            </a:pathLst>
          </a:custGeom>
          <a:solidFill>
            <a:srgbClr val="b7d5ff"/>
          </a:solidFill>
          <a:ln w="25560">
            <a:solidFill>
              <a:srgbClr val="869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42148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трана фантазий рассчитана прежде всего на юных посетителей. Аттракционы представляют собой адаптированные сюжеты популярных сказок. Наиболее известен замок Спящей красавицы в центре парка. Под замком находится пещера дракона.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pic>
        <p:nvPicPr>
          <p:cNvPr id="318" name="Picture 5" descr="Labyrinthalice1"/>
          <p:cNvPicPr/>
          <p:nvPr/>
        </p:nvPicPr>
        <p:blipFill>
          <a:blip r:embed="rId1"/>
          <a:stretch/>
        </p:blipFill>
        <p:spPr>
          <a:xfrm>
            <a:off x="4570560" y="0"/>
            <a:ext cx="4363920" cy="3286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disneyland_fantasyland_18"/>
          <p:cNvPicPr/>
          <p:nvPr/>
        </p:nvPicPr>
        <p:blipFill>
          <a:blip r:embed="rId2"/>
          <a:stretch/>
        </p:blipFill>
        <p:spPr>
          <a:xfrm>
            <a:off x="4476600" y="3357720"/>
            <a:ext cx="466740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250920" y="404640"/>
            <a:ext cx="374976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 Стране открытий посетители имеют возможность увидеть выдуманное будущее Жюля Верна. Эта часть Диснейленда была создана в стиле будущего с точки зрения фантастов XIX века. В центре Страны открытий расположены американские горки Space Mountain. Напротив аттракциона существует шоу Легенда Короля-льва.</a:t>
            </a:r>
            <a:endParaRPr b="0" lang="en-US" sz="2000" spc="-1" strike="noStrike">
              <a:solidFill>
                <a:srgbClr val="4b98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ругие аттракционы в Стране открытий: Симулятор полётов, карусель с ракетами и картинговая трасса с бензиновыми транспортными средствами.</a:t>
            </a:r>
            <a:endParaRPr b="0" lang="en-US" sz="2000" spc="-1" strike="noStrike">
              <a:solidFill>
                <a:srgbClr val="4b98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98ff"/>
              </a:solidFill>
              <a:latin typeface="Arial"/>
            </a:endParaRPr>
          </a:p>
        </p:txBody>
      </p:sp>
      <p:pic>
        <p:nvPicPr>
          <p:cNvPr id="321" name="Picture 5" descr="H:\информатика\Новая папка\Новая папка (2)\дис\imgе.php.jpeg"/>
          <p:cNvPicPr/>
          <p:nvPr/>
        </p:nvPicPr>
        <p:blipFill>
          <a:blip r:embed="rId1"/>
          <a:stretch/>
        </p:blipFill>
        <p:spPr>
          <a:xfrm>
            <a:off x="4286160" y="0"/>
            <a:ext cx="4857840" cy="3537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H:\информатика\Новая папка\Новая папка (2)\дис\3808456.jpg"/>
          <p:cNvPicPr/>
          <p:nvPr/>
        </p:nvPicPr>
        <p:blipFill>
          <a:blip r:embed="rId2"/>
          <a:stretch/>
        </p:blipFill>
        <p:spPr>
          <a:xfrm>
            <a:off x="4286160" y="3357720"/>
            <a:ext cx="485784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H:\информатика\Новая папка\Новая папка (2)\дис\DisneylandParis_photo.jpg"/>
          <p:cNvPicPr/>
          <p:nvPr/>
        </p:nvPicPr>
        <p:blipFill>
          <a:blip r:embed="rId1"/>
          <a:stretch/>
        </p:blipFill>
        <p:spPr>
          <a:xfrm>
            <a:off x="-142920" y="142920"/>
            <a:ext cx="8955000" cy="6715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H:\информатика\Новая папка\Новая папка (2)\дис\img.php.jpeg"/>
          <p:cNvPicPr/>
          <p:nvPr/>
        </p:nvPicPr>
        <p:blipFill>
          <a:blip r:embed="rId2"/>
          <a:stretch/>
        </p:blipFill>
        <p:spPr>
          <a:xfrm>
            <a:off x="-351000" y="0"/>
            <a:ext cx="9495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7-конечная звезда 5"/>
          <p:cNvSpPr/>
          <p:nvPr/>
        </p:nvSpPr>
        <p:spPr>
          <a:xfrm>
            <a:off x="8072280" y="5857920"/>
            <a:ext cx="785880" cy="714240"/>
          </a:xfrm>
          <a:custGeom>
            <a:avLst/>
            <a:gdLst/>
            <a:ahLst/>
            <a:rect l="l" t="t" r="r" b="b"/>
            <a:pathLst>
              <a:path w="785812" h="714375">
                <a:moveTo>
                  <a:pt x="-2" y="459419"/>
                </a:moveTo>
                <a:lnTo>
                  <a:pt x="121006" y="317929"/>
                </a:lnTo>
                <a:lnTo>
                  <a:pt x="77819" y="141491"/>
                </a:lnTo>
                <a:lnTo>
                  <a:pt x="271900" y="141492"/>
                </a:lnTo>
                <a:lnTo>
                  <a:pt x="392906" y="0"/>
                </a:lnTo>
                <a:lnTo>
                  <a:pt x="513912" y="141492"/>
                </a:lnTo>
                <a:lnTo>
                  <a:pt x="707993" y="141491"/>
                </a:lnTo>
                <a:lnTo>
                  <a:pt x="664806" y="317929"/>
                </a:lnTo>
                <a:lnTo>
                  <a:pt x="785814" y="459419"/>
                </a:lnTo>
                <a:lnTo>
                  <a:pt x="610952" y="537941"/>
                </a:lnTo>
                <a:lnTo>
                  <a:pt x="567765" y="714379"/>
                </a:lnTo>
                <a:lnTo>
                  <a:pt x="392906" y="635856"/>
                </a:lnTo>
                <a:lnTo>
                  <a:pt x="218047" y="714379"/>
                </a:lnTo>
                <a:lnTo>
                  <a:pt x="174860" y="537941"/>
                </a:lnTo>
                <a:lnTo>
                  <a:pt x="-2" y="459419"/>
                </a:lnTo>
                <a:close/>
              </a:path>
            </a:pathLst>
          </a:custGeom>
          <a:solidFill>
            <a:srgbClr val="b7d5ff"/>
          </a:solidFill>
          <a:ln w="25560">
            <a:solidFill>
              <a:srgbClr val="869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4:34:40Z</dcterms:created>
  <dc:creator>Ученик</dc:creator>
  <dc:description/>
  <dc:language>en-US</dc:language>
  <cp:lastModifiedBy>Ayaz</cp:lastModifiedBy>
  <dcterms:modified xsi:type="dcterms:W3CDTF">2018-11-13T19:23:55Z</dcterms:modified>
  <cp:revision>34</cp:revision>
  <dc:subject/>
  <dc:title>Слайд 1</dc:title>
</cp:coreProperties>
</file>