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83A-062C-4FB4-B71F-CE23C98D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A70-F323-4DFD-BE35-3C6A985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541-8445-4465-8FC4-AEEC3451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B58-E0F2-425A-8A4A-A1DD4759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C1A-0AD2-4409-A731-844FB77D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4EB-6ACA-4C5B-9E88-3708BB48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A6C-4A64-4BEE-92B0-2793154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689-9CA4-4A5E-9B96-499AFC5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A86-75B0-4F2D-B3FF-5B72549C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88E-15B4-44D1-BA8F-F961370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400-1F07-4611-9633-F3BE53E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792-29E0-4E70-9F51-76C8F65B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149E-5DF7-4B17-B36F-2E77B0D4DC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09480" y="114300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Давайте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познакомимся!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2520" y="388620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alibri"/>
                <a:ea typeface="Brush Script MT"/>
              </a:rPr>
              <a:t>Подготовил учитель-логопед группы компенсирующей направленности для детей с ТН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alibri"/>
                <a:ea typeface="Brush Script MT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Calibri"/>
                <a:ea typeface="Brush Script MT"/>
              </a:rPr>
              <a:t>Степанова Юлия Александ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Развитие связной реч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Picture 5" descr="rech169"/>
          <p:cNvPicPr/>
          <p:nvPr/>
        </p:nvPicPr>
        <p:blipFill>
          <a:blip r:embed="rId2"/>
          <a:stretch/>
        </p:blipFill>
        <p:spPr>
          <a:xfrm>
            <a:off x="990720" y="3919680"/>
            <a:ext cx="2819160" cy="203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rech169 - копия"/>
          <p:cNvPicPr/>
          <p:nvPr/>
        </p:nvPicPr>
        <p:blipFill>
          <a:blip r:embed="rId3"/>
          <a:stretch/>
        </p:blipFill>
        <p:spPr>
          <a:xfrm>
            <a:off x="990720" y="1523880"/>
            <a:ext cx="2724120" cy="20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rech169 - копия (2)"/>
          <p:cNvPicPr/>
          <p:nvPr/>
        </p:nvPicPr>
        <p:blipFill>
          <a:blip r:embed="rId4"/>
          <a:stretch/>
        </p:blipFill>
        <p:spPr>
          <a:xfrm>
            <a:off x="4876920" y="3962520"/>
            <a:ext cx="3047760" cy="191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rech169 - копия (3)"/>
          <p:cNvPicPr/>
          <p:nvPr/>
        </p:nvPicPr>
        <p:blipFill>
          <a:blip r:embed="rId5"/>
          <a:stretch/>
        </p:blipFill>
        <p:spPr>
          <a:xfrm>
            <a:off x="4876920" y="1447920"/>
            <a:ext cx="3047760" cy="2041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938 0.0081 L 0.45938 0.0081 E">
                                      <p:cBhvr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2 L 0.01667 0.35116 E">
                                      <p:cBhvr>
                                        <p:cTn id="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5 0.00278 L -0.4375 0.00278 E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-17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Подготовка к обучению грамоте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5410080"/>
          <a:ext cx="3962160" cy="71604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19520" y="4343400"/>
          <a:ext cx="3962160" cy="73836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724280" y="5410080"/>
          <a:ext cx="3962520" cy="7160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5" descr="90208679_9586731_g2318"/>
          <p:cNvPicPr/>
          <p:nvPr/>
        </p:nvPicPr>
        <p:blipFill>
          <a:blip r:embed="rId2"/>
          <a:stretch/>
        </p:blipFill>
        <p:spPr>
          <a:xfrm>
            <a:off x="2971800" y="138600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3048120" y="1676520"/>
            <a:ext cx="1676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8"/>
          <p:cNvGrpSpPr/>
          <p:nvPr/>
        </p:nvGrpSpPr>
        <p:grpSpPr>
          <a:xfrm>
            <a:off x="380880" y="-380880"/>
            <a:ext cx="8229240" cy="5789160"/>
            <a:chOff x="380880" y="-380880"/>
            <a:chExt cx="8229240" cy="5789160"/>
          </a:xfrm>
        </p:grpSpPr>
        <p:sp>
          <p:nvSpPr>
            <p:cNvPr id="84" name="AutoShape 7"/>
            <p:cNvSpPr/>
            <p:nvPr/>
          </p:nvSpPr>
          <p:spPr>
            <a:xfrm>
              <a:off x="380880" y="-380880"/>
              <a:ext cx="8229240" cy="57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" name="_s3076"/>
            <p:cNvCxnSpPr>
              <a:stCxn id="86" idx="0"/>
              <a:endCxn id="87" idx="2"/>
            </p:cNvCxnSpPr>
            <p:nvPr/>
          </p:nvCxnSpPr>
          <p:spPr>
            <a:xfrm flipV="1" rot="16200000">
              <a:off x="5859000" y="1254240"/>
              <a:ext cx="476640" cy="320076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3077"/>
            <p:cNvCxnSpPr>
              <a:stCxn id="89" idx="0"/>
              <a:endCxn id="87" idx="2"/>
            </p:cNvCxnSpPr>
            <p:nvPr/>
          </p:nvCxnSpPr>
          <p:spPr>
            <a:xfrm flipV="1" rot="16200000">
              <a:off x="4792320" y="2320920"/>
              <a:ext cx="476640" cy="106704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078"/>
            <p:cNvCxnSpPr>
              <a:stCxn id="91" idx="0"/>
              <a:endCxn id="87" idx="2"/>
            </p:cNvCxnSpPr>
            <p:nvPr/>
          </p:nvCxnSpPr>
          <p:spPr>
            <a:xfrm flipH="1" flipV="1" rot="5400000">
              <a:off x="3724560" y="2320920"/>
              <a:ext cx="476640" cy="106740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079"/>
            <p:cNvCxnSpPr>
              <a:stCxn id="93" idx="0"/>
              <a:endCxn id="87" idx="2"/>
            </p:cNvCxnSpPr>
            <p:nvPr/>
          </p:nvCxnSpPr>
          <p:spPr>
            <a:xfrm flipH="1" flipV="1" rot="5400000">
              <a:off x="2658960" y="1254240"/>
              <a:ext cx="476640" cy="320112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7" name="_s3080"/>
            <p:cNvSpPr/>
            <p:nvPr/>
          </p:nvSpPr>
          <p:spPr>
            <a:xfrm>
              <a:off x="2666880" y="300960"/>
              <a:ext cx="3657240" cy="231552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Исправл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вукопроизнош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081"/>
            <p:cNvSpPr/>
            <p:nvPr/>
          </p:nvSpPr>
          <p:spPr>
            <a:xfrm>
              <a:off x="38088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Форм-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равиль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речев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дых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082"/>
            <p:cNvSpPr/>
            <p:nvPr/>
          </p:nvSpPr>
          <p:spPr>
            <a:xfrm>
              <a:off x="251424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Артик-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гимнас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83"/>
            <p:cNvSpPr/>
            <p:nvPr/>
          </p:nvSpPr>
          <p:spPr>
            <a:xfrm>
              <a:off x="464796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стано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3084"/>
            <p:cNvSpPr/>
            <p:nvPr/>
          </p:nvSpPr>
          <p:spPr>
            <a:xfrm>
              <a:off x="678132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Автом-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5560" y="45684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Формирование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чевого дых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Picture 8" descr="469042_html_17ce6bb9"/>
          <p:cNvPicPr/>
          <p:nvPr/>
        </p:nvPicPr>
        <p:blipFill>
          <a:blip r:embed="rId2"/>
          <a:stretch/>
        </p:blipFill>
        <p:spPr>
          <a:xfrm>
            <a:off x="1143000" y="1600200"/>
            <a:ext cx="423864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Picture 4" descr="125287-2010-12-23-1289812457_9-copy"/>
          <p:cNvPicPr/>
          <p:nvPr/>
        </p:nvPicPr>
        <p:blipFill>
          <a:blip r:embed="rId2"/>
          <a:stretch/>
        </p:blipFill>
        <p:spPr>
          <a:xfrm>
            <a:off x="457200" y="1258920"/>
            <a:ext cx="3571920" cy="374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tru1-4"/>
          <p:cNvPicPr/>
          <p:nvPr/>
        </p:nvPicPr>
        <p:blipFill>
          <a:blip r:embed="rId3"/>
          <a:stretch/>
        </p:blipFill>
        <p:spPr>
          <a:xfrm>
            <a:off x="4441680" y="3130560"/>
            <a:ext cx="4267440" cy="3452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Автоматизация поставленных звук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981080"/>
            <a:ext cx="57913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слог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слов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фраз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предложения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748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Назови картинки со звуком р, определи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место звука в слове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4" descr="рубашка"/>
          <p:cNvPicPr/>
          <p:nvPr/>
        </p:nvPicPr>
        <p:blipFill>
          <a:blip r:embed="rId2"/>
          <a:stretch/>
        </p:blipFill>
        <p:spPr>
          <a:xfrm>
            <a:off x="7348680" y="1447920"/>
            <a:ext cx="179532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1828800" cy="191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228600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2362320" y="175248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5145120" y="1585800"/>
            <a:ext cx="185724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7759800" y="3809880"/>
            <a:ext cx="1125360" cy="289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8"/>
          <a:stretch/>
        </p:blipFill>
        <p:spPr>
          <a:xfrm>
            <a:off x="2666880" y="4267080"/>
            <a:ext cx="2124360" cy="189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9"/>
          <a:stretch/>
        </p:blipFill>
        <p:spPr>
          <a:xfrm>
            <a:off x="4952880" y="3962520"/>
            <a:ext cx="2624400" cy="225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684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пражнение «Подбери слово-предмет»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ушай слова-признаки и назови тот предмет, к которому они относятся. 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ец: спелый, сочный — ... (арбуз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914400" y="1720800"/>
            <a:ext cx="7048440" cy="4052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81200" y="5335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Плюсы посещения логопедической группы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42840" y="13716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Коррекция звукопроиз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Формирование грамотной, выразительной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Развитие мелкой моторики рук, подготовка руки к письму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Усиленная подготовка к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Совершенствование психических процессов восприятия, внимания, памяти, воображения и мыш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304920" y="1295280"/>
            <a:ext cx="57909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Спасибо 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внимани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то такое логопедическая группа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240" y="32767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педи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 наука о нарушениях речи, их коррекции посредством специального обучения и воспит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Логопедия» - от греч. «логос» (речь, слово), «пайдео» (воспитываю, обучаю) –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Воспитание речи»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000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ее недоразвитие речи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 речевое расстройство, при котором у детей нарушается формирование разных компонентов речи: звукопроизношение, словарный запас, грамматический строй, связная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66320" y="68544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Формирование правильного звукопроиз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Развитие артикуляционных дви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Совершенствование фонематических процес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Совершенствование грамматического строя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Обогащение словарного запа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Развитие мелкой мотор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Развитие связной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Совершенствование просодической стороны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rganization Chart 5"/>
          <p:cNvGrpSpPr/>
          <p:nvPr/>
        </p:nvGrpSpPr>
        <p:grpSpPr>
          <a:xfrm>
            <a:off x="1371600" y="457200"/>
            <a:ext cx="6247800" cy="4442400"/>
            <a:chOff x="1371600" y="457200"/>
            <a:chExt cx="6247800" cy="4442400"/>
          </a:xfrm>
        </p:grpSpPr>
        <p:sp>
          <p:nvSpPr>
            <p:cNvPr id="50" name="AutoShape 4"/>
            <p:cNvSpPr/>
            <p:nvPr/>
          </p:nvSpPr>
          <p:spPr>
            <a:xfrm>
              <a:off x="1371600" y="457200"/>
              <a:ext cx="6247800" cy="44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_s1028"/>
            <p:cNvCxnSpPr>
              <a:stCxn id="52" idx="0"/>
              <a:endCxn id="53" idx="2"/>
            </p:cNvCxnSpPr>
            <p:nvPr/>
          </p:nvCxnSpPr>
          <p:spPr>
            <a:xfrm flipV="1" rot="16200000">
              <a:off x="4892040" y="1837080"/>
              <a:ext cx="889200" cy="1682280"/>
            </a:xfrm>
            <a:prstGeom prst="bentConnector3">
              <a:avLst>
                <a:gd name="adj1" fmla="val 128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9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3209760" y="1836720"/>
              <a:ext cx="889200" cy="1683000"/>
            </a:xfrm>
            <a:prstGeom prst="bentConnector3">
              <a:avLst>
                <a:gd name="adj1" fmla="val 128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030"/>
            <p:cNvSpPr/>
            <p:nvPr/>
          </p:nvSpPr>
          <p:spPr>
            <a:xfrm>
              <a:off x="3053880" y="457200"/>
              <a:ext cx="2883600" cy="177696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анятия с детьм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1"/>
            <p:cNvSpPr/>
            <p:nvPr/>
          </p:nvSpPr>
          <p:spPr>
            <a:xfrm>
              <a:off x="1371600" y="3122640"/>
              <a:ext cx="2883600" cy="177696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дгруппов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2"/>
            <p:cNvSpPr/>
            <p:nvPr/>
          </p:nvSpPr>
          <p:spPr>
            <a:xfrm>
              <a:off x="4735800" y="3122640"/>
              <a:ext cx="2883600" cy="177696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Индивидуальн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Organization Chart 27"/>
          <p:cNvGrpSpPr/>
          <p:nvPr/>
        </p:nvGrpSpPr>
        <p:grpSpPr>
          <a:xfrm>
            <a:off x="152280" y="152280"/>
            <a:ext cx="8839080" cy="4827960"/>
            <a:chOff x="152280" y="152280"/>
            <a:chExt cx="8839080" cy="4827960"/>
          </a:xfrm>
        </p:grpSpPr>
        <p:sp>
          <p:nvSpPr>
            <p:cNvPr id="57" name="AutoShape 26"/>
            <p:cNvSpPr/>
            <p:nvPr/>
          </p:nvSpPr>
          <p:spPr>
            <a:xfrm>
              <a:off x="152280" y="152280"/>
              <a:ext cx="8839080" cy="48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_s2052"/>
            <p:cNvCxnSpPr>
              <a:stCxn id="59" idx="0"/>
              <a:endCxn id="60" idx="2"/>
            </p:cNvCxnSpPr>
            <p:nvPr/>
          </p:nvCxnSpPr>
          <p:spPr>
            <a:xfrm flipV="1" rot="16200000">
              <a:off x="5635080" y="1018800"/>
              <a:ext cx="966240" cy="309420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053"/>
            <p:cNvCxnSpPr>
              <a:stCxn id="62" idx="0"/>
              <a:endCxn id="60" idx="2"/>
            </p:cNvCxnSpPr>
            <p:nvPr/>
          </p:nvCxnSpPr>
          <p:spPr>
            <a:xfrm flipH="1" flipV="1">
              <a:off x="4570920" y="2082960"/>
              <a:ext cx="1080" cy="966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054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540520" y="1018800"/>
              <a:ext cx="966240" cy="309420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2055"/>
            <p:cNvSpPr/>
            <p:nvPr/>
          </p:nvSpPr>
          <p:spPr>
            <a:xfrm>
              <a:off x="3123360" y="152280"/>
              <a:ext cx="289656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дгруппов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аня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6"/>
            <p:cNvSpPr/>
            <p:nvPr/>
          </p:nvSpPr>
          <p:spPr>
            <a:xfrm>
              <a:off x="152280" y="30492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Формировани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лексико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грамматического </a:t>
              </a:r>
              <a:br>
                <a:rPr sz="2300"/>
              </a:b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строя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57"/>
            <p:cNvSpPr/>
            <p:nvPr/>
          </p:nvSpPr>
          <p:spPr>
            <a:xfrm>
              <a:off x="3245760" y="30492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Формирова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связной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58"/>
            <p:cNvSpPr/>
            <p:nvPr/>
          </p:nvSpPr>
          <p:spPr>
            <a:xfrm>
              <a:off x="6339600" y="30492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дготов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к обучению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грамот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490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Формирование лексико-грамматического строя реч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«Посчитай правильн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77239"/>
          <p:cNvPicPr/>
          <p:nvPr/>
        </p:nvPicPr>
        <p:blipFill>
          <a:blip r:embed="rId2"/>
          <a:stretch/>
        </p:blipFill>
        <p:spPr>
          <a:xfrm>
            <a:off x="457200" y="220968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77239"/>
          <p:cNvPicPr/>
          <p:nvPr/>
        </p:nvPicPr>
        <p:blipFill>
          <a:blip r:embed="rId3"/>
          <a:stretch/>
        </p:blipFill>
        <p:spPr>
          <a:xfrm>
            <a:off x="3276720" y="220968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77239"/>
          <p:cNvPicPr/>
          <p:nvPr/>
        </p:nvPicPr>
        <p:blipFill>
          <a:blip r:embed="rId4"/>
          <a:stretch/>
        </p:blipFill>
        <p:spPr>
          <a:xfrm>
            <a:off x="6095880" y="220968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77239"/>
          <p:cNvPicPr/>
          <p:nvPr/>
        </p:nvPicPr>
        <p:blipFill>
          <a:blip r:embed="rId5"/>
          <a:stretch/>
        </p:blipFill>
        <p:spPr>
          <a:xfrm>
            <a:off x="1905120" y="441972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77239"/>
          <p:cNvPicPr/>
          <p:nvPr/>
        </p:nvPicPr>
        <p:blipFill>
          <a:blip r:embed="rId6"/>
          <a:stretch/>
        </p:blipFill>
        <p:spPr>
          <a:xfrm>
            <a:off x="4800600" y="4419720"/>
            <a:ext cx="255276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26:53Z</dcterms:created>
  <dc:creator>GRAF</dc:creator>
  <dc:description/>
  <dc:language>en-US</dc:language>
  <cp:lastModifiedBy>пользователь Microsoft Office</cp:lastModifiedBy>
  <dcterms:modified xsi:type="dcterms:W3CDTF">2018-10-04T16:03:4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